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media/image27.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7.png" ContentType="image/png"/>
  <Override PartName="/ppt/media/image37.png" ContentType="image/png"/>
  <Override PartName="/ppt/media/image28.png" ContentType="image/png"/>
  <Override PartName="/ppt/media/image30.png" ContentType="image/png"/>
  <Override PartName="/ppt/media/image9.png" ContentType="image/png"/>
  <Override PartName="/ppt/media/image34.png" ContentType="image/png"/>
  <Override PartName="/ppt/media/image12.jpeg" ContentType="image/jpeg"/>
  <Override PartName="/ppt/media/image23.png" ContentType="image/png"/>
  <Override PartName="/ppt/media/image13.jpeg" ContentType="image/jpeg"/>
  <Override PartName="/ppt/media/image5.png" ContentType="image/png"/>
  <Override PartName="/ppt/media/image35.png" ContentType="image/png"/>
  <Override PartName="/ppt/media/image8.jpeg" ContentType="image/jpeg"/>
  <Override PartName="/ppt/media/image38.png" ContentType="image/png"/>
  <Override PartName="/ppt/media/image36.png" ContentType="image/png"/>
  <Override PartName="/ppt/media/image6.png" ContentType="image/png"/>
  <Override PartName="/ppt/media/image29.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 id="262" r:id="rId57"/>
    <p:sldId id="263" r:id="rId58"/>
    <p:sldId id="264" r:id="rId59"/>
    <p:sldId id="265" r:id="rId60"/>
    <p:sldId id="266" r:id="rId61"/>
    <p:sldId id="267" r:id="rId62"/>
    <p:sldId id="268" r:id="rId63"/>
    <p:sldId id="269" r:id="rId64"/>
    <p:sldId id="270" r:id="rId65"/>
    <p:sldId id="271" r:id="rId66"/>
    <p:sldId id="272" r:id="rId67"/>
    <p:sldId id="273" r:id="rId68"/>
    <p:sldId id="274" r:id="rId69"/>
    <p:sldId id="275" r:id="rId70"/>
    <p:sldId id="276" r:id="rId71"/>
    <p:sldId id="277" r:id="rId72"/>
    <p:sldId id="278" r:id="rId73"/>
    <p:sldId id="279" r:id="rId74"/>
    <p:sldId id="280" r:id="rId75"/>
    <p:sldId id="281"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slide" Target="slides/slide7.xml"/><Relationship Id="rId58" Type="http://schemas.openxmlformats.org/officeDocument/2006/relationships/slide" Target="slides/slide8.xml"/><Relationship Id="rId59" Type="http://schemas.openxmlformats.org/officeDocument/2006/relationships/slide" Target="slides/slide9.xml"/><Relationship Id="rId60" Type="http://schemas.openxmlformats.org/officeDocument/2006/relationships/slide" Target="slides/slide10.xml"/><Relationship Id="rId61" Type="http://schemas.openxmlformats.org/officeDocument/2006/relationships/slide" Target="slides/slide11.xml"/><Relationship Id="rId62" Type="http://schemas.openxmlformats.org/officeDocument/2006/relationships/slide" Target="slides/slide12.xml"/><Relationship Id="rId63" Type="http://schemas.openxmlformats.org/officeDocument/2006/relationships/slide" Target="slides/slide13.xml"/><Relationship Id="rId64" Type="http://schemas.openxmlformats.org/officeDocument/2006/relationships/slide" Target="slides/slide14.xml"/><Relationship Id="rId65" Type="http://schemas.openxmlformats.org/officeDocument/2006/relationships/slide" Target="slides/slide15.xml"/><Relationship Id="rId66" Type="http://schemas.openxmlformats.org/officeDocument/2006/relationships/slide" Target="slides/slide16.xml"/><Relationship Id="rId67" Type="http://schemas.openxmlformats.org/officeDocument/2006/relationships/slide" Target="slides/slide17.xml"/><Relationship Id="rId68" Type="http://schemas.openxmlformats.org/officeDocument/2006/relationships/slide" Target="slides/slide18.xml"/><Relationship Id="rId69" Type="http://schemas.openxmlformats.org/officeDocument/2006/relationships/slide" Target="slides/slide19.xml"/><Relationship Id="rId70" Type="http://schemas.openxmlformats.org/officeDocument/2006/relationships/slide" Target="slides/slide20.xml"/><Relationship Id="rId71" Type="http://schemas.openxmlformats.org/officeDocument/2006/relationships/slide" Target="slides/slide21.xml"/><Relationship Id="rId72" Type="http://schemas.openxmlformats.org/officeDocument/2006/relationships/slide" Target="slides/slide22.xml"/><Relationship Id="rId73" Type="http://schemas.openxmlformats.org/officeDocument/2006/relationships/slide" Target="slides/slide23.xml"/><Relationship Id="rId74" Type="http://schemas.openxmlformats.org/officeDocument/2006/relationships/slide" Target="slides/slide24.xml"/><Relationship Id="rId75" Type="http://schemas.openxmlformats.org/officeDocument/2006/relationships/slide" Target="slides/slide25.xml"/><Relationship Id="rId76" Type="http://schemas.openxmlformats.org/officeDocument/2006/relationships/slide" Target="slides/slide26.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0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0" name="PlaceHolder 2"/>
          <p:cNvSpPr>
            <a:spLocks noGrp="1"/>
          </p:cNvSpPr>
          <p:nvPr>
            <p:ph type="dt" idx="119"/>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33" name="PlaceHolder 5"/>
          <p:cNvSpPr>
            <a:spLocks noGrp="1"/>
          </p:cNvSpPr>
          <p:nvPr>
            <p:ph type="ftr" idx="1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4" name="PlaceHolder 6"/>
          <p:cNvSpPr>
            <a:spLocks noGrp="1"/>
          </p:cNvSpPr>
          <p:nvPr>
            <p:ph type="sldNum" idx="1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CF2A-EE8D-43E5-9B94-FCA6CB8E9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3" name="PlaceHolder 1"/>
          <p:cNvSpPr>
            <a:spLocks noGrp="1"/>
          </p:cNvSpPr>
          <p:nvPr>
            <p:ph type="sldImg"/>
          </p:nvPr>
        </p:nvSpPr>
        <p:spPr>
          <a:xfrm>
            <a:off x="1143000" y="685800"/>
            <a:ext cx="4572000" cy="3429000"/>
          </a:xfrm>
          <a:prstGeom prst="rect">
            <a:avLst/>
          </a:prstGeom>
          <a:ln w="0">
            <a:noFill/>
          </a:ln>
        </p:spPr>
      </p:sp>
      <p:sp>
        <p:nvSpPr>
          <p:cNvPr id="2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293C-A302-4F4F-9E19-4280F156A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7" name="PlaceHolder 1"/>
          <p:cNvSpPr>
            <a:spLocks noGrp="1"/>
          </p:cNvSpPr>
          <p:nvPr>
            <p:ph type="sldImg"/>
          </p:nvPr>
        </p:nvSpPr>
        <p:spPr>
          <a:xfrm>
            <a:off x="1143000" y="685800"/>
            <a:ext cx="4572000" cy="3429000"/>
          </a:xfrm>
          <a:prstGeom prst="rect">
            <a:avLst/>
          </a:prstGeom>
          <a:ln w="0">
            <a:noFill/>
          </a:ln>
        </p:spPr>
      </p:sp>
      <p:sp>
        <p:nvSpPr>
          <p:cNvPr id="2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CD0D-34EC-4A45-9A68-1B28B0CC30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PlaceHolder 1"/>
          <p:cNvSpPr>
            <a:spLocks noGrp="1"/>
          </p:cNvSpPr>
          <p:nvPr>
            <p:ph type="sldImg"/>
          </p:nvPr>
        </p:nvSpPr>
        <p:spPr>
          <a:xfrm>
            <a:off x="1143000" y="685800"/>
            <a:ext cx="4572000" cy="3429000"/>
          </a:xfrm>
          <a:prstGeom prst="rect">
            <a:avLst/>
          </a:prstGeom>
          <a:ln w="0">
            <a:noFill/>
          </a:ln>
        </p:spPr>
      </p:sp>
      <p:sp>
        <p:nvSpPr>
          <p:cNvPr id="2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74AE7-B9DC-43B8-97EA-A2442B01BF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3" name="PlaceHolder 1"/>
          <p:cNvSpPr>
            <a:spLocks noGrp="1"/>
          </p:cNvSpPr>
          <p:nvPr>
            <p:ph type="sldImg"/>
          </p:nvPr>
        </p:nvSpPr>
        <p:spPr>
          <a:xfrm>
            <a:off x="1143000" y="685800"/>
            <a:ext cx="4572000" cy="3429000"/>
          </a:xfrm>
          <a:prstGeom prst="rect">
            <a:avLst/>
          </a:prstGeom>
          <a:ln w="0">
            <a:noFill/>
          </a:ln>
        </p:spPr>
      </p:sp>
      <p:sp>
        <p:nvSpPr>
          <p:cNvPr id="2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DC4D-6E2F-40C2-AF97-F04AF89BB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5"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sldImg"/>
          </p:nvPr>
        </p:nvSpPr>
        <p:spPr>
          <a:xfrm>
            <a:off x="1143000" y="685800"/>
            <a:ext cx="4572000" cy="3429000"/>
          </a:xfrm>
          <a:prstGeom prst="rect">
            <a:avLst/>
          </a:prstGeom>
          <a:ln w="0">
            <a:noFill/>
          </a:ln>
        </p:spPr>
      </p:sp>
      <p:sp>
        <p:nvSpPr>
          <p:cNvPr id="2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8807F-0C32-45DD-A1F4-B88B3DAAD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8"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9" name="PlaceHolder 1"/>
          <p:cNvSpPr>
            <a:spLocks noGrp="1"/>
          </p:cNvSpPr>
          <p:nvPr>
            <p:ph type="sldImg"/>
          </p:nvPr>
        </p:nvSpPr>
        <p:spPr>
          <a:xfrm>
            <a:off x="1143000" y="685800"/>
            <a:ext cx="4572000" cy="3429000"/>
          </a:xfrm>
          <a:prstGeom prst="rect">
            <a:avLst/>
          </a:prstGeom>
          <a:ln w="0">
            <a:noFill/>
          </a:ln>
        </p:spPr>
      </p:sp>
      <p:sp>
        <p:nvSpPr>
          <p:cNvPr id="2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BFE8-7E20-403F-807D-C861B5A4B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1"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PlaceHolder 1"/>
          <p:cNvSpPr>
            <a:spLocks noGrp="1"/>
          </p:cNvSpPr>
          <p:nvPr>
            <p:ph type="sldImg"/>
          </p:nvPr>
        </p:nvSpPr>
        <p:spPr>
          <a:xfrm>
            <a:off x="1143000" y="685800"/>
            <a:ext cx="4572000" cy="3429000"/>
          </a:xfrm>
          <a:prstGeom prst="rect">
            <a:avLst/>
          </a:prstGeom>
          <a:ln w="0">
            <a:noFill/>
          </a:ln>
        </p:spPr>
      </p:sp>
      <p:sp>
        <p:nvSpPr>
          <p:cNvPr id="2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618A-75A1-4BD3-BD49-05B52F744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4"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5" name="PlaceHolder 1"/>
          <p:cNvSpPr>
            <a:spLocks noGrp="1"/>
          </p:cNvSpPr>
          <p:nvPr>
            <p:ph type="sldImg"/>
          </p:nvPr>
        </p:nvSpPr>
        <p:spPr>
          <a:xfrm>
            <a:off x="1143000" y="685800"/>
            <a:ext cx="4572000" cy="3429000"/>
          </a:xfrm>
          <a:prstGeom prst="rect">
            <a:avLst/>
          </a:prstGeom>
          <a:ln w="0">
            <a:noFill/>
          </a:ln>
        </p:spPr>
      </p:sp>
      <p:sp>
        <p:nvSpPr>
          <p:cNvPr id="2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F957-F2EA-48B7-9108-F07007788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sldImg"/>
          </p:nvPr>
        </p:nvSpPr>
        <p:spPr>
          <a:xfrm>
            <a:off x="1143000" y="685800"/>
            <a:ext cx="4572000" cy="3429000"/>
          </a:xfrm>
          <a:prstGeom prst="rect">
            <a:avLst/>
          </a:prstGeom>
          <a:ln w="0">
            <a:noFill/>
          </a:ln>
        </p:spPr>
      </p:sp>
      <p:sp>
        <p:nvSpPr>
          <p:cNvPr id="2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BF3D-F237-48DF-BE37-F5FC14916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PlaceHolder 1"/>
          <p:cNvSpPr>
            <a:spLocks noGrp="1"/>
          </p:cNvSpPr>
          <p:nvPr>
            <p:ph type="sldImg"/>
          </p:nvPr>
        </p:nvSpPr>
        <p:spPr>
          <a:xfrm>
            <a:off x="1143000" y="685800"/>
            <a:ext cx="4572000" cy="3429000"/>
          </a:xfrm>
          <a:prstGeom prst="rect">
            <a:avLst/>
          </a:prstGeom>
          <a:ln w="0">
            <a:noFill/>
          </a:ln>
        </p:spPr>
      </p:sp>
      <p:sp>
        <p:nvSpPr>
          <p:cNvPr id="2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04B22-BCBD-4DCD-B8C8-463CB6186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1" name="PlaceHolder 1"/>
          <p:cNvSpPr>
            <a:spLocks noGrp="1"/>
          </p:cNvSpPr>
          <p:nvPr>
            <p:ph type="sldImg"/>
          </p:nvPr>
        </p:nvSpPr>
        <p:spPr>
          <a:xfrm>
            <a:off x="1143000" y="685800"/>
            <a:ext cx="4572000" cy="3429000"/>
          </a:xfrm>
          <a:prstGeom prst="rect">
            <a:avLst/>
          </a:prstGeom>
          <a:ln w="0">
            <a:noFill/>
          </a:ln>
        </p:spPr>
      </p:sp>
      <p:sp>
        <p:nvSpPr>
          <p:cNvPr id="2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BD2B-CCA2-4081-BE87-334DB08E1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PlaceHolder 1"/>
          <p:cNvSpPr>
            <a:spLocks noGrp="1"/>
          </p:cNvSpPr>
          <p:nvPr>
            <p:ph type="sldImg"/>
          </p:nvPr>
        </p:nvSpPr>
        <p:spPr>
          <a:xfrm>
            <a:off x="1143000" y="685800"/>
            <a:ext cx="4572000" cy="3429000"/>
          </a:xfrm>
          <a:prstGeom prst="rect">
            <a:avLst/>
          </a:prstGeom>
          <a:ln w="0">
            <a:noFill/>
          </a:ln>
        </p:spPr>
      </p:sp>
      <p:sp>
        <p:nvSpPr>
          <p:cNvPr id="2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BAAC-B8C8-4DAC-ADB5-6E7232B2F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7" name="PlaceHolder 1"/>
          <p:cNvSpPr>
            <a:spLocks noGrp="1"/>
          </p:cNvSpPr>
          <p:nvPr>
            <p:ph type="sldImg"/>
          </p:nvPr>
        </p:nvSpPr>
        <p:spPr>
          <a:xfrm>
            <a:off x="1143000" y="685800"/>
            <a:ext cx="4572000" cy="3429000"/>
          </a:xfrm>
          <a:prstGeom prst="rect">
            <a:avLst/>
          </a:prstGeom>
          <a:ln w="0">
            <a:noFill/>
          </a:ln>
        </p:spPr>
      </p:sp>
      <p:sp>
        <p:nvSpPr>
          <p:cNvPr id="2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21F2-8B33-491C-A3D5-27370CD20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sldImg"/>
          </p:nvPr>
        </p:nvSpPr>
        <p:spPr>
          <a:xfrm>
            <a:off x="1143000" y="685800"/>
            <a:ext cx="4572000" cy="3429000"/>
          </a:xfrm>
          <a:prstGeom prst="rect">
            <a:avLst/>
          </a:prstGeom>
          <a:ln w="0">
            <a:noFill/>
          </a:ln>
        </p:spPr>
      </p:sp>
      <p:sp>
        <p:nvSpPr>
          <p:cNvPr id="2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273C-C761-44D2-A330-C9300014B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3" name="PlaceHolder 1"/>
          <p:cNvSpPr>
            <a:spLocks noGrp="1"/>
          </p:cNvSpPr>
          <p:nvPr>
            <p:ph type="sldImg"/>
          </p:nvPr>
        </p:nvSpPr>
        <p:spPr>
          <a:xfrm>
            <a:off x="1143000" y="685800"/>
            <a:ext cx="4572000" cy="3429000"/>
          </a:xfrm>
          <a:prstGeom prst="rect">
            <a:avLst/>
          </a:prstGeom>
          <a:ln w="0">
            <a:noFill/>
          </a:ln>
        </p:spPr>
      </p:sp>
      <p:sp>
        <p:nvSpPr>
          <p:cNvPr id="2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075A-1FD7-443E-8DCC-0EE207191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PlaceHolder 1"/>
          <p:cNvSpPr>
            <a:spLocks noGrp="1"/>
          </p:cNvSpPr>
          <p:nvPr>
            <p:ph type="sldImg"/>
          </p:nvPr>
        </p:nvSpPr>
        <p:spPr>
          <a:xfrm>
            <a:off x="1143000" y="685800"/>
            <a:ext cx="4572000" cy="3429000"/>
          </a:xfrm>
          <a:prstGeom prst="rect">
            <a:avLst/>
          </a:prstGeom>
          <a:ln w="0">
            <a:noFill/>
          </a:ln>
        </p:spPr>
      </p:sp>
      <p:sp>
        <p:nvSpPr>
          <p:cNvPr id="2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32DE-FA12-4A33-AA6B-C75242465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8"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9" name="PlaceHolder 1"/>
          <p:cNvSpPr>
            <a:spLocks noGrp="1"/>
          </p:cNvSpPr>
          <p:nvPr>
            <p:ph type="sldImg"/>
          </p:nvPr>
        </p:nvSpPr>
        <p:spPr>
          <a:xfrm>
            <a:off x="1143000" y="685800"/>
            <a:ext cx="4572000" cy="3429000"/>
          </a:xfrm>
          <a:prstGeom prst="rect">
            <a:avLst/>
          </a:prstGeom>
          <a:ln w="0">
            <a:noFill/>
          </a:ln>
        </p:spPr>
      </p:sp>
      <p:sp>
        <p:nvSpPr>
          <p:cNvPr id="2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816D-48BB-43D1-A142-E9D14E5AA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9" name="PlaceHolder 1"/>
          <p:cNvSpPr>
            <a:spLocks noGrp="1"/>
          </p:cNvSpPr>
          <p:nvPr>
            <p:ph type="sldImg"/>
          </p:nvPr>
        </p:nvSpPr>
        <p:spPr>
          <a:xfrm>
            <a:off x="1143000" y="685800"/>
            <a:ext cx="4572000" cy="3429000"/>
          </a:xfrm>
          <a:prstGeom prst="rect">
            <a:avLst/>
          </a:prstGeom>
          <a:ln w="0">
            <a:noFill/>
          </a:ln>
        </p:spPr>
      </p:sp>
      <p:sp>
        <p:nvSpPr>
          <p:cNvPr id="2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7898-EE35-46E3-856A-D2248F92B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PlaceHolder 1"/>
          <p:cNvSpPr>
            <a:spLocks noGrp="1"/>
          </p:cNvSpPr>
          <p:nvPr>
            <p:ph type="sldImg"/>
          </p:nvPr>
        </p:nvSpPr>
        <p:spPr>
          <a:xfrm>
            <a:off x="1143000" y="685800"/>
            <a:ext cx="4572000" cy="3429000"/>
          </a:xfrm>
          <a:prstGeom prst="rect">
            <a:avLst/>
          </a:prstGeom>
          <a:ln w="0">
            <a:noFill/>
          </a:ln>
        </p:spPr>
      </p:sp>
      <p:sp>
        <p:nvSpPr>
          <p:cNvPr id="2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FC12-42C6-4A71-9BB2-27132B3E91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5" name="PlaceHolder 1"/>
          <p:cNvSpPr>
            <a:spLocks noGrp="1"/>
          </p:cNvSpPr>
          <p:nvPr>
            <p:ph type="sldImg"/>
          </p:nvPr>
        </p:nvSpPr>
        <p:spPr>
          <a:xfrm>
            <a:off x="1143000" y="685800"/>
            <a:ext cx="4572000" cy="3429000"/>
          </a:xfrm>
          <a:prstGeom prst="rect">
            <a:avLst/>
          </a:prstGeom>
          <a:ln w="0">
            <a:noFill/>
          </a:ln>
        </p:spPr>
      </p:sp>
      <p:sp>
        <p:nvSpPr>
          <p:cNvPr id="2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BC13-1E82-4CA5-9C54-66A81C0DE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PlaceHolder 1"/>
          <p:cNvSpPr>
            <a:spLocks noGrp="1"/>
          </p:cNvSpPr>
          <p:nvPr>
            <p:ph type="sldImg"/>
          </p:nvPr>
        </p:nvSpPr>
        <p:spPr>
          <a:xfrm>
            <a:off x="1143000" y="685800"/>
            <a:ext cx="4572000" cy="3429000"/>
          </a:xfrm>
          <a:prstGeom prst="rect">
            <a:avLst/>
          </a:prstGeom>
          <a:ln w="0">
            <a:noFill/>
          </a:ln>
        </p:spPr>
      </p:sp>
      <p:sp>
        <p:nvSpPr>
          <p:cNvPr id="2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1B38D-977D-4EF2-8A32-4FB8010FB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1" name="PlaceHolder 1"/>
          <p:cNvSpPr>
            <a:spLocks noGrp="1"/>
          </p:cNvSpPr>
          <p:nvPr>
            <p:ph type="sldImg"/>
          </p:nvPr>
        </p:nvSpPr>
        <p:spPr>
          <a:xfrm>
            <a:off x="1143000" y="685800"/>
            <a:ext cx="4572000" cy="3429000"/>
          </a:xfrm>
          <a:prstGeom prst="rect">
            <a:avLst/>
          </a:prstGeom>
          <a:ln w="0">
            <a:noFill/>
          </a:ln>
        </p:spPr>
      </p:sp>
      <p:sp>
        <p:nvSpPr>
          <p:cNvPr id="2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FD12-64F6-46F3-BE5D-DC75F9279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PlaceHolder 1"/>
          <p:cNvSpPr>
            <a:spLocks noGrp="1"/>
          </p:cNvSpPr>
          <p:nvPr>
            <p:ph type="sldImg"/>
          </p:nvPr>
        </p:nvSpPr>
        <p:spPr>
          <a:xfrm>
            <a:off x="1143000" y="685800"/>
            <a:ext cx="4572000" cy="3429000"/>
          </a:xfrm>
          <a:prstGeom prst="rect">
            <a:avLst/>
          </a:prstGeom>
          <a:ln w="0">
            <a:noFill/>
          </a:ln>
        </p:spPr>
      </p:sp>
      <p:sp>
        <p:nvSpPr>
          <p:cNvPr id="2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178B-666F-439F-8BB7-B9425F9C3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78831-0D92-4E29-B8F6-DD6F3A531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594AE-8539-4428-961C-C3D646A53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497EE9-426D-4BE3-8923-D8E5833438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E9B47-82F0-49E7-8932-0631D2E74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8A475D-376A-440B-84C0-7C99939035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DBBA8F-DC47-4EBC-8111-8E5504CA94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C7B301-F5FC-486A-A844-A0622CA3E8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CA94D0-B55C-4C2C-98F0-EA8723AE5F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7764D1-4AD0-4AF5-A26B-FCC0AC07F3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1961D0-22D1-4C66-91F2-6F2951BB46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FA5C6E-6667-42CC-B532-F56E872158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6BA777-725F-495E-80AF-DFC15E6F6B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5E5EEB-6C9C-444D-A133-3AEF4BBBE2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9FED0E-2A17-43DD-BA53-9789E2D49F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BE02A-25EA-4432-BEF0-D6E20F738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C443CC-8E46-4224-8053-501E09D020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E3CC96-BE48-45D7-9F72-F859DA947C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834131-491D-4F5F-BA69-C4DC529A8F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D27D75-F858-4932-A0BE-8E4BD8B9BE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CD5207-287D-48BB-97E6-6DB7EA738F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E4D23C-FF01-4AFE-BAA6-EA69E55331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8234A1-6BC0-45BD-9DF0-5E7CF4A9A2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A6AC11-ABC5-4FB8-8F70-26BD85D49E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99108A-8D16-4D4A-B2BE-5626C74228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8E7AD1-E0DA-4999-9954-93DB22DA63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41435B-4237-49C0-93F2-18F04A7EF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DBEACE-307F-4799-9862-56C616D0A3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5C099D-7FF1-42EC-B068-9D8E061F73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38670C-1DB8-41FD-95D1-CFC98A1E84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ECB974-814F-4D33-8C59-F998D77B41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310CA4-9C17-4808-8E55-A96160B320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E4F03D-E870-4816-94BC-0C660727B5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7F2DCD-5EDC-4976-AAD2-D0B88E9BBB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ABD402-114E-4CD4-B162-CCA3E42E75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A17F14-598F-40D6-8420-4232BD5373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B9B3C9-499D-4201-9696-6493E7E92C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41DDF-39B9-4273-9179-376B82E96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C4C9DB-69EC-4CDA-AAAF-FD333E18DA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656FD4-7CE1-420D-8427-157EA7BD9D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BD8892-4682-4FF0-AB39-8459207F71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25A939-97F4-4C75-A648-957207ACA1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DFD5E1-6FFE-4334-9E9D-665819DAFD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1BE903-717C-421C-84BE-16A3F9BAD2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BE1128-1951-4B3A-9FE1-014A10AD39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BDC940-226E-4F34-A896-B0C4D78DFF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727476-32F0-4249-9CA0-B686E4DFFC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54EFDE-399F-4DA9-9480-00F64CF655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B61B2-EB5E-4C98-8117-26E13A5DF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052E3B-5A4D-401D-909A-AB8A9518A0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38D2CA-C001-445D-BDB8-8B369AF078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C556D9-3B4F-4B6B-A8F4-D435D4849F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9343E3-578D-4DCE-91A8-85700DB552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8D8759-15CE-4262-B617-375E02FB10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4230E6-8F75-4A44-990A-6AA008DE8A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166665-ACC4-495B-BF9E-6E7CBAE604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0CEF44A-663C-48C2-9B76-28E9451EC0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D84D61-DE68-4F57-A208-A5E8BAF413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634BF1-D610-42A4-BA2F-2A2A0A57E9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EB525-4415-4589-9F42-54F99AB90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9DDFF1-3847-48A4-A35F-0D4F391DFF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D72429-2C8F-4E89-B151-1BE8EA8669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5F95B4-6B9F-41CE-BD16-CE72BC455D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C19DDE-8B85-47B4-B0F2-7A3BFE4A35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50D685-6B30-4FCA-B466-81CB74E6F7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8765E1-9DE2-4682-B01D-D4113230B6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056E10-733D-4D61-AB01-3FC00F1849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4212C9E-F2EA-4644-ABEA-0440370DE07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17BE67-0832-4479-AEB5-EF527D7332C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CB8540-D13B-4745-A3B6-851C33EB12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9468C-AB3D-4D93-B6BD-B9F600DA2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15355A-B7CF-440E-AEC0-3A9136337F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A420FF-610F-4D99-AC1B-B75434A52F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529A73-9BBD-4FE1-90E0-9FB6F8E1EC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70F88C-6DD2-4879-93C9-ABE08B2B4D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293882-DF06-4449-AE2B-45A1E301C7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E56BB4-5D7A-4E4A-9F00-9911268EEA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FB8871-FD74-48BD-8A37-7033E6CCFA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2CEE6D-9621-4B09-8E3B-1B8CE198DC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897BC5-7648-4160-A568-6900E629F9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07E7CD1-10D5-497F-AF42-8C10E1C755B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FC2A1-B680-4D4C-AE7D-EEFFD6C26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5E1EA46-6795-4624-B73C-EEDC1AC617D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CF403CB-7DDD-46CA-BE62-575FDEC9776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4D5B90-2118-452C-BA79-FECC66EDEB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31903A-F528-447B-B63C-DE9244429D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75436D-45FF-4231-91AD-684AC01785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B25B3F-6409-47D4-A262-301F907868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E144E4-DDFF-4565-9C0F-A3D02A3B75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70EE89-136A-437E-98BA-826BDB2748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CB0E09-DEEC-472C-AF32-C9FC514CFD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6AF865-ADE1-479B-9962-2194599094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0462B-D905-4B16-90C1-00C838C5A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1E84CA-1DA5-4A86-BB47-78F42B2B07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6C2AD3B-77FE-4737-999C-ABBC582D81B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22D5AB1-FE15-47C0-B69A-FF5EA296D91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7D1CEE7-E3BD-49A5-9D0B-A0FAB7479E5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BA98D44-30AB-4E3D-8107-D61DC801E0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92C01B8-A859-4533-ABAC-88E2A577146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972918C-D049-4978-A0BD-17CB8A1FECA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A9E58DC-14A9-453A-8F0E-09A47B46B01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38E1F4-B60A-4BD4-A7A9-0DB183BF616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D8CFE8-92A0-4C93-B185-0D76C00363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AC9ED-AA63-42DA-B78D-684D4B23A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A2C21-9888-495A-A8D1-AB3F62B22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103DC7-A41F-417A-90AF-B65C198DE0D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E33F44-70BC-4014-9F21-8B62E6834C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0349EA-FE77-4B84-98FA-DE682B59D7B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E150419-FFBC-499B-9699-5212CD12013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7001B74-8A9F-4D7D-BF5A-2419ADF893E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EB8AA6D-5AB5-4266-BF05-1B47BFB1ACE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4126FC-7D9A-478C-82E1-E54C2F34CE0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B87216F-1463-4668-9440-D807AB59D96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DB90983-B083-4201-9761-919142BD33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A52892B-38D7-4B54-8F55-52063881DDA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A486E-36A1-4165-94DB-592D03040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00125EB-6B25-498E-A239-E1A3192EB83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45E6EE-CDCD-46A2-9548-5F6CA6BB999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B2CB2A8-409A-4FEC-818B-3FF37688941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25CEF9-762C-4C06-AE96-331DAEFF4A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9C348D9-FB67-4829-95DE-DB5B95B99FB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E6A6854-025A-40DE-A5B6-A051D6AF573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3DD2F5B-B0D0-4FCE-A9EF-E6C3431B537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7C02F8E-083F-42AF-9E3C-C76132F40DB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058CCB3-1E44-4E11-9009-9F5488AE609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9D98743-37B7-4321-8A08-87A4F403FA2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522C0-2201-4C0C-8B28-D03E7A871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9904CA8-98C8-42F5-9560-EE189605E0C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2AA1666-259F-42DC-BFC5-4D3BC4F2C4E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5A98660-BE98-4EC7-8F8D-6129B224387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7CBE7EE-D7F5-4E87-B87E-1D01C92862B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C9A892A-D665-4E12-9236-ED771A74C1F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7CA803-725B-4F19-BBBB-8D8F2F3FE1E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77575FE-3844-49F3-92AE-86411B993EC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8066B8E-646E-43A4-A535-FBEA2CB978F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E5883A4-1889-45F4-B49E-585385C59A0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150BF8B-5973-4BC5-BA29-E14420C7C74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51CE10-271F-4B03-905D-7E05C0491C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D6854AD-CD7B-4820-8E14-A03832AA362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977F789-BC7B-4305-ABB3-440FFFDC0DB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B1A6A16-4E6D-4286-B0A3-1F4A1CB7C8C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33211DB-BE2A-45E8-A903-3E3822CCF4A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F8F09BD-26AE-412C-A847-2A9A2DBF4E1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7C401CD-5880-45EC-930B-9495339438A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DAA42B2-0ED2-4F05-B51D-B1AB146B9C9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F1A7F76-F765-4830-BE3B-B2EE83EF2D5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AAB32CB-7DEA-4824-B10F-E3D6FC05C1B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4511B90-78F5-4BA9-80B8-752A8527E71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44AFF-076E-46A9-B983-904A2D273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5EB52A9-1811-4F39-BD82-BBE66EB7B68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7953758-E732-48E2-8AE4-AFB3D01FBF3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D231243-F372-4278-B656-B15CC43C232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D02DC26-BD74-4C18-9783-9C468C12059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F2F15B2-EFF7-45DB-BDD1-7294A263752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33CA21A-E810-4125-A0B9-303759E4150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F2DAB83-BF6D-46F5-9D16-409355FA1F5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D7643B2-C72D-439C-BB68-2D15C26EDD5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1333BBD-8007-4867-8B49-4F32F86DECB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FA5E24C-1127-4F80-9F36-2382055C7BD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BBEEC2-8E06-4BE1-A83D-BE0A4E023F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B9A316D-1552-483D-8F92-B84E7B02B8E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0E5CDE7-665B-4C68-BAAE-BCD1F9A150F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DE52901-7E0A-4706-B412-43292CC03B0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A91F764-B0BF-4F0E-8332-62351FD0966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E9BC716-919A-4265-8393-22D0F493C69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81E827C-22BC-4045-A2FD-6872911DF21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79FDDA3-7924-44AE-8B56-E488EECB72D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8381200-E47E-4A3C-B243-002EC83AA4C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1CAD860-9018-4973-BCE9-3A6D9FE4596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017D3E0-858B-4375-ABF1-306584774EB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7444A0-1371-4410-A8F8-6BD3C7C9D6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E95D37B-1A2B-4E06-AE94-EE8C6893078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1EE5BF0-DEE0-499C-8A59-E99D3054C0B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FF27C4D-3B15-4DA0-8799-9D082D11EBF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CAA7327-0BA0-46E2-9848-5142664B079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51A172F-D46B-4EEE-BF60-055BCCAAF3C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E399636-9A24-4188-A6F6-68D1E6EDCED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A94AE20-7B6C-4AB8-BB37-18A724D4A83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283E294-40C8-48DC-9F56-77CFCED9B82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17B54D1-4355-4226-B010-1D2FD97CEDA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EBB5E60-67B0-4198-868A-025F23A7B4F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246084-C83D-4546-8FC2-20853894A8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782B349-82DB-4DF7-A0D3-A4090BF5774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72E0D87-ED9B-4D8A-8605-06E891F81FE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C9FD248-78BC-48AC-8ACF-3A7A6C55105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3ACD91E-DB14-4530-99AA-7CBF4BE46DC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704E2CE-6BE0-4CA0-8923-04FF6321BAD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21AAD44-762E-47EB-A62A-2F74E4E0BF7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2969806-B59C-4A32-A5A6-2AF54016E09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A4F3020-9CF9-439D-9484-8AF496358D1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2D5171E-8BF0-4604-88B6-056EA356A97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643B669-099B-4C9E-95DA-275B1C74909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9422AB-3AA1-4571-98B9-0BA7A072C2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B1A5989-B7F0-4447-9B28-BD2D2934B2F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95D50C1-BE33-45D8-B664-E445A3586DE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4ABECA1-B1BD-434C-8DE1-B52B3158A16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EBC6196-C46D-4144-A1B9-EC37A43D689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C4AE108-6828-4A50-80E5-379BD5BCDF6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DD03E98-CDE9-4012-881C-15113E3ACE5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D039A88-274C-48C5-A686-77B3850A0BA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4F134DA-F28C-4BF3-9083-5754655F241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8668892-5178-4619-8FEE-A2FA94FA6A7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4188F35-61CC-4C11-8FDE-0C433F045D6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3A37C5-6D10-4483-991E-5E60497198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53B508C-28ED-4D1E-B123-CFFDB592BC7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B93A5B0-FA2C-4996-9C25-2F8A28B8E83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473A45B-7DC4-49DB-89A2-102B5648386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D9E20A3-7CEE-4BE5-BA75-3EDB6FA09F3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38EFC59-DFD0-40A4-9E8A-B86E5DE38B6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010A59E-3CD4-4376-BE91-15D7CFDE354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DF161E1-C275-4DFB-B660-52CBFEC12C5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F99E878-A422-43D5-836E-A7692935F1C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43220B4-24CF-4011-84E6-6B05A7908CB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B67653D-F66D-49A9-86D1-A4FFEBD4C16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C2C86-6188-4E58-9B46-16A27763F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62DF7D-87F6-4B1B-B8A1-98BBDDA17E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01CA540-9205-4812-B852-95209B12BB3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A67869C-2DDF-4481-8A31-3FC0DD34D54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A269E68-7F25-4FA3-B72A-0A1AE8B35B3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7A283D5-9FC1-4D6E-B0B2-455964FF602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39A28F6-0C5E-4F92-AD2A-67D4CCE09B4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653AB95-8B00-494D-8C7B-33570499676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2DD8CD8-53D0-4368-A472-747817FFB2B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5C422D5-40DA-43FC-898C-E42327F0DDB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C42407A-0A38-4B2D-A390-DB3AF285971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CDD7B26-E3E2-4E3B-A945-F0B9A022E29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E3D3D1-CB1E-4B24-811D-CF75164467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876CB98-DE38-4956-8462-A5C4B376ED0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9B3F7C4-C3F3-4846-BABB-A4EE14738C7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16D0BA2-4251-4AAC-ABA7-776F5EDF1F7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DB450BB-0423-4105-896D-B434103F6B5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6FBC716-283C-4D66-B402-7E8B21FC8FC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EB685A2-23AC-4B1B-A281-AE84CDF3D67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BB23E32-7E7A-43B8-8BE2-44FCA79B279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8F35C97-94C2-421E-A250-8BB0BCF8EFB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C97D6E9-7DCF-40B7-81F5-2D8A0470710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5357A9B-0ECA-4DE6-BA48-B7963B71651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EC2F36-78BE-4245-ACCF-6CA83A46B3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31DE4D2-F8F9-496A-95E5-4604FDC4328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F72F1F6-ECF1-4F80-AEFF-9E9CEB1CDDC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0930A05-60CE-4CE3-8669-8D0CDF8354B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9347326-5630-44F8-A1CA-EAC8C4BBF95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2BF5499-6414-48F9-B225-37E0AD8C0E1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4393F4C-C983-4144-8332-42DFDD202FF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BBD5E60-08B8-4D51-AA53-93258A7E90C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D787EC2-1829-4399-9FF1-254900EAA26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AF7483F-4301-4384-A267-486A55CFA1B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1E5BE01-1BC8-4D89-A585-360BC40EBC8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4F54E0-CF99-4184-8960-8EB2440223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7752CB3-CCF3-448F-A7F6-CCACB38FF1B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C140E4F-9106-4E8C-AB8C-0985665304F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A881CEA-8E31-467C-97E0-FEFB196378D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7A08E65-9B78-4744-80F5-CB99E5A8FA5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C671E09-0E7E-4434-B9BF-25F8C83000E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C0414E8-8FE5-4F46-8C29-F9D771C63AC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DB8BC55-FE6D-4BA8-BFC0-B029E1F0FB5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67484F4-7995-451F-90C2-2D50313B486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97A7535-78B9-415A-A8D4-06B4B498E77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1A5BA5E-9B72-4F5D-BD92-D81389F5695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267CB8-A572-430F-8AFA-BE36CE5B17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012BC99-7D13-402D-B271-EF7202D8FA9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3321DDE-F75B-47AF-B6EC-922B2DF45A2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1CD6FB0-B51D-47BE-9E45-DFF55D3943A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5E30E3B-020F-45BE-ACA1-B0F4F6CBF26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36BA29E-F8C5-48F0-945F-2AEDC352F5B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61A4336-3D23-431B-A8DC-0324A1A8B93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691B74F-811C-4369-B62E-ACDD0C62583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417003A-120C-45C0-960F-66D6E76A595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71E079E-1929-45F3-880E-2B8F386CB12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A256C91-B66C-4E07-A6A7-DA2BB6F6AD8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189F32-828C-4134-865C-C1FD720AE9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7F57AAE-7EC4-4ABE-B8A6-2341ADB42FE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DA39608-D7A9-4212-958F-97771A686E8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E5440C6-2231-4F9F-8758-32A48C7A3FC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833DC6E-3E97-4514-A4C3-D4DE0E50307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3E146DB-A9CE-4AA5-AC52-CF7B6E4F7A0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1781745-CDAD-4E21-9517-521A252D45C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D31DF05-207C-4FAC-9A93-49B1C559114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6532D84-3949-485A-854A-F55234F6D6F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D200DF1-34A1-4300-841A-5A640348910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76F7F7ED-9235-4700-8A6D-F7F134BFB7B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A471D3-CBD8-4273-8494-161C0DFB0B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F581056C-A92A-42D6-8534-3BD6E16D8E95}"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B3C0548-04A7-4585-9A75-AEAF8F946E98}"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4913DA9-6EC6-48D4-95CF-D23AB16CC5E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AC4F98F-7BB9-4ACB-AAEF-E589D4AAEE8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62C9280-6093-4058-9E1B-4C714A1A3F6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A06E25C-5F22-4FF9-9F31-58EF5939A9B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D9D123A-9A7B-4C5E-A47A-E9FA6DADACB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CF5749F-DC56-4C98-9FEB-F9314912D62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C17DBA5-4969-440C-BF0D-E124E22A202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0D2FDF8-7317-403F-97E1-64A5FFA2F65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B2226D4-2E2B-4E64-83EB-ED4ED9EF4387}"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3FC1468-2612-4796-B203-A36C5169FE4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8828DD9D-0312-4580-9597-42124A6A629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D830CCA-3FFF-4833-91C8-814771C4B84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7A259740-192F-4851-9EC4-CD2DD422BD23}"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2"/>
          </p:nvPr>
        </p:nvSpPr>
        <p:spPr/>
        <p:txBody>
          <a:bodyPr/>
          <a:p>
            <a:fld id="{F6FCFDAB-E309-4735-AD1D-95F93349EE2A}"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2"/>
          </p:nvPr>
        </p:nvSpPr>
        <p:spPr/>
        <p:txBody>
          <a:bodyPr/>
          <a:p>
            <a:fld id="{001CB85A-F6A6-444A-A2D9-F45EC62745BC}"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2"/>
          </p:nvPr>
        </p:nvSpPr>
        <p:spPr/>
        <p:txBody>
          <a:bodyPr/>
          <a:p>
            <a:fld id="{105F6504-A604-45ED-BAD2-C26C0CCFD846}"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82"/>
          </p:nvPr>
        </p:nvSpPr>
        <p:spPr/>
        <p:txBody>
          <a:bodyPr/>
          <a:p>
            <a:fld id="{84556621-585C-4453-ADFF-C18B42ADAC0F}"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2"/>
          </p:nvPr>
        </p:nvSpPr>
        <p:spPr/>
        <p:txBody>
          <a:bodyPr/>
          <a:p>
            <a:fld id="{000F3FC6-EB43-4810-BA06-2926D6BB5A93}"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2"/>
          </p:nvPr>
        </p:nvSpPr>
        <p:spPr/>
        <p:txBody>
          <a:bodyPr/>
          <a:p>
            <a:fld id="{E60643BC-72F4-45E1-9461-858520C7C25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EE3B0ED9-D16F-48EA-92DF-384107BD86E6}"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2"/>
          </p:nvPr>
        </p:nvSpPr>
        <p:spPr/>
        <p:txBody>
          <a:bodyPr/>
          <a:p>
            <a:fld id="{FC34A56E-F278-452F-BAD6-498FC867AD09}"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2"/>
          </p:nvPr>
        </p:nvSpPr>
        <p:spPr/>
        <p:txBody>
          <a:bodyPr/>
          <a:p>
            <a:fld id="{95AEFF2B-9556-4FF3-A69A-5886525BD5F1}"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2"/>
          </p:nvPr>
        </p:nvSpPr>
        <p:spPr/>
        <p:txBody>
          <a:bodyPr/>
          <a:p>
            <a:fld id="{787C242A-6A61-4D7E-BDAF-8FB69B68EE23}"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2"/>
          </p:nvPr>
        </p:nvSpPr>
        <p:spPr/>
        <p:txBody>
          <a:bodyPr/>
          <a:p>
            <a:fld id="{DF4CF99D-C05D-4FD1-8D89-55072BF3E118}"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2"/>
          </p:nvPr>
        </p:nvSpPr>
        <p:spPr/>
        <p:txBody>
          <a:bodyPr/>
          <a:p>
            <a:fld id="{4E54C0A9-EF84-427D-9518-8B9FDFE6E61E}"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3"/>
          </p:nvPr>
        </p:nvSpPr>
        <p:spPr/>
        <p:txBody>
          <a:bodyPr/>
          <a:p>
            <a:fld id="{66C4E758-D901-46B7-B80D-DDFC54E0EC16}"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3"/>
          </p:nvPr>
        </p:nvSpPr>
        <p:spPr/>
        <p:txBody>
          <a:bodyPr/>
          <a:p>
            <a:fld id="{37B0385C-E0C8-4348-B927-D71557D8804D}"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3"/>
          </p:nvPr>
        </p:nvSpPr>
        <p:spPr/>
        <p:txBody>
          <a:bodyPr/>
          <a:p>
            <a:fld id="{8178A09C-15C8-4EF1-8962-9CF3A65E4017}"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3"/>
          </p:nvPr>
        </p:nvSpPr>
        <p:spPr/>
        <p:txBody>
          <a:bodyPr/>
          <a:p>
            <a:fld id="{7A3005FD-C236-4B7A-A804-21D2F748C4C0}"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3"/>
          </p:nvPr>
        </p:nvSpPr>
        <p:spPr/>
        <p:txBody>
          <a:bodyPr/>
          <a:p>
            <a:fld id="{8FC917B4-DDAE-4B9D-A80D-1DF6B7D5B10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E44449C3-9D0E-4099-977A-3734822C73AF}"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3"/>
          </p:nvPr>
        </p:nvSpPr>
        <p:spPr/>
        <p:txBody>
          <a:bodyPr/>
          <a:p>
            <a:fld id="{BB942283-AC70-40A5-B761-9196B3E2687A}"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929C124D-963F-4FAB-B2E4-E6A634D136D1}"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1634C15A-07AF-4B7E-9D85-A1639B03EF1C}"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9A5E265E-A7D6-42D6-8413-2F096E8A82AD}"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3"/>
          </p:nvPr>
        </p:nvSpPr>
        <p:spPr/>
        <p:txBody>
          <a:bodyPr/>
          <a:p>
            <a:fld id="{42F272C5-3A22-4463-8803-C207FCE9DC0C}"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3"/>
          </p:nvPr>
        </p:nvSpPr>
        <p:spPr/>
        <p:txBody>
          <a:bodyPr/>
          <a:p>
            <a:fld id="{A94A383C-A2CA-4145-8FAA-77399D768E68}"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3"/>
          </p:nvPr>
        </p:nvSpPr>
        <p:spPr/>
        <p:txBody>
          <a:bodyPr/>
          <a:p>
            <a:fld id="{5210B39F-7F84-43E4-ABA4-A6439674FE00}"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dt" idx="85"/>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dt" idx="85"/>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dt" idx="8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91D4A-3215-4647-A7D5-A95C17DC9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C2E95BCF-EC27-436A-90B8-9822F1365356}"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dt" idx="85"/>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dt" idx="85"/>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dt" idx="85"/>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dt" idx="85"/>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dt" idx="85"/>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dt" idx="85"/>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dt" idx="8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0"/>
          </p:nvPr>
        </p:nvSpPr>
        <p:spPr/>
        <p:txBody>
          <a:bodyPr/>
          <a:p>
            <a:fld id="{96D35B56-C735-4481-8D05-55380415DF1E}"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dt" idx="8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dt" idx="8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dt" idx="8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dt" idx="8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dt" idx="8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dt" idx="8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dt" idx="8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dt" idx="8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dt" idx="8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dt" idx="8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5D724B4D-6C42-41FB-9ED3-CC7BC07A98F5}"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dt" idx="87"/>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dt" idx="89"/>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dt" idx="89"/>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dt" idx="89"/>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dt" idx="89"/>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dt" idx="89"/>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dt" idx="89"/>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dt" idx="89"/>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dt" idx="89"/>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dt" idx="8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701B113-3D3B-45FD-A9EA-F78727931A6E}"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dt" idx="89"/>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dt" idx="89"/>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dt" idx="89"/>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dt" idx="91"/>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2D00FFA-1A37-4CD6-A9BE-89AE816C802E}"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dt" idx="91"/>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dt" idx="91"/>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dt" idx="93"/>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dt" idx="93"/>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dt" idx="93"/>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dt" idx="93"/>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dt" idx="9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826E5D9-5020-43C2-A778-FC4BA6AC8F25}"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dt" idx="93"/>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dt" idx="93"/>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dt" idx="93"/>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dt" idx="93"/>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A44C4F87-8827-429C-8EEC-E5D69B430826}"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3AC62015-222D-4183-8A6E-F70405BD1254}"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30F0D2DA-E9AD-45FE-A4D8-003F2CC475FF}"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59336235-7000-4716-BBFF-798CBB32C363}"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E203516B-B1A5-44E6-9FFF-6AAB5F83C358}"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FAE812AB-2F67-448C-A854-8004EAC91115}"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FA458400-E1D7-41F2-97FD-17EC341CB572}"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1AAEEB1A-687C-4671-9B92-2DF42308810B}"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E2D6073B-C1EA-45FC-85D1-967CA9E8C861}"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7934B6E8-34BE-4482-8849-D2D96E42A91C}"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7111ED14-65C4-4093-B4CD-AB860D80F0BC}"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B959FA3A-1A74-4CEF-A70C-FC3DD4B9CAA0}"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5394FED4-2405-493E-B7B1-ADCD0AC53FEE}"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FE689C1C-E59E-4E3E-A59A-7E953ED599FA}"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A09EA8CC-F7D8-48FA-9F3B-BC087000725D}"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553BE1EF-D75A-49F7-9845-58E3F48974DC}"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28C364EE-1354-4C10-B14C-46BECB8CE5DB}"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BEEC9F21-E2D5-4E79-BA93-C3F3B0B32F6E}"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03F86843-CD94-43F0-A973-317C6853465D}"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EBBAABFE-852A-4463-B547-9D6DEB0C5C7D}"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A4D43ED1-4BEF-4A14-B205-05AC076997EF}"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C692C7DF-F9EF-4F58-AC5F-3D014F4634EC}"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5FA6A9E8-25BF-45BA-99E9-814AC5959E14}"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5D779199-FFE4-452B-BAF7-F58CB9F5C6E5}"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E080E4CB-4340-4BEE-B79D-5DBDBB9C7C2E}"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7CF0E792-9C22-4ADB-9183-A9EFFEA07374}"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E1259831-6201-4E90-B420-05CB6E91860F}"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3"/>
          </p:nvPr>
        </p:nvSpPr>
        <p:spPr/>
        <p:txBody>
          <a:bodyPr/>
          <a:p>
            <a:fld id="{C1FBEB5A-5B5C-45AC-803B-F45F9C2A0BB5}"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66670621-50F7-4447-BBCF-C88CEF2A1BED}"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8411D3E2-7BA0-432C-8C4C-AC186C32D2C3}"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EC563329-539D-4978-96A9-A18C1629CBF3}"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F88B6B40-1CE9-46CE-B5D1-F4E314C9ACA5}"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384B3652-41F0-4EB3-97A1-E328944D0B1E}"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D3884D59-7B60-41AF-95A4-BCA7CE18D195}"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01971AED-E0F5-49E5-87E7-4B703AAFBA74}"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98B15458-DCCC-4653-9852-B993D9348A5B}"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AC79A425-8ADB-456E-BF73-3F1A1696F614}"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3"/>
          </p:nvPr>
        </p:nvSpPr>
        <p:spPr/>
        <p:txBody>
          <a:bodyPr/>
          <a:p>
            <a:fld id="{8A504602-3D8E-4945-916B-B325970EA484}"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3"/>
          </p:nvPr>
        </p:nvSpPr>
        <p:spPr/>
        <p:txBody>
          <a:bodyPr/>
          <a:p>
            <a:fld id="{4218608B-BD35-4E8B-A147-541F3E301A6E}"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12DE702D-8EAF-4C0D-97A0-7209AC74FF62}"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0B609EAE-2A3E-4AD3-A948-05D55234789F}"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2DF4CABC-4647-4B48-A13C-7503705281EB}"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673B6116-A4D5-41E4-A098-D51C106E10E6}"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167CA470-540F-45AA-97CB-B1C2ADE781EB}"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0FDC0BD9-7BC1-4D36-B74E-F205CEED0A9F}"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9E6447D7-5B0E-4E60-B925-DDABF6CD6684}"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A1F3A-5ECE-40D5-8EFB-BF92D7D0D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759F8C27-D394-48A1-8F9C-159748A2385E}"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3DBA8FF6-EBB1-43DA-A290-A9B430705A7B}"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F07ACE76-6BFF-4165-9294-DC62DD8509FD}"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D3DF5116-CC9E-4E5B-BC55-C6C28CA1DF53}"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32A56213-D7F9-4475-9736-68C922F92378}"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9"/>
          </p:nvPr>
        </p:nvSpPr>
        <p:spPr/>
        <p:txBody>
          <a:bodyPr/>
          <a:p>
            <a:fld id="{4EEE2FAE-DE58-4E4E-BC5E-B4779A5D093C}"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6987AEA4-54CE-4A44-9CA2-0C5ADC588467}"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E5C16BA7-AD60-4D0F-8B00-E4B931028BBE}"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055ADA1C-23DA-4CC6-8D4B-FBA2C8E03385}"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65116DD8-B329-4D7C-B90E-457E14B0C02D}"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65CA33BB-9A24-424E-B3AE-5DB87CABDF08}"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46E1384B-EDAF-4B3C-A2BA-EE9ECA882F8A}"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EEBB736C-0459-42E9-A491-066737041693}"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E2979D62-8F4A-41D9-8088-0A3EA63946C3}"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8CBF859C-F3BF-43D7-8D81-6E80EEB1B2B9}"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9"/>
          </p:nvPr>
        </p:nvSpPr>
        <p:spPr/>
        <p:txBody>
          <a:bodyPr/>
          <a:p>
            <a:fld id="{92D69B21-93FF-478D-A246-57BFECA19AA8}"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9"/>
          </p:nvPr>
        </p:nvSpPr>
        <p:spPr/>
        <p:txBody>
          <a:bodyPr/>
          <a:p>
            <a:fld id="{1FC1B7E2-4665-4CAB-8892-9B3131ABD1E1}"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7EB5D29D-062F-4D26-B0E2-27A0D9C8E1FE}"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F313E7B0-B4B8-4DAE-B9A6-8FD1941FD033}"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8F28D492-B62E-4614-842A-261B96955D92}"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1163E651-9CB9-4C7D-8191-D08C9247CB54}"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0838A4E9-918D-4F61-B4F5-29EC55394163}"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FB528EB2-2052-4E1A-81FC-0FD971EA9C40}"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C15A8A0D-ED42-4C52-A5C2-7DC94BDA55C5}"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7ABDF01C-0EEF-44D7-B3AC-AC12802AA2A4}"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C5F99507-63CC-4F9D-9261-1A26657EE68E}"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2A0C1C0A-5273-4BC3-BA22-AD0EC93C835E}"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E1295723-9833-4C68-A36C-5D0B3BCC519B}"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9E8E5AA8-6FF0-4ADD-B49E-D9C44A3FE877}"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4"/>
          </p:nvPr>
        </p:nvSpPr>
        <p:spPr/>
        <p:txBody>
          <a:bodyPr/>
          <a:p>
            <a:r>
              <a:t>Footer</a:t>
            </a:r>
          </a:p>
        </p:txBody>
      </p:sp>
      <p:sp>
        <p:nvSpPr>
          <p:cNvPr id="3" name="PlaceHolder 2"/>
          <p:cNvSpPr>
            <a:spLocks noGrp="1"/>
          </p:cNvSpPr>
          <p:nvPr>
            <p:ph type="sldNum" idx="115"/>
          </p:nvPr>
        </p:nvSpPr>
        <p:spPr/>
        <p:txBody>
          <a:bodyPr/>
          <a:p>
            <a:fld id="{751384F6-55C3-4FFB-8AE9-E2785082F688}" type="slidenum">
              <a:t>&lt;#&gt;</a:t>
            </a:fld>
          </a:p>
        </p:txBody>
      </p:sp>
      <p:sp>
        <p:nvSpPr>
          <p:cNvPr id="4" name="PlaceHolder 3"/>
          <p:cNvSpPr>
            <a:spLocks noGrp="1"/>
          </p:cNvSpPr>
          <p:nvPr>
            <p:ph type="dt" idx="1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73026364-F237-422D-92A1-E9F64E7DCBE6}"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8CD1D4FA-2A4C-45CE-99EE-15DC95C25AEB}"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0007FB22-2234-49FC-B4E9-85D5B7DA7C0C}"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EE145BFB-AD89-4FFB-A142-8E5A871C3721}"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A1F16226-7FD4-4FC1-B934-6704529B94C1}"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DD228A28-ABF5-4867-A955-AD97141544DF}"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DD59BA7E-7146-4E5C-A824-07DE924A8AC9}"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99FA9DDB-EE3F-4F14-8BF2-C37F8607D3B9}"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41C96F0F-4C3B-4E89-BC81-34C41AEB2AB9}"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4"/>
          </p:nvPr>
        </p:nvSpPr>
        <p:spPr/>
        <p:txBody>
          <a:bodyPr/>
          <a:p>
            <a:r>
              <a:t>Footer</a:t>
            </a:r>
          </a:p>
        </p:txBody>
      </p:sp>
      <p:sp>
        <p:nvSpPr>
          <p:cNvPr id="8" name="PlaceHolder 7"/>
          <p:cNvSpPr>
            <a:spLocks noGrp="1"/>
          </p:cNvSpPr>
          <p:nvPr>
            <p:ph type="sldNum" idx="115"/>
          </p:nvPr>
        </p:nvSpPr>
        <p:spPr/>
        <p:txBody>
          <a:bodyPr/>
          <a:p>
            <a:fld id="{BC17AD9A-4EB5-40BD-AE24-1B77D5A8411D}" type="slidenum">
              <a:t>&lt;#&gt;</a:t>
            </a:fld>
          </a:p>
        </p:txBody>
      </p:sp>
      <p:sp>
        <p:nvSpPr>
          <p:cNvPr id="9" name="PlaceHolder 8"/>
          <p:cNvSpPr>
            <a:spLocks noGrp="1"/>
          </p:cNvSpPr>
          <p:nvPr>
            <p:ph type="dt" idx="1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4"/>
          </p:nvPr>
        </p:nvSpPr>
        <p:spPr/>
        <p:txBody>
          <a:bodyPr/>
          <a:p>
            <a:r>
              <a:t>Footer</a:t>
            </a:r>
          </a:p>
        </p:txBody>
      </p:sp>
      <p:sp>
        <p:nvSpPr>
          <p:cNvPr id="10" name="PlaceHolder 9"/>
          <p:cNvSpPr>
            <a:spLocks noGrp="1"/>
          </p:cNvSpPr>
          <p:nvPr>
            <p:ph type="sldNum" idx="115"/>
          </p:nvPr>
        </p:nvSpPr>
        <p:spPr/>
        <p:txBody>
          <a:bodyPr/>
          <a:p>
            <a:fld id="{27BF2BD2-AD8A-4EFE-92BF-640771B20731}" type="slidenum">
              <a:t>&lt;#&gt;</a:t>
            </a:fld>
          </a:p>
        </p:txBody>
      </p:sp>
      <p:sp>
        <p:nvSpPr>
          <p:cNvPr id="11" name="PlaceHolder 10"/>
          <p:cNvSpPr>
            <a:spLocks noGrp="1"/>
          </p:cNvSpPr>
          <p:nvPr>
            <p:ph type="dt" idx="11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sldNum" idx="118"/>
          </p:nvPr>
        </p:nvSpPr>
        <p:spPr/>
        <p:txBody>
          <a:bodyPr/>
          <a:p>
            <a:fld id="{69983C65-D9E6-4E39-956E-8BB98A62C20F}" type="slidenum">
              <a:t>&lt;#&gt;</a:t>
            </a:fld>
          </a:p>
        </p:txBody>
      </p:sp>
      <p:sp>
        <p:nvSpPr>
          <p:cNvPr id="4" name="PlaceHolder 3"/>
          <p:cNvSpPr>
            <a:spLocks noGrp="1"/>
          </p:cNvSpPr>
          <p:nvPr>
            <p:ph type="dt" idx="11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52677C9B-0818-4ABB-A9A1-32858F3D938E}"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519F5D45-C7DE-42F1-BD44-4C6E1593AE21}"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EA11E072-071C-4810-9CC7-6B663ED07391}"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8BA4C7F2-677B-4F2F-A253-2A3B67830F27}"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D0CFDE96-F805-418B-915F-D110C791EA10}"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E5CB8F09-AF0D-4026-B8B5-0A6C9506CBFF}"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504E82D0-E63F-4D81-9DCD-EABBC9F202B0}"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A5DA161F-C939-456E-881F-FABB50D5298C}"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8A6553A2-1D83-4445-8D05-ED90B9F5DA4A}"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sldNum" idx="118"/>
          </p:nvPr>
        </p:nvSpPr>
        <p:spPr/>
        <p:txBody>
          <a:bodyPr/>
          <a:p>
            <a:fld id="{D86A66A9-C396-42B8-8D3B-FD6CCD6236FF}" type="slidenum">
              <a:t>&lt;#&gt;</a:t>
            </a:fld>
          </a:p>
        </p:txBody>
      </p:sp>
      <p:sp>
        <p:nvSpPr>
          <p:cNvPr id="9" name="PlaceHolder 8"/>
          <p:cNvSpPr>
            <a:spLocks noGrp="1"/>
          </p:cNvSpPr>
          <p:nvPr>
            <p:ph type="dt" idx="11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sldNum" idx="118"/>
          </p:nvPr>
        </p:nvSpPr>
        <p:spPr/>
        <p:txBody>
          <a:bodyPr/>
          <a:p>
            <a:fld id="{F6D7085E-15BA-451B-8EB2-D0BFAC82255F}" type="slidenum">
              <a:t>&lt;#&gt;</a:t>
            </a:fld>
          </a:p>
        </p:txBody>
      </p:sp>
      <p:sp>
        <p:nvSpPr>
          <p:cNvPr id="11" name="PlaceHolder 10"/>
          <p:cNvSpPr>
            <a:spLocks noGrp="1"/>
          </p:cNvSpPr>
          <p:nvPr>
            <p:ph type="dt" idx="11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AC877-A303-4266-A2F8-8E38102EC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72D6FF-2E35-4E49-8604-BB9F42B9AC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3C2D11-46EB-4A91-AF9F-9768B21C68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023544-4018-437A-AD2E-364C5B95DA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54CF48-B462-43A7-8F21-BF532BFFCF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194093-2D5E-4692-B9D2-8011591D77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34ECE5-7950-40AB-9C34-9E97B035AD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D450F7-9ADF-4608-9F47-1A140EB5D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6C3EB4-7449-4127-83C6-C6B9A2FD55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67DCE2-31D9-46F9-AE03-F72AB49E55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63136-0A2D-4624-9F63-95C91D89E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24B9AF-0F34-4D83-838A-0C16EDD939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E7D758-6597-4B8B-B96F-FBA8968836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0C8AEF-C0E9-4744-9E02-F6973A05DB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6A3A1-D092-4C67-B4B5-70DAB1662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F05C4-329D-44C2-8522-5CE6295A0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3.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3.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5.pn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A992-F9E0-4B90-B27A-834CFDBD90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68" name="Picture 2" descr=""/>
          <p:cNvPicPr/>
          <p:nvPr/>
        </p:nvPicPr>
        <p:blipFill>
          <a:blip r:embed="rId2"/>
          <a:stretch/>
        </p:blipFill>
        <p:spPr>
          <a:xfrm>
            <a:off x="0" y="6114960"/>
            <a:ext cx="1523880" cy="743040"/>
          </a:xfrm>
          <a:prstGeom prst="rect">
            <a:avLst/>
          </a:prstGeom>
          <a:ln w="0">
            <a:noFill/>
          </a:ln>
        </p:spPr>
      </p:pic>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C4B1-994B-4897-A5EF-E40D2EDB15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B8EA-5270-4C60-9717-B1E755C929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6A72-B326-4CAD-B1F1-6B80606CA0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0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DF52-1C0E-4B09-94BA-344FC923EB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0" name="Rectangle 7"/>
          <p:cNvSpPr/>
          <p:nvPr/>
        </p:nvSpPr>
        <p:spPr>
          <a:xfrm>
            <a:off x="7632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4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11AC3-1D40-48A2-AFA2-3288CFE4CC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5"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7DA26-6F18-4DB8-9393-2D59040860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EB48-92B5-4740-8E2A-9D0A429E78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7"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8" name="Picture 2" descr=""/>
          <p:cNvPicPr/>
          <p:nvPr/>
        </p:nvPicPr>
        <p:blipFill>
          <a:blip r:embed="rId2"/>
          <a:stretch/>
        </p:blipFill>
        <p:spPr>
          <a:xfrm>
            <a:off x="0" y="6114960"/>
            <a:ext cx="1523880" cy="743040"/>
          </a:xfrm>
          <a:prstGeom prst="rect">
            <a:avLst/>
          </a:prstGeom>
          <a:ln w="0">
            <a:noFill/>
          </a:ln>
        </p:spPr>
      </p:pic>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1"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72"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3"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12745-A841-498C-A69F-970D8B36CC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4"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15"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1EB28-49D6-4EDE-8047-5B804401D7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7"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58"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09DA-9659-45E4-91F1-991F2FD685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BC93C-684D-45EF-A35B-00B4D08A53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7"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7"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0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8B7A-E26C-4AA8-89C8-DC87CA8D90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0" name="Rectangle 7"/>
          <p:cNvSpPr/>
          <p:nvPr/>
        </p:nvSpPr>
        <p:spPr>
          <a:xfrm>
            <a:off x="7632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4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B813-112A-4157-A2FC-7EF02272AF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E273-C2B5-4FF1-B16B-26423F80C7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7"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8"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9"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6EAA-FE04-4951-B537-957037B720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7"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68" name="Picture 2" descr=""/>
          <p:cNvPicPr/>
          <p:nvPr/>
        </p:nvPicPr>
        <p:blipFill>
          <a:blip r:embed="rId2"/>
          <a:stretch/>
        </p:blipFill>
        <p:spPr>
          <a:xfrm>
            <a:off x="0" y="6114960"/>
            <a:ext cx="1523880" cy="743040"/>
          </a:xfrm>
          <a:prstGeom prst="rect">
            <a:avLst/>
          </a:prstGeom>
          <a:ln w="0">
            <a:noFill/>
          </a:ln>
        </p:spPr>
      </p:pic>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7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25EA0-FAC2-4EA4-AB1D-9F35EC92C7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4"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015"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59DD-D861-48BD-A2A1-C5ABF57E87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57"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058"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C1E8-674A-4124-A6B5-A853FED4A5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7"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0"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101"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5954-0AD6-4314-9E9D-65FAA32EF2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0" name="Rectangle 7"/>
          <p:cNvSpPr/>
          <p:nvPr/>
        </p:nvSpPr>
        <p:spPr>
          <a:xfrm>
            <a:off x="7632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3"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144"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5"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EBEF-575B-4992-97CF-C2F6430841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5"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6"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7"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ED76-2724-43A2-A661-7322D5315B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9453C-5E5B-404A-AE94-5C9FBA787F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7"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8"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9"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2A5B-4FBD-4B71-AF50-53AD13E119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4d"/>
        </a:solidFill>
      </p:bgPr>
    </p:bg>
    <p:spTree>
      <p:nvGrpSpPr>
        <p:cNvPr id="1" name=""/>
        <p:cNvGrpSpPr/>
        <p:nvPr/>
      </p:nvGrpSpPr>
      <p:grpSpPr>
        <a:xfrm>
          <a:off x="0" y="0"/>
          <a:ext cx="0" cy="0"/>
          <a:chOff x="0" y="0"/>
          <a:chExt cx="0" cy="0"/>
        </a:xfrm>
      </p:grpSpPr>
      <p:sp>
        <p:nvSpPr>
          <p:cNvPr id="1266" name="Rectangle 3"/>
          <p:cNvSpPr/>
          <p:nvPr/>
        </p:nvSpPr>
        <p:spPr>
          <a:xfrm flipV="1">
            <a:off x="0" y="1446840"/>
            <a:ext cx="9144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7" name="Rectangle 8"/>
          <p:cNvSpPr/>
          <p:nvPr/>
        </p:nvSpPr>
        <p:spPr>
          <a:xfrm>
            <a:off x="0" y="0"/>
            <a:ext cx="9144000" cy="6858000"/>
          </a:xfrm>
          <a:prstGeom prst="rect">
            <a:avLst/>
          </a:prstGeom>
          <a:gradFill rotWithShape="0">
            <a:gsLst>
              <a:gs pos="0">
                <a:srgbClr val="000022"/>
              </a:gs>
              <a:gs pos="100000">
                <a:srgbClr val="003366"/>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8" name="Text Box 8"/>
          <p:cNvSpPr/>
          <p:nvPr/>
        </p:nvSpPr>
        <p:spPr>
          <a:xfrm>
            <a:off x="8458200" y="6451560"/>
            <a:ext cx="6476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9" name="Straight Connector 9"/>
          <p:cNvSpPr/>
          <p:nvPr/>
        </p:nvSpPr>
        <p:spPr>
          <a:xfrm>
            <a:off x="934920" y="3736800"/>
            <a:ext cx="727560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600" spc="-1" strike="noStrike">
              <a:solidFill>
                <a:srgbClr val="000000"/>
              </a:solidFill>
              <a:latin typeface="Arial"/>
            </a:endParaRPr>
          </a:p>
        </p:txBody>
      </p:sp>
      <p:sp>
        <p:nvSpPr>
          <p:cNvPr id="1270" name="PlaceHolder 1"/>
          <p:cNvSpPr>
            <a:spLocks noGrp="1"/>
          </p:cNvSpPr>
          <p:nvPr>
            <p:ph type="title"/>
          </p:nvPr>
        </p:nvSpPr>
        <p:spPr>
          <a:xfrm>
            <a:off x="0" y="356760"/>
            <a:ext cx="9144000" cy="1120680"/>
          </a:xfrm>
          <a:prstGeom prst="rect">
            <a:avLst/>
          </a:prstGeom>
          <a:noFill/>
          <a:ln w="0">
            <a:noFill/>
          </a:ln>
        </p:spPr>
        <p:txBody>
          <a:bodyPr lIns="182880" rIns="182880" tIns="44640" bIns="44640" anchor="ctr">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271" name="PlaceHolder 2"/>
          <p:cNvSpPr>
            <a:spLocks noGrp="1"/>
          </p:cNvSpPr>
          <p:nvPr>
            <p:ph type="body"/>
          </p:nvPr>
        </p:nvSpPr>
        <p:spPr>
          <a:xfrm>
            <a:off x="457200" y="1573200"/>
            <a:ext cx="8229600" cy="4960800"/>
          </a:xfrm>
          <a:prstGeom prst="rect">
            <a:avLst/>
          </a:prstGeom>
          <a:noFill/>
          <a:ln w="0">
            <a:noFill/>
          </a:ln>
        </p:spPr>
        <p:txBody>
          <a:bodyPr lIns="89640" rIns="89640" tIns="44640" bIns="44640" anchor="t">
            <a:normAutofit/>
          </a:bodyPr>
          <a:p>
            <a:pPr marL="3430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8608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72" name="PlaceHolder 3"/>
          <p:cNvSpPr>
            <a:spLocks noGrp="1"/>
          </p:cNvSpPr>
          <p:nvPr>
            <p:ph type="dt" idx="7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PlaceHolder 4"/>
          <p:cNvSpPr>
            <a:spLocks noGrp="1"/>
          </p:cNvSpPr>
          <p:nvPr>
            <p:ph type="ftr" idx="8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4" name="PlaceHolder 5"/>
          <p:cNvSpPr>
            <a:spLocks noGrp="1"/>
          </p:cNvSpPr>
          <p:nvPr>
            <p:ph type="sldNum" idx="81"/>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4ED4-A0C3-4AA9-A316-9278D465414E}" type="slidenum">
              <a:rPr b="0" lang="en-US" sz="1000" spc="-1" strike="noStrike">
                <a:solidFill>
                  <a:srgbClr val="ffffff"/>
                </a:solidFill>
                <a:latin typeface="Arial"/>
                <a:ea typeface="MS PGothic"/>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4d"/>
        </a:solidFill>
      </p:bgPr>
    </p:bg>
    <p:spTree>
      <p:nvGrpSpPr>
        <p:cNvPr id="1" name=""/>
        <p:cNvGrpSpPr/>
        <p:nvPr/>
      </p:nvGrpSpPr>
      <p:grpSpPr>
        <a:xfrm>
          <a:off x="0" y="0"/>
          <a:ext cx="0" cy="0"/>
          <a:chOff x="0" y="0"/>
          <a:chExt cx="0" cy="0"/>
        </a:xfrm>
      </p:grpSpPr>
      <p:sp>
        <p:nvSpPr>
          <p:cNvPr id="1311" name="Rectangle 3"/>
          <p:cNvSpPr/>
          <p:nvPr/>
        </p:nvSpPr>
        <p:spPr>
          <a:xfrm flipV="1">
            <a:off x="0" y="1446840"/>
            <a:ext cx="9144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Rectangle 8"/>
          <p:cNvSpPr/>
          <p:nvPr/>
        </p:nvSpPr>
        <p:spPr>
          <a:xfrm>
            <a:off x="0" y="0"/>
            <a:ext cx="9144000" cy="6858000"/>
          </a:xfrm>
          <a:prstGeom prst="rect">
            <a:avLst/>
          </a:prstGeom>
          <a:gradFill rotWithShape="0">
            <a:gsLst>
              <a:gs pos="0">
                <a:srgbClr val="000022"/>
              </a:gs>
              <a:gs pos="100000">
                <a:srgbClr val="003366"/>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3" name="Text Box 8"/>
          <p:cNvSpPr/>
          <p:nvPr/>
        </p:nvSpPr>
        <p:spPr>
          <a:xfrm>
            <a:off x="8458200" y="6451560"/>
            <a:ext cx="6476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4" name="PlaceHolder 1"/>
          <p:cNvSpPr>
            <a:spLocks noGrp="1"/>
          </p:cNvSpPr>
          <p:nvPr>
            <p:ph type="title"/>
          </p:nvPr>
        </p:nvSpPr>
        <p:spPr>
          <a:xfrm>
            <a:off x="0" y="356760"/>
            <a:ext cx="9144000" cy="1120680"/>
          </a:xfrm>
          <a:prstGeom prst="rect">
            <a:avLst/>
          </a:prstGeom>
          <a:noFill/>
          <a:ln w="0">
            <a:noFill/>
          </a:ln>
        </p:spPr>
        <p:txBody>
          <a:bodyPr lIns="182880" rIns="182880" tIns="44640" bIns="44640" anchor="ctr">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315" name="PlaceHolder 2"/>
          <p:cNvSpPr>
            <a:spLocks noGrp="1"/>
          </p:cNvSpPr>
          <p:nvPr>
            <p:ph type="body"/>
          </p:nvPr>
        </p:nvSpPr>
        <p:spPr>
          <a:xfrm>
            <a:off x="457200" y="1573200"/>
            <a:ext cx="8229600" cy="4960800"/>
          </a:xfrm>
          <a:prstGeom prst="rect">
            <a:avLst/>
          </a:prstGeom>
          <a:noFill/>
          <a:ln w="0">
            <a:noFill/>
          </a:ln>
        </p:spPr>
        <p:txBody>
          <a:bodyPr lIns="89640" rIns="89640" tIns="44640" bIns="44640" anchor="t">
            <a:normAutofit/>
          </a:bodyPr>
          <a:p>
            <a:pPr marL="3430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8608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16" name="PlaceHolder 3"/>
          <p:cNvSpPr>
            <a:spLocks noGrp="1"/>
          </p:cNvSpPr>
          <p:nvPr>
            <p:ph type="sldNum" idx="82"/>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E4836-693B-4E35-A5D8-0507401C8872}" type="slidenum">
              <a:rPr b="0" lang="en-US" sz="1000" spc="-1" strike="noStrike">
                <a:solidFill>
                  <a:srgbClr val="ffffff"/>
                </a:solidFill>
                <a:latin typeface="Arial"/>
                <a:ea typeface="MS PGothic"/>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4d"/>
        </a:solidFill>
      </p:bgPr>
    </p:bg>
    <p:spTree>
      <p:nvGrpSpPr>
        <p:cNvPr id="1" name=""/>
        <p:cNvGrpSpPr/>
        <p:nvPr/>
      </p:nvGrpSpPr>
      <p:grpSpPr>
        <a:xfrm>
          <a:off x="0" y="0"/>
          <a:ext cx="0" cy="0"/>
          <a:chOff x="0" y="0"/>
          <a:chExt cx="0" cy="0"/>
        </a:xfrm>
      </p:grpSpPr>
      <p:sp>
        <p:nvSpPr>
          <p:cNvPr id="1353" name="Rectangle 3"/>
          <p:cNvSpPr/>
          <p:nvPr/>
        </p:nvSpPr>
        <p:spPr>
          <a:xfrm flipV="1">
            <a:off x="0" y="1446840"/>
            <a:ext cx="9144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4" name="Rectangle 8"/>
          <p:cNvSpPr/>
          <p:nvPr/>
        </p:nvSpPr>
        <p:spPr>
          <a:xfrm>
            <a:off x="0" y="0"/>
            <a:ext cx="9144000" cy="6858000"/>
          </a:xfrm>
          <a:prstGeom prst="rect">
            <a:avLst/>
          </a:prstGeom>
          <a:gradFill rotWithShape="0">
            <a:gsLst>
              <a:gs pos="0">
                <a:srgbClr val="000022"/>
              </a:gs>
              <a:gs pos="100000">
                <a:srgbClr val="003366"/>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5" name="Text Box 8"/>
          <p:cNvSpPr/>
          <p:nvPr/>
        </p:nvSpPr>
        <p:spPr>
          <a:xfrm>
            <a:off x="8458200" y="6451560"/>
            <a:ext cx="6476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6" name="Rectangle 6"/>
          <p:cNvSpPr/>
          <p:nvPr/>
        </p:nvSpPr>
        <p:spPr>
          <a:xfrm>
            <a:off x="7277040" y="6562800"/>
            <a:ext cx="1866960" cy="447480"/>
          </a:xfrm>
          <a:prstGeom prst="rect">
            <a:avLst/>
          </a:prstGeom>
          <a:noFill/>
          <a:ln w="0">
            <a:noFill/>
          </a:ln>
        </p:spPr>
        <p:style>
          <a:lnRef idx="0"/>
          <a:fillRef idx="0"/>
          <a:effectRef idx="0"/>
          <a:fontRef idx="minor"/>
        </p:style>
        <p:txBody>
          <a:bodyPr lIns="89640" rIns="89640" tIns="44640" bIns="44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444A-3028-41F1-91B7-3034F178843A}" type="slidenum">
              <a:rPr b="0" lang="en-US" sz="1000" spc="-1" strike="noStrike">
                <a:solidFill>
                  <a:srgbClr val="ffffff"/>
                </a:solidFill>
                <a:latin typeface="Arial"/>
                <a:ea typeface="MS PGothic"/>
              </a:rPr>
              <a:t>&lt;number&gt;</a:t>
            </a:fld>
            <a:endParaRPr b="0" lang="en-US" sz="1000" spc="-1" strike="noStrike">
              <a:solidFill>
                <a:srgbClr val="000000"/>
              </a:solidFill>
              <a:latin typeface="Arial"/>
            </a:endParaRPr>
          </a:p>
        </p:txBody>
      </p:sp>
      <p:sp>
        <p:nvSpPr>
          <p:cNvPr id="1357" name="PlaceHolder 1"/>
          <p:cNvSpPr>
            <a:spLocks noGrp="1"/>
          </p:cNvSpPr>
          <p:nvPr>
            <p:ph type="title"/>
          </p:nvPr>
        </p:nvSpPr>
        <p:spPr>
          <a:xfrm>
            <a:off x="0" y="356760"/>
            <a:ext cx="9144000" cy="1120680"/>
          </a:xfrm>
          <a:prstGeom prst="rect">
            <a:avLst/>
          </a:prstGeom>
          <a:noFill/>
          <a:ln w="0">
            <a:noFill/>
          </a:ln>
        </p:spPr>
        <p:txBody>
          <a:bodyPr lIns="182880" rIns="182880" tIns="44640" bIns="44640" anchor="ctr">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358" name="PlaceHolder 2"/>
          <p:cNvSpPr>
            <a:spLocks noGrp="1"/>
          </p:cNvSpPr>
          <p:nvPr>
            <p:ph type="body"/>
          </p:nvPr>
        </p:nvSpPr>
        <p:spPr>
          <a:xfrm>
            <a:off x="457200" y="1573200"/>
            <a:ext cx="8229600" cy="4960800"/>
          </a:xfrm>
          <a:prstGeom prst="rect">
            <a:avLst/>
          </a:prstGeom>
          <a:noFill/>
          <a:ln w="0">
            <a:noFill/>
          </a:ln>
        </p:spPr>
        <p:txBody>
          <a:bodyPr lIns="89640" rIns="89640" tIns="44640" bIns="44640" anchor="t">
            <a:normAutofit/>
          </a:bodyPr>
          <a:p>
            <a:pPr marL="3430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8608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59" name="PlaceHolder 3"/>
          <p:cNvSpPr>
            <a:spLocks noGrp="1"/>
          </p:cNvSpPr>
          <p:nvPr>
            <p:ph type="sldNum" idx="83"/>
          </p:nvPr>
        </p:nvSpPr>
        <p:spPr>
          <a:xfrm>
            <a:off x="0" y="1271160"/>
            <a:ext cx="533520" cy="244440"/>
          </a:xfrm>
          <a:prstGeom prst="rect">
            <a:avLst/>
          </a:prstGeom>
          <a:noFill/>
          <a:ln w="0">
            <a:noFill/>
          </a:ln>
        </p:spPr>
        <p:txBody>
          <a:bodyPr lIns="89640" rIns="89640" tIns="44640" bIns="446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C2AE-24A7-4F1B-A2CA-44F6690BED71}" type="slidenum">
              <a:rPr b="0" lang="en-US" sz="1200" spc="-1" strike="noStrike">
                <a:solidFill>
                  <a:srgbClr val="ffffff"/>
                </a:solidFill>
                <a:latin typeface="Arial"/>
                <a:ea typeface="MS PGothic"/>
              </a:rPr>
              <a:t>&lt;number&gt;</a:t>
            </a:fld>
            <a:endParaRPr b="0" lang="en-US" sz="1200" spc="-1" strike="noStrike">
              <a:solidFill>
                <a:srgbClr val="000000"/>
              </a:solidFill>
              <a:latin typeface="Arial"/>
            </a:endParaRPr>
          </a:p>
        </p:txBody>
      </p:sp>
      <p:sp>
        <p:nvSpPr>
          <p:cNvPr id="1360" name="PlaceHolder 4"/>
          <p:cNvSpPr>
            <a:spLocks noGrp="1"/>
          </p:cNvSpPr>
          <p:nvPr>
            <p:ph type="ftr" idx="84"/>
          </p:nvPr>
        </p:nvSpPr>
        <p:spPr>
          <a:xfrm>
            <a:off x="609480" y="6248520"/>
            <a:ext cx="54216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8"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99" name="Picture 2" descr=""/>
          <p:cNvPicPr/>
          <p:nvPr/>
        </p:nvPicPr>
        <p:blipFill>
          <a:blip r:embed="rId2"/>
          <a:stretch/>
        </p:blipFill>
        <p:spPr>
          <a:xfrm>
            <a:off x="0" y="6114960"/>
            <a:ext cx="1523880" cy="743040"/>
          </a:xfrm>
          <a:prstGeom prst="rect">
            <a:avLst/>
          </a:prstGeom>
          <a:ln w="0">
            <a:noFill/>
          </a:ln>
        </p:spPr>
      </p:pic>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2"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34D8-34E5-4A17-BA9E-58A713E8EB65}" type="datetime">
              <a:rPr b="0" lang="en-US" sz="1200" spc="-1" strike="noStrike">
                <a:solidFill>
                  <a:srgbClr val="898989"/>
                </a:solidFill>
                <a:latin typeface="Arial"/>
                <a:ea typeface="MS PGothic"/>
              </a:rPr>
              <a:t>07/31/26</a:t>
            </a:fld>
            <a:endParaRPr b="0" lang="en-US" sz="1200" spc="-1" strike="noStrike">
              <a:solidFill>
                <a:srgbClr val="000000"/>
              </a:solidFill>
              <a:latin typeface="Arial"/>
            </a:endParaRPr>
          </a:p>
        </p:txBody>
      </p:sp>
      <p:sp>
        <p:nvSpPr>
          <p:cNvPr id="1403"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1"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4" name="PlaceHolder 3"/>
          <p:cNvSpPr>
            <a:spLocks noGrp="1"/>
          </p:cNvSpPr>
          <p:nvPr>
            <p:ph type="dt" idx="8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D721E-6781-4B48-8973-99C802C39AD3}" type="datetime">
              <a:rPr b="0" lang="en-US" sz="1200" spc="-1" strike="noStrike">
                <a:solidFill>
                  <a:srgbClr val="898989"/>
                </a:solidFill>
                <a:latin typeface="Arial"/>
                <a:ea typeface="MS PGothic"/>
              </a:rPr>
              <a:t>07/31/26</a:t>
            </a:fld>
            <a:endParaRPr b="0" lang="en-US" sz="1200" spc="-1" strike="noStrike">
              <a:solidFill>
                <a:srgbClr val="000000"/>
              </a:solidFill>
              <a:latin typeface="Arial"/>
            </a:endParaRPr>
          </a:p>
        </p:txBody>
      </p:sp>
      <p:sp>
        <p:nvSpPr>
          <p:cNvPr id="1445" name="PlaceHolder 4"/>
          <p:cNvSpPr>
            <a:spLocks noGrp="1"/>
          </p:cNvSpPr>
          <p:nvPr>
            <p:ph type="ftr" idx="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3"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86" name="PlaceHolder 3"/>
          <p:cNvSpPr>
            <a:spLocks noGrp="1"/>
          </p:cNvSpPr>
          <p:nvPr>
            <p:ph type="dt" idx="8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E4D9-D64B-484F-9A95-30D1A92D2CD8}" type="datetime">
              <a:rPr b="0" lang="en-US" sz="1200" spc="-1" strike="noStrike">
                <a:solidFill>
                  <a:srgbClr val="898989"/>
                </a:solidFill>
                <a:latin typeface="Arial"/>
                <a:ea typeface="MS PGothic"/>
              </a:rPr>
              <a:t>07/31/26</a:t>
            </a:fld>
            <a:endParaRPr b="0" lang="en-US" sz="1200" spc="-1" strike="noStrike">
              <a:solidFill>
                <a:srgbClr val="000000"/>
              </a:solidFill>
              <a:latin typeface="Arial"/>
            </a:endParaRPr>
          </a:p>
        </p:txBody>
      </p:sp>
      <p:sp>
        <p:nvSpPr>
          <p:cNvPr id="1487" name="PlaceHolder 4"/>
          <p:cNvSpPr>
            <a:spLocks noGrp="1"/>
          </p:cNvSpPr>
          <p:nvPr>
            <p:ph type="ftr" idx="9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5"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8"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E9C40-EDC8-4352-8002-282D2D465C3A}" type="datetime">
              <a:rPr b="0" lang="en-US" sz="1200" spc="-1" strike="noStrike">
                <a:solidFill>
                  <a:srgbClr val="898989"/>
                </a:solidFill>
                <a:latin typeface="Arial"/>
                <a:ea typeface="MS PGothic"/>
              </a:rPr>
              <a:t>07/31/26</a:t>
            </a:fld>
            <a:endParaRPr b="0" lang="en-US" sz="1200" spc="-1" strike="noStrike">
              <a:solidFill>
                <a:srgbClr val="000000"/>
              </a:solidFill>
              <a:latin typeface="Arial"/>
            </a:endParaRPr>
          </a:p>
        </p:txBody>
      </p:sp>
      <p:sp>
        <p:nvSpPr>
          <p:cNvPr id="1529"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7" name="Rectangle 7"/>
          <p:cNvSpPr/>
          <p:nvPr/>
        </p:nvSpPr>
        <p:spPr>
          <a:xfrm>
            <a:off x="76320" y="1371600"/>
            <a:ext cx="9067680" cy="7632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70" name="PlaceHolder 3"/>
          <p:cNvSpPr>
            <a:spLocks noGrp="1"/>
          </p:cNvSpPr>
          <p:nvPr>
            <p:ph type="dt" idx="9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A9C78-6768-4288-90DE-486DB7E99DD5}" type="datetime">
              <a:rPr b="0" lang="en-US" sz="1200" spc="-1" strike="noStrike">
                <a:solidFill>
                  <a:srgbClr val="898989"/>
                </a:solidFill>
                <a:latin typeface="Arial"/>
                <a:ea typeface="MS PGothic"/>
              </a:rPr>
              <a:t>07/31/26</a:t>
            </a:fld>
            <a:endParaRPr b="0" lang="en-US" sz="1200" spc="-1" strike="noStrike">
              <a:solidFill>
                <a:srgbClr val="000000"/>
              </a:solidFill>
              <a:latin typeface="Arial"/>
            </a:endParaRPr>
          </a:p>
        </p:txBody>
      </p:sp>
      <p:sp>
        <p:nvSpPr>
          <p:cNvPr id="1571" name="PlaceHolder 4"/>
          <p:cNvSpPr>
            <a:spLocks noGrp="1"/>
          </p:cNvSpPr>
          <p:nvPr>
            <p:ph type="ftr" idx="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9"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10" name="Picture 2" descr=""/>
          <p:cNvPicPr/>
          <p:nvPr/>
        </p:nvPicPr>
        <p:blipFill>
          <a:blip r:embed="rId2"/>
          <a:stretch/>
        </p:blipFill>
        <p:spPr>
          <a:xfrm>
            <a:off x="0" y="6114960"/>
            <a:ext cx="1523880" cy="743040"/>
          </a:xfrm>
          <a:prstGeom prst="rect">
            <a:avLst/>
          </a:prstGeom>
          <a:ln w="0">
            <a:noFill/>
          </a:ln>
        </p:spPr>
      </p:pic>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13" name="PlaceHolder 3"/>
          <p:cNvSpPr>
            <a:spLocks noGrp="1"/>
          </p:cNvSpPr>
          <p:nvPr>
            <p:ph type="dt" idx="9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14" name="PlaceHolder 4"/>
          <p:cNvSpPr>
            <a:spLocks noGrp="1"/>
          </p:cNvSpPr>
          <p:nvPr>
            <p:ph type="ftr" idx="9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5" name="PlaceHolder 5"/>
          <p:cNvSpPr>
            <a:spLocks noGrp="1"/>
          </p:cNvSpPr>
          <p:nvPr>
            <p:ph type="sldNum" idx="9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1730-6D02-4782-8468-594CC8A1FF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4d"/>
        </a:solidFill>
      </p:bgPr>
    </p:bg>
    <p:spTree>
      <p:nvGrpSpPr>
        <p:cNvPr id="1" name=""/>
        <p:cNvGrpSpPr/>
        <p:nvPr/>
      </p:nvGrpSpPr>
      <p:grpSpPr>
        <a:xfrm>
          <a:off x="0" y="0"/>
          <a:ext cx="0" cy="0"/>
          <a:chOff x="0" y="0"/>
          <a:chExt cx="0" cy="0"/>
        </a:xfrm>
      </p:grpSpPr>
      <p:sp>
        <p:nvSpPr>
          <p:cNvPr id="126" name="Rectangle 3"/>
          <p:cNvSpPr/>
          <p:nvPr/>
        </p:nvSpPr>
        <p:spPr>
          <a:xfrm flipV="1">
            <a:off x="0" y="1446840"/>
            <a:ext cx="9144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Rectangle 8"/>
          <p:cNvSpPr/>
          <p:nvPr/>
        </p:nvSpPr>
        <p:spPr>
          <a:xfrm>
            <a:off x="0" y="0"/>
            <a:ext cx="9144000" cy="6858000"/>
          </a:xfrm>
          <a:prstGeom prst="rect">
            <a:avLst/>
          </a:prstGeom>
          <a:gradFill rotWithShape="0">
            <a:gsLst>
              <a:gs pos="0">
                <a:srgbClr val="000022"/>
              </a:gs>
              <a:gs pos="100000">
                <a:srgbClr val="003366"/>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1"/>
          <p:cNvSpPr>
            <a:spLocks noGrp="1"/>
          </p:cNvSpPr>
          <p:nvPr>
            <p:ph type="title"/>
          </p:nvPr>
        </p:nvSpPr>
        <p:spPr>
          <a:xfrm>
            <a:off x="0" y="356760"/>
            <a:ext cx="9144000" cy="1120680"/>
          </a:xfrm>
          <a:prstGeom prst="rect">
            <a:avLst/>
          </a:prstGeom>
          <a:noFill/>
          <a:ln w="0">
            <a:noFill/>
          </a:ln>
        </p:spPr>
        <p:txBody>
          <a:bodyPr lIns="182880" rIns="182880" tIns="44640" bIns="44640" anchor="ctr">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29" name="PlaceHolder 2"/>
          <p:cNvSpPr>
            <a:spLocks noGrp="1"/>
          </p:cNvSpPr>
          <p:nvPr>
            <p:ph type="body"/>
          </p:nvPr>
        </p:nvSpPr>
        <p:spPr>
          <a:xfrm>
            <a:off x="457200" y="1573200"/>
            <a:ext cx="8229600" cy="4960800"/>
          </a:xfrm>
          <a:prstGeom prst="rect">
            <a:avLst/>
          </a:prstGeom>
          <a:noFill/>
          <a:ln w="0">
            <a:noFill/>
          </a:ln>
        </p:spPr>
        <p:txBody>
          <a:bodyPr lIns="89640" rIns="89640" tIns="44640" bIns="44640" anchor="t">
            <a:normAutofit/>
          </a:bodyPr>
          <a:p>
            <a:pPr marL="3430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8608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0" name="Text Box 8"/>
          <p:cNvSpPr/>
          <p:nvPr/>
        </p:nvSpPr>
        <p:spPr>
          <a:xfrm>
            <a:off x="8458200" y="6451560"/>
            <a:ext cx="6476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3"/>
          <p:cNvSpPr>
            <a:spLocks noGrp="1"/>
          </p:cNvSpPr>
          <p:nvPr>
            <p:ph type="sldNum" idx="10"/>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8761-31ED-46E8-B0E8-C0EEB3E6958E}" type="slidenum">
              <a:rPr b="0" lang="en-US" sz="1000" spc="-1" strike="noStrike">
                <a:solidFill>
                  <a:srgbClr val="ffffff"/>
                </a:solidFill>
                <a:latin typeface="Arial"/>
                <a:ea typeface="MS PGothic"/>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3"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6" name="PlaceHolder 3"/>
          <p:cNvSpPr>
            <a:spLocks noGrp="1"/>
          </p:cNvSpPr>
          <p:nvPr>
            <p:ph type="dt" idx="9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57" name="PlaceHolder 4"/>
          <p:cNvSpPr>
            <a:spLocks noGrp="1"/>
          </p:cNvSpPr>
          <p:nvPr>
            <p:ph type="ftr" idx="9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8" name="PlaceHolder 5"/>
          <p:cNvSpPr>
            <a:spLocks noGrp="1"/>
          </p:cNvSpPr>
          <p:nvPr>
            <p:ph type="sldNum" idx="10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5813-D15B-4382-80A8-403AF7B026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6"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9" name="PlaceHolder 3"/>
          <p:cNvSpPr>
            <a:spLocks noGrp="1"/>
          </p:cNvSpPr>
          <p:nvPr>
            <p:ph type="dt" idx="10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700" name="PlaceHolder 4"/>
          <p:cNvSpPr>
            <a:spLocks noGrp="1"/>
          </p:cNvSpPr>
          <p:nvPr>
            <p:ph type="ftr" idx="10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1" name="PlaceHolder 5"/>
          <p:cNvSpPr>
            <a:spLocks noGrp="1"/>
          </p:cNvSpPr>
          <p:nvPr>
            <p:ph type="sldNum" idx="10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C2F3-4B82-4D82-A28F-CFE8920005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9"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2" name="PlaceHolder 3"/>
          <p:cNvSpPr>
            <a:spLocks noGrp="1"/>
          </p:cNvSpPr>
          <p:nvPr>
            <p:ph type="dt" idx="10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743" name="PlaceHolder 4"/>
          <p:cNvSpPr>
            <a:spLocks noGrp="1"/>
          </p:cNvSpPr>
          <p:nvPr>
            <p:ph type="ftr" idx="10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4" name="PlaceHolder 5"/>
          <p:cNvSpPr>
            <a:spLocks noGrp="1"/>
          </p:cNvSpPr>
          <p:nvPr>
            <p:ph type="sldNum" idx="10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DCC8D-3E08-42FC-8187-BB7C9F6E92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2" name="Rectangle 7"/>
          <p:cNvSpPr/>
          <p:nvPr/>
        </p:nvSpPr>
        <p:spPr>
          <a:xfrm>
            <a:off x="7632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5" name="PlaceHolder 3"/>
          <p:cNvSpPr>
            <a:spLocks noGrp="1"/>
          </p:cNvSpPr>
          <p:nvPr>
            <p:ph type="dt" idx="10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786" name="PlaceHolder 4"/>
          <p:cNvSpPr>
            <a:spLocks noGrp="1"/>
          </p:cNvSpPr>
          <p:nvPr>
            <p:ph type="ftr" idx="10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7" name="PlaceHolder 5"/>
          <p:cNvSpPr>
            <a:spLocks noGrp="1"/>
          </p:cNvSpPr>
          <p:nvPr>
            <p:ph type="sldNum" idx="10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65EE1-1711-4586-8DAA-6C6B8039A2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4"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7" name="PlaceHolder 3"/>
          <p:cNvSpPr>
            <a:spLocks noGrp="1"/>
          </p:cNvSpPr>
          <p:nvPr>
            <p:ph type="dt" idx="1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8" name="PlaceHolder 4"/>
          <p:cNvSpPr>
            <a:spLocks noGrp="1"/>
          </p:cNvSpPr>
          <p:nvPr>
            <p:ph type="ftr" idx="1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9" name="PlaceHolder 5"/>
          <p:cNvSpPr>
            <a:spLocks noGrp="1"/>
          </p:cNvSpPr>
          <p:nvPr>
            <p:ph type="sldNum" idx="1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9734-4294-497A-A8D5-5F2196FFFD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69" name="PlaceHolder 3"/>
          <p:cNvSpPr>
            <a:spLocks noGrp="1"/>
          </p:cNvSpPr>
          <p:nvPr>
            <p:ph type="dt" idx="1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0" name="PlaceHolder 4"/>
          <p:cNvSpPr>
            <a:spLocks noGrp="1"/>
          </p:cNvSpPr>
          <p:nvPr>
            <p:ph type="ftr" idx="1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1" name="PlaceHolder 5"/>
          <p:cNvSpPr>
            <a:spLocks noGrp="1"/>
          </p:cNvSpPr>
          <p:nvPr>
            <p:ph type="sldNum" idx="1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B273-1541-4D40-B0D5-E9B225FFC6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8"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11" name="PlaceHolder 3"/>
          <p:cNvSpPr>
            <a:spLocks noGrp="1"/>
          </p:cNvSpPr>
          <p:nvPr>
            <p:ph type="dt" idx="11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2" name="PlaceHolder 4"/>
          <p:cNvSpPr>
            <a:spLocks noGrp="1"/>
          </p:cNvSpPr>
          <p:nvPr>
            <p:ph type="ftr" idx="1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3" name="PlaceHolder 5"/>
          <p:cNvSpPr>
            <a:spLocks noGrp="1"/>
          </p:cNvSpPr>
          <p:nvPr>
            <p:ph type="sldNum" idx="118"/>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A01D-A9BD-4E4F-B28F-899B2B339D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50" name="Picture 3" descr="RTP_SlideBackground-ONS13_v1fr-title.jpg"/>
          <p:cNvPicPr/>
          <p:nvPr/>
        </p:nvPicPr>
        <p:blipFill>
          <a:blip r:embed="rId3"/>
          <a:stretch/>
        </p:blipFill>
        <p:spPr>
          <a:xfrm>
            <a:off x="0" y="0"/>
            <a:ext cx="9144000" cy="6858000"/>
          </a:xfrm>
          <a:prstGeom prst="rect">
            <a:avLst/>
          </a:prstGeom>
          <a:ln w="0">
            <a:noFill/>
          </a:ln>
        </p:spPr>
      </p:pic>
      <p:sp>
        <p:nvSpPr>
          <p:cNvPr id="1951"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952"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9" name="Picture 4" descr="RTP_SlideBackground-ASCO-GI-13_v1fr-Title.png"/>
          <p:cNvPicPr/>
          <p:nvPr/>
        </p:nvPicPr>
        <p:blipFill>
          <a:blip r:embed="rId2"/>
          <a:stretch/>
        </p:blipFill>
        <p:spPr>
          <a:xfrm>
            <a:off x="0" y="0"/>
            <a:ext cx="9144000" cy="6858000"/>
          </a:xfrm>
          <a:prstGeom prst="rect">
            <a:avLst/>
          </a:prstGeom>
          <a:ln w="0">
            <a:noFill/>
          </a:ln>
        </p:spPr>
      </p:pic>
      <p:sp>
        <p:nvSpPr>
          <p:cNvPr id="19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99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F089-D07C-4B9C-9A03-AE73C3CAEC1B}" type="datetime">
              <a:rPr b="0" lang="en-US" sz="1200" spc="-1" strike="noStrike">
                <a:solidFill>
                  <a:srgbClr val="898989"/>
                </a:solidFill>
                <a:latin typeface="Arial"/>
                <a:ea typeface="MS PGothic"/>
              </a:rPr>
              <a:t>07/31/26</a:t>
            </a:fld>
            <a:endParaRPr b="0" lang="en-US" sz="1200" spc="-1" strike="noStrike">
              <a:solidFill>
                <a:srgbClr val="000000"/>
              </a:solidFill>
              <a:latin typeface="Arial"/>
            </a:endParaRPr>
          </a:p>
        </p:txBody>
      </p:sp>
      <p:sp>
        <p:nvSpPr>
          <p:cNvPr id="171"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1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34A9-2F22-4740-8234-BC03859633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4"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52"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90"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1" descr="RTP_SlideBackground-YiR_v3fr-bulleted.png"/>
          <p:cNvPicPr/>
          <p:nvPr/>
        </p:nvPicPr>
        <p:blipFill>
          <a:blip r:embed="rId2"/>
          <a:stretch/>
        </p:blipFill>
        <p:spPr>
          <a:xfrm>
            <a:off x="0" y="0"/>
            <a:ext cx="9144000" cy="6858000"/>
          </a:xfrm>
          <a:prstGeom prst="rect">
            <a:avLst/>
          </a:prstGeom>
          <a:ln w="0">
            <a:noFill/>
          </a:ln>
        </p:spPr>
      </p:pic>
      <p:sp>
        <p:nvSpPr>
          <p:cNvPr id="3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329"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5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5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109.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09.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4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09.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hyperlink" Target="http://clinicaltrials.gov/ct/show/NCT01107626" TargetMode="External"/><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image" Target="../media/image38.png"/><Relationship Id="rId8" Type="http://schemas.openxmlformats.org/officeDocument/2006/relationships/slideLayout" Target="../slideLayouts/slideLayout193.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5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Content Placeholder 1"/>
          <p:cNvSpPr/>
          <p:nvPr/>
        </p:nvSpPr>
        <p:spPr>
          <a:xfrm>
            <a:off x="762120" y="1752480"/>
            <a:ext cx="7564320" cy="4756320"/>
          </a:xfrm>
          <a:prstGeom prst="rect">
            <a:avLst/>
          </a:prstGeom>
          <a:noFill/>
          <a:ln w="0">
            <a:noFill/>
          </a:ln>
        </p:spPr>
        <p:style>
          <a:lnRef idx="0"/>
          <a:fillRef idx="0"/>
          <a:effectRef idx="0"/>
          <a:fontRef idx="minor"/>
        </p:style>
        <p:txBody>
          <a:bodyPr lIns="90000" rIns="90000" tIns="46800" bIns="468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400" spc="-1" strike="noStrike">
              <a:solidFill>
                <a:srgbClr val="000000"/>
              </a:solidFill>
              <a:latin typeface="Arial"/>
            </a:endParaRPr>
          </a:p>
          <a:p>
            <a:pPr>
              <a:spcBef>
                <a:spcPts val="1400"/>
              </a:spcBef>
              <a:buClr>
                <a:srgbClr val="33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54" name="PlaceHolder 1"/>
          <p:cNvSpPr>
            <a:spLocks noGrp="1"/>
          </p:cNvSpPr>
          <p:nvPr>
            <p:ph type="title"/>
          </p:nvPr>
        </p:nvSpPr>
        <p:spPr>
          <a:xfrm>
            <a:off x="441360" y="490320"/>
            <a:ext cx="8012160" cy="5794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An otherwise healthy 50-yo with </a:t>
            </a:r>
            <a:br>
              <a:rPr sz="3200"/>
            </a:br>
            <a:r>
              <a:rPr b="1" lang="en-US" sz="3200" spc="-1" strike="noStrike">
                <a:solidFill>
                  <a:srgbClr val="ecbb33"/>
                </a:solidFill>
                <a:latin typeface="Arial"/>
              </a:rPr>
              <a:t>PWT adeno experiences a partial response to your recommended </a:t>
            </a:r>
            <a:br>
              <a:rPr sz="3200"/>
            </a:br>
            <a:r>
              <a:rPr b="1" lang="en-US" sz="3200" spc="-1" strike="noStrike">
                <a:solidFill>
                  <a:srgbClr val="ecbb33"/>
                </a:solidFill>
                <a:latin typeface="Arial"/>
              </a:rPr>
              <a:t>first-line treatment. Which maintenance therapy, if any, would you likely use?</a:t>
            </a:r>
            <a:endParaRPr b="1" lang="en-US" sz="3200" spc="-1" strike="noStrike">
              <a:solidFill>
                <a:srgbClr val="ecbb3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therwise healthy 50-yo with PWT adeno experiences a partial response to your recommended </a:t>
            </a:r>
            <a:br>
              <a:rPr sz="2400"/>
            </a:br>
            <a:r>
              <a:rPr b="1" lang="en-US" sz="2400" spc="-1" strike="noStrike">
                <a:solidFill>
                  <a:srgbClr val="ffffff"/>
                </a:solidFill>
                <a:latin typeface="Arial"/>
              </a:rPr>
              <a:t>first-line treatment. Which maintenance therapy, if any, would you likely use?</a:t>
            </a:r>
            <a:endParaRPr b="0" lang="en-US" sz="2400" spc="-1" strike="noStrike">
              <a:solidFill>
                <a:srgbClr val="000000"/>
              </a:solidFill>
              <a:latin typeface="Arial"/>
            </a:endParaRPr>
          </a:p>
        </p:txBody>
      </p:sp>
      <p:pic>
        <p:nvPicPr>
          <p:cNvPr id="2056" name="Chart 3" descr=""/>
          <p:cNvPicPr/>
          <p:nvPr/>
        </p:nvPicPr>
        <p:blipFill>
          <a:blip r:embed="rId1"/>
          <a:stretch/>
        </p:blipFill>
        <p:spPr>
          <a:xfrm>
            <a:off x="482760" y="2293920"/>
            <a:ext cx="8254800" cy="4444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41360" y="490320"/>
            <a:ext cx="8012160" cy="5762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Do you use maintenance therapy </a:t>
            </a:r>
            <a:br>
              <a:rPr sz="3200"/>
            </a:br>
            <a:r>
              <a:rPr b="1" lang="en-US" sz="3200" spc="-1" strike="noStrike">
                <a:solidFill>
                  <a:srgbClr val="ecbb33"/>
                </a:solidFill>
                <a:latin typeface="Arial"/>
              </a:rPr>
              <a:t>for your patients with metastatic </a:t>
            </a:r>
            <a:r>
              <a:rPr b="1" lang="en-US" sz="3200" spc="-1" strike="noStrike" u="sng">
                <a:solidFill>
                  <a:srgbClr val="ecbb33"/>
                </a:solidFill>
                <a:uFillTx/>
                <a:latin typeface="Arial"/>
              </a:rPr>
              <a:t>squamous cell</a:t>
            </a:r>
            <a:r>
              <a:rPr b="1" lang="en-US" sz="3200" spc="-1" strike="noStrike">
                <a:solidFill>
                  <a:srgbClr val="ecbb33"/>
                </a:solidFill>
                <a:latin typeface="Arial"/>
              </a:rPr>
              <a:t> lung cancer?</a:t>
            </a:r>
            <a:endParaRPr b="1" lang="en-US" sz="3200" spc="-1" strike="noStrike">
              <a:solidFill>
                <a:srgbClr val="ecbb3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you use maintenance therapy for your patients with metastatic squamous cell carcinoma?</a:t>
            </a:r>
            <a:endParaRPr b="0" lang="en-US" sz="2400" spc="-1" strike="noStrike">
              <a:solidFill>
                <a:srgbClr val="000000"/>
              </a:solidFill>
              <a:latin typeface="Arial"/>
            </a:endParaRPr>
          </a:p>
        </p:txBody>
      </p:sp>
      <p:pic>
        <p:nvPicPr>
          <p:cNvPr id="2059" name="Chart 3" descr=""/>
          <p:cNvPicPr/>
          <p:nvPr/>
        </p:nvPicPr>
        <p:blipFill>
          <a:blip r:embed="rId1"/>
          <a:stretch/>
        </p:blipFill>
        <p:spPr>
          <a:xfrm>
            <a:off x="482760" y="2082960"/>
            <a:ext cx="8254800" cy="4444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PlaceHolder 1"/>
          <p:cNvSpPr>
            <a:spLocks noGrp="1"/>
          </p:cNvSpPr>
          <p:nvPr>
            <p:ph type="title"/>
          </p:nvPr>
        </p:nvSpPr>
        <p:spPr>
          <a:xfrm>
            <a:off x="260280" y="2282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s, decisions: choices for maintenance therapy in lung adenocarcinoma</a:t>
            </a:r>
            <a:endParaRPr b="0" lang="en-US" sz="2800" spc="-1" strike="noStrike">
              <a:solidFill>
                <a:srgbClr val="000000"/>
              </a:solidFill>
              <a:latin typeface="Arial"/>
            </a:endParaRPr>
          </a:p>
        </p:txBody>
      </p:sp>
      <p:grpSp>
        <p:nvGrpSpPr>
          <p:cNvPr id="2061" name="TextBox 3"/>
          <p:cNvGrpSpPr/>
          <p:nvPr/>
        </p:nvGrpSpPr>
        <p:grpSpPr>
          <a:xfrm>
            <a:off x="92160" y="3571920"/>
            <a:ext cx="2022480" cy="1755720"/>
            <a:chOff x="92160" y="3571920"/>
            <a:chExt cx="2022480" cy="1755720"/>
          </a:xfrm>
        </p:grpSpPr>
        <p:pic>
          <p:nvPicPr>
            <p:cNvPr id="2062" name="TextBox 3" descr=""/>
            <p:cNvPicPr/>
            <p:nvPr/>
          </p:nvPicPr>
          <p:blipFill>
            <a:blip r:embed="rId1"/>
            <a:stretch/>
          </p:blipFill>
          <p:spPr>
            <a:xfrm>
              <a:off x="92160" y="3571920"/>
              <a:ext cx="2022480" cy="1755720"/>
            </a:xfrm>
            <a:prstGeom prst="rect">
              <a:avLst/>
            </a:prstGeom>
            <a:ln w="0">
              <a:noFill/>
            </a:ln>
          </p:spPr>
        </p:pic>
        <p:sp>
          <p:nvSpPr>
            <p:cNvPr id="2063" name=""/>
            <p:cNvSpPr/>
            <p:nvPr/>
          </p:nvSpPr>
          <p:spPr>
            <a:xfrm>
              <a:off x="152280" y="3606840"/>
              <a:ext cx="190512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ction chem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 cycles), +/- BV,</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ith non-PD</a:t>
              </a:r>
              <a:endParaRPr b="0" lang="en-US" sz="2000" spc="-1" strike="noStrike">
                <a:solidFill>
                  <a:srgbClr val="000000"/>
                </a:solidFill>
                <a:latin typeface="Arial"/>
              </a:endParaRPr>
            </a:p>
          </p:txBody>
        </p:sp>
      </p:grpSp>
      <p:grpSp>
        <p:nvGrpSpPr>
          <p:cNvPr id="2064" name="TextBox 40"/>
          <p:cNvGrpSpPr/>
          <p:nvPr/>
        </p:nvGrpSpPr>
        <p:grpSpPr>
          <a:xfrm>
            <a:off x="2998800" y="2152800"/>
            <a:ext cx="1938240" cy="577800"/>
            <a:chOff x="2998800" y="2152800"/>
            <a:chExt cx="1938240" cy="577800"/>
          </a:xfrm>
        </p:grpSpPr>
        <p:pic>
          <p:nvPicPr>
            <p:cNvPr id="2065" name="TextBox 40" descr=""/>
            <p:cNvPicPr/>
            <p:nvPr/>
          </p:nvPicPr>
          <p:blipFill>
            <a:blip r:embed="rId2"/>
            <a:stretch/>
          </p:blipFill>
          <p:spPr>
            <a:xfrm>
              <a:off x="2998800" y="2152800"/>
              <a:ext cx="1938240" cy="577800"/>
            </a:xfrm>
            <a:prstGeom prst="rect">
              <a:avLst/>
            </a:prstGeom>
            <a:ln w="0">
              <a:noFill/>
            </a:ln>
          </p:spPr>
        </p:pic>
        <p:sp>
          <p:nvSpPr>
            <p:cNvPr id="2066" name=""/>
            <p:cNvSpPr/>
            <p:nvPr/>
          </p:nvSpPr>
          <p:spPr>
            <a:xfrm>
              <a:off x="3059280" y="2181240"/>
              <a:ext cx="1817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E</a:t>
              </a:r>
              <a:endParaRPr b="0" lang="en-US" sz="2400" spc="-1" strike="noStrike">
                <a:solidFill>
                  <a:srgbClr val="000000"/>
                </a:solidFill>
                <a:latin typeface="Arial"/>
              </a:endParaRPr>
            </a:p>
          </p:txBody>
        </p:sp>
      </p:grpSp>
      <p:cxnSp>
        <p:nvCxnSpPr>
          <p:cNvPr id="2067" name="Straight Arrow Connector 45"/>
          <p:cNvCxnSpPr/>
          <p:nvPr/>
        </p:nvCxnSpPr>
        <p:spPr>
          <a:xfrm flipV="1">
            <a:off x="2133720" y="3104640"/>
            <a:ext cx="838800" cy="1239120"/>
          </a:xfrm>
          <a:prstGeom prst="straightConnector1">
            <a:avLst/>
          </a:prstGeom>
          <a:ln w="57240">
            <a:solidFill>
              <a:srgbClr val="002060"/>
            </a:solidFill>
            <a:miter/>
            <a:tailEnd len="med" type="triangle" w="med"/>
          </a:ln>
        </p:spPr>
      </p:cxnSp>
      <p:grpSp>
        <p:nvGrpSpPr>
          <p:cNvPr id="2068" name="Group 8"/>
          <p:cNvGrpSpPr/>
          <p:nvPr/>
        </p:nvGrpSpPr>
        <p:grpSpPr>
          <a:xfrm>
            <a:off x="2133720" y="4262400"/>
            <a:ext cx="2732040" cy="484920"/>
            <a:chOff x="2133720" y="4262400"/>
            <a:chExt cx="2732040" cy="484920"/>
          </a:xfrm>
        </p:grpSpPr>
        <p:grpSp>
          <p:nvGrpSpPr>
            <p:cNvPr id="2069" name="TextBox 41"/>
            <p:cNvGrpSpPr/>
            <p:nvPr/>
          </p:nvGrpSpPr>
          <p:grpSpPr>
            <a:xfrm>
              <a:off x="2968920" y="4262400"/>
              <a:ext cx="1896840" cy="484920"/>
              <a:chOff x="2968920" y="4262400"/>
              <a:chExt cx="1896840" cy="484920"/>
            </a:xfrm>
          </p:grpSpPr>
          <p:pic>
            <p:nvPicPr>
              <p:cNvPr id="2070" name="TextBox 41" descr=""/>
              <p:cNvPicPr/>
              <p:nvPr/>
            </p:nvPicPr>
            <p:blipFill>
              <a:blip r:embed="rId3"/>
              <a:stretch/>
            </p:blipFill>
            <p:spPr>
              <a:xfrm>
                <a:off x="2968920" y="4262400"/>
                <a:ext cx="1896840" cy="461880"/>
              </a:xfrm>
              <a:prstGeom prst="rect">
                <a:avLst/>
              </a:prstGeom>
              <a:ln w="0">
                <a:noFill/>
              </a:ln>
            </p:spPr>
          </p:pic>
          <p:sp>
            <p:nvSpPr>
              <p:cNvPr id="2071" name=""/>
              <p:cNvSpPr/>
              <p:nvPr/>
            </p:nvSpPr>
            <p:spPr>
              <a:xfrm>
                <a:off x="3028320" y="4287600"/>
                <a:ext cx="1778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a:t>
                </a:r>
                <a:endParaRPr b="0" lang="en-US" sz="2400" spc="-1" strike="noStrike">
                  <a:solidFill>
                    <a:srgbClr val="000000"/>
                  </a:solidFill>
                  <a:latin typeface="Arial"/>
                </a:endParaRPr>
              </a:p>
            </p:txBody>
          </p:sp>
        </p:grpSp>
        <p:cxnSp>
          <p:nvCxnSpPr>
            <p:cNvPr id="2072" name="Straight Arrow Connector 47"/>
            <p:cNvCxnSpPr/>
            <p:nvPr/>
          </p:nvCxnSpPr>
          <p:spPr>
            <a:xfrm>
              <a:off x="2133720" y="4411440"/>
              <a:ext cx="820800" cy="1800"/>
            </a:xfrm>
            <a:prstGeom prst="straightConnector1">
              <a:avLst/>
            </a:prstGeom>
            <a:ln w="57240">
              <a:solidFill>
                <a:srgbClr val="002060"/>
              </a:solidFill>
              <a:miter/>
              <a:tailEnd len="med" type="triangle" w="med"/>
            </a:ln>
          </p:spPr>
        </p:cxnSp>
      </p:grpSp>
      <p:grpSp>
        <p:nvGrpSpPr>
          <p:cNvPr id="2073" name="Group 7"/>
          <p:cNvGrpSpPr/>
          <p:nvPr/>
        </p:nvGrpSpPr>
        <p:grpSpPr>
          <a:xfrm>
            <a:off x="5029200" y="1523880"/>
            <a:ext cx="3980160" cy="1847880"/>
            <a:chOff x="5029200" y="1523880"/>
            <a:chExt cx="3980160" cy="1847880"/>
          </a:xfrm>
        </p:grpSpPr>
        <p:cxnSp>
          <p:nvCxnSpPr>
            <p:cNvPr id="2074" name="Straight Arrow Connector 21"/>
            <p:cNvCxnSpPr/>
            <p:nvPr/>
          </p:nvCxnSpPr>
          <p:spPr>
            <a:xfrm flipV="1">
              <a:off x="5029200" y="1856520"/>
              <a:ext cx="838800" cy="502920"/>
            </a:xfrm>
            <a:prstGeom prst="straightConnector1">
              <a:avLst/>
            </a:prstGeom>
            <a:ln w="57240">
              <a:solidFill>
                <a:srgbClr val="002060"/>
              </a:solidFill>
              <a:miter/>
              <a:tailEnd len="med" type="triangle" w="med"/>
            </a:ln>
          </p:spPr>
        </p:cxnSp>
        <p:cxnSp>
          <p:nvCxnSpPr>
            <p:cNvPr id="2075" name="Straight Arrow Connector 23"/>
            <p:cNvCxnSpPr/>
            <p:nvPr/>
          </p:nvCxnSpPr>
          <p:spPr>
            <a:xfrm>
              <a:off x="5029200" y="2502720"/>
              <a:ext cx="838800" cy="502920"/>
            </a:xfrm>
            <a:prstGeom prst="straightConnector1">
              <a:avLst/>
            </a:prstGeom>
            <a:ln w="57240">
              <a:solidFill>
                <a:srgbClr val="002060"/>
              </a:solidFill>
              <a:miter/>
              <a:tailEnd len="med" type="triangle" w="med"/>
            </a:ln>
          </p:spPr>
        </p:cxnSp>
        <p:cxnSp>
          <p:nvCxnSpPr>
            <p:cNvPr id="2076" name="Straight Arrow Connector 24"/>
            <p:cNvCxnSpPr/>
            <p:nvPr/>
          </p:nvCxnSpPr>
          <p:spPr>
            <a:xfrm>
              <a:off x="5029200" y="2430000"/>
              <a:ext cx="838800" cy="2160"/>
            </a:xfrm>
            <a:prstGeom prst="straightConnector1">
              <a:avLst/>
            </a:prstGeom>
            <a:ln w="57240">
              <a:solidFill>
                <a:srgbClr val="002060"/>
              </a:solidFill>
              <a:miter/>
              <a:tailEnd len="med" type="triangle" w="med"/>
            </a:ln>
          </p:spPr>
        </p:cxnSp>
        <p:grpSp>
          <p:nvGrpSpPr>
            <p:cNvPr id="2077" name="TextBox 26"/>
            <p:cNvGrpSpPr/>
            <p:nvPr/>
          </p:nvGrpSpPr>
          <p:grpSpPr>
            <a:xfrm>
              <a:off x="5882400" y="1523880"/>
              <a:ext cx="2255400" cy="487800"/>
              <a:chOff x="5882400" y="1523880"/>
              <a:chExt cx="2255400" cy="487800"/>
            </a:xfrm>
          </p:grpSpPr>
          <p:pic>
            <p:nvPicPr>
              <p:cNvPr id="2078" name="TextBox 26" descr=""/>
              <p:cNvPicPr/>
              <p:nvPr/>
            </p:nvPicPr>
            <p:blipFill>
              <a:blip r:embed="rId4"/>
              <a:stretch/>
            </p:blipFill>
            <p:spPr>
              <a:xfrm>
                <a:off x="5882400" y="1523880"/>
                <a:ext cx="2255400" cy="487800"/>
              </a:xfrm>
              <a:prstGeom prst="rect">
                <a:avLst/>
              </a:prstGeom>
              <a:ln w="0">
                <a:noFill/>
              </a:ln>
            </p:spPr>
          </p:pic>
          <p:sp>
            <p:nvSpPr>
              <p:cNvPr id="2079" name=""/>
              <p:cNvSpPr/>
              <p:nvPr/>
            </p:nvSpPr>
            <p:spPr>
              <a:xfrm>
                <a:off x="5943240" y="155232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V</a:t>
                </a:r>
                <a:endParaRPr b="0" lang="en-US" sz="2000" spc="-1" strike="noStrike">
                  <a:solidFill>
                    <a:srgbClr val="000000"/>
                  </a:solidFill>
                  <a:latin typeface="Arial"/>
                </a:endParaRPr>
              </a:p>
            </p:txBody>
          </p:sp>
        </p:grpSp>
        <p:grpSp>
          <p:nvGrpSpPr>
            <p:cNvPr id="2080" name="TextBox 29"/>
            <p:cNvGrpSpPr/>
            <p:nvPr/>
          </p:nvGrpSpPr>
          <p:grpSpPr>
            <a:xfrm>
              <a:off x="5882400" y="2166480"/>
              <a:ext cx="2255400" cy="487800"/>
              <a:chOff x="5882400" y="2166480"/>
              <a:chExt cx="2255400" cy="487800"/>
            </a:xfrm>
          </p:grpSpPr>
          <p:pic>
            <p:nvPicPr>
              <p:cNvPr id="2081" name="TextBox 29" descr=""/>
              <p:cNvPicPr/>
              <p:nvPr/>
            </p:nvPicPr>
            <p:blipFill>
              <a:blip r:embed="rId5"/>
              <a:stretch/>
            </p:blipFill>
            <p:spPr>
              <a:xfrm>
                <a:off x="5882400" y="2166480"/>
                <a:ext cx="2255400" cy="487800"/>
              </a:xfrm>
              <a:prstGeom prst="rect">
                <a:avLst/>
              </a:prstGeom>
              <a:ln w="0">
                <a:noFill/>
              </a:ln>
            </p:spPr>
          </p:pic>
          <p:sp>
            <p:nvSpPr>
              <p:cNvPr id="2082" name=""/>
              <p:cNvSpPr/>
              <p:nvPr/>
            </p:nvSpPr>
            <p:spPr>
              <a:xfrm>
                <a:off x="5943240" y="219492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m</a:t>
                </a:r>
                <a:endParaRPr b="0" lang="en-US" sz="2000" spc="-1" strike="noStrike">
                  <a:solidFill>
                    <a:srgbClr val="000000"/>
                  </a:solidFill>
                  <a:latin typeface="Arial"/>
                </a:endParaRPr>
              </a:p>
            </p:txBody>
          </p:sp>
        </p:grpSp>
        <p:grpSp>
          <p:nvGrpSpPr>
            <p:cNvPr id="2083" name="TextBox 30"/>
            <p:cNvGrpSpPr/>
            <p:nvPr/>
          </p:nvGrpSpPr>
          <p:grpSpPr>
            <a:xfrm>
              <a:off x="5882400" y="2883960"/>
              <a:ext cx="2255400" cy="487800"/>
              <a:chOff x="5882400" y="2883960"/>
              <a:chExt cx="2255400" cy="487800"/>
            </a:xfrm>
          </p:grpSpPr>
          <p:pic>
            <p:nvPicPr>
              <p:cNvPr id="2084" name="TextBox 30" descr=""/>
              <p:cNvPicPr/>
              <p:nvPr/>
            </p:nvPicPr>
            <p:blipFill>
              <a:blip r:embed="rId6"/>
              <a:stretch/>
            </p:blipFill>
            <p:spPr>
              <a:xfrm>
                <a:off x="5882400" y="2883960"/>
                <a:ext cx="2255400" cy="487800"/>
              </a:xfrm>
              <a:prstGeom prst="rect">
                <a:avLst/>
              </a:prstGeom>
              <a:ln w="0">
                <a:noFill/>
              </a:ln>
            </p:spPr>
          </p:pic>
          <p:sp>
            <p:nvSpPr>
              <p:cNvPr id="2085" name=""/>
              <p:cNvSpPr/>
              <p:nvPr/>
            </p:nvSpPr>
            <p:spPr>
              <a:xfrm>
                <a:off x="5943240" y="291528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V+Pem</a:t>
                </a:r>
                <a:endParaRPr b="0" lang="en-US" sz="2000" spc="-1" strike="noStrike">
                  <a:solidFill>
                    <a:srgbClr val="000000"/>
                  </a:solidFill>
                  <a:latin typeface="Arial"/>
                </a:endParaRPr>
              </a:p>
            </p:txBody>
          </p:sp>
        </p:grpSp>
        <p:sp>
          <p:nvSpPr>
            <p:cNvPr id="2086" name="TextBox 6"/>
            <p:cNvSpPr/>
            <p:nvPr/>
          </p:nvSpPr>
          <p:spPr>
            <a:xfrm>
              <a:off x="8078760" y="1624320"/>
              <a:ext cx="62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4599</a:t>
              </a:r>
              <a:endParaRPr b="0" lang="en-US" sz="1200" spc="-1" strike="noStrike">
                <a:solidFill>
                  <a:srgbClr val="000000"/>
                </a:solidFill>
                <a:latin typeface="Arial"/>
              </a:endParaRPr>
            </a:p>
          </p:txBody>
        </p:sp>
        <p:sp>
          <p:nvSpPr>
            <p:cNvPr id="2087" name="TextBox 48"/>
            <p:cNvSpPr/>
            <p:nvPr/>
          </p:nvSpPr>
          <p:spPr>
            <a:xfrm>
              <a:off x="8080200" y="2266920"/>
              <a:ext cx="92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ount</a:t>
              </a:r>
              <a:endParaRPr b="0" lang="en-US" sz="1200" spc="-1" strike="noStrike">
                <a:solidFill>
                  <a:srgbClr val="000000"/>
                </a:solidFill>
                <a:latin typeface="Arial"/>
              </a:endParaRPr>
            </a:p>
          </p:txBody>
        </p:sp>
        <p:sp>
          <p:nvSpPr>
            <p:cNvPr id="2088" name="TextBox 49"/>
            <p:cNvSpPr/>
            <p:nvPr/>
          </p:nvSpPr>
          <p:spPr>
            <a:xfrm>
              <a:off x="8080200" y="2912760"/>
              <a:ext cx="92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Break</a:t>
              </a:r>
              <a:endParaRPr b="0" lang="en-US" sz="1200" spc="-1" strike="noStrike">
                <a:solidFill>
                  <a:srgbClr val="000000"/>
                </a:solidFill>
                <a:latin typeface="Arial"/>
              </a:endParaRPr>
            </a:p>
          </p:txBody>
        </p:sp>
      </p:grpSp>
      <p:grpSp>
        <p:nvGrpSpPr>
          <p:cNvPr id="2089" name="Group 9"/>
          <p:cNvGrpSpPr/>
          <p:nvPr/>
        </p:nvGrpSpPr>
        <p:grpSpPr>
          <a:xfrm>
            <a:off x="5029200" y="3562200"/>
            <a:ext cx="3854160" cy="1847880"/>
            <a:chOff x="5029200" y="3562200"/>
            <a:chExt cx="3854160" cy="1847880"/>
          </a:xfrm>
        </p:grpSpPr>
        <p:cxnSp>
          <p:nvCxnSpPr>
            <p:cNvPr id="2090" name="Straight Arrow Connector 19"/>
            <p:cNvCxnSpPr/>
            <p:nvPr/>
          </p:nvCxnSpPr>
          <p:spPr>
            <a:xfrm flipV="1">
              <a:off x="5029200" y="3896280"/>
              <a:ext cx="838800" cy="501120"/>
            </a:xfrm>
            <a:prstGeom prst="straightConnector1">
              <a:avLst/>
            </a:prstGeom>
            <a:ln w="57240">
              <a:solidFill>
                <a:srgbClr val="002060"/>
              </a:solidFill>
              <a:miter/>
              <a:tailEnd len="med" type="triangle" w="med"/>
            </a:ln>
          </p:spPr>
        </p:cxnSp>
        <p:cxnSp>
          <p:nvCxnSpPr>
            <p:cNvPr id="2091" name="Straight Arrow Connector 20"/>
            <p:cNvCxnSpPr/>
            <p:nvPr/>
          </p:nvCxnSpPr>
          <p:spPr>
            <a:xfrm>
              <a:off x="5029200" y="4540320"/>
              <a:ext cx="838800" cy="501120"/>
            </a:xfrm>
            <a:prstGeom prst="straightConnector1">
              <a:avLst/>
            </a:prstGeom>
            <a:ln w="57240">
              <a:solidFill>
                <a:srgbClr val="002060"/>
              </a:solidFill>
              <a:miter/>
              <a:tailEnd len="med" type="triangle" w="med"/>
            </a:ln>
          </p:spPr>
        </p:cxnSp>
        <p:cxnSp>
          <p:nvCxnSpPr>
            <p:cNvPr id="2092" name="Straight Arrow Connector 22"/>
            <p:cNvCxnSpPr/>
            <p:nvPr/>
          </p:nvCxnSpPr>
          <p:spPr>
            <a:xfrm>
              <a:off x="5029200" y="4467600"/>
              <a:ext cx="838800" cy="2160"/>
            </a:xfrm>
            <a:prstGeom prst="straightConnector1">
              <a:avLst/>
            </a:prstGeom>
            <a:ln w="57240">
              <a:solidFill>
                <a:srgbClr val="002060"/>
              </a:solidFill>
              <a:miter/>
              <a:tailEnd len="med" type="triangle" w="med"/>
            </a:ln>
          </p:spPr>
        </p:cxnSp>
        <p:grpSp>
          <p:nvGrpSpPr>
            <p:cNvPr id="2093" name="TextBox 25"/>
            <p:cNvGrpSpPr/>
            <p:nvPr/>
          </p:nvGrpSpPr>
          <p:grpSpPr>
            <a:xfrm>
              <a:off x="5882400" y="3562200"/>
              <a:ext cx="2255400" cy="486360"/>
              <a:chOff x="5882400" y="3562200"/>
              <a:chExt cx="2255400" cy="486360"/>
            </a:xfrm>
          </p:grpSpPr>
          <p:pic>
            <p:nvPicPr>
              <p:cNvPr id="2094" name="TextBox 25" descr=""/>
              <p:cNvPicPr/>
              <p:nvPr/>
            </p:nvPicPr>
            <p:blipFill>
              <a:blip r:embed="rId7"/>
              <a:stretch/>
            </p:blipFill>
            <p:spPr>
              <a:xfrm>
                <a:off x="5882400" y="3562200"/>
                <a:ext cx="2255400" cy="486360"/>
              </a:xfrm>
              <a:prstGeom prst="rect">
                <a:avLst/>
              </a:prstGeom>
              <a:ln w="0">
                <a:noFill/>
              </a:ln>
            </p:spPr>
          </p:pic>
          <p:sp>
            <p:nvSpPr>
              <p:cNvPr id="2095" name=""/>
              <p:cNvSpPr/>
              <p:nvPr/>
            </p:nvSpPr>
            <p:spPr>
              <a:xfrm>
                <a:off x="5943240" y="359280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m</a:t>
                </a:r>
                <a:endParaRPr b="0" lang="en-US" sz="2000" spc="-1" strike="noStrike">
                  <a:solidFill>
                    <a:srgbClr val="000000"/>
                  </a:solidFill>
                  <a:latin typeface="Arial"/>
                </a:endParaRPr>
              </a:p>
            </p:txBody>
          </p:sp>
        </p:grpSp>
        <p:grpSp>
          <p:nvGrpSpPr>
            <p:cNvPr id="2096" name="TextBox 32"/>
            <p:cNvGrpSpPr/>
            <p:nvPr/>
          </p:nvGrpSpPr>
          <p:grpSpPr>
            <a:xfrm>
              <a:off x="5882400" y="4203000"/>
              <a:ext cx="2255400" cy="486360"/>
              <a:chOff x="5882400" y="4203000"/>
              <a:chExt cx="2255400" cy="486360"/>
            </a:xfrm>
          </p:grpSpPr>
          <p:pic>
            <p:nvPicPr>
              <p:cNvPr id="2097" name="TextBox 32" descr=""/>
              <p:cNvPicPr/>
              <p:nvPr/>
            </p:nvPicPr>
            <p:blipFill>
              <a:blip r:embed="rId8"/>
              <a:stretch/>
            </p:blipFill>
            <p:spPr>
              <a:xfrm>
                <a:off x="5882400" y="4203000"/>
                <a:ext cx="2255400" cy="486360"/>
              </a:xfrm>
              <a:prstGeom prst="rect">
                <a:avLst/>
              </a:prstGeom>
              <a:ln w="0">
                <a:noFill/>
              </a:ln>
            </p:spPr>
          </p:pic>
          <p:sp>
            <p:nvSpPr>
              <p:cNvPr id="2098" name=""/>
              <p:cNvSpPr/>
              <p:nvPr/>
            </p:nvSpPr>
            <p:spPr>
              <a:xfrm>
                <a:off x="5943240" y="423360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lo</a:t>
                </a:r>
                <a:endParaRPr b="0" lang="en-US" sz="2000" spc="-1" strike="noStrike">
                  <a:solidFill>
                    <a:srgbClr val="000000"/>
                  </a:solidFill>
                  <a:latin typeface="Arial"/>
                </a:endParaRPr>
              </a:p>
            </p:txBody>
          </p:sp>
        </p:grpSp>
        <p:grpSp>
          <p:nvGrpSpPr>
            <p:cNvPr id="2099" name="TextBox 33"/>
            <p:cNvGrpSpPr/>
            <p:nvPr/>
          </p:nvGrpSpPr>
          <p:grpSpPr>
            <a:xfrm>
              <a:off x="5882400" y="4923720"/>
              <a:ext cx="2255400" cy="486360"/>
              <a:chOff x="5882400" y="4923720"/>
              <a:chExt cx="2255400" cy="486360"/>
            </a:xfrm>
          </p:grpSpPr>
          <p:pic>
            <p:nvPicPr>
              <p:cNvPr id="2100" name="TextBox 33" descr=""/>
              <p:cNvPicPr/>
              <p:nvPr/>
            </p:nvPicPr>
            <p:blipFill>
              <a:blip r:embed="rId9"/>
              <a:stretch/>
            </p:blipFill>
            <p:spPr>
              <a:xfrm>
                <a:off x="5882400" y="4923720"/>
                <a:ext cx="2255400" cy="486360"/>
              </a:xfrm>
              <a:prstGeom prst="rect">
                <a:avLst/>
              </a:prstGeom>
              <a:ln w="0">
                <a:noFill/>
              </a:ln>
            </p:spPr>
          </p:pic>
          <p:sp>
            <p:nvSpPr>
              <p:cNvPr id="2101" name=""/>
              <p:cNvSpPr/>
              <p:nvPr/>
            </p:nvSpPr>
            <p:spPr>
              <a:xfrm>
                <a:off x="5943240" y="495144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m</a:t>
                </a:r>
                <a:endParaRPr b="0" lang="en-US" sz="2000" spc="-1" strike="noStrike">
                  <a:solidFill>
                    <a:srgbClr val="000000"/>
                  </a:solidFill>
                  <a:latin typeface="Arial"/>
                </a:endParaRPr>
              </a:p>
            </p:txBody>
          </p:sp>
        </p:grpSp>
        <p:sp>
          <p:nvSpPr>
            <p:cNvPr id="2102" name="TextBox 50"/>
            <p:cNvSpPr/>
            <p:nvPr/>
          </p:nvSpPr>
          <p:spPr>
            <a:xfrm>
              <a:off x="8081280" y="361080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MEN</a:t>
              </a:r>
              <a:endParaRPr b="0" lang="en-US" sz="1200" spc="-1" strike="noStrike">
                <a:solidFill>
                  <a:srgbClr val="000000"/>
                </a:solidFill>
                <a:latin typeface="Arial"/>
              </a:endParaRPr>
            </a:p>
          </p:txBody>
        </p:sp>
        <p:sp>
          <p:nvSpPr>
            <p:cNvPr id="2103" name="TextBox 51"/>
            <p:cNvSpPr/>
            <p:nvPr/>
          </p:nvSpPr>
          <p:spPr>
            <a:xfrm>
              <a:off x="8076240" y="425160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p:txBody>
        </p:sp>
        <p:sp>
          <p:nvSpPr>
            <p:cNvPr id="2104" name="TextBox 52"/>
            <p:cNvSpPr/>
            <p:nvPr/>
          </p:nvSpPr>
          <p:spPr>
            <a:xfrm>
              <a:off x="8081280" y="496980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CT</a:t>
              </a:r>
              <a:endParaRPr b="0" lang="en-US" sz="1200" spc="-1" strike="noStrike">
                <a:solidFill>
                  <a:srgbClr val="000000"/>
                </a:solidFill>
                <a:latin typeface="Arial"/>
              </a:endParaRPr>
            </a:p>
          </p:txBody>
        </p:sp>
      </p:grpSp>
      <p:grpSp>
        <p:nvGrpSpPr>
          <p:cNvPr id="2105" name="Group 10"/>
          <p:cNvGrpSpPr/>
          <p:nvPr/>
        </p:nvGrpSpPr>
        <p:grpSpPr>
          <a:xfrm>
            <a:off x="2133720" y="4495320"/>
            <a:ext cx="6606360" cy="1905480"/>
            <a:chOff x="2133720" y="4495320"/>
            <a:chExt cx="6606360" cy="1905480"/>
          </a:xfrm>
        </p:grpSpPr>
        <p:cxnSp>
          <p:nvCxnSpPr>
            <p:cNvPr id="2106" name="Straight Arrow Connector 36"/>
            <p:cNvCxnSpPr/>
            <p:nvPr/>
          </p:nvCxnSpPr>
          <p:spPr>
            <a:xfrm>
              <a:off x="4952880" y="6171840"/>
              <a:ext cx="838800" cy="2160"/>
            </a:xfrm>
            <a:prstGeom prst="straightConnector1">
              <a:avLst/>
            </a:prstGeom>
            <a:ln w="57240">
              <a:solidFill>
                <a:srgbClr val="002060"/>
              </a:solidFill>
              <a:miter/>
              <a:tailEnd len="med" type="triangle" w="med"/>
            </a:ln>
          </p:spPr>
        </p:cxnSp>
        <p:grpSp>
          <p:nvGrpSpPr>
            <p:cNvPr id="2107" name="TextBox 43"/>
            <p:cNvGrpSpPr/>
            <p:nvPr/>
          </p:nvGrpSpPr>
          <p:grpSpPr>
            <a:xfrm>
              <a:off x="2986920" y="5846400"/>
              <a:ext cx="1938240" cy="554400"/>
              <a:chOff x="2986920" y="5846400"/>
              <a:chExt cx="1938240" cy="554400"/>
            </a:xfrm>
          </p:grpSpPr>
          <p:pic>
            <p:nvPicPr>
              <p:cNvPr id="2108" name="TextBox 43" descr=""/>
              <p:cNvPicPr/>
              <p:nvPr/>
            </p:nvPicPr>
            <p:blipFill>
              <a:blip r:embed="rId10"/>
              <a:stretch/>
            </p:blipFill>
            <p:spPr>
              <a:xfrm>
                <a:off x="2986920" y="5846400"/>
                <a:ext cx="1938240" cy="554400"/>
              </a:xfrm>
              <a:prstGeom prst="rect">
                <a:avLst/>
              </a:prstGeom>
              <a:ln w="0">
                <a:noFill/>
              </a:ln>
            </p:spPr>
          </p:pic>
          <p:sp>
            <p:nvSpPr>
              <p:cNvPr id="2109" name=""/>
              <p:cNvSpPr/>
              <p:nvPr/>
            </p:nvSpPr>
            <p:spPr>
              <a:xfrm>
                <a:off x="3047760" y="5877000"/>
                <a:ext cx="1817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a:t>
                </a:r>
                <a:endParaRPr b="0" lang="en-US" sz="2400" spc="-1" strike="noStrike">
                  <a:solidFill>
                    <a:srgbClr val="000000"/>
                  </a:solidFill>
                  <a:latin typeface="Arial"/>
                </a:endParaRPr>
              </a:p>
            </p:txBody>
          </p:sp>
        </p:grpSp>
        <p:grpSp>
          <p:nvGrpSpPr>
            <p:cNvPr id="2110" name="TextBox 44"/>
            <p:cNvGrpSpPr/>
            <p:nvPr/>
          </p:nvGrpSpPr>
          <p:grpSpPr>
            <a:xfrm>
              <a:off x="5895000" y="5852520"/>
              <a:ext cx="1938240" cy="495720"/>
              <a:chOff x="5895000" y="5852520"/>
              <a:chExt cx="1938240" cy="495720"/>
            </a:xfrm>
          </p:grpSpPr>
          <p:pic>
            <p:nvPicPr>
              <p:cNvPr id="2111" name="TextBox 44" descr=""/>
              <p:cNvPicPr/>
              <p:nvPr/>
            </p:nvPicPr>
            <p:blipFill>
              <a:blip r:embed="rId11"/>
              <a:stretch/>
            </p:blipFill>
            <p:spPr>
              <a:xfrm>
                <a:off x="5895000" y="5852520"/>
                <a:ext cx="1938240" cy="495720"/>
              </a:xfrm>
              <a:prstGeom prst="rect">
                <a:avLst/>
              </a:prstGeom>
              <a:ln w="0">
                <a:noFill/>
              </a:ln>
            </p:spPr>
          </p:pic>
          <p:sp>
            <p:nvSpPr>
              <p:cNvPr id="2112" name=""/>
              <p:cNvSpPr/>
              <p:nvPr/>
            </p:nvSpPr>
            <p:spPr>
              <a:xfrm>
                <a:off x="5954760" y="5881680"/>
                <a:ext cx="1817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lo to BV</a:t>
                </a:r>
                <a:endParaRPr b="0" lang="en-US" sz="2000" spc="-1" strike="noStrike">
                  <a:solidFill>
                    <a:srgbClr val="000000"/>
                  </a:solidFill>
                  <a:latin typeface="Arial"/>
                </a:endParaRPr>
              </a:p>
            </p:txBody>
          </p:sp>
        </p:grpSp>
        <p:cxnSp>
          <p:nvCxnSpPr>
            <p:cNvPr id="2113" name="Straight Arrow Connector 46"/>
            <p:cNvCxnSpPr/>
            <p:nvPr/>
          </p:nvCxnSpPr>
          <p:spPr>
            <a:xfrm>
              <a:off x="2133720" y="4495320"/>
              <a:ext cx="838800" cy="1532520"/>
            </a:xfrm>
            <a:prstGeom prst="straightConnector1">
              <a:avLst/>
            </a:prstGeom>
            <a:ln w="57240">
              <a:solidFill>
                <a:srgbClr val="002060"/>
              </a:solidFill>
              <a:miter/>
              <a:tailEnd len="med" type="triangle" w="med"/>
            </a:ln>
          </p:spPr>
        </p:cxnSp>
        <p:sp>
          <p:nvSpPr>
            <p:cNvPr id="2114" name="TextBox 53"/>
            <p:cNvSpPr/>
            <p:nvPr/>
          </p:nvSpPr>
          <p:spPr>
            <a:xfrm>
              <a:off x="8074800" y="58788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LAS</a:t>
              </a:r>
              <a:endParaRPr b="0" lang="en-US" sz="12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Straight Connector 5"/>
          <p:cNvSpPr/>
          <p:nvPr/>
        </p:nvSpPr>
        <p:spPr>
          <a:xfrm flipV="1">
            <a:off x="2819520" y="2139480"/>
            <a:ext cx="304560" cy="3049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16" name="Straight Connector 26"/>
          <p:cNvSpPr/>
          <p:nvPr/>
        </p:nvSpPr>
        <p:spPr>
          <a:xfrm>
            <a:off x="2819520" y="2597040"/>
            <a:ext cx="304560" cy="3049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17" name="Straight Connector 32"/>
          <p:cNvSpPr/>
          <p:nvPr/>
        </p:nvSpPr>
        <p:spPr>
          <a:xfrm>
            <a:off x="4038480" y="2057400"/>
            <a:ext cx="38124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18" name="Straight Connector 35"/>
          <p:cNvSpPr/>
          <p:nvPr/>
        </p:nvSpPr>
        <p:spPr>
          <a:xfrm>
            <a:off x="4038480" y="2978280"/>
            <a:ext cx="38124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19" name="Straight Connector 36"/>
          <p:cNvSpPr/>
          <p:nvPr/>
        </p:nvSpPr>
        <p:spPr>
          <a:xfrm>
            <a:off x="5334120" y="2978280"/>
            <a:ext cx="38088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20" name="Straight Connector 37"/>
          <p:cNvSpPr/>
          <p:nvPr/>
        </p:nvSpPr>
        <p:spPr>
          <a:xfrm>
            <a:off x="5334120" y="2057400"/>
            <a:ext cx="38088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atory analysis of BV maintenance from E4599</a:t>
            </a:r>
            <a:endParaRPr b="0" lang="en-US" sz="4400" spc="-1" strike="noStrike">
              <a:solidFill>
                <a:srgbClr val="000000"/>
              </a:solidFill>
              <a:latin typeface="Arial"/>
            </a:endParaRPr>
          </a:p>
        </p:txBody>
      </p:sp>
      <p:sp>
        <p:nvSpPr>
          <p:cNvPr id="2122" name="TextBox 3"/>
          <p:cNvSpPr/>
          <p:nvPr/>
        </p:nvSpPr>
        <p:spPr>
          <a:xfrm>
            <a:off x="6593760" y="6459480"/>
            <a:ext cx="25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pez-Chavez, JTO, 2012</a:t>
            </a:r>
            <a:endParaRPr b="0" lang="en-US" sz="1600" spc="-1" strike="noStrike">
              <a:solidFill>
                <a:srgbClr val="000000"/>
              </a:solidFill>
              <a:latin typeface="Arial"/>
            </a:endParaRPr>
          </a:p>
        </p:txBody>
      </p:sp>
      <p:sp>
        <p:nvSpPr>
          <p:cNvPr id="2123" name="Rounded Rectangle 2"/>
          <p:cNvSpPr/>
          <p:nvPr/>
        </p:nvSpPr>
        <p:spPr>
          <a:xfrm>
            <a:off x="3124080" y="1828800"/>
            <a:ext cx="914400" cy="53352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4" name="TextBox 1"/>
          <p:cNvSpPr/>
          <p:nvPr/>
        </p:nvSpPr>
        <p:spPr>
          <a:xfrm>
            <a:off x="3124080" y="1870200"/>
            <a:ext cx="9144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P + BV</a:t>
            </a:r>
            <a:br>
              <a:rPr sz="1300"/>
            </a:br>
            <a:r>
              <a:rPr b="0" lang="en-US" sz="1300" spc="-1" strike="noStrike">
                <a:solidFill>
                  <a:srgbClr val="ffffff"/>
                </a:solidFill>
                <a:latin typeface="Arial"/>
              </a:rPr>
              <a:t>n = 429</a:t>
            </a:r>
            <a:endParaRPr b="0" lang="en-US" sz="1300" spc="-1" strike="noStrike">
              <a:solidFill>
                <a:srgbClr val="000000"/>
              </a:solidFill>
              <a:latin typeface="Arial"/>
            </a:endParaRPr>
          </a:p>
        </p:txBody>
      </p:sp>
      <p:sp>
        <p:nvSpPr>
          <p:cNvPr id="2125" name="Rounded Rectangle 10"/>
          <p:cNvSpPr/>
          <p:nvPr/>
        </p:nvSpPr>
        <p:spPr>
          <a:xfrm>
            <a:off x="4495680" y="1711440"/>
            <a:ext cx="914400" cy="65088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6" name="TextBox 11"/>
          <p:cNvSpPr/>
          <p:nvPr/>
        </p:nvSpPr>
        <p:spPr>
          <a:xfrm>
            <a:off x="4495680" y="1676520"/>
            <a:ext cx="91440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P + BV</a:t>
            </a:r>
            <a:br>
              <a:rPr sz="1300"/>
            </a:br>
            <a:r>
              <a:rPr b="0" lang="en-US" sz="1300" spc="-1" strike="noStrike">
                <a:solidFill>
                  <a:srgbClr val="ffffff"/>
                </a:solidFill>
                <a:latin typeface="Arial"/>
              </a:rPr>
              <a:t>n = 258</a:t>
            </a:r>
            <a:br>
              <a:rPr sz="1300"/>
            </a:br>
            <a:r>
              <a:rPr b="0" lang="en-US" sz="1300" spc="-1" strike="noStrike">
                <a:solidFill>
                  <a:srgbClr val="ffffff"/>
                </a:solidFill>
                <a:latin typeface="Arial"/>
              </a:rPr>
              <a:t>(60%)</a:t>
            </a:r>
            <a:endParaRPr b="0" lang="en-US" sz="1300" spc="-1" strike="noStrike">
              <a:solidFill>
                <a:srgbClr val="000000"/>
              </a:solidFill>
              <a:latin typeface="Arial"/>
            </a:endParaRPr>
          </a:p>
        </p:txBody>
      </p:sp>
      <p:sp>
        <p:nvSpPr>
          <p:cNvPr id="2127" name="Rounded Rectangle 12"/>
          <p:cNvSpPr/>
          <p:nvPr/>
        </p:nvSpPr>
        <p:spPr>
          <a:xfrm>
            <a:off x="5715000" y="1711440"/>
            <a:ext cx="1676520" cy="65088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8" name="TextBox 13"/>
          <p:cNvSpPr/>
          <p:nvPr/>
        </p:nvSpPr>
        <p:spPr>
          <a:xfrm>
            <a:off x="5715000" y="1676520"/>
            <a:ext cx="167652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V maintenance</a:t>
            </a:r>
            <a:br>
              <a:rPr sz="1300"/>
            </a:br>
            <a:r>
              <a:rPr b="0" lang="en-US" sz="1300" spc="-1" strike="noStrike">
                <a:solidFill>
                  <a:srgbClr val="ffffff"/>
                </a:solidFill>
                <a:latin typeface="Arial"/>
              </a:rPr>
              <a:t>n = 217</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51%)</a:t>
            </a:r>
            <a:endParaRPr b="0" lang="en-US" sz="1300" spc="-1" strike="noStrike">
              <a:solidFill>
                <a:srgbClr val="000000"/>
              </a:solidFill>
              <a:latin typeface="Arial"/>
            </a:endParaRPr>
          </a:p>
        </p:txBody>
      </p:sp>
      <p:sp>
        <p:nvSpPr>
          <p:cNvPr id="2129" name="Rounded Rectangle 14"/>
          <p:cNvSpPr/>
          <p:nvPr/>
        </p:nvSpPr>
        <p:spPr>
          <a:xfrm>
            <a:off x="3124080" y="2673360"/>
            <a:ext cx="914400" cy="53352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0" name="TextBox 15"/>
          <p:cNvSpPr/>
          <p:nvPr/>
        </p:nvSpPr>
        <p:spPr>
          <a:xfrm>
            <a:off x="3124080" y="2714760"/>
            <a:ext cx="9144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P </a:t>
            </a:r>
            <a:br>
              <a:rPr sz="1300"/>
            </a:br>
            <a:r>
              <a:rPr b="0" lang="en-US" sz="1300" spc="-1" strike="noStrike">
                <a:solidFill>
                  <a:srgbClr val="ffffff"/>
                </a:solidFill>
                <a:latin typeface="Arial"/>
              </a:rPr>
              <a:t>n = 440</a:t>
            </a:r>
            <a:endParaRPr b="0" lang="en-US" sz="1300" spc="-1" strike="noStrike">
              <a:solidFill>
                <a:srgbClr val="000000"/>
              </a:solidFill>
              <a:latin typeface="Arial"/>
            </a:endParaRPr>
          </a:p>
        </p:txBody>
      </p:sp>
      <p:sp>
        <p:nvSpPr>
          <p:cNvPr id="2131" name="Rounded Rectangle 16"/>
          <p:cNvSpPr/>
          <p:nvPr/>
        </p:nvSpPr>
        <p:spPr>
          <a:xfrm>
            <a:off x="4495680" y="2556000"/>
            <a:ext cx="914400" cy="65088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2" name="TextBox 17"/>
          <p:cNvSpPr/>
          <p:nvPr/>
        </p:nvSpPr>
        <p:spPr>
          <a:xfrm>
            <a:off x="4495680" y="2521080"/>
            <a:ext cx="91440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P </a:t>
            </a:r>
            <a:br>
              <a:rPr sz="1300"/>
            </a:br>
            <a:r>
              <a:rPr b="0" lang="en-US" sz="1300" spc="-1" strike="noStrike">
                <a:solidFill>
                  <a:srgbClr val="ffffff"/>
                </a:solidFill>
                <a:latin typeface="Arial"/>
              </a:rPr>
              <a:t>n = 194</a:t>
            </a:r>
            <a:br>
              <a:rPr sz="1300"/>
            </a:br>
            <a:r>
              <a:rPr b="0" lang="en-US" sz="1300" spc="-1" strike="noStrike">
                <a:solidFill>
                  <a:srgbClr val="ffffff"/>
                </a:solidFill>
                <a:latin typeface="Arial"/>
              </a:rPr>
              <a:t>(44%)</a:t>
            </a:r>
            <a:endParaRPr b="0" lang="en-US" sz="1300" spc="-1" strike="noStrike">
              <a:solidFill>
                <a:srgbClr val="000000"/>
              </a:solidFill>
              <a:latin typeface="Arial"/>
            </a:endParaRPr>
          </a:p>
        </p:txBody>
      </p:sp>
      <p:sp>
        <p:nvSpPr>
          <p:cNvPr id="2133" name="Rounded Rectangle 18"/>
          <p:cNvSpPr/>
          <p:nvPr/>
        </p:nvSpPr>
        <p:spPr>
          <a:xfrm>
            <a:off x="5715000" y="2556000"/>
            <a:ext cx="1676520" cy="65088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4" name="TextBox 19"/>
          <p:cNvSpPr/>
          <p:nvPr/>
        </p:nvSpPr>
        <p:spPr>
          <a:xfrm>
            <a:off x="5715000" y="2521080"/>
            <a:ext cx="167652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P nonprogressors</a:t>
            </a:r>
            <a:br>
              <a:rPr sz="1300"/>
            </a:br>
            <a:r>
              <a:rPr b="0" lang="en-US" sz="1300" spc="-1" strike="noStrike">
                <a:solidFill>
                  <a:srgbClr val="ffffff"/>
                </a:solidFill>
                <a:latin typeface="Arial"/>
              </a:rPr>
              <a:t>n = 134</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30%)</a:t>
            </a:r>
            <a:endParaRPr b="0" lang="en-US" sz="1300" spc="-1" strike="noStrike">
              <a:solidFill>
                <a:srgbClr val="000000"/>
              </a:solidFill>
              <a:latin typeface="Arial"/>
            </a:endParaRPr>
          </a:p>
        </p:txBody>
      </p:sp>
      <p:sp>
        <p:nvSpPr>
          <p:cNvPr id="2135" name="Rounded Rectangle 20"/>
          <p:cNvSpPr/>
          <p:nvPr/>
        </p:nvSpPr>
        <p:spPr>
          <a:xfrm>
            <a:off x="1676520" y="2139840"/>
            <a:ext cx="1143000" cy="65088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6" name="TextBox 21"/>
          <p:cNvSpPr/>
          <p:nvPr/>
        </p:nvSpPr>
        <p:spPr>
          <a:xfrm>
            <a:off x="1676520" y="2104920"/>
            <a:ext cx="114300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tients in</a:t>
            </a:r>
            <a:br>
              <a:rPr sz="1300"/>
            </a:br>
            <a:r>
              <a:rPr b="0" lang="en-US" sz="1300" spc="-1" strike="noStrike">
                <a:solidFill>
                  <a:srgbClr val="ffffff"/>
                </a:solidFill>
                <a:latin typeface="Arial"/>
              </a:rPr>
              <a:t>ECOG 4599</a:t>
            </a:r>
            <a:br>
              <a:rPr sz="1300"/>
            </a:br>
            <a:r>
              <a:rPr b="0" lang="en-US" sz="1300" spc="-1" strike="noStrike">
                <a:solidFill>
                  <a:srgbClr val="ffffff"/>
                </a:solidFill>
                <a:latin typeface="Arial"/>
              </a:rPr>
              <a:t>n = 869</a:t>
            </a:r>
            <a:endParaRPr b="0" lang="en-US" sz="1300" spc="-1" strike="noStrike">
              <a:solidFill>
                <a:srgbClr val="000000"/>
              </a:solidFill>
              <a:latin typeface="Arial"/>
            </a:endParaRPr>
          </a:p>
        </p:txBody>
      </p:sp>
      <p:sp>
        <p:nvSpPr>
          <p:cNvPr id="2137" name="TextBox 30"/>
          <p:cNvSpPr/>
          <p:nvPr/>
        </p:nvSpPr>
        <p:spPr>
          <a:xfrm>
            <a:off x="2743200" y="144792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6 cycles</a:t>
            </a:r>
            <a:endParaRPr b="0" lang="en-US" sz="1200" spc="-1" strike="noStrike">
              <a:solidFill>
                <a:srgbClr val="000000"/>
              </a:solidFill>
              <a:latin typeface="Arial"/>
            </a:endParaRPr>
          </a:p>
        </p:txBody>
      </p:sp>
      <p:sp>
        <p:nvSpPr>
          <p:cNvPr id="2138" name="TextBox 39"/>
          <p:cNvSpPr/>
          <p:nvPr/>
        </p:nvSpPr>
        <p:spPr>
          <a:xfrm>
            <a:off x="4191120" y="144792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d 6 cycles</a:t>
            </a:r>
            <a:endParaRPr b="0" lang="en-US" sz="1200" spc="-1" strike="noStrike">
              <a:solidFill>
                <a:srgbClr val="000000"/>
              </a:solidFill>
              <a:latin typeface="Arial"/>
            </a:endParaRPr>
          </a:p>
        </p:txBody>
      </p:sp>
      <p:sp>
        <p:nvSpPr>
          <p:cNvPr id="2139" name="TextBox 40"/>
          <p:cNvSpPr/>
          <p:nvPr/>
        </p:nvSpPr>
        <p:spPr>
          <a:xfrm>
            <a:off x="5791320" y="144792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population</a:t>
            </a:r>
            <a:endParaRPr b="0" lang="en-US" sz="1200" spc="-1" strike="noStrike">
              <a:solidFill>
                <a:srgbClr val="000000"/>
              </a:solidFill>
              <a:latin typeface="Arial"/>
            </a:endParaRPr>
          </a:p>
        </p:txBody>
      </p:sp>
      <p:graphicFrame>
        <p:nvGraphicFramePr>
          <p:cNvPr id="2140" name=""/>
          <p:cNvGraphicFramePr/>
          <p:nvPr/>
        </p:nvGraphicFramePr>
        <p:xfrm>
          <a:off x="762120" y="3581280"/>
          <a:ext cx="7543800" cy="2259000"/>
        </p:xfrm>
        <a:graphic>
          <a:graphicData uri="http://schemas.openxmlformats.org/drawingml/2006/table">
            <a:tbl>
              <a:tblPr/>
              <a:tblGrid>
                <a:gridCol w="2590560"/>
                <a:gridCol w="2797200"/>
                <a:gridCol w="2156040"/>
              </a:tblGrid>
              <a:tr h="8226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vival </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 + bev induction followed by bev maintenance (n = 217) </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P induction </a:t>
                      </a:r>
                      <a:br>
                        <a:rPr sz="1600"/>
                      </a:br>
                      <a:r>
                        <a:rPr b="1" lang="en-US" sz="1600" spc="-1" strike="noStrike">
                          <a:solidFill>
                            <a:srgbClr val="000000"/>
                          </a:solidFill>
                          <a:latin typeface="Arial"/>
                        </a:rPr>
                        <a:t>+ no maintenance </a:t>
                      </a:r>
                      <a:br>
                        <a:rPr sz="1600"/>
                      </a:br>
                      <a:r>
                        <a:rPr b="1" lang="en-US" sz="1600" spc="-1" strike="noStrike">
                          <a:solidFill>
                            <a:srgbClr val="000000"/>
                          </a:solidFill>
                          <a:latin typeface="Arial"/>
                        </a:rPr>
                        <a:t>(n = 134)</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r>
              <a:tr h="3585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overall survival </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4.4 mo </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8 mo</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r h="36036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R = 0.75, </a:t>
                      </a:r>
                      <a:r>
                        <a:rPr b="0" i="1" lang="en-US" sz="1600" spc="-1" strike="noStrike">
                          <a:solidFill>
                            <a:srgbClr val="000000"/>
                          </a:solidFill>
                          <a:latin typeface="Arial"/>
                        </a:rPr>
                        <a:t>p</a:t>
                      </a:r>
                      <a:r>
                        <a:rPr b="0" lang="en-US" sz="1600" spc="-1" strike="noStrike">
                          <a:solidFill>
                            <a:srgbClr val="000000"/>
                          </a:solidFill>
                          <a:latin typeface="Arial"/>
                        </a:rPr>
                        <a:t> = 0.03</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progression-free survival </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12.4 mo </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1.2 mo</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5856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R = 0.64, </a:t>
                      </a:r>
                      <a:r>
                        <a:rPr b="0" i="1" lang="en-US" sz="1600" spc="-1" strike="noStrike">
                          <a:solidFill>
                            <a:srgbClr val="000000"/>
                          </a:solidFill>
                          <a:latin typeface="Arial"/>
                        </a:rPr>
                        <a:t>p</a:t>
                      </a:r>
                      <a:r>
                        <a:rPr b="0" lang="en-US" sz="1600" spc="-1" strike="noStrike">
                          <a:solidFill>
                            <a:srgbClr val="000000"/>
                          </a:solidFill>
                          <a:latin typeface="Arial"/>
                        </a:rPr>
                        <a:t> &lt; 0.001</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OUNT: Phase III study of maintenance pem vs BSC after Pem/Cis induction </a:t>
            </a:r>
            <a:endParaRPr b="0" lang="en-US" sz="3200" spc="-1" strike="noStrike">
              <a:solidFill>
                <a:srgbClr val="000000"/>
              </a:solidFill>
              <a:latin typeface="Arial"/>
            </a:endParaRPr>
          </a:p>
        </p:txBody>
      </p:sp>
      <p:sp>
        <p:nvSpPr>
          <p:cNvPr id="2142" name="TextBox 3"/>
          <p:cNvSpPr/>
          <p:nvPr/>
        </p:nvSpPr>
        <p:spPr>
          <a:xfrm>
            <a:off x="4884840" y="6400800"/>
            <a:ext cx="365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z-Ares et al, Lancet Oncology, 2012</a:t>
            </a:r>
            <a:endParaRPr b="0" lang="en-US" sz="1600" spc="-1" strike="noStrike">
              <a:solidFill>
                <a:srgbClr val="000000"/>
              </a:solidFill>
              <a:latin typeface="Arial"/>
            </a:endParaRPr>
          </a:p>
        </p:txBody>
      </p:sp>
      <p:graphicFrame>
        <p:nvGraphicFramePr>
          <p:cNvPr id="2143" name=""/>
          <p:cNvGraphicFramePr/>
          <p:nvPr/>
        </p:nvGraphicFramePr>
        <p:xfrm>
          <a:off x="609480" y="2286000"/>
          <a:ext cx="8153640" cy="1981080"/>
        </p:xfrm>
        <a:graphic>
          <a:graphicData uri="http://schemas.openxmlformats.org/drawingml/2006/table">
            <a:tbl>
              <a:tblPr/>
              <a:tblGrid>
                <a:gridCol w="2210040"/>
                <a:gridCol w="1600200"/>
                <a:gridCol w="1447560"/>
                <a:gridCol w="1447920"/>
                <a:gridCol w="1447920"/>
              </a:tblGrid>
              <a:tr h="10080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vival </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metrexed + BSC </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cebo + BSC </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g-rank p </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R (95% CI)</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r>
              <a:tr h="973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PFS (95% CI) </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1 mo (3.2-4.6) </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 mo (2.6-3.1) </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0.0001</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2 (0.49-0.79)</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44" name="Straight Arrow Connector 14"/>
          <p:cNvCxnSpPr/>
          <p:nvPr/>
        </p:nvCxnSpPr>
        <p:spPr>
          <a:xfrm>
            <a:off x="3200400" y="2501640"/>
            <a:ext cx="991440" cy="1080"/>
          </a:xfrm>
          <a:prstGeom prst="straightConnector1">
            <a:avLst/>
          </a:prstGeom>
          <a:ln w="57240">
            <a:solidFill>
              <a:srgbClr val="002060"/>
            </a:solidFill>
            <a:miter/>
            <a:tailEnd len="med" type="triangle" w="med"/>
          </a:ln>
        </p:spPr>
      </p:cxnSp>
      <p:sp>
        <p:nvSpPr>
          <p:cNvPr id="2145" name="PlaceHolder 1"/>
          <p:cNvSpPr>
            <a:spLocks noGrp="1"/>
          </p:cNvSpPr>
          <p:nvPr>
            <p:ph type="title"/>
          </p:nvPr>
        </p:nvSpPr>
        <p:spPr>
          <a:xfrm>
            <a:off x="152280" y="22824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MEN Phase III trial of </a:t>
            </a:r>
            <a:r>
              <a:rPr b="0" lang="ja-JP" sz="3200" spc="-1" strike="noStrike">
                <a:solidFill>
                  <a:srgbClr val="000000"/>
                </a:solidFill>
                <a:latin typeface="Arial"/>
              </a:rPr>
              <a:t>“</a:t>
            </a:r>
            <a:r>
              <a:rPr b="0" lang="en-US" sz="3200" spc="-1" strike="noStrike">
                <a:solidFill>
                  <a:srgbClr val="000000"/>
                </a:solidFill>
                <a:latin typeface="Arial"/>
              </a:rPr>
              <a:t>switch</a:t>
            </a:r>
            <a:r>
              <a:rPr b="0" lang="ja-JP" sz="3200" spc="-1" strike="noStrike">
                <a:solidFill>
                  <a:srgbClr val="000000"/>
                </a:solidFill>
                <a:latin typeface="Arial"/>
              </a:rPr>
              <a:t>”</a:t>
            </a:r>
            <a:r>
              <a:rPr b="0" lang="en-US" sz="3200" spc="-1" strike="noStrike">
                <a:solidFill>
                  <a:srgbClr val="000000"/>
                </a:solidFill>
                <a:latin typeface="Arial"/>
              </a:rPr>
              <a:t> maintenance for NSCLC (non-squamous subset)</a:t>
            </a:r>
            <a:endParaRPr b="0" lang="en-US" sz="3200" spc="-1" strike="noStrike">
              <a:solidFill>
                <a:srgbClr val="000000"/>
              </a:solidFill>
              <a:latin typeface="Arial"/>
            </a:endParaRPr>
          </a:p>
        </p:txBody>
      </p:sp>
      <p:grpSp>
        <p:nvGrpSpPr>
          <p:cNvPr id="2146" name="TextBox 18"/>
          <p:cNvGrpSpPr/>
          <p:nvPr/>
        </p:nvGrpSpPr>
        <p:grpSpPr>
          <a:xfrm>
            <a:off x="853920" y="1779480"/>
            <a:ext cx="2919600" cy="1354320"/>
            <a:chOff x="853920" y="1779480"/>
            <a:chExt cx="2919600" cy="1354320"/>
          </a:xfrm>
        </p:grpSpPr>
        <p:pic>
          <p:nvPicPr>
            <p:cNvPr id="2147" name="TextBox 18" descr=""/>
            <p:cNvPicPr/>
            <p:nvPr/>
          </p:nvPicPr>
          <p:blipFill>
            <a:blip r:embed="rId1"/>
            <a:stretch/>
          </p:blipFill>
          <p:spPr>
            <a:xfrm>
              <a:off x="853920" y="1779480"/>
              <a:ext cx="2919600" cy="1354320"/>
            </a:xfrm>
            <a:prstGeom prst="rect">
              <a:avLst/>
            </a:prstGeom>
            <a:ln w="0">
              <a:noFill/>
            </a:ln>
          </p:spPr>
        </p:pic>
        <p:sp>
          <p:nvSpPr>
            <p:cNvPr id="2148" name=""/>
            <p:cNvSpPr/>
            <p:nvPr/>
          </p:nvSpPr>
          <p:spPr>
            <a:xfrm>
              <a:off x="914400" y="1812960"/>
              <a:ext cx="2800440" cy="122004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601"/>
                </a:spcBef>
                <a:buClr>
                  <a:srgbClr val="f07f0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ge IIIB/IV NSCLC</a:t>
              </a:r>
              <a:endParaRPr b="0" lang="en-US" sz="1600" spc="-1" strike="noStrike">
                <a:solidFill>
                  <a:srgbClr val="000000"/>
                </a:solidFill>
                <a:latin typeface="Arial"/>
              </a:endParaRPr>
            </a:p>
            <a:p>
              <a:pPr marL="231840" indent="-231840">
                <a:spcBef>
                  <a:spcPts val="601"/>
                </a:spcBef>
                <a:buClr>
                  <a:srgbClr val="f07f0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cycles of gem, doc, or tax + cis/carb, w/ non-PD</a:t>
              </a:r>
              <a:endParaRPr b="0" lang="en-US" sz="1600" spc="-1" strike="noStrike">
                <a:solidFill>
                  <a:srgbClr val="000000"/>
                </a:solidFill>
                <a:latin typeface="Arial"/>
              </a:endParaRPr>
            </a:p>
            <a:p>
              <a:pPr marL="231840" indent="-231840">
                <a:spcBef>
                  <a:spcPts val="601"/>
                </a:spcBef>
                <a:buClr>
                  <a:srgbClr val="f07f0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endpoint: PFS</a:t>
              </a:r>
              <a:endParaRPr b="0" lang="en-US" sz="1600" spc="-1" strike="noStrike">
                <a:solidFill>
                  <a:srgbClr val="000000"/>
                </a:solidFill>
                <a:latin typeface="Arial"/>
              </a:endParaRPr>
            </a:p>
          </p:txBody>
        </p:sp>
      </p:grpSp>
      <p:cxnSp>
        <p:nvCxnSpPr>
          <p:cNvPr id="2149" name="Straight Arrow Connector 21"/>
          <p:cNvCxnSpPr/>
          <p:nvPr/>
        </p:nvCxnSpPr>
        <p:spPr>
          <a:xfrm flipV="1">
            <a:off x="5029200" y="1901520"/>
            <a:ext cx="838800" cy="534240"/>
          </a:xfrm>
          <a:prstGeom prst="straightConnector1">
            <a:avLst/>
          </a:prstGeom>
          <a:ln w="57240">
            <a:solidFill>
              <a:srgbClr val="002060"/>
            </a:solidFill>
            <a:miter/>
            <a:tailEnd len="med" type="triangle" w="med"/>
          </a:ln>
        </p:spPr>
      </p:cxnSp>
      <p:cxnSp>
        <p:nvCxnSpPr>
          <p:cNvPr id="2150" name="Straight Arrow Connector 23"/>
          <p:cNvCxnSpPr/>
          <p:nvPr/>
        </p:nvCxnSpPr>
        <p:spPr>
          <a:xfrm>
            <a:off x="5029200" y="2587680"/>
            <a:ext cx="838800" cy="534240"/>
          </a:xfrm>
          <a:prstGeom prst="straightConnector1">
            <a:avLst/>
          </a:prstGeom>
          <a:ln w="57240">
            <a:solidFill>
              <a:srgbClr val="002060"/>
            </a:solidFill>
            <a:miter/>
            <a:tailEnd len="med" type="triangle" w="med"/>
          </a:ln>
        </p:spPr>
      </p:cxnSp>
      <p:grpSp>
        <p:nvGrpSpPr>
          <p:cNvPr id="2151" name="TextBox 26"/>
          <p:cNvGrpSpPr/>
          <p:nvPr/>
        </p:nvGrpSpPr>
        <p:grpSpPr>
          <a:xfrm>
            <a:off x="5883120" y="1494000"/>
            <a:ext cx="2406960" cy="1029960"/>
            <a:chOff x="5883120" y="1494000"/>
            <a:chExt cx="2406960" cy="1029960"/>
          </a:xfrm>
        </p:grpSpPr>
        <p:pic>
          <p:nvPicPr>
            <p:cNvPr id="2152" name="TextBox 26" descr=""/>
            <p:cNvPicPr/>
            <p:nvPr/>
          </p:nvPicPr>
          <p:blipFill>
            <a:blip r:embed="rId2"/>
            <a:stretch/>
          </p:blipFill>
          <p:spPr>
            <a:xfrm>
              <a:off x="5883120" y="1494000"/>
              <a:ext cx="2406960" cy="1029960"/>
            </a:xfrm>
            <a:prstGeom prst="rect">
              <a:avLst/>
            </a:prstGeom>
            <a:ln w="0">
              <a:noFill/>
            </a:ln>
          </p:spPr>
        </p:pic>
        <p:sp>
          <p:nvSpPr>
            <p:cNvPr id="2153" name=""/>
            <p:cNvSpPr/>
            <p:nvPr/>
          </p:nvSpPr>
          <p:spPr>
            <a:xfrm>
              <a:off x="5943600" y="1523880"/>
              <a:ext cx="2286000" cy="90612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metrexed </a:t>
              </a:r>
              <a:endParaRPr b="0" lang="en-US" sz="1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 mg/m</a:t>
              </a:r>
              <a:r>
                <a:rPr b="0" lang="en-US" sz="1600" spc="-1" strike="noStrike" baseline="30000">
                  <a:solidFill>
                    <a:srgbClr val="000000"/>
                  </a:solidFill>
                  <a:latin typeface="Arial"/>
                </a:rPr>
                <a:t>2</a:t>
              </a:r>
              <a:r>
                <a:rPr b="0" lang="en-US" sz="1600" spc="-1" strike="noStrike">
                  <a:solidFill>
                    <a:srgbClr val="000000"/>
                  </a:solidFill>
                  <a:latin typeface="Arial"/>
                </a:rPr>
                <a:t>, q21d</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41)</a:t>
              </a:r>
              <a:endParaRPr b="0" lang="en-US" sz="1600" spc="-1" strike="noStrike">
                <a:solidFill>
                  <a:srgbClr val="000000"/>
                </a:solidFill>
                <a:latin typeface="Arial"/>
              </a:endParaRPr>
            </a:p>
          </p:txBody>
        </p:sp>
      </p:grpSp>
      <p:grpSp>
        <p:nvGrpSpPr>
          <p:cNvPr id="2154" name="TextBox 37"/>
          <p:cNvGrpSpPr/>
          <p:nvPr/>
        </p:nvGrpSpPr>
        <p:grpSpPr>
          <a:xfrm>
            <a:off x="5883120" y="2798640"/>
            <a:ext cx="2327400" cy="487440"/>
            <a:chOff x="5883120" y="2798640"/>
            <a:chExt cx="2327400" cy="487440"/>
          </a:xfrm>
        </p:grpSpPr>
        <p:pic>
          <p:nvPicPr>
            <p:cNvPr id="2155" name="TextBox 37" descr=""/>
            <p:cNvPicPr/>
            <p:nvPr/>
          </p:nvPicPr>
          <p:blipFill>
            <a:blip r:embed="rId3"/>
            <a:stretch/>
          </p:blipFill>
          <p:spPr>
            <a:xfrm>
              <a:off x="5883120" y="2798640"/>
              <a:ext cx="2327400" cy="487440"/>
            </a:xfrm>
            <a:prstGeom prst="rect">
              <a:avLst/>
            </a:prstGeom>
            <a:ln w="0">
              <a:noFill/>
            </a:ln>
          </p:spPr>
        </p:pic>
        <p:sp>
          <p:nvSpPr>
            <p:cNvPr id="2156" name=""/>
            <p:cNvSpPr/>
            <p:nvPr/>
          </p:nvSpPr>
          <p:spPr>
            <a:xfrm>
              <a:off x="5943600" y="282744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bo (N=222)</a:t>
              </a:r>
              <a:endParaRPr b="0" lang="en-US" sz="1800" spc="-1" strike="noStrike">
                <a:solidFill>
                  <a:srgbClr val="000000"/>
                </a:solidFill>
                <a:latin typeface="Arial"/>
              </a:endParaRPr>
            </a:p>
          </p:txBody>
        </p:sp>
      </p:grpSp>
      <p:sp>
        <p:nvSpPr>
          <p:cNvPr id="2157" name="TextBox 19"/>
          <p:cNvSpPr/>
          <p:nvPr/>
        </p:nvSpPr>
        <p:spPr>
          <a:xfrm>
            <a:off x="4956480" y="6519960"/>
            <a:ext cx="240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uleanu et al, Lancet, 2009</a:t>
            </a:r>
            <a:endParaRPr b="0" lang="en-US" sz="1400" spc="-1" strike="noStrike">
              <a:solidFill>
                <a:srgbClr val="000000"/>
              </a:solidFill>
              <a:latin typeface="Arial"/>
            </a:endParaRPr>
          </a:p>
        </p:txBody>
      </p:sp>
      <p:grpSp>
        <p:nvGrpSpPr>
          <p:cNvPr id="2158" name="TextBox 13"/>
          <p:cNvGrpSpPr/>
          <p:nvPr/>
        </p:nvGrpSpPr>
        <p:grpSpPr>
          <a:xfrm>
            <a:off x="4206960" y="2023920"/>
            <a:ext cx="955440" cy="944640"/>
            <a:chOff x="4206960" y="2023920"/>
            <a:chExt cx="955440" cy="944640"/>
          </a:xfrm>
        </p:grpSpPr>
        <p:pic>
          <p:nvPicPr>
            <p:cNvPr id="2159" name="TextBox 13" descr=""/>
            <p:cNvPicPr/>
            <p:nvPr/>
          </p:nvPicPr>
          <p:blipFill>
            <a:blip r:embed="rId4"/>
            <a:stretch/>
          </p:blipFill>
          <p:spPr>
            <a:xfrm>
              <a:off x="4206960" y="2023920"/>
              <a:ext cx="955440" cy="944640"/>
            </a:xfrm>
            <a:prstGeom prst="rect">
              <a:avLst/>
            </a:prstGeom>
            <a:ln w="0">
              <a:noFill/>
            </a:ln>
          </p:spPr>
        </p:pic>
        <p:sp>
          <p:nvSpPr>
            <p:cNvPr id="2160" name=""/>
            <p:cNvSpPr/>
            <p:nvPr/>
          </p:nvSpPr>
          <p:spPr>
            <a:xfrm>
              <a:off x="4389480" y="2178000"/>
              <a:ext cx="593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p:txBody>
        </p:sp>
      </p:grpSp>
      <p:graphicFrame>
        <p:nvGraphicFramePr>
          <p:cNvPr id="2161" name=""/>
          <p:cNvGraphicFramePr/>
          <p:nvPr/>
        </p:nvGraphicFramePr>
        <p:xfrm>
          <a:off x="609480" y="3581280"/>
          <a:ext cx="8153640" cy="2133720"/>
        </p:xfrm>
        <a:graphic>
          <a:graphicData uri="http://schemas.openxmlformats.org/drawingml/2006/table">
            <a:tbl>
              <a:tblPr/>
              <a:tblGrid>
                <a:gridCol w="3048120"/>
                <a:gridCol w="1523880"/>
                <a:gridCol w="1219320"/>
                <a:gridCol w="1143000"/>
                <a:gridCol w="1219320"/>
              </a:tblGrid>
              <a:tr h="6858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fficacy parameter </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metrex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 = 326) </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b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 = 156) </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azard ratio</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value</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r>
              <a:tr h="7621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FS</a:t>
                      </a:r>
                      <a:br>
                        <a:rPr sz="1800"/>
                      </a:br>
                      <a:r>
                        <a:rPr b="0" lang="en-US" sz="1800" spc="-1" strike="noStrike">
                          <a:solidFill>
                            <a:srgbClr val="000000"/>
                          </a:solidFill>
                          <a:latin typeface="Arial"/>
                        </a:rPr>
                        <a:t>    Nonsquamous</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5 mo</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 mo</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44</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0.0001</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r h="6858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Nonsquamous </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5 mo</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3 mo</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70</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title"/>
          </p:nvPr>
        </p:nvSpPr>
        <p:spPr>
          <a:xfrm>
            <a:off x="456840" y="380520"/>
            <a:ext cx="8434440" cy="5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hase III IFCT-GFPC 0502 results: </a:t>
            </a:r>
            <a:br>
              <a:rPr sz="4000"/>
            </a:br>
            <a:r>
              <a:rPr b="0" lang="en-GB" sz="4000" spc="-1" strike="noStrike">
                <a:solidFill>
                  <a:srgbClr val="000000"/>
                </a:solidFill>
                <a:latin typeface="Arial"/>
              </a:rPr>
              <a:t>gem maintenance prolongs PFS </a:t>
            </a:r>
            <a:endParaRPr b="0" lang="en-US" sz="4000" spc="-1" strike="noStrike">
              <a:solidFill>
                <a:srgbClr val="000000"/>
              </a:solidFill>
              <a:latin typeface="Arial"/>
            </a:endParaRPr>
          </a:p>
        </p:txBody>
      </p:sp>
      <p:sp>
        <p:nvSpPr>
          <p:cNvPr id="2163" name="Rectangle 5"/>
          <p:cNvSpPr/>
          <p:nvPr/>
        </p:nvSpPr>
        <p:spPr>
          <a:xfrm>
            <a:off x="108000" y="6535800"/>
            <a:ext cx="871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Arial"/>
              </a:rPr>
              <a:t>Perol M. </a:t>
            </a:r>
            <a:r>
              <a:rPr b="0" i="1" lang="en-IE" sz="1200" spc="-1" strike="noStrike">
                <a:solidFill>
                  <a:srgbClr val="000000"/>
                </a:solidFill>
                <a:latin typeface="Arial"/>
              </a:rPr>
              <a:t>J Clin Oncol </a:t>
            </a:r>
            <a:r>
              <a:rPr b="0" lang="en-IE" sz="1200" spc="-1" strike="noStrike">
                <a:solidFill>
                  <a:srgbClr val="000000"/>
                </a:solidFill>
                <a:latin typeface="Arial"/>
              </a:rPr>
              <a:t>2010;28:15s (suppl; abstr 7507)</a:t>
            </a:r>
            <a:endParaRPr b="0" lang="en-US" sz="1200" spc="-1" strike="noStrike">
              <a:solidFill>
                <a:srgbClr val="000000"/>
              </a:solidFill>
              <a:latin typeface="Arial"/>
            </a:endParaRPr>
          </a:p>
        </p:txBody>
      </p:sp>
      <p:sp>
        <p:nvSpPr>
          <p:cNvPr id="2164" name="Content Placeholder 2"/>
          <p:cNvSpPr/>
          <p:nvPr/>
        </p:nvSpPr>
        <p:spPr>
          <a:xfrm>
            <a:off x="1476360" y="1484280"/>
            <a:ext cx="6912000" cy="865080"/>
          </a:xfrm>
          <a:prstGeom prst="rect">
            <a:avLst/>
          </a:prstGeom>
          <a:noFill/>
          <a:ln w="0">
            <a:noFill/>
          </a:ln>
        </p:spPr>
        <p:style>
          <a:lnRef idx="0"/>
          <a:fillRef idx="0"/>
          <a:effectRef idx="0"/>
          <a:fontRef idx="minor"/>
        </p:style>
        <p:txBody>
          <a:bodyPr lIns="270000" rIns="90000" tIns="46800" bIns="46800" anchor="t">
            <a:noAutofit/>
          </a:bodyPr>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tenance therapy with gemcitabine significantly delayed disease progression compared with the observation arm</a:t>
            </a:r>
            <a:endParaRPr b="0" lang="en-US" sz="2000" spc="-1" strike="noStrike">
              <a:solidFill>
                <a:srgbClr val="000000"/>
              </a:solidFill>
              <a:latin typeface="Arial"/>
            </a:endParaRPr>
          </a:p>
        </p:txBody>
      </p:sp>
      <p:sp>
        <p:nvSpPr>
          <p:cNvPr id="2165" name="TextBox 137"/>
          <p:cNvSpPr/>
          <p:nvPr/>
        </p:nvSpPr>
        <p:spPr>
          <a:xfrm flipH="1">
            <a:off x="5784120" y="6362640"/>
            <a:ext cx="3225960" cy="3654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FS is measured from time of randomization into the maintenance phase</a:t>
            </a:r>
            <a:endParaRPr b="0" lang="en-US" sz="1200" spc="-1" strike="noStrike">
              <a:solidFill>
                <a:srgbClr val="000000"/>
              </a:solidFill>
              <a:latin typeface="Arial"/>
            </a:endParaRPr>
          </a:p>
        </p:txBody>
      </p:sp>
      <p:sp>
        <p:nvSpPr>
          <p:cNvPr id="2166" name="TextBox 150"/>
          <p:cNvSpPr/>
          <p:nvPr/>
        </p:nvSpPr>
        <p:spPr>
          <a:xfrm>
            <a:off x="1476360" y="2492280"/>
            <a:ext cx="680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FS by independent review: gemcitabine versus observation</a:t>
            </a:r>
            <a:endParaRPr b="0" lang="en-US" sz="1600" spc="-1" strike="noStrike">
              <a:solidFill>
                <a:srgbClr val="000000"/>
              </a:solidFill>
              <a:latin typeface="Arial"/>
            </a:endParaRPr>
          </a:p>
        </p:txBody>
      </p:sp>
      <p:sp>
        <p:nvSpPr>
          <p:cNvPr id="2167" name="TextBox 132"/>
          <p:cNvSpPr/>
          <p:nvPr/>
        </p:nvSpPr>
        <p:spPr>
          <a:xfrm flipH="1">
            <a:off x="914400" y="5486400"/>
            <a:ext cx="320040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R=0.55 (0.43–0.7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g-rank test, p&lt;0.0001</a:t>
            </a:r>
            <a:endParaRPr b="0" lang="en-US" sz="1600" spc="-1" strike="noStrike">
              <a:solidFill>
                <a:srgbClr val="000000"/>
              </a:solidFill>
              <a:latin typeface="Arial"/>
            </a:endParaRPr>
          </a:p>
        </p:txBody>
      </p:sp>
      <p:graphicFrame>
        <p:nvGraphicFramePr>
          <p:cNvPr id="2168" name=""/>
          <p:cNvGraphicFramePr/>
          <p:nvPr/>
        </p:nvGraphicFramePr>
        <p:xfrm>
          <a:off x="838080" y="3276720"/>
          <a:ext cx="7239240" cy="2133360"/>
        </p:xfrm>
        <a:graphic>
          <a:graphicData uri="http://schemas.openxmlformats.org/drawingml/2006/table">
            <a:tbl>
              <a:tblPr/>
              <a:tblGrid>
                <a:gridCol w="3084480"/>
                <a:gridCol w="2086200"/>
                <a:gridCol w="2068560"/>
              </a:tblGrid>
              <a:tr h="7617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bservation </a:t>
                      </a:r>
                      <a:br>
                        <a:rPr sz="1800"/>
                      </a:br>
                      <a:r>
                        <a:rPr b="1" lang="en-GB" sz="1800" spc="-1" strike="noStrike">
                          <a:solidFill>
                            <a:srgbClr val="000000"/>
                          </a:solidFill>
                          <a:latin typeface="Arial"/>
                        </a:rPr>
                        <a:t>n=152</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mcitabine </a:t>
                      </a:r>
                      <a:br>
                        <a:rPr sz="1800"/>
                      </a:br>
                      <a:r>
                        <a:rPr b="1" lang="en-GB" sz="1800" spc="-1" strike="noStrike">
                          <a:solidFill>
                            <a:srgbClr val="000000"/>
                          </a:solidFill>
                          <a:latin typeface="Arial"/>
                        </a:rPr>
                        <a:t>n=149</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dian PFS, months</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8</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FS at 3 months, %</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3</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5.0</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5720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FS at 6 months, %</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6</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1</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TLAS – maintenance erlotinib prolongs PFS in combination with BV</a:t>
            </a:r>
            <a:endParaRPr b="0" lang="en-US" sz="3600" spc="-1" strike="noStrike">
              <a:solidFill>
                <a:srgbClr val="000000"/>
              </a:solidFill>
              <a:latin typeface="Arial"/>
            </a:endParaRPr>
          </a:p>
        </p:txBody>
      </p:sp>
      <p:sp>
        <p:nvSpPr>
          <p:cNvPr id="2170" name="Rectangle 8"/>
          <p:cNvSpPr/>
          <p:nvPr/>
        </p:nvSpPr>
        <p:spPr>
          <a:xfrm>
            <a:off x="34920" y="652464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Arial"/>
              </a:rPr>
              <a:t>With permission from Miller VA, </a:t>
            </a:r>
            <a:r>
              <a:rPr b="0" i="1" lang="en-IE" sz="1200" spc="-1" strike="noStrike">
                <a:solidFill>
                  <a:srgbClr val="000000"/>
                </a:solidFill>
                <a:latin typeface="Arial"/>
                <a:ea typeface="Arial"/>
              </a:rPr>
              <a:t>et al. J Clin Oncol </a:t>
            </a:r>
            <a:r>
              <a:rPr b="0" lang="en-IE" sz="1200" spc="-1" strike="noStrike">
                <a:solidFill>
                  <a:srgbClr val="000000"/>
                </a:solidFill>
                <a:latin typeface="Arial"/>
                <a:ea typeface="Arial"/>
              </a:rPr>
              <a:t>2009;27(Suppl 1):Abstract LBA8002</a:t>
            </a:r>
            <a:endParaRPr b="0" lang="en-US" sz="1200" spc="-1" strike="noStrike">
              <a:solidFill>
                <a:srgbClr val="000000"/>
              </a:solidFill>
              <a:latin typeface="Arial"/>
            </a:endParaRPr>
          </a:p>
        </p:txBody>
      </p:sp>
      <p:sp>
        <p:nvSpPr>
          <p:cNvPr id="2171" name="Text Box 5"/>
          <p:cNvSpPr/>
          <p:nvPr/>
        </p:nvSpPr>
        <p:spPr>
          <a:xfrm>
            <a:off x="1889280" y="5713560"/>
            <a:ext cx="677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3</a:t>
            </a:r>
            <a:endParaRPr b="0" lang="en-US" sz="1600" spc="-1" strike="noStrike">
              <a:solidFill>
                <a:srgbClr val="000000"/>
              </a:solidFill>
              <a:latin typeface="Arial"/>
            </a:endParaRPr>
          </a:p>
        </p:txBody>
      </p:sp>
      <p:sp>
        <p:nvSpPr>
          <p:cNvPr id="2172" name="Text Box 6"/>
          <p:cNvSpPr/>
          <p:nvPr/>
        </p:nvSpPr>
        <p:spPr>
          <a:xfrm>
            <a:off x="2662200" y="5713560"/>
            <a:ext cx="5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2</a:t>
            </a:r>
            <a:endParaRPr b="0" lang="en-US" sz="1600" spc="-1" strike="noStrike">
              <a:solidFill>
                <a:srgbClr val="000000"/>
              </a:solidFill>
              <a:latin typeface="Arial"/>
            </a:endParaRPr>
          </a:p>
        </p:txBody>
      </p:sp>
      <p:sp>
        <p:nvSpPr>
          <p:cNvPr id="2173" name="Text Box 7"/>
          <p:cNvSpPr/>
          <p:nvPr/>
        </p:nvSpPr>
        <p:spPr>
          <a:xfrm>
            <a:off x="3433680" y="571356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Arial"/>
            </a:endParaRPr>
          </a:p>
        </p:txBody>
      </p:sp>
      <p:sp>
        <p:nvSpPr>
          <p:cNvPr id="2174" name="Text Box 8"/>
          <p:cNvSpPr/>
          <p:nvPr/>
        </p:nvSpPr>
        <p:spPr>
          <a:xfrm>
            <a:off x="4159080" y="5713560"/>
            <a:ext cx="41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p:txBody>
      </p:sp>
      <p:sp>
        <p:nvSpPr>
          <p:cNvPr id="2175" name="Text Box 9"/>
          <p:cNvSpPr/>
          <p:nvPr/>
        </p:nvSpPr>
        <p:spPr>
          <a:xfrm>
            <a:off x="4876920" y="571356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p:txBody>
      </p:sp>
      <p:sp>
        <p:nvSpPr>
          <p:cNvPr id="2176" name="Text Box 10"/>
          <p:cNvSpPr/>
          <p:nvPr/>
        </p:nvSpPr>
        <p:spPr>
          <a:xfrm>
            <a:off x="5583240" y="571356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177" name="Text Box 11"/>
          <p:cNvSpPr/>
          <p:nvPr/>
        </p:nvSpPr>
        <p:spPr>
          <a:xfrm>
            <a:off x="6327720" y="571356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2178" name="Text Box 12"/>
          <p:cNvSpPr/>
          <p:nvPr/>
        </p:nvSpPr>
        <p:spPr>
          <a:xfrm>
            <a:off x="7027920" y="571356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179" name="Text Box 15"/>
          <p:cNvSpPr/>
          <p:nvPr/>
        </p:nvSpPr>
        <p:spPr>
          <a:xfrm>
            <a:off x="1952640" y="5973840"/>
            <a:ext cx="5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0</a:t>
            </a:r>
            <a:endParaRPr b="0" lang="en-US" sz="1600" spc="-1" strike="noStrike">
              <a:solidFill>
                <a:srgbClr val="000000"/>
              </a:solidFill>
              <a:latin typeface="Arial"/>
            </a:endParaRPr>
          </a:p>
        </p:txBody>
      </p:sp>
      <p:sp>
        <p:nvSpPr>
          <p:cNvPr id="2180" name="Text Box 16"/>
          <p:cNvSpPr/>
          <p:nvPr/>
        </p:nvSpPr>
        <p:spPr>
          <a:xfrm>
            <a:off x="2662200" y="5973840"/>
            <a:ext cx="552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8</a:t>
            </a:r>
            <a:endParaRPr b="0" lang="en-US" sz="1600" spc="-1" strike="noStrike">
              <a:solidFill>
                <a:srgbClr val="000000"/>
              </a:solidFill>
              <a:latin typeface="Arial"/>
            </a:endParaRPr>
          </a:p>
        </p:txBody>
      </p:sp>
      <p:sp>
        <p:nvSpPr>
          <p:cNvPr id="2181" name="Text Box 17"/>
          <p:cNvSpPr/>
          <p:nvPr/>
        </p:nvSpPr>
        <p:spPr>
          <a:xfrm>
            <a:off x="3433680" y="597384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a:t>
            </a:r>
            <a:endParaRPr b="0" lang="en-US" sz="1600" spc="-1" strike="noStrike">
              <a:solidFill>
                <a:srgbClr val="000000"/>
              </a:solidFill>
              <a:latin typeface="Arial"/>
            </a:endParaRPr>
          </a:p>
        </p:txBody>
      </p:sp>
      <p:sp>
        <p:nvSpPr>
          <p:cNvPr id="2182" name="Text Box 18"/>
          <p:cNvSpPr/>
          <p:nvPr/>
        </p:nvSpPr>
        <p:spPr>
          <a:xfrm>
            <a:off x="4159080" y="5973840"/>
            <a:ext cx="41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a:t>
            </a:r>
            <a:endParaRPr b="0" lang="en-US" sz="1600" spc="-1" strike="noStrike">
              <a:solidFill>
                <a:srgbClr val="000000"/>
              </a:solidFill>
              <a:latin typeface="Arial"/>
            </a:endParaRPr>
          </a:p>
        </p:txBody>
      </p:sp>
      <p:sp>
        <p:nvSpPr>
          <p:cNvPr id="2183" name="Text Box 19"/>
          <p:cNvSpPr/>
          <p:nvPr/>
        </p:nvSpPr>
        <p:spPr>
          <a:xfrm>
            <a:off x="4876920" y="597708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p:txBody>
      </p:sp>
      <p:sp>
        <p:nvSpPr>
          <p:cNvPr id="2184" name="Text Box 20"/>
          <p:cNvSpPr/>
          <p:nvPr/>
        </p:nvSpPr>
        <p:spPr>
          <a:xfrm>
            <a:off x="5583240" y="597708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185" name="Text Box 21"/>
          <p:cNvSpPr/>
          <p:nvPr/>
        </p:nvSpPr>
        <p:spPr>
          <a:xfrm>
            <a:off x="6327720" y="597384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2186" name="Text Box 22"/>
          <p:cNvSpPr/>
          <p:nvPr/>
        </p:nvSpPr>
        <p:spPr>
          <a:xfrm>
            <a:off x="7027920" y="597384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2187" name="Text Box 24"/>
          <p:cNvSpPr/>
          <p:nvPr/>
        </p:nvSpPr>
        <p:spPr>
          <a:xfrm>
            <a:off x="453960" y="5413320"/>
            <a:ext cx="2746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of patients at risk:</a:t>
            </a:r>
            <a:endParaRPr b="0" lang="en-US" sz="1600" spc="-1" strike="noStrike">
              <a:solidFill>
                <a:srgbClr val="000000"/>
              </a:solidFill>
              <a:latin typeface="Arial"/>
            </a:endParaRPr>
          </a:p>
        </p:txBody>
      </p:sp>
      <p:sp>
        <p:nvSpPr>
          <p:cNvPr id="2188" name="Text Box 25"/>
          <p:cNvSpPr/>
          <p:nvPr/>
        </p:nvSpPr>
        <p:spPr>
          <a:xfrm>
            <a:off x="453960" y="5708520"/>
            <a:ext cx="1865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Arial"/>
              </a:rPr>
              <a:t>Bev + placebo</a:t>
            </a:r>
            <a:endParaRPr b="0" lang="en-US" sz="1600" spc="-1" strike="noStrike">
              <a:solidFill>
                <a:srgbClr val="000000"/>
              </a:solidFill>
              <a:latin typeface="Arial"/>
            </a:endParaRPr>
          </a:p>
        </p:txBody>
      </p:sp>
      <p:sp>
        <p:nvSpPr>
          <p:cNvPr id="2189" name="Text Box 26"/>
          <p:cNvSpPr/>
          <p:nvPr/>
        </p:nvSpPr>
        <p:spPr>
          <a:xfrm>
            <a:off x="453960" y="5981760"/>
            <a:ext cx="1519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d0ff"/>
                </a:solidFill>
                <a:latin typeface="Arial"/>
              </a:rPr>
              <a:t>Bev + erlotinib</a:t>
            </a:r>
            <a:endParaRPr b="0" lang="en-US" sz="1600" spc="-1" strike="noStrike">
              <a:solidFill>
                <a:srgbClr val="000000"/>
              </a:solidFill>
              <a:latin typeface="Arial"/>
            </a:endParaRPr>
          </a:p>
        </p:txBody>
      </p:sp>
      <p:sp>
        <p:nvSpPr>
          <p:cNvPr id="2190" name="Text Box 27"/>
          <p:cNvSpPr/>
          <p:nvPr/>
        </p:nvSpPr>
        <p:spPr>
          <a:xfrm>
            <a:off x="2533680" y="5118120"/>
            <a:ext cx="4467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ession-free survival (months)</a:t>
            </a:r>
            <a:endParaRPr b="0" lang="en-US" sz="1400" spc="-1" strike="noStrike">
              <a:solidFill>
                <a:srgbClr val="000000"/>
              </a:solidFill>
              <a:latin typeface="Arial"/>
            </a:endParaRPr>
          </a:p>
        </p:txBody>
      </p:sp>
      <p:grpSp>
        <p:nvGrpSpPr>
          <p:cNvPr id="2191" name="Group 87"/>
          <p:cNvGrpSpPr/>
          <p:nvPr/>
        </p:nvGrpSpPr>
        <p:grpSpPr>
          <a:xfrm>
            <a:off x="1028520" y="1547640"/>
            <a:ext cx="6483600" cy="3639600"/>
            <a:chOff x="1028520" y="1547640"/>
            <a:chExt cx="6483600" cy="3639600"/>
          </a:xfrm>
        </p:grpSpPr>
        <p:pic>
          <p:nvPicPr>
            <p:cNvPr id="2192" name="Picture 50" descr="10302_geneta_ATLAS PFS.png"/>
            <p:cNvPicPr/>
            <p:nvPr/>
          </p:nvPicPr>
          <p:blipFill>
            <a:blip r:embed="rId1"/>
            <a:srcRect l="0" t="0" r="19434" b="0"/>
            <a:stretch/>
          </p:blipFill>
          <p:spPr>
            <a:xfrm>
              <a:off x="1972440" y="1671120"/>
              <a:ext cx="5405760" cy="3193560"/>
            </a:xfrm>
            <a:prstGeom prst="rect">
              <a:avLst/>
            </a:prstGeom>
            <a:ln w="0">
              <a:noFill/>
            </a:ln>
          </p:spPr>
        </p:pic>
        <p:sp>
          <p:nvSpPr>
            <p:cNvPr id="2193" name="Text Box 28"/>
            <p:cNvSpPr/>
            <p:nvPr/>
          </p:nvSpPr>
          <p:spPr>
            <a:xfrm>
              <a:off x="2001960" y="4869000"/>
              <a:ext cx="439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2194" name="Text Box 29"/>
            <p:cNvSpPr/>
            <p:nvPr/>
          </p:nvSpPr>
          <p:spPr>
            <a:xfrm>
              <a:off x="2720880" y="4869000"/>
              <a:ext cx="43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2195" name="Text Box 30"/>
            <p:cNvSpPr/>
            <p:nvPr/>
          </p:nvSpPr>
          <p:spPr>
            <a:xfrm>
              <a:off x="3430800" y="4869000"/>
              <a:ext cx="439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sp>
          <p:nvSpPr>
            <p:cNvPr id="2196" name="Text Box 31"/>
            <p:cNvSpPr/>
            <p:nvPr/>
          </p:nvSpPr>
          <p:spPr>
            <a:xfrm>
              <a:off x="4149720" y="4869000"/>
              <a:ext cx="439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p:txBody>
        </p:sp>
        <p:sp>
          <p:nvSpPr>
            <p:cNvPr id="2197" name="Text Box 32"/>
            <p:cNvSpPr/>
            <p:nvPr/>
          </p:nvSpPr>
          <p:spPr>
            <a:xfrm>
              <a:off x="4848480" y="4869000"/>
              <a:ext cx="43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198" name="Text Box 33"/>
            <p:cNvSpPr/>
            <p:nvPr/>
          </p:nvSpPr>
          <p:spPr>
            <a:xfrm>
              <a:off x="5586480" y="4869000"/>
              <a:ext cx="439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p:txBody>
        </p:sp>
        <p:sp>
          <p:nvSpPr>
            <p:cNvPr id="2199" name="Text Box 34"/>
            <p:cNvSpPr/>
            <p:nvPr/>
          </p:nvSpPr>
          <p:spPr>
            <a:xfrm>
              <a:off x="6296400" y="4880160"/>
              <a:ext cx="439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2200" name="Text Box 35"/>
            <p:cNvSpPr/>
            <p:nvPr/>
          </p:nvSpPr>
          <p:spPr>
            <a:xfrm>
              <a:off x="7015320" y="4880160"/>
              <a:ext cx="439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p:txBody>
        </p:sp>
        <p:sp>
          <p:nvSpPr>
            <p:cNvPr id="2201" name="Text Box 38"/>
            <p:cNvSpPr/>
            <p:nvPr/>
          </p:nvSpPr>
          <p:spPr>
            <a:xfrm>
              <a:off x="1373040" y="4497480"/>
              <a:ext cx="63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p:txBody>
        </p:sp>
        <p:sp>
          <p:nvSpPr>
            <p:cNvPr id="2202" name="Text Box 39"/>
            <p:cNvSpPr/>
            <p:nvPr/>
          </p:nvSpPr>
          <p:spPr>
            <a:xfrm>
              <a:off x="1357200" y="3894120"/>
              <a:ext cx="6537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a:t>
              </a:r>
              <a:endParaRPr b="0" lang="en-US" sz="1400" spc="-1" strike="noStrike">
                <a:solidFill>
                  <a:srgbClr val="000000"/>
                </a:solidFill>
                <a:latin typeface="Arial"/>
              </a:endParaRPr>
            </a:p>
          </p:txBody>
        </p:sp>
        <p:sp>
          <p:nvSpPr>
            <p:cNvPr id="2203" name="Text Box 40"/>
            <p:cNvSpPr/>
            <p:nvPr/>
          </p:nvSpPr>
          <p:spPr>
            <a:xfrm>
              <a:off x="1301760" y="3265560"/>
              <a:ext cx="7095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Arial"/>
              </a:endParaRPr>
            </a:p>
          </p:txBody>
        </p:sp>
        <p:sp>
          <p:nvSpPr>
            <p:cNvPr id="2204" name="Text Box 41"/>
            <p:cNvSpPr/>
            <p:nvPr/>
          </p:nvSpPr>
          <p:spPr>
            <a:xfrm>
              <a:off x="1386000" y="2711160"/>
              <a:ext cx="6253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0" lang="en-US" sz="1400" spc="-1" strike="noStrike">
                <a:solidFill>
                  <a:srgbClr val="000000"/>
                </a:solidFill>
                <a:latin typeface="Arial"/>
              </a:endParaRPr>
            </a:p>
          </p:txBody>
        </p:sp>
        <p:sp>
          <p:nvSpPr>
            <p:cNvPr id="2205" name="Text Box 42"/>
            <p:cNvSpPr/>
            <p:nvPr/>
          </p:nvSpPr>
          <p:spPr>
            <a:xfrm>
              <a:off x="1343160" y="2153880"/>
              <a:ext cx="6681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a:t>
              </a:r>
              <a:endParaRPr b="0" lang="en-US" sz="1400" spc="-1" strike="noStrike">
                <a:solidFill>
                  <a:srgbClr val="000000"/>
                </a:solidFill>
                <a:latin typeface="Arial"/>
              </a:endParaRPr>
            </a:p>
          </p:txBody>
        </p:sp>
        <p:sp>
          <p:nvSpPr>
            <p:cNvPr id="2206" name="Text Box 43"/>
            <p:cNvSpPr/>
            <p:nvPr/>
          </p:nvSpPr>
          <p:spPr>
            <a:xfrm>
              <a:off x="1314360" y="1549080"/>
              <a:ext cx="6966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2207" name="Text Box 48"/>
            <p:cNvSpPr/>
            <p:nvPr/>
          </p:nvSpPr>
          <p:spPr>
            <a:xfrm rot="10800000">
              <a:off x="1028520" y="1547640"/>
              <a:ext cx="393480" cy="3330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ortion without event</a:t>
              </a:r>
              <a:endParaRPr b="0" lang="en-US" sz="1400" spc="-1" strike="noStrike">
                <a:solidFill>
                  <a:srgbClr val="000000"/>
                </a:solidFill>
                <a:latin typeface="Arial"/>
              </a:endParaRPr>
            </a:p>
          </p:txBody>
        </p:sp>
        <p:sp>
          <p:nvSpPr>
            <p:cNvPr id="2208" name="Text Box 55"/>
            <p:cNvSpPr/>
            <p:nvPr/>
          </p:nvSpPr>
          <p:spPr>
            <a:xfrm>
              <a:off x="4402440" y="2712960"/>
              <a:ext cx="3109680" cy="585360"/>
            </a:xfrm>
            <a:prstGeom prst="rect">
              <a:avLst/>
            </a:prstGeom>
            <a:noFill/>
            <a:ln w="0">
              <a:noFill/>
            </a:ln>
          </p:spPr>
          <p:style>
            <a:lnRef idx="0"/>
            <a:fillRef idx="0"/>
            <a:effectRef idx="0"/>
            <a:fontRef idx="minor"/>
          </p:style>
          <p:txBody>
            <a:bodyPr lIns="90000" rIns="9000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R=0.722 (</a:t>
              </a:r>
              <a:r>
                <a:rPr b="1" lang="en-US" sz="1600" spc="-1" strike="noStrike">
                  <a:solidFill>
                    <a:srgbClr val="000000"/>
                  </a:solidFill>
                  <a:latin typeface="Arial"/>
                </a:rPr>
                <a:t>0.592–0.881</a:t>
              </a:r>
              <a:r>
                <a:rPr b="1" lang="en-US" sz="1800" spc="-1" strike="noStrike">
                  <a:solidFill>
                    <a:srgbClr val="000000"/>
                  </a:solidFill>
                  <a:latin typeface="Arial"/>
                </a:rPr>
                <a:t>)</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rank p=0.0012</a:t>
              </a:r>
              <a:endParaRPr b="0" lang="en-US" sz="1600" spc="-1" strike="noStrike">
                <a:solidFill>
                  <a:srgbClr val="000000"/>
                </a:solidFill>
                <a:latin typeface="Arial"/>
              </a:endParaRPr>
            </a:p>
          </p:txBody>
        </p:sp>
        <p:grpSp>
          <p:nvGrpSpPr>
            <p:cNvPr id="2209" name="Group 88"/>
            <p:cNvGrpSpPr/>
            <p:nvPr/>
          </p:nvGrpSpPr>
          <p:grpSpPr>
            <a:xfrm>
              <a:off x="4663080" y="1805040"/>
              <a:ext cx="2724120" cy="698400"/>
              <a:chOff x="4663080" y="1805040"/>
              <a:chExt cx="2724120" cy="698400"/>
            </a:xfrm>
          </p:grpSpPr>
          <p:sp>
            <p:nvSpPr>
              <p:cNvPr id="2210" name="Rectangle 14"/>
              <p:cNvSpPr/>
              <p:nvPr/>
            </p:nvSpPr>
            <p:spPr>
              <a:xfrm>
                <a:off x="4663080" y="1805040"/>
                <a:ext cx="2724120" cy="698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GB" sz="1400" spc="-1" strike="noStrike">
                    <a:solidFill>
                      <a:srgbClr val="000000"/>
                    </a:solidFill>
                    <a:latin typeface="Arial"/>
                  </a:rPr>
                  <a:t>Bevacizumab + placebo </a:t>
                </a:r>
                <a:r>
                  <a:rPr b="0" lang="en-GB" sz="1400" spc="-1" strike="noStrike">
                    <a:solidFill>
                      <a:srgbClr val="000000"/>
                    </a:solidFill>
                    <a:latin typeface="Arial"/>
                  </a:rPr>
                  <a:t>(n=373)</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1" lang="en-GB" sz="1400" spc="-1" strike="noStrike">
                    <a:solidFill>
                      <a:srgbClr val="000000"/>
                    </a:solidFill>
                    <a:latin typeface="Arial"/>
                  </a:rPr>
                  <a:t>Bevacizumab + erlotinib </a:t>
                </a:r>
                <a:r>
                  <a:rPr b="0" lang="en-GB" sz="1400" spc="-1" strike="noStrike">
                    <a:solidFill>
                      <a:srgbClr val="000000"/>
                    </a:solidFill>
                    <a:latin typeface="Arial"/>
                  </a:rPr>
                  <a:t>(n=370)</a:t>
                </a:r>
                <a:endParaRPr b="0" lang="en-US" sz="1400" spc="-1" strike="noStrike">
                  <a:solidFill>
                    <a:srgbClr val="000000"/>
                  </a:solidFill>
                  <a:latin typeface="Arial"/>
                </a:endParaRPr>
              </a:p>
            </p:txBody>
          </p:sp>
          <p:sp>
            <p:nvSpPr>
              <p:cNvPr id="2211" name="Line 8"/>
              <p:cNvSpPr/>
              <p:nvPr/>
            </p:nvSpPr>
            <p:spPr>
              <a:xfrm>
                <a:off x="4880520" y="2293920"/>
                <a:ext cx="215640" cy="0"/>
              </a:xfrm>
              <a:prstGeom prst="line">
                <a:avLst/>
              </a:prstGeom>
              <a:ln cap="rnd" w="31680">
                <a:solidFill>
                  <a:srgbClr val="00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2" name="Line 10"/>
              <p:cNvSpPr/>
              <p:nvPr/>
            </p:nvSpPr>
            <p:spPr>
              <a:xfrm>
                <a:off x="4880520" y="2014560"/>
                <a:ext cx="215640" cy="0"/>
              </a:xfrm>
              <a:prstGeom prst="line">
                <a:avLst/>
              </a:prstGeom>
              <a:ln cap="rnd" w="31680">
                <a:solidFill>
                  <a:srgbClr val="ff35d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2213" name="Straight Connector 106"/>
            <p:cNvSpPr/>
            <p:nvPr/>
          </p:nvSpPr>
          <p:spPr>
            <a:xfrm>
              <a:off x="2085840" y="1706040"/>
              <a:ext cx="0" cy="306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4" name="Straight Connector 107"/>
            <p:cNvSpPr/>
            <p:nvPr/>
          </p:nvSpPr>
          <p:spPr>
            <a:xfrm flipH="1">
              <a:off x="2011320" y="4048200"/>
              <a:ext cx="7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5" name="Straight Connector 108"/>
            <p:cNvSpPr/>
            <p:nvPr/>
          </p:nvSpPr>
          <p:spPr>
            <a:xfrm flipH="1">
              <a:off x="2011320" y="3428280"/>
              <a:ext cx="7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6" name="Straight Connector 109"/>
            <p:cNvSpPr/>
            <p:nvPr/>
          </p:nvSpPr>
          <p:spPr>
            <a:xfrm flipH="1">
              <a:off x="2011320" y="2872080"/>
              <a:ext cx="7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7" name="Straight Connector 110"/>
            <p:cNvSpPr/>
            <p:nvPr/>
          </p:nvSpPr>
          <p:spPr>
            <a:xfrm flipH="1">
              <a:off x="2011320" y="2301480"/>
              <a:ext cx="7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8" name="Straight Connector 111"/>
            <p:cNvSpPr/>
            <p:nvPr/>
          </p:nvSpPr>
          <p:spPr>
            <a:xfrm flipH="1">
              <a:off x="2011320" y="1707480"/>
              <a:ext cx="7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9" name="Straight Connector 112"/>
            <p:cNvSpPr/>
            <p:nvPr/>
          </p:nvSpPr>
          <p:spPr>
            <a:xfrm flipH="1">
              <a:off x="2011320" y="4675320"/>
              <a:ext cx="7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20" name="Straight Connector 113"/>
            <p:cNvSpPr/>
            <p:nvPr/>
          </p:nvSpPr>
          <p:spPr>
            <a:xfrm>
              <a:off x="2084040" y="4768560"/>
              <a:ext cx="5371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21" name="Straight Connector 114"/>
            <p:cNvSpPr/>
            <p:nvPr/>
          </p:nvSpPr>
          <p:spPr>
            <a:xfrm flipV="1">
              <a:off x="222048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2" name="Straight Connector 115"/>
            <p:cNvSpPr/>
            <p:nvPr/>
          </p:nvSpPr>
          <p:spPr>
            <a:xfrm flipV="1">
              <a:off x="294084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3" name="Straight Connector 116"/>
            <p:cNvSpPr/>
            <p:nvPr/>
          </p:nvSpPr>
          <p:spPr>
            <a:xfrm flipV="1">
              <a:off x="363924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4" name="Straight Connector 117"/>
            <p:cNvSpPr/>
            <p:nvPr/>
          </p:nvSpPr>
          <p:spPr>
            <a:xfrm flipV="1">
              <a:off x="436392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5" name="Straight Connector 118"/>
            <p:cNvSpPr/>
            <p:nvPr/>
          </p:nvSpPr>
          <p:spPr>
            <a:xfrm flipV="1">
              <a:off x="508428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6" name="Straight Connector 119"/>
            <p:cNvSpPr/>
            <p:nvPr/>
          </p:nvSpPr>
          <p:spPr>
            <a:xfrm flipV="1">
              <a:off x="578304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7" name="Straight Connector 120"/>
            <p:cNvSpPr/>
            <p:nvPr/>
          </p:nvSpPr>
          <p:spPr>
            <a:xfrm flipV="1">
              <a:off x="652932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8" name="Straight Connector 121"/>
            <p:cNvSpPr/>
            <p:nvPr/>
          </p:nvSpPr>
          <p:spPr>
            <a:xfrm flipV="1">
              <a:off x="722772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6" name="Rectangle 3"/>
          <p:cNvSpPr/>
          <p:nvPr/>
        </p:nvSpPr>
        <p:spPr>
          <a:xfrm>
            <a:off x="0" y="0"/>
            <a:ext cx="2895480" cy="6858000"/>
          </a:xfrm>
          <a:prstGeom prst="rect">
            <a:avLst/>
          </a:prstGeom>
          <a:solidFill>
            <a:srgbClr val="000000"/>
          </a:solidFill>
          <a:ln w="2556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37" name="Picture 4" descr=""/>
          <p:cNvPicPr/>
          <p:nvPr/>
        </p:nvPicPr>
        <p:blipFill>
          <a:blip r:embed="rId1"/>
          <a:stretch/>
        </p:blipFill>
        <p:spPr>
          <a:xfrm>
            <a:off x="201600" y="378000"/>
            <a:ext cx="2533680" cy="2176200"/>
          </a:xfrm>
          <a:prstGeom prst="rect">
            <a:avLst/>
          </a:prstGeom>
          <a:ln cap="sq" w="25560">
            <a:solidFill>
              <a:srgbClr val="000000"/>
            </a:solidFill>
            <a:miter/>
          </a:ln>
          <a:effectLst>
            <a:outerShdw dist="50911" dir="2700000" blurRad="0" rotWithShape="0">
              <a:srgbClr val="808080">
                <a:alpha val="40000"/>
              </a:srgbClr>
            </a:outerShdw>
          </a:effectLst>
        </p:spPr>
      </p:pic>
      <p:pic>
        <p:nvPicPr>
          <p:cNvPr id="2038" name="Picture 6" descr="MDACC_Rev_PMS_TC_tag_V.png"/>
          <p:cNvPicPr/>
          <p:nvPr/>
        </p:nvPicPr>
        <p:blipFill>
          <a:blip r:embed="rId2"/>
          <a:stretch/>
        </p:blipFill>
        <p:spPr>
          <a:xfrm>
            <a:off x="243000" y="5403960"/>
            <a:ext cx="2428920" cy="1185840"/>
          </a:xfrm>
          <a:prstGeom prst="rect">
            <a:avLst/>
          </a:prstGeom>
          <a:ln w="0">
            <a:noFill/>
          </a:ln>
        </p:spPr>
      </p:pic>
      <p:sp>
        <p:nvSpPr>
          <p:cNvPr id="2039" name="TextBox 6"/>
          <p:cNvSpPr/>
          <p:nvPr/>
        </p:nvSpPr>
        <p:spPr>
          <a:xfrm>
            <a:off x="3048120" y="1735200"/>
            <a:ext cx="594360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enance Therapy in the Management of NSCLC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ohn Heymach, M.D., Ph.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ir, Department of Thoracic/Head &amp; Neck Medical Oncolog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D Anderson Cancer Cent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earch To Practice Mee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y 31, 2013</a:t>
            </a:r>
            <a:endParaRPr b="0" lang="en-US" sz="2400" spc="-1" strike="noStrike">
              <a:solidFill>
                <a:srgbClr val="000000"/>
              </a:solidFill>
              <a:latin typeface="Arial"/>
            </a:endParaRPr>
          </a:p>
        </p:txBody>
      </p:sp>
      <p:sp>
        <p:nvSpPr>
          <p:cNvPr id="2040" name="Straight Connector 9"/>
          <p:cNvSpPr/>
          <p:nvPr/>
        </p:nvSpPr>
        <p:spPr>
          <a:xfrm>
            <a:off x="2895480" y="0"/>
            <a:ext cx="0" cy="6858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S PGothic"/>
              </a:rPr>
              <a:t>PointBreak (JMHD): </a:t>
            </a:r>
            <a:br>
              <a:rPr sz="4400"/>
            </a:br>
            <a:r>
              <a:rPr b="0" lang="en-US" sz="4400" spc="-1" strike="noStrike">
                <a:solidFill>
                  <a:srgbClr val="000000"/>
                </a:solidFill>
                <a:latin typeface="Arial"/>
                <a:ea typeface="MS PGothic"/>
              </a:rPr>
              <a:t>Phase III Study Design </a:t>
            </a:r>
            <a:endParaRPr b="0" lang="en-US" sz="4400" spc="-1" strike="noStrike">
              <a:solidFill>
                <a:srgbClr val="000000"/>
              </a:solidFill>
              <a:latin typeface="Arial"/>
            </a:endParaRPr>
          </a:p>
        </p:txBody>
      </p:sp>
      <p:sp>
        <p:nvSpPr>
          <p:cNvPr id="2230"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480E-DFF3-41F8-A9A1-FB5D96A08386}" type="slidenum">
              <a:rPr b="0" lang="en-US" sz="1200" spc="-1" strike="noStrike">
                <a:solidFill>
                  <a:srgbClr val="ffffff"/>
                </a:solidFill>
                <a:latin typeface="Arial"/>
                <a:ea typeface="MS PGothic"/>
              </a:rPr>
              <a:t>&lt;number&gt;</a:t>
            </a:fld>
            <a:endParaRPr b="0" lang="en-US" sz="1200" spc="-1" strike="noStrike">
              <a:solidFill>
                <a:srgbClr val="000000"/>
              </a:solidFill>
              <a:latin typeface="Arial"/>
            </a:endParaRPr>
          </a:p>
        </p:txBody>
      </p:sp>
      <p:sp>
        <p:nvSpPr>
          <p:cNvPr id="2231" name="Rectangle 19"/>
          <p:cNvSpPr/>
          <p:nvPr/>
        </p:nvSpPr>
        <p:spPr>
          <a:xfrm>
            <a:off x="5530680" y="5202360"/>
            <a:ext cx="3216600" cy="9169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uperiority Trial</a:t>
            </a:r>
            <a:endParaRPr b="0" lang="en-US" sz="18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endpoint</a:t>
            </a:r>
            <a:r>
              <a:rPr b="0" lang="en-US" sz="1800" spc="-1" strike="noStrike">
                <a:solidFill>
                  <a:srgbClr val="000000"/>
                </a:solidFill>
                <a:latin typeface="Arial"/>
              </a:rPr>
              <a:t>:</a:t>
            </a:r>
            <a:r>
              <a:rPr b="1" lang="en-US" sz="1800" spc="-1" strike="noStrike">
                <a:solidFill>
                  <a:srgbClr val="000000"/>
                </a:solidFill>
                <a:latin typeface="Arial"/>
              </a:rPr>
              <a:t> </a:t>
            </a:r>
            <a:r>
              <a:rPr b="0" lang="en-US" sz="1800" spc="-1" strike="noStrike">
                <a:solidFill>
                  <a:srgbClr val="000000"/>
                </a:solidFill>
                <a:latin typeface="Arial"/>
              </a:rPr>
              <a:t>OS</a:t>
            </a:r>
            <a:endParaRPr b="0" lang="en-US" sz="18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ary endpoint</a:t>
            </a:r>
            <a:r>
              <a:rPr b="0" lang="en-US" sz="1800" spc="-1" strike="noStrike">
                <a:solidFill>
                  <a:srgbClr val="000000"/>
                </a:solidFill>
                <a:latin typeface="Arial"/>
              </a:rPr>
              <a:t>:</a:t>
            </a:r>
            <a:r>
              <a:rPr b="1" lang="en-US" sz="1800" spc="-1" strike="noStrike">
                <a:solidFill>
                  <a:srgbClr val="000000"/>
                </a:solidFill>
                <a:latin typeface="Arial"/>
              </a:rPr>
              <a:t> </a:t>
            </a:r>
            <a:r>
              <a:rPr b="0" lang="en-US" sz="1800" spc="-1" strike="noStrike">
                <a:solidFill>
                  <a:srgbClr val="000000"/>
                </a:solidFill>
                <a:latin typeface="Arial"/>
              </a:rPr>
              <a:t>PFS</a:t>
            </a:r>
            <a:endParaRPr b="0" lang="en-US" sz="1800" spc="-1" strike="noStrike">
              <a:solidFill>
                <a:srgbClr val="000000"/>
              </a:solidFill>
              <a:latin typeface="Arial"/>
            </a:endParaRPr>
          </a:p>
        </p:txBody>
      </p:sp>
      <p:cxnSp>
        <p:nvCxnSpPr>
          <p:cNvPr id="2232" name="Elbow Connector 26"/>
          <p:cNvCxnSpPr/>
          <p:nvPr/>
        </p:nvCxnSpPr>
        <p:spPr>
          <a:xfrm flipV="1">
            <a:off x="3357720" y="2296440"/>
            <a:ext cx="497520" cy="910440"/>
          </a:xfrm>
          <a:prstGeom prst="bentConnector3">
            <a:avLst>
              <a:gd name="adj1" fmla="val 49963"/>
            </a:avLst>
          </a:prstGeom>
          <a:ln w="38160">
            <a:solidFill>
              <a:srgbClr val="000000"/>
            </a:solidFill>
            <a:miter/>
            <a:tailEnd len="med" type="triangle" w="med"/>
          </a:ln>
        </p:spPr>
      </p:cxnSp>
      <p:cxnSp>
        <p:nvCxnSpPr>
          <p:cNvPr id="2233" name="Elbow Connector 30"/>
          <p:cNvCxnSpPr/>
          <p:nvPr/>
        </p:nvCxnSpPr>
        <p:spPr>
          <a:xfrm>
            <a:off x="3357720" y="3206520"/>
            <a:ext cx="497520" cy="973800"/>
          </a:xfrm>
          <a:prstGeom prst="bentConnector3">
            <a:avLst>
              <a:gd name="adj1" fmla="val 49963"/>
            </a:avLst>
          </a:prstGeom>
          <a:ln w="38160">
            <a:solidFill>
              <a:srgbClr val="000000"/>
            </a:solidFill>
            <a:miter/>
            <a:tailEnd len="med" type="triangle" w="med"/>
          </a:ln>
        </p:spPr>
      </p:cxnSp>
      <p:cxnSp>
        <p:nvCxnSpPr>
          <p:cNvPr id="2234" name="Elbow Connector 7"/>
          <p:cNvCxnSpPr/>
          <p:nvPr/>
        </p:nvCxnSpPr>
        <p:spPr>
          <a:xfrm flipH="1" rot="16200000">
            <a:off x="7909560" y="2370600"/>
            <a:ext cx="516600" cy="1010160"/>
          </a:xfrm>
          <a:prstGeom prst="bentConnector3">
            <a:avLst>
              <a:gd name="adj1" fmla="val 50000"/>
            </a:avLst>
          </a:prstGeom>
          <a:ln w="38160">
            <a:solidFill>
              <a:srgbClr val="000000"/>
            </a:solidFill>
            <a:miter/>
            <a:tailEnd len="med" type="triangle" w="med"/>
          </a:ln>
        </p:spPr>
      </p:cxnSp>
      <p:grpSp>
        <p:nvGrpSpPr>
          <p:cNvPr id="2235" name="Group 39"/>
          <p:cNvGrpSpPr/>
          <p:nvPr/>
        </p:nvGrpSpPr>
        <p:grpSpPr>
          <a:xfrm>
            <a:off x="2362320" y="2305800"/>
            <a:ext cx="6615000" cy="1880280"/>
            <a:chOff x="2362320" y="2305800"/>
            <a:chExt cx="6615000" cy="1880280"/>
          </a:xfrm>
        </p:grpSpPr>
        <p:cxnSp>
          <p:nvCxnSpPr>
            <p:cNvPr id="2236" name="Straight Arrow Connector 17"/>
            <p:cNvCxnSpPr/>
            <p:nvPr/>
          </p:nvCxnSpPr>
          <p:spPr>
            <a:xfrm>
              <a:off x="2362320" y="3206160"/>
              <a:ext cx="422640" cy="1080"/>
            </a:xfrm>
            <a:prstGeom prst="straightConnector1">
              <a:avLst/>
            </a:prstGeom>
            <a:ln w="38160">
              <a:solidFill>
                <a:srgbClr val="000000"/>
              </a:solidFill>
              <a:miter/>
              <a:tailEnd len="med" type="triangle" w="med"/>
            </a:ln>
          </p:spPr>
        </p:cxnSp>
        <p:cxnSp>
          <p:nvCxnSpPr>
            <p:cNvPr id="2237" name="Straight Arrow Connector 23"/>
            <p:cNvCxnSpPr/>
            <p:nvPr/>
          </p:nvCxnSpPr>
          <p:spPr>
            <a:xfrm flipV="1">
              <a:off x="6153480" y="2305800"/>
              <a:ext cx="614160" cy="10440"/>
            </a:xfrm>
            <a:prstGeom prst="straightConnector1">
              <a:avLst/>
            </a:prstGeom>
            <a:ln w="38160">
              <a:solidFill>
                <a:srgbClr val="000000"/>
              </a:solidFill>
              <a:miter/>
              <a:tailEnd len="med" type="triangle" w="med"/>
            </a:ln>
          </p:spPr>
        </p:cxnSp>
        <p:cxnSp>
          <p:nvCxnSpPr>
            <p:cNvPr id="2238" name="Straight Arrow Connector 23"/>
            <p:cNvCxnSpPr/>
            <p:nvPr/>
          </p:nvCxnSpPr>
          <p:spPr>
            <a:xfrm flipV="1">
              <a:off x="6153480" y="4180680"/>
              <a:ext cx="637920" cy="5760"/>
            </a:xfrm>
            <a:prstGeom prst="straightConnector1">
              <a:avLst/>
            </a:prstGeom>
            <a:ln w="38160">
              <a:solidFill>
                <a:srgbClr val="000000"/>
              </a:solidFill>
              <a:miter/>
              <a:tailEnd len="med" type="triangle" w="med"/>
            </a:ln>
          </p:spPr>
        </p:cxnSp>
        <p:grpSp>
          <p:nvGrpSpPr>
            <p:cNvPr id="2239" name="AutoShape 8"/>
            <p:cNvGrpSpPr/>
            <p:nvPr/>
          </p:nvGrpSpPr>
          <p:grpSpPr>
            <a:xfrm>
              <a:off x="8310240" y="3102840"/>
              <a:ext cx="667080" cy="365760"/>
              <a:chOff x="8310240" y="3102840"/>
              <a:chExt cx="667080" cy="365760"/>
            </a:xfrm>
          </p:grpSpPr>
          <p:pic>
            <p:nvPicPr>
              <p:cNvPr id="2240" name="AutoShape 8" descr=""/>
              <p:cNvPicPr/>
              <p:nvPr/>
            </p:nvPicPr>
            <p:blipFill>
              <a:blip r:embed="rId1"/>
              <a:stretch/>
            </p:blipFill>
            <p:spPr>
              <a:xfrm>
                <a:off x="8310240" y="3102840"/>
                <a:ext cx="667080" cy="365760"/>
              </a:xfrm>
              <a:prstGeom prst="rect">
                <a:avLst/>
              </a:prstGeom>
              <a:ln w="0">
                <a:noFill/>
              </a:ln>
            </p:spPr>
          </p:pic>
          <p:sp>
            <p:nvSpPr>
              <p:cNvPr id="2241" name=""/>
              <p:cNvSpPr/>
              <p:nvPr/>
            </p:nvSpPr>
            <p:spPr>
              <a:xfrm>
                <a:off x="8353080" y="3148560"/>
                <a:ext cx="577080" cy="27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53720"/>
                  </a:tabLst>
                </a:pPr>
                <a:r>
                  <a:rPr b="1" lang="en-US" sz="1400" spc="-1" strike="noStrike">
                    <a:solidFill>
                      <a:srgbClr val="ffffff"/>
                    </a:solidFill>
                    <a:latin typeface="Arial"/>
                  </a:rPr>
                  <a:t>PD</a:t>
                </a:r>
                <a:endParaRPr b="0" lang="en-US" sz="1400" spc="-1" strike="noStrike">
                  <a:solidFill>
                    <a:srgbClr val="000000"/>
                  </a:solidFill>
                  <a:latin typeface="Arial"/>
                </a:endParaRPr>
              </a:p>
            </p:txBody>
          </p:sp>
        </p:grpSp>
        <p:sp>
          <p:nvSpPr>
            <p:cNvPr id="2242" name="TextBox 30"/>
            <p:cNvSpPr/>
            <p:nvPr/>
          </p:nvSpPr>
          <p:spPr>
            <a:xfrm>
              <a:off x="3589920" y="3062880"/>
              <a:ext cx="530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1:1</a:t>
              </a:r>
              <a:endParaRPr b="0" lang="en-US" sz="1400" spc="-1" strike="noStrike">
                <a:solidFill>
                  <a:srgbClr val="000000"/>
                </a:solidFill>
                <a:latin typeface="Arial"/>
              </a:endParaRPr>
            </a:p>
          </p:txBody>
        </p:sp>
      </p:grpSp>
      <p:cxnSp>
        <p:nvCxnSpPr>
          <p:cNvPr id="2243" name="Elbow Connector 9"/>
          <p:cNvCxnSpPr/>
          <p:nvPr/>
        </p:nvCxnSpPr>
        <p:spPr>
          <a:xfrm flipH="1" flipV="1" rot="5400000">
            <a:off x="7911000" y="3189600"/>
            <a:ext cx="513720" cy="1010160"/>
          </a:xfrm>
          <a:prstGeom prst="bentConnector3">
            <a:avLst>
              <a:gd name="adj1" fmla="val 50000"/>
            </a:avLst>
          </a:prstGeom>
          <a:ln w="38160">
            <a:solidFill>
              <a:srgbClr val="000000"/>
            </a:solidFill>
            <a:miter/>
            <a:tailEnd len="med" type="triangle" w="med"/>
          </a:ln>
        </p:spPr>
      </p:cxnSp>
      <p:sp>
        <p:nvSpPr>
          <p:cNvPr id="2244" name="TextBox 18"/>
          <p:cNvSpPr/>
          <p:nvPr/>
        </p:nvSpPr>
        <p:spPr>
          <a:xfrm>
            <a:off x="1108080" y="4818240"/>
            <a:ext cx="41464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Arial Unicode MS"/>
              </a:rPr>
              <a:t>Stratified for:</a:t>
            </a:r>
            <a:r>
              <a:rPr b="0" lang="en-US" sz="1600" spc="-1" strike="noStrike">
                <a:solidFill>
                  <a:srgbClr val="000000"/>
                </a:solidFill>
                <a:latin typeface="Arial"/>
                <a:ea typeface="Arial Unicode MS"/>
              </a:rPr>
              <a:t>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PS (0 vs 1)</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Sex (M vs F)</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Disease stage (IIIB vs IV)</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Measurable vs nonmeasurable disease</a:t>
            </a:r>
            <a:endParaRPr b="0" lang="en-US" sz="1600" spc="-1" strike="noStrike">
              <a:solidFill>
                <a:srgbClr val="000000"/>
              </a:solidFill>
              <a:latin typeface="Arial"/>
            </a:endParaRPr>
          </a:p>
        </p:txBody>
      </p:sp>
      <p:sp>
        <p:nvSpPr>
          <p:cNvPr id="2245" name="Text Box 15"/>
          <p:cNvSpPr/>
          <p:nvPr/>
        </p:nvSpPr>
        <p:spPr>
          <a:xfrm>
            <a:off x="5462640" y="6454440"/>
            <a:ext cx="3352680" cy="246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atel, et al. Presented at IASLC. 2012 (abstr LBPL1).</a:t>
            </a:r>
            <a:endParaRPr b="0" lang="en-US" sz="1000" spc="-1" strike="noStrike">
              <a:solidFill>
                <a:srgbClr val="000000"/>
              </a:solidFill>
              <a:latin typeface="Arial"/>
            </a:endParaRPr>
          </a:p>
        </p:txBody>
      </p:sp>
      <p:grpSp>
        <p:nvGrpSpPr>
          <p:cNvPr id="2246" name="TextBox 20"/>
          <p:cNvGrpSpPr/>
          <p:nvPr/>
        </p:nvGrpSpPr>
        <p:grpSpPr>
          <a:xfrm>
            <a:off x="66600" y="1805040"/>
            <a:ext cx="2511360" cy="2797200"/>
            <a:chOff x="66600" y="1805040"/>
            <a:chExt cx="2511360" cy="2797200"/>
          </a:xfrm>
        </p:grpSpPr>
        <p:pic>
          <p:nvPicPr>
            <p:cNvPr id="2247" name="TextBox 20" descr=""/>
            <p:cNvPicPr/>
            <p:nvPr/>
          </p:nvPicPr>
          <p:blipFill>
            <a:blip r:embed="rId2"/>
            <a:stretch/>
          </p:blipFill>
          <p:spPr>
            <a:xfrm>
              <a:off x="66600" y="1805040"/>
              <a:ext cx="2511360" cy="2797200"/>
            </a:xfrm>
            <a:prstGeom prst="rect">
              <a:avLst/>
            </a:prstGeom>
            <a:ln w="0">
              <a:noFill/>
            </a:ln>
          </p:spPr>
        </p:pic>
        <p:sp>
          <p:nvSpPr>
            <p:cNvPr id="2248" name=""/>
            <p:cNvSpPr/>
            <p:nvPr/>
          </p:nvSpPr>
          <p:spPr>
            <a:xfrm>
              <a:off x="123840" y="1836720"/>
              <a:ext cx="23954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ligibility</a:t>
              </a:r>
              <a:endParaRPr b="0" lang="en-US" sz="2400" spc="-1" strike="noStrike">
                <a:solidFill>
                  <a:srgbClr val="000000"/>
                </a:solidFill>
                <a:latin typeface="Arial"/>
              </a:endParaRPr>
            </a:p>
            <a:p>
              <a:pPr>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 III/IV NSCLC </a:t>
              </a:r>
              <a:endParaRPr b="0" lang="en-US" sz="1800" spc="-1" strike="noStrike">
                <a:solidFill>
                  <a:srgbClr val="000000"/>
                </a:solidFill>
                <a:latin typeface="Arial"/>
              </a:endParaRPr>
            </a:p>
            <a:p>
              <a:pPr>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squamous</a:t>
              </a:r>
              <a:endParaRPr b="0" lang="en-US" sz="1800" spc="-1" strike="noStrike">
                <a:solidFill>
                  <a:srgbClr val="000000"/>
                </a:solidFill>
                <a:latin typeface="Arial"/>
              </a:endParaRPr>
            </a:p>
            <a:p>
              <a:pPr>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rior systemic therapy</a:t>
              </a:r>
              <a:endParaRPr b="0" lang="en-US" sz="1800" spc="-1" strike="noStrike">
                <a:solidFill>
                  <a:srgbClr val="000000"/>
                </a:solidFill>
                <a:latin typeface="Arial"/>
              </a:endParaRPr>
            </a:p>
            <a:p>
              <a:pPr>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 0/1</a:t>
              </a:r>
              <a:endParaRPr b="0" lang="en-US" sz="1800" spc="-1" strike="noStrike">
                <a:solidFill>
                  <a:srgbClr val="000000"/>
                </a:solidFill>
                <a:latin typeface="Arial"/>
              </a:endParaRPr>
            </a:p>
            <a:p>
              <a:pPr>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ed brain metastases </a:t>
              </a:r>
              <a:endParaRPr b="0" lang="en-US" sz="1800" spc="-1" strike="noStrike">
                <a:solidFill>
                  <a:srgbClr val="000000"/>
                </a:solidFill>
                <a:latin typeface="Arial"/>
              </a:endParaRPr>
            </a:p>
            <a:p>
              <a:pPr>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939)</a:t>
              </a:r>
              <a:endParaRPr b="0" lang="en-US" sz="1800" spc="-1" strike="noStrike">
                <a:solidFill>
                  <a:srgbClr val="000000"/>
                </a:solidFill>
                <a:latin typeface="Arial"/>
              </a:endParaRPr>
            </a:p>
          </p:txBody>
        </p:sp>
      </p:grpSp>
      <p:grpSp>
        <p:nvGrpSpPr>
          <p:cNvPr id="2249" name="TextBox 21"/>
          <p:cNvGrpSpPr/>
          <p:nvPr/>
        </p:nvGrpSpPr>
        <p:grpSpPr>
          <a:xfrm>
            <a:off x="2682720" y="2908440"/>
            <a:ext cx="730440" cy="682560"/>
            <a:chOff x="2682720" y="2908440"/>
            <a:chExt cx="730440" cy="682560"/>
          </a:xfrm>
        </p:grpSpPr>
        <p:pic>
          <p:nvPicPr>
            <p:cNvPr id="2250" name="TextBox 21" descr=""/>
            <p:cNvPicPr/>
            <p:nvPr/>
          </p:nvPicPr>
          <p:blipFill>
            <a:blip r:embed="rId3"/>
            <a:stretch/>
          </p:blipFill>
          <p:spPr>
            <a:xfrm>
              <a:off x="2682720" y="2908440"/>
              <a:ext cx="730440" cy="682560"/>
            </a:xfrm>
            <a:prstGeom prst="rect">
              <a:avLst/>
            </a:prstGeom>
            <a:ln w="0">
              <a:noFill/>
            </a:ln>
          </p:spPr>
        </p:pic>
        <p:sp>
          <p:nvSpPr>
            <p:cNvPr id="2251" name=""/>
            <p:cNvSpPr/>
            <p:nvPr/>
          </p:nvSpPr>
          <p:spPr>
            <a:xfrm>
              <a:off x="2832120" y="3024360"/>
              <a:ext cx="431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grpSp>
      <p:grpSp>
        <p:nvGrpSpPr>
          <p:cNvPr id="2252" name="TextBox 22"/>
          <p:cNvGrpSpPr/>
          <p:nvPr/>
        </p:nvGrpSpPr>
        <p:grpSpPr>
          <a:xfrm>
            <a:off x="3803760" y="1620720"/>
            <a:ext cx="2425680" cy="1446480"/>
            <a:chOff x="3803760" y="1620720"/>
            <a:chExt cx="2425680" cy="1446480"/>
          </a:xfrm>
        </p:grpSpPr>
        <p:pic>
          <p:nvPicPr>
            <p:cNvPr id="2253" name="TextBox 22" descr=""/>
            <p:cNvPicPr/>
            <p:nvPr/>
          </p:nvPicPr>
          <p:blipFill>
            <a:blip r:embed="rId4"/>
            <a:stretch/>
          </p:blipFill>
          <p:spPr>
            <a:xfrm>
              <a:off x="3803760" y="1620720"/>
              <a:ext cx="2425680" cy="1446480"/>
            </a:xfrm>
            <a:prstGeom prst="rect">
              <a:avLst/>
            </a:prstGeom>
            <a:ln w="0">
              <a:noFill/>
            </a:ln>
          </p:spPr>
        </p:pic>
        <p:sp>
          <p:nvSpPr>
            <p:cNvPr id="2254" name=""/>
            <p:cNvSpPr/>
            <p:nvPr/>
          </p:nvSpPr>
          <p:spPr>
            <a:xfrm>
              <a:off x="3862440" y="1655640"/>
              <a:ext cx="230976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metrexed/ Carboplatin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vacizumab 15 mg/kg q3w × up to 4 cycles</a:t>
              </a:r>
              <a:endParaRPr b="0" lang="en-US" sz="1600" spc="-1" strike="noStrike">
                <a:solidFill>
                  <a:srgbClr val="000000"/>
                </a:solidFill>
                <a:latin typeface="Arial"/>
              </a:endParaRPr>
            </a:p>
          </p:txBody>
        </p:sp>
      </p:grpSp>
      <p:grpSp>
        <p:nvGrpSpPr>
          <p:cNvPr id="2255" name="TextBox 23"/>
          <p:cNvGrpSpPr/>
          <p:nvPr/>
        </p:nvGrpSpPr>
        <p:grpSpPr>
          <a:xfrm>
            <a:off x="3797280" y="3614760"/>
            <a:ext cx="2432160" cy="1195200"/>
            <a:chOff x="3797280" y="3614760"/>
            <a:chExt cx="2432160" cy="1195200"/>
          </a:xfrm>
        </p:grpSpPr>
        <p:pic>
          <p:nvPicPr>
            <p:cNvPr id="2256" name="TextBox 23" descr=""/>
            <p:cNvPicPr/>
            <p:nvPr/>
          </p:nvPicPr>
          <p:blipFill>
            <a:blip r:embed="rId5"/>
            <a:stretch/>
          </p:blipFill>
          <p:spPr>
            <a:xfrm>
              <a:off x="3797280" y="3614760"/>
              <a:ext cx="2432160" cy="1195200"/>
            </a:xfrm>
            <a:prstGeom prst="rect">
              <a:avLst/>
            </a:prstGeom>
            <a:ln w="0">
              <a:noFill/>
            </a:ln>
          </p:spPr>
        </p:pic>
        <p:sp>
          <p:nvSpPr>
            <p:cNvPr id="2257" name=""/>
            <p:cNvSpPr/>
            <p:nvPr/>
          </p:nvSpPr>
          <p:spPr>
            <a:xfrm>
              <a:off x="3854520" y="3646440"/>
              <a:ext cx="23176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litaxel/Carboplatin + Bevacizumab 15 mg/k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w × up to 4 cycles</a:t>
              </a:r>
              <a:endParaRPr b="0" lang="en-US" sz="1600" spc="-1" strike="noStrike">
                <a:solidFill>
                  <a:srgbClr val="000000"/>
                </a:solidFill>
                <a:latin typeface="Arial"/>
              </a:endParaRPr>
            </a:p>
          </p:txBody>
        </p:sp>
      </p:grpSp>
      <p:grpSp>
        <p:nvGrpSpPr>
          <p:cNvPr id="2258" name="TextBox 24"/>
          <p:cNvGrpSpPr/>
          <p:nvPr/>
        </p:nvGrpSpPr>
        <p:grpSpPr>
          <a:xfrm>
            <a:off x="6729480" y="1981080"/>
            <a:ext cx="2000160" cy="706680"/>
            <a:chOff x="6729480" y="1981080"/>
            <a:chExt cx="2000160" cy="706680"/>
          </a:xfrm>
        </p:grpSpPr>
        <p:pic>
          <p:nvPicPr>
            <p:cNvPr id="2259" name="TextBox 24" descr=""/>
            <p:cNvPicPr/>
            <p:nvPr/>
          </p:nvPicPr>
          <p:blipFill>
            <a:blip r:embed="rId6"/>
            <a:stretch/>
          </p:blipFill>
          <p:spPr>
            <a:xfrm>
              <a:off x="6729480" y="1981080"/>
              <a:ext cx="2000160" cy="706680"/>
            </a:xfrm>
            <a:prstGeom prst="rect">
              <a:avLst/>
            </a:prstGeom>
            <a:ln w="0">
              <a:noFill/>
            </a:ln>
          </p:spPr>
        </p:pic>
        <p:sp>
          <p:nvSpPr>
            <p:cNvPr id="2260" name=""/>
            <p:cNvSpPr/>
            <p:nvPr/>
          </p:nvSpPr>
          <p:spPr>
            <a:xfrm>
              <a:off x="6789600" y="2014560"/>
              <a:ext cx="1882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2743200"/>
                  <a:tab algn="l" pos="3657600"/>
                  <a:tab algn="l" pos="4572000"/>
                  <a:tab algn="l" pos="5486400"/>
                  <a:tab algn="l" pos="6400800"/>
                  <a:tab algn="l" pos="7315200"/>
                  <a:tab algn="l" pos="8229600"/>
                  <a:tab algn="l" pos="9144000"/>
                  <a:tab algn="l" pos="10058400"/>
                  <a:tab algn="l" pos="10953720"/>
                </a:tabLst>
              </a:pPr>
              <a:r>
                <a:rPr b="1" lang="en-US" sz="1600" spc="-1" strike="noStrike">
                  <a:solidFill>
                    <a:srgbClr val="000000"/>
                  </a:solidFill>
                  <a:latin typeface="Arial"/>
                </a:rPr>
                <a:t>Pemetrexed +</a:t>
              </a:r>
              <a:endParaRPr b="0" lang="en-US" sz="16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 algn="l" pos="10953720"/>
                </a:tabLst>
              </a:pPr>
              <a:r>
                <a:rPr b="1" lang="en-US" sz="1600" spc="-1" strike="noStrike">
                  <a:solidFill>
                    <a:srgbClr val="000000"/>
                  </a:solidFill>
                  <a:latin typeface="Arial"/>
                </a:rPr>
                <a:t>Bevacizumab</a:t>
              </a:r>
              <a:endParaRPr b="0" lang="en-US" sz="1600" spc="-1" strike="noStrike">
                <a:solidFill>
                  <a:srgbClr val="000000"/>
                </a:solidFill>
                <a:latin typeface="Arial"/>
              </a:endParaRPr>
            </a:p>
          </p:txBody>
        </p:sp>
      </p:grpSp>
      <p:grpSp>
        <p:nvGrpSpPr>
          <p:cNvPr id="2261" name="TextBox 25"/>
          <p:cNvGrpSpPr/>
          <p:nvPr/>
        </p:nvGrpSpPr>
        <p:grpSpPr>
          <a:xfrm>
            <a:off x="6729480" y="3981600"/>
            <a:ext cx="2000160" cy="457200"/>
            <a:chOff x="6729480" y="3981600"/>
            <a:chExt cx="2000160" cy="457200"/>
          </a:xfrm>
        </p:grpSpPr>
        <p:pic>
          <p:nvPicPr>
            <p:cNvPr id="2262" name="TextBox 25" descr=""/>
            <p:cNvPicPr/>
            <p:nvPr/>
          </p:nvPicPr>
          <p:blipFill>
            <a:blip r:embed="rId7"/>
            <a:stretch/>
          </p:blipFill>
          <p:spPr>
            <a:xfrm>
              <a:off x="6729480" y="3981600"/>
              <a:ext cx="2000160" cy="457200"/>
            </a:xfrm>
            <a:prstGeom prst="rect">
              <a:avLst/>
            </a:prstGeom>
            <a:ln w="0">
              <a:noFill/>
            </a:ln>
          </p:spPr>
        </p:pic>
        <p:sp>
          <p:nvSpPr>
            <p:cNvPr id="2263" name=""/>
            <p:cNvSpPr/>
            <p:nvPr/>
          </p:nvSpPr>
          <p:spPr>
            <a:xfrm>
              <a:off x="6789600" y="4010040"/>
              <a:ext cx="1882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2743200"/>
                  <a:tab algn="l" pos="3657600"/>
                  <a:tab algn="l" pos="4572000"/>
                  <a:tab algn="l" pos="5486400"/>
                  <a:tab algn="l" pos="6400800"/>
                  <a:tab algn="l" pos="7315200"/>
                  <a:tab algn="l" pos="8229600"/>
                  <a:tab algn="l" pos="9144000"/>
                  <a:tab algn="l" pos="10058400"/>
                  <a:tab algn="l" pos="10953720"/>
                </a:tabLst>
              </a:pPr>
              <a:r>
                <a:rPr b="1" lang="en-US" sz="1600" spc="-1" strike="noStrike">
                  <a:solidFill>
                    <a:srgbClr val="000000"/>
                  </a:solidFill>
                  <a:latin typeface="Arial"/>
                </a:rPr>
                <a:t>Bevacizumab</a:t>
              </a:r>
              <a:endParaRPr b="0" lang="en-US" sz="16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4" name="Group 103"/>
          <p:cNvGrpSpPr/>
          <p:nvPr/>
        </p:nvGrpSpPr>
        <p:grpSpPr>
          <a:xfrm>
            <a:off x="160200" y="457200"/>
            <a:ext cx="8823600" cy="6754680"/>
            <a:chOff x="160200" y="457200"/>
            <a:chExt cx="8823600" cy="6754680"/>
          </a:xfrm>
        </p:grpSpPr>
        <p:sp>
          <p:nvSpPr>
            <p:cNvPr id="2265" name="AutoShape 5"/>
            <p:cNvSpPr/>
            <p:nvPr/>
          </p:nvSpPr>
          <p:spPr>
            <a:xfrm>
              <a:off x="160200" y="457200"/>
              <a:ext cx="8823600" cy="67546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66" name="Rectangle 7"/>
            <p:cNvSpPr/>
            <p:nvPr/>
          </p:nvSpPr>
          <p:spPr>
            <a:xfrm>
              <a:off x="161640" y="458640"/>
              <a:ext cx="8820720" cy="67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7" name="Rectangle 8"/>
            <p:cNvSpPr/>
            <p:nvPr/>
          </p:nvSpPr>
          <p:spPr>
            <a:xfrm>
              <a:off x="902880" y="1577880"/>
              <a:ext cx="7793280" cy="368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8" name="Line 9"/>
            <p:cNvSpPr/>
            <p:nvPr/>
          </p:nvSpPr>
          <p:spPr>
            <a:xfrm>
              <a:off x="902880" y="5267160"/>
              <a:ext cx="7793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69" name="Line 10"/>
            <p:cNvSpPr/>
            <p:nvPr/>
          </p:nvSpPr>
          <p:spPr>
            <a:xfrm flipV="1">
              <a:off x="902880" y="5266800"/>
              <a:ext cx="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0" name="Line 11"/>
            <p:cNvSpPr/>
            <p:nvPr/>
          </p:nvSpPr>
          <p:spPr>
            <a:xfrm flipV="1">
              <a:off x="155088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1" name="Line 12"/>
            <p:cNvSpPr/>
            <p:nvPr/>
          </p:nvSpPr>
          <p:spPr>
            <a:xfrm flipV="1">
              <a:off x="220176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2" name="Line 13"/>
            <p:cNvSpPr/>
            <p:nvPr/>
          </p:nvSpPr>
          <p:spPr>
            <a:xfrm flipV="1">
              <a:off x="285120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3" name="Line 14"/>
            <p:cNvSpPr/>
            <p:nvPr/>
          </p:nvSpPr>
          <p:spPr>
            <a:xfrm flipV="1">
              <a:off x="350028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4" name="Line 15"/>
            <p:cNvSpPr/>
            <p:nvPr/>
          </p:nvSpPr>
          <p:spPr>
            <a:xfrm flipV="1">
              <a:off x="414972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5" name="Line 16"/>
            <p:cNvSpPr/>
            <p:nvPr/>
          </p:nvSpPr>
          <p:spPr>
            <a:xfrm flipV="1">
              <a:off x="479916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6" name="Line 17"/>
            <p:cNvSpPr/>
            <p:nvPr/>
          </p:nvSpPr>
          <p:spPr>
            <a:xfrm flipV="1">
              <a:off x="544824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7" name="Line 18"/>
            <p:cNvSpPr/>
            <p:nvPr/>
          </p:nvSpPr>
          <p:spPr>
            <a:xfrm flipV="1">
              <a:off x="609912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8" name="Line 19"/>
            <p:cNvSpPr/>
            <p:nvPr/>
          </p:nvSpPr>
          <p:spPr>
            <a:xfrm flipV="1">
              <a:off x="674712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9" name="Line 20"/>
            <p:cNvSpPr/>
            <p:nvPr/>
          </p:nvSpPr>
          <p:spPr>
            <a:xfrm flipV="1">
              <a:off x="739800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80" name="Line 21"/>
            <p:cNvSpPr/>
            <p:nvPr/>
          </p:nvSpPr>
          <p:spPr>
            <a:xfrm flipV="1">
              <a:off x="804744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81" name="Line 22"/>
            <p:cNvSpPr/>
            <p:nvPr/>
          </p:nvSpPr>
          <p:spPr>
            <a:xfrm flipV="1">
              <a:off x="8696520" y="5266800"/>
              <a:ext cx="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82" name="Line 23"/>
            <p:cNvSpPr/>
            <p:nvPr/>
          </p:nvSpPr>
          <p:spPr>
            <a:xfrm flipV="1">
              <a:off x="111744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3" name="Line 24"/>
            <p:cNvSpPr/>
            <p:nvPr/>
          </p:nvSpPr>
          <p:spPr>
            <a:xfrm flipV="1">
              <a:off x="13348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4" name="Line 25"/>
            <p:cNvSpPr/>
            <p:nvPr/>
          </p:nvSpPr>
          <p:spPr>
            <a:xfrm flipV="1">
              <a:off x="176832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5" name="Line 26"/>
            <p:cNvSpPr/>
            <p:nvPr/>
          </p:nvSpPr>
          <p:spPr>
            <a:xfrm flipV="1">
              <a:off x="198432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6" name="Line 27"/>
            <p:cNvSpPr/>
            <p:nvPr/>
          </p:nvSpPr>
          <p:spPr>
            <a:xfrm flipV="1">
              <a:off x="241776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7" name="Line 28"/>
            <p:cNvSpPr/>
            <p:nvPr/>
          </p:nvSpPr>
          <p:spPr>
            <a:xfrm flipV="1">
              <a:off x="263340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8" name="Line 29"/>
            <p:cNvSpPr/>
            <p:nvPr/>
          </p:nvSpPr>
          <p:spPr>
            <a:xfrm flipV="1">
              <a:off x="306684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9" name="Line 30"/>
            <p:cNvSpPr/>
            <p:nvPr/>
          </p:nvSpPr>
          <p:spPr>
            <a:xfrm flipV="1">
              <a:off x="32842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0" name="Line 31"/>
            <p:cNvSpPr/>
            <p:nvPr/>
          </p:nvSpPr>
          <p:spPr>
            <a:xfrm flipV="1">
              <a:off x="37162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1" name="Line 32"/>
            <p:cNvSpPr/>
            <p:nvPr/>
          </p:nvSpPr>
          <p:spPr>
            <a:xfrm flipV="1">
              <a:off x="39322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2" name="Line 33"/>
            <p:cNvSpPr/>
            <p:nvPr/>
          </p:nvSpPr>
          <p:spPr>
            <a:xfrm flipV="1">
              <a:off x="436572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3" name="Line 34"/>
            <p:cNvSpPr/>
            <p:nvPr/>
          </p:nvSpPr>
          <p:spPr>
            <a:xfrm flipV="1">
              <a:off x="458316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4" name="Line 35"/>
            <p:cNvSpPr/>
            <p:nvPr/>
          </p:nvSpPr>
          <p:spPr>
            <a:xfrm flipV="1">
              <a:off x="501480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5" name="Line 36"/>
            <p:cNvSpPr/>
            <p:nvPr/>
          </p:nvSpPr>
          <p:spPr>
            <a:xfrm flipV="1">
              <a:off x="523260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6" name="Line 37"/>
            <p:cNvSpPr/>
            <p:nvPr/>
          </p:nvSpPr>
          <p:spPr>
            <a:xfrm flipV="1">
              <a:off x="566604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7" name="Line 38"/>
            <p:cNvSpPr/>
            <p:nvPr/>
          </p:nvSpPr>
          <p:spPr>
            <a:xfrm flipV="1">
              <a:off x="58816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8" name="Line 39"/>
            <p:cNvSpPr/>
            <p:nvPr/>
          </p:nvSpPr>
          <p:spPr>
            <a:xfrm flipV="1">
              <a:off x="631512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9" name="Line 40"/>
            <p:cNvSpPr/>
            <p:nvPr/>
          </p:nvSpPr>
          <p:spPr>
            <a:xfrm flipV="1">
              <a:off x="653112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0" name="Line 41"/>
            <p:cNvSpPr/>
            <p:nvPr/>
          </p:nvSpPr>
          <p:spPr>
            <a:xfrm flipV="1">
              <a:off x="696456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1" name="Line 42"/>
            <p:cNvSpPr/>
            <p:nvPr/>
          </p:nvSpPr>
          <p:spPr>
            <a:xfrm flipV="1">
              <a:off x="718056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2" name="Line 43"/>
            <p:cNvSpPr/>
            <p:nvPr/>
          </p:nvSpPr>
          <p:spPr>
            <a:xfrm flipV="1">
              <a:off x="761400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3" name="Line 44"/>
            <p:cNvSpPr/>
            <p:nvPr/>
          </p:nvSpPr>
          <p:spPr>
            <a:xfrm flipV="1">
              <a:off x="782964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4" name="Line 45"/>
            <p:cNvSpPr/>
            <p:nvPr/>
          </p:nvSpPr>
          <p:spPr>
            <a:xfrm flipV="1">
              <a:off x="82630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5" name="Line 46"/>
            <p:cNvSpPr/>
            <p:nvPr/>
          </p:nvSpPr>
          <p:spPr>
            <a:xfrm flipV="1">
              <a:off x="84808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6" name="Rectangle 47"/>
            <p:cNvSpPr/>
            <p:nvPr/>
          </p:nvSpPr>
          <p:spPr>
            <a:xfrm>
              <a:off x="861840" y="5394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2307" name="Rectangle 48"/>
            <p:cNvSpPr/>
            <p:nvPr/>
          </p:nvSpPr>
          <p:spPr>
            <a:xfrm>
              <a:off x="1510920" y="5394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308" name="Rectangle 49"/>
            <p:cNvSpPr/>
            <p:nvPr/>
          </p:nvSpPr>
          <p:spPr>
            <a:xfrm>
              <a:off x="2162160" y="5394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2309" name="Rectangle 50"/>
            <p:cNvSpPr/>
            <p:nvPr/>
          </p:nvSpPr>
          <p:spPr>
            <a:xfrm>
              <a:off x="2809800" y="5394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310" name="Rectangle 51"/>
            <p:cNvSpPr/>
            <p:nvPr/>
          </p:nvSpPr>
          <p:spPr>
            <a:xfrm>
              <a:off x="341856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2311" name="Rectangle 52"/>
            <p:cNvSpPr/>
            <p:nvPr/>
          </p:nvSpPr>
          <p:spPr>
            <a:xfrm>
              <a:off x="406800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Arial"/>
              </a:endParaRPr>
            </a:p>
          </p:txBody>
        </p:sp>
        <p:sp>
          <p:nvSpPr>
            <p:cNvPr id="2312" name="Rectangle 53"/>
            <p:cNvSpPr/>
            <p:nvPr/>
          </p:nvSpPr>
          <p:spPr>
            <a:xfrm>
              <a:off x="471744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a:t>
              </a:r>
              <a:endParaRPr b="0" lang="en-US" sz="1200" spc="-1" strike="noStrike">
                <a:solidFill>
                  <a:srgbClr val="000000"/>
                </a:solidFill>
                <a:latin typeface="Arial"/>
              </a:endParaRPr>
            </a:p>
          </p:txBody>
        </p:sp>
        <p:sp>
          <p:nvSpPr>
            <p:cNvPr id="2313" name="Rectangle 54"/>
            <p:cNvSpPr/>
            <p:nvPr/>
          </p:nvSpPr>
          <p:spPr>
            <a:xfrm>
              <a:off x="536652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a:t>
              </a:r>
              <a:endParaRPr b="0" lang="en-US" sz="1200" spc="-1" strike="noStrike">
                <a:solidFill>
                  <a:srgbClr val="000000"/>
                </a:solidFill>
                <a:latin typeface="Arial"/>
              </a:endParaRPr>
            </a:p>
          </p:txBody>
        </p:sp>
        <p:sp>
          <p:nvSpPr>
            <p:cNvPr id="2314" name="Rectangle 55"/>
            <p:cNvSpPr/>
            <p:nvPr/>
          </p:nvSpPr>
          <p:spPr>
            <a:xfrm>
              <a:off x="601596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a:t>
              </a:r>
              <a:endParaRPr b="0" lang="en-US" sz="1200" spc="-1" strike="noStrike">
                <a:solidFill>
                  <a:srgbClr val="000000"/>
                </a:solidFill>
                <a:latin typeface="Arial"/>
              </a:endParaRPr>
            </a:p>
          </p:txBody>
        </p:sp>
        <p:sp>
          <p:nvSpPr>
            <p:cNvPr id="2315" name="Rectangle 56"/>
            <p:cNvSpPr/>
            <p:nvPr/>
          </p:nvSpPr>
          <p:spPr>
            <a:xfrm>
              <a:off x="666540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Arial"/>
              </a:endParaRPr>
            </a:p>
          </p:txBody>
        </p:sp>
        <p:sp>
          <p:nvSpPr>
            <p:cNvPr id="2316" name="Rectangle 57"/>
            <p:cNvSpPr/>
            <p:nvPr/>
          </p:nvSpPr>
          <p:spPr>
            <a:xfrm>
              <a:off x="731628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a:t>
              </a:r>
              <a:endParaRPr b="0" lang="en-US" sz="1200" spc="-1" strike="noStrike">
                <a:solidFill>
                  <a:srgbClr val="000000"/>
                </a:solidFill>
                <a:latin typeface="Arial"/>
              </a:endParaRPr>
            </a:p>
          </p:txBody>
        </p:sp>
        <p:sp>
          <p:nvSpPr>
            <p:cNvPr id="2317" name="Rectangle 58"/>
            <p:cNvSpPr/>
            <p:nvPr/>
          </p:nvSpPr>
          <p:spPr>
            <a:xfrm>
              <a:off x="796572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a:t>
              </a:r>
              <a:endParaRPr b="0" lang="en-US" sz="1200" spc="-1" strike="noStrike">
                <a:solidFill>
                  <a:srgbClr val="000000"/>
                </a:solidFill>
                <a:latin typeface="Arial"/>
              </a:endParaRPr>
            </a:p>
          </p:txBody>
        </p:sp>
        <p:sp>
          <p:nvSpPr>
            <p:cNvPr id="2318" name="Rectangle 59"/>
            <p:cNvSpPr/>
            <p:nvPr/>
          </p:nvSpPr>
          <p:spPr>
            <a:xfrm>
              <a:off x="861480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000000"/>
                </a:solidFill>
                <a:latin typeface="Arial"/>
              </a:endParaRPr>
            </a:p>
          </p:txBody>
        </p:sp>
        <p:sp>
          <p:nvSpPr>
            <p:cNvPr id="2319" name="Line 60"/>
            <p:cNvSpPr/>
            <p:nvPr/>
          </p:nvSpPr>
          <p:spPr>
            <a:xfrm flipV="1">
              <a:off x="902880" y="1577880"/>
              <a:ext cx="0" cy="368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0" name="Line 61"/>
            <p:cNvSpPr/>
            <p:nvPr/>
          </p:nvSpPr>
          <p:spPr>
            <a:xfrm>
              <a:off x="848880" y="51958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1" name="Line 62"/>
            <p:cNvSpPr/>
            <p:nvPr/>
          </p:nvSpPr>
          <p:spPr>
            <a:xfrm>
              <a:off x="848880" y="48340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2" name="Line 63"/>
            <p:cNvSpPr/>
            <p:nvPr/>
          </p:nvSpPr>
          <p:spPr>
            <a:xfrm>
              <a:off x="848880" y="447192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3" name="Line 64"/>
            <p:cNvSpPr/>
            <p:nvPr/>
          </p:nvSpPr>
          <p:spPr>
            <a:xfrm>
              <a:off x="848880" y="411012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4" name="Line 65"/>
            <p:cNvSpPr/>
            <p:nvPr/>
          </p:nvSpPr>
          <p:spPr>
            <a:xfrm>
              <a:off x="848880" y="37479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5" name="Line 66"/>
            <p:cNvSpPr/>
            <p:nvPr/>
          </p:nvSpPr>
          <p:spPr>
            <a:xfrm>
              <a:off x="848880" y="33861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6" name="Line 67"/>
            <p:cNvSpPr/>
            <p:nvPr/>
          </p:nvSpPr>
          <p:spPr>
            <a:xfrm>
              <a:off x="848880" y="302400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7" name="Line 68"/>
            <p:cNvSpPr/>
            <p:nvPr/>
          </p:nvSpPr>
          <p:spPr>
            <a:xfrm>
              <a:off x="848880" y="26636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8" name="Line 69"/>
            <p:cNvSpPr/>
            <p:nvPr/>
          </p:nvSpPr>
          <p:spPr>
            <a:xfrm>
              <a:off x="848880" y="23018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9" name="Line 70"/>
            <p:cNvSpPr/>
            <p:nvPr/>
          </p:nvSpPr>
          <p:spPr>
            <a:xfrm>
              <a:off x="848880" y="19396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0" name="Line 71"/>
            <p:cNvSpPr/>
            <p:nvPr/>
          </p:nvSpPr>
          <p:spPr>
            <a:xfrm>
              <a:off x="848880" y="1577880"/>
              <a:ext cx="5364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1" name="Line 72"/>
            <p:cNvSpPr/>
            <p:nvPr/>
          </p:nvSpPr>
          <p:spPr>
            <a:xfrm>
              <a:off x="871200" y="501336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2" name="Line 73"/>
            <p:cNvSpPr/>
            <p:nvPr/>
          </p:nvSpPr>
          <p:spPr>
            <a:xfrm>
              <a:off x="871200" y="465300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3" name="Line 74"/>
            <p:cNvSpPr/>
            <p:nvPr/>
          </p:nvSpPr>
          <p:spPr>
            <a:xfrm>
              <a:off x="871200" y="429084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4" name="Line 75"/>
            <p:cNvSpPr/>
            <p:nvPr/>
          </p:nvSpPr>
          <p:spPr>
            <a:xfrm>
              <a:off x="871200" y="392904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5" name="Line 76"/>
            <p:cNvSpPr/>
            <p:nvPr/>
          </p:nvSpPr>
          <p:spPr>
            <a:xfrm>
              <a:off x="871200" y="356688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6" name="Line 77"/>
            <p:cNvSpPr/>
            <p:nvPr/>
          </p:nvSpPr>
          <p:spPr>
            <a:xfrm>
              <a:off x="871200" y="320652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7" name="Line 78"/>
            <p:cNvSpPr/>
            <p:nvPr/>
          </p:nvSpPr>
          <p:spPr>
            <a:xfrm>
              <a:off x="871200" y="284328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8" name="Line 79"/>
            <p:cNvSpPr/>
            <p:nvPr/>
          </p:nvSpPr>
          <p:spPr>
            <a:xfrm>
              <a:off x="871200" y="248112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9" name="Line 80"/>
            <p:cNvSpPr/>
            <p:nvPr/>
          </p:nvSpPr>
          <p:spPr>
            <a:xfrm>
              <a:off x="871200" y="212076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40" name="Line 81"/>
            <p:cNvSpPr/>
            <p:nvPr/>
          </p:nvSpPr>
          <p:spPr>
            <a:xfrm>
              <a:off x="871200" y="175896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41" name="Rectangle 82"/>
            <p:cNvSpPr/>
            <p:nvPr/>
          </p:nvSpPr>
          <p:spPr>
            <a:xfrm>
              <a:off x="573840" y="51134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a:t>
              </a:r>
              <a:endParaRPr b="0" lang="en-US" sz="1200" spc="-1" strike="noStrike">
                <a:solidFill>
                  <a:srgbClr val="000000"/>
                </a:solidFill>
                <a:latin typeface="Arial"/>
              </a:endParaRPr>
            </a:p>
          </p:txBody>
        </p:sp>
        <p:sp>
          <p:nvSpPr>
            <p:cNvPr id="2342" name="Rectangle 83"/>
            <p:cNvSpPr/>
            <p:nvPr/>
          </p:nvSpPr>
          <p:spPr>
            <a:xfrm>
              <a:off x="573840" y="475128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a:t>
              </a:r>
              <a:endParaRPr b="0" lang="en-US" sz="1200" spc="-1" strike="noStrike">
                <a:solidFill>
                  <a:srgbClr val="000000"/>
                </a:solidFill>
                <a:latin typeface="Arial"/>
              </a:endParaRPr>
            </a:p>
          </p:txBody>
        </p:sp>
        <p:sp>
          <p:nvSpPr>
            <p:cNvPr id="2343" name="Rectangle 84"/>
            <p:cNvSpPr/>
            <p:nvPr/>
          </p:nvSpPr>
          <p:spPr>
            <a:xfrm>
              <a:off x="573840" y="438948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2</a:t>
              </a:r>
              <a:endParaRPr b="0" lang="en-US" sz="1200" spc="-1" strike="noStrike">
                <a:solidFill>
                  <a:srgbClr val="000000"/>
                </a:solidFill>
                <a:latin typeface="Arial"/>
              </a:endParaRPr>
            </a:p>
          </p:txBody>
        </p:sp>
        <p:sp>
          <p:nvSpPr>
            <p:cNvPr id="2344" name="Rectangle 85"/>
            <p:cNvSpPr/>
            <p:nvPr/>
          </p:nvSpPr>
          <p:spPr>
            <a:xfrm>
              <a:off x="573840" y="40273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a:t>
              </a:r>
              <a:endParaRPr b="0" lang="en-US" sz="1200" spc="-1" strike="noStrike">
                <a:solidFill>
                  <a:srgbClr val="000000"/>
                </a:solidFill>
                <a:latin typeface="Arial"/>
              </a:endParaRPr>
            </a:p>
          </p:txBody>
        </p:sp>
        <p:sp>
          <p:nvSpPr>
            <p:cNvPr id="2345" name="Rectangle 86"/>
            <p:cNvSpPr/>
            <p:nvPr/>
          </p:nvSpPr>
          <p:spPr>
            <a:xfrm>
              <a:off x="573840" y="36655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Arial"/>
              </a:endParaRPr>
            </a:p>
          </p:txBody>
        </p:sp>
        <p:sp>
          <p:nvSpPr>
            <p:cNvPr id="2346" name="Rectangle 87"/>
            <p:cNvSpPr/>
            <p:nvPr/>
          </p:nvSpPr>
          <p:spPr>
            <a:xfrm>
              <a:off x="573840" y="330336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5</a:t>
              </a:r>
              <a:endParaRPr b="0" lang="en-US" sz="1200" spc="-1" strike="noStrike">
                <a:solidFill>
                  <a:srgbClr val="000000"/>
                </a:solidFill>
                <a:latin typeface="Arial"/>
              </a:endParaRPr>
            </a:p>
          </p:txBody>
        </p:sp>
        <p:sp>
          <p:nvSpPr>
            <p:cNvPr id="2347" name="Rectangle 88"/>
            <p:cNvSpPr/>
            <p:nvPr/>
          </p:nvSpPr>
          <p:spPr>
            <a:xfrm>
              <a:off x="573840" y="294156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6</a:t>
              </a:r>
              <a:endParaRPr b="0" lang="en-US" sz="1200" spc="-1" strike="noStrike">
                <a:solidFill>
                  <a:srgbClr val="000000"/>
                </a:solidFill>
                <a:latin typeface="Arial"/>
              </a:endParaRPr>
            </a:p>
          </p:txBody>
        </p:sp>
        <p:sp>
          <p:nvSpPr>
            <p:cNvPr id="2348" name="Rectangle 89"/>
            <p:cNvSpPr/>
            <p:nvPr/>
          </p:nvSpPr>
          <p:spPr>
            <a:xfrm>
              <a:off x="573840" y="257940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7</a:t>
              </a:r>
              <a:endParaRPr b="0" lang="en-US" sz="1200" spc="-1" strike="noStrike">
                <a:solidFill>
                  <a:srgbClr val="000000"/>
                </a:solidFill>
                <a:latin typeface="Arial"/>
              </a:endParaRPr>
            </a:p>
          </p:txBody>
        </p:sp>
        <p:sp>
          <p:nvSpPr>
            <p:cNvPr id="2349" name="Rectangle 90"/>
            <p:cNvSpPr/>
            <p:nvPr/>
          </p:nvSpPr>
          <p:spPr>
            <a:xfrm>
              <a:off x="573840" y="22190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8</a:t>
              </a:r>
              <a:endParaRPr b="0" lang="en-US" sz="1200" spc="-1" strike="noStrike">
                <a:solidFill>
                  <a:srgbClr val="000000"/>
                </a:solidFill>
                <a:latin typeface="Arial"/>
              </a:endParaRPr>
            </a:p>
          </p:txBody>
        </p:sp>
        <p:sp>
          <p:nvSpPr>
            <p:cNvPr id="2350" name="Rectangle 91"/>
            <p:cNvSpPr/>
            <p:nvPr/>
          </p:nvSpPr>
          <p:spPr>
            <a:xfrm>
              <a:off x="573840" y="18572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9</a:t>
              </a:r>
              <a:endParaRPr b="0" lang="en-US" sz="1200" spc="-1" strike="noStrike">
                <a:solidFill>
                  <a:srgbClr val="000000"/>
                </a:solidFill>
                <a:latin typeface="Arial"/>
              </a:endParaRPr>
            </a:p>
          </p:txBody>
        </p:sp>
        <p:sp>
          <p:nvSpPr>
            <p:cNvPr id="2351" name="Rectangle 92"/>
            <p:cNvSpPr/>
            <p:nvPr/>
          </p:nvSpPr>
          <p:spPr>
            <a:xfrm>
              <a:off x="573840" y="14954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2352" name="Freeform 93"/>
            <p:cNvSpPr/>
            <p:nvPr/>
          </p:nvSpPr>
          <p:spPr>
            <a:xfrm flipV="1">
              <a:off x="902880" y="1577520"/>
              <a:ext cx="7261560" cy="3504960"/>
            </a:xfrm>
            <a:custGeom>
              <a:avLst/>
              <a:gdLst/>
              <a:ahLst/>
              <a:rect l="l" t="t" r="r" b="b"/>
              <a:pathLst>
                <a:path w="6870" h="3325">
                  <a:moveTo>
                    <a:pt x="0" y="3325"/>
                  </a:moveTo>
                  <a:lnTo>
                    <a:pt x="6" y="3325"/>
                  </a:lnTo>
                  <a:lnTo>
                    <a:pt x="60" y="3325"/>
                  </a:lnTo>
                  <a:lnTo>
                    <a:pt x="60" y="3310"/>
                  </a:lnTo>
                  <a:lnTo>
                    <a:pt x="67" y="3310"/>
                  </a:lnTo>
                  <a:lnTo>
                    <a:pt x="67" y="3302"/>
                  </a:lnTo>
                  <a:lnTo>
                    <a:pt x="94" y="3302"/>
                  </a:lnTo>
                  <a:lnTo>
                    <a:pt x="94" y="3294"/>
                  </a:lnTo>
                  <a:lnTo>
                    <a:pt x="107" y="3294"/>
                  </a:lnTo>
                  <a:lnTo>
                    <a:pt x="107" y="3286"/>
                  </a:lnTo>
                  <a:lnTo>
                    <a:pt x="114" y="3286"/>
                  </a:lnTo>
                  <a:lnTo>
                    <a:pt x="114" y="3278"/>
                  </a:lnTo>
                  <a:lnTo>
                    <a:pt x="127" y="3278"/>
                  </a:lnTo>
                  <a:lnTo>
                    <a:pt x="127" y="3263"/>
                  </a:lnTo>
                  <a:lnTo>
                    <a:pt x="141" y="3263"/>
                  </a:lnTo>
                  <a:lnTo>
                    <a:pt x="141" y="3255"/>
                  </a:lnTo>
                  <a:lnTo>
                    <a:pt x="154" y="3255"/>
                  </a:lnTo>
                  <a:lnTo>
                    <a:pt x="154" y="3247"/>
                  </a:lnTo>
                  <a:lnTo>
                    <a:pt x="161" y="3247"/>
                  </a:lnTo>
                  <a:lnTo>
                    <a:pt x="161" y="3239"/>
                  </a:lnTo>
                  <a:lnTo>
                    <a:pt x="168" y="3239"/>
                  </a:lnTo>
                  <a:lnTo>
                    <a:pt x="168" y="3231"/>
                  </a:lnTo>
                  <a:lnTo>
                    <a:pt x="188" y="3231"/>
                  </a:lnTo>
                  <a:lnTo>
                    <a:pt x="188" y="3215"/>
                  </a:lnTo>
                  <a:lnTo>
                    <a:pt x="195" y="3215"/>
                  </a:lnTo>
                  <a:lnTo>
                    <a:pt x="195" y="3207"/>
                  </a:lnTo>
                  <a:lnTo>
                    <a:pt x="201" y="3207"/>
                  </a:lnTo>
                  <a:lnTo>
                    <a:pt x="201" y="3200"/>
                  </a:lnTo>
                  <a:lnTo>
                    <a:pt x="208" y="3200"/>
                  </a:lnTo>
                  <a:lnTo>
                    <a:pt x="208" y="3192"/>
                  </a:lnTo>
                  <a:lnTo>
                    <a:pt x="215" y="3192"/>
                  </a:lnTo>
                  <a:lnTo>
                    <a:pt x="215" y="3184"/>
                  </a:lnTo>
                  <a:lnTo>
                    <a:pt x="235" y="3184"/>
                  </a:lnTo>
                  <a:lnTo>
                    <a:pt x="235" y="3176"/>
                  </a:lnTo>
                  <a:lnTo>
                    <a:pt x="242" y="3176"/>
                  </a:lnTo>
                  <a:lnTo>
                    <a:pt x="242" y="3168"/>
                  </a:lnTo>
                  <a:lnTo>
                    <a:pt x="248" y="3168"/>
                  </a:lnTo>
                  <a:lnTo>
                    <a:pt x="248" y="3144"/>
                  </a:lnTo>
                  <a:lnTo>
                    <a:pt x="255" y="3144"/>
                  </a:lnTo>
                  <a:lnTo>
                    <a:pt x="255" y="3113"/>
                  </a:lnTo>
                  <a:lnTo>
                    <a:pt x="262" y="3113"/>
                  </a:lnTo>
                  <a:lnTo>
                    <a:pt x="262" y="3081"/>
                  </a:lnTo>
                  <a:lnTo>
                    <a:pt x="269" y="3081"/>
                  </a:lnTo>
                  <a:lnTo>
                    <a:pt x="269" y="3073"/>
                  </a:lnTo>
                  <a:lnTo>
                    <a:pt x="275" y="3073"/>
                  </a:lnTo>
                  <a:lnTo>
                    <a:pt x="275" y="3049"/>
                  </a:lnTo>
                  <a:lnTo>
                    <a:pt x="282" y="3049"/>
                  </a:lnTo>
                  <a:lnTo>
                    <a:pt x="282" y="3001"/>
                  </a:lnTo>
                  <a:lnTo>
                    <a:pt x="289" y="3001"/>
                  </a:lnTo>
                  <a:lnTo>
                    <a:pt x="289" y="2961"/>
                  </a:lnTo>
                  <a:lnTo>
                    <a:pt x="296" y="2961"/>
                  </a:lnTo>
                  <a:lnTo>
                    <a:pt x="296" y="2953"/>
                  </a:lnTo>
                  <a:lnTo>
                    <a:pt x="302" y="2953"/>
                  </a:lnTo>
                  <a:lnTo>
                    <a:pt x="302" y="2945"/>
                  </a:lnTo>
                  <a:lnTo>
                    <a:pt x="309" y="2945"/>
                  </a:lnTo>
                  <a:lnTo>
                    <a:pt x="309" y="2912"/>
                  </a:lnTo>
                  <a:lnTo>
                    <a:pt x="316" y="2912"/>
                  </a:lnTo>
                  <a:lnTo>
                    <a:pt x="316" y="2904"/>
                  </a:lnTo>
                  <a:lnTo>
                    <a:pt x="322" y="2904"/>
                  </a:lnTo>
                  <a:lnTo>
                    <a:pt x="322" y="2888"/>
                  </a:lnTo>
                  <a:lnTo>
                    <a:pt x="329" y="2888"/>
                  </a:lnTo>
                  <a:lnTo>
                    <a:pt x="329" y="2880"/>
                  </a:lnTo>
                  <a:lnTo>
                    <a:pt x="336" y="2880"/>
                  </a:lnTo>
                  <a:lnTo>
                    <a:pt x="336" y="2872"/>
                  </a:lnTo>
                  <a:lnTo>
                    <a:pt x="343" y="2872"/>
                  </a:lnTo>
                  <a:lnTo>
                    <a:pt x="343" y="2864"/>
                  </a:lnTo>
                  <a:lnTo>
                    <a:pt x="349" y="2864"/>
                  </a:lnTo>
                  <a:lnTo>
                    <a:pt x="349" y="2847"/>
                  </a:lnTo>
                  <a:lnTo>
                    <a:pt x="397" y="2847"/>
                  </a:lnTo>
                  <a:lnTo>
                    <a:pt x="397" y="2831"/>
                  </a:lnTo>
                  <a:lnTo>
                    <a:pt x="403" y="2831"/>
                  </a:lnTo>
                  <a:lnTo>
                    <a:pt x="417" y="2831"/>
                  </a:lnTo>
                  <a:lnTo>
                    <a:pt x="417" y="2823"/>
                  </a:lnTo>
                  <a:lnTo>
                    <a:pt x="423" y="2823"/>
                  </a:lnTo>
                  <a:lnTo>
                    <a:pt x="423" y="2807"/>
                  </a:lnTo>
                  <a:lnTo>
                    <a:pt x="444" y="2807"/>
                  </a:lnTo>
                  <a:lnTo>
                    <a:pt x="444" y="2798"/>
                  </a:lnTo>
                  <a:lnTo>
                    <a:pt x="450" y="2798"/>
                  </a:lnTo>
                  <a:lnTo>
                    <a:pt x="450" y="2790"/>
                  </a:lnTo>
                  <a:lnTo>
                    <a:pt x="464" y="2790"/>
                  </a:lnTo>
                  <a:lnTo>
                    <a:pt x="464" y="2766"/>
                  </a:lnTo>
                  <a:lnTo>
                    <a:pt x="477" y="2766"/>
                  </a:lnTo>
                  <a:lnTo>
                    <a:pt x="477" y="2757"/>
                  </a:lnTo>
                  <a:lnTo>
                    <a:pt x="484" y="2757"/>
                  </a:lnTo>
                  <a:lnTo>
                    <a:pt x="484" y="2749"/>
                  </a:lnTo>
                  <a:lnTo>
                    <a:pt x="511" y="2749"/>
                  </a:lnTo>
                  <a:lnTo>
                    <a:pt x="511" y="2741"/>
                  </a:lnTo>
                  <a:lnTo>
                    <a:pt x="524" y="2741"/>
                  </a:lnTo>
                  <a:lnTo>
                    <a:pt x="524" y="2716"/>
                  </a:lnTo>
                  <a:lnTo>
                    <a:pt x="531" y="2716"/>
                  </a:lnTo>
                  <a:lnTo>
                    <a:pt x="531" y="2700"/>
                  </a:lnTo>
                  <a:lnTo>
                    <a:pt x="538" y="2700"/>
                  </a:lnTo>
                  <a:lnTo>
                    <a:pt x="538" y="2683"/>
                  </a:lnTo>
                  <a:lnTo>
                    <a:pt x="545" y="2683"/>
                  </a:lnTo>
                  <a:lnTo>
                    <a:pt x="545" y="2675"/>
                  </a:lnTo>
                  <a:lnTo>
                    <a:pt x="551" y="2675"/>
                  </a:lnTo>
                  <a:lnTo>
                    <a:pt x="551" y="2659"/>
                  </a:lnTo>
                  <a:lnTo>
                    <a:pt x="558" y="2659"/>
                  </a:lnTo>
                  <a:lnTo>
                    <a:pt x="558" y="2642"/>
                  </a:lnTo>
                  <a:lnTo>
                    <a:pt x="565" y="2642"/>
                  </a:lnTo>
                  <a:lnTo>
                    <a:pt x="565" y="2625"/>
                  </a:lnTo>
                  <a:lnTo>
                    <a:pt x="571" y="2625"/>
                  </a:lnTo>
                  <a:lnTo>
                    <a:pt x="571" y="2601"/>
                  </a:lnTo>
                  <a:lnTo>
                    <a:pt x="578" y="2601"/>
                  </a:lnTo>
                  <a:lnTo>
                    <a:pt x="578" y="2592"/>
                  </a:lnTo>
                  <a:lnTo>
                    <a:pt x="585" y="2592"/>
                  </a:lnTo>
                  <a:lnTo>
                    <a:pt x="585" y="2576"/>
                  </a:lnTo>
                  <a:lnTo>
                    <a:pt x="592" y="2576"/>
                  </a:lnTo>
                  <a:lnTo>
                    <a:pt x="592" y="2567"/>
                  </a:lnTo>
                  <a:lnTo>
                    <a:pt x="598" y="2567"/>
                  </a:lnTo>
                  <a:lnTo>
                    <a:pt x="598" y="2559"/>
                  </a:lnTo>
                  <a:lnTo>
                    <a:pt x="612" y="2559"/>
                  </a:lnTo>
                  <a:lnTo>
                    <a:pt x="612" y="2542"/>
                  </a:lnTo>
                  <a:lnTo>
                    <a:pt x="619" y="2542"/>
                  </a:lnTo>
                  <a:lnTo>
                    <a:pt x="619" y="2517"/>
                  </a:lnTo>
                  <a:lnTo>
                    <a:pt x="625" y="2517"/>
                  </a:lnTo>
                  <a:lnTo>
                    <a:pt x="625" y="2509"/>
                  </a:lnTo>
                  <a:lnTo>
                    <a:pt x="632" y="2509"/>
                  </a:lnTo>
                  <a:lnTo>
                    <a:pt x="632" y="2492"/>
                  </a:lnTo>
                  <a:lnTo>
                    <a:pt x="652" y="2492"/>
                  </a:lnTo>
                  <a:lnTo>
                    <a:pt x="652" y="2467"/>
                  </a:lnTo>
                  <a:lnTo>
                    <a:pt x="659" y="2467"/>
                  </a:lnTo>
                  <a:lnTo>
                    <a:pt x="659" y="2459"/>
                  </a:lnTo>
                  <a:lnTo>
                    <a:pt x="666" y="2459"/>
                  </a:lnTo>
                  <a:lnTo>
                    <a:pt x="666" y="2426"/>
                  </a:lnTo>
                  <a:lnTo>
                    <a:pt x="672" y="2426"/>
                  </a:lnTo>
                  <a:lnTo>
                    <a:pt x="672" y="2417"/>
                  </a:lnTo>
                  <a:lnTo>
                    <a:pt x="686" y="2417"/>
                  </a:lnTo>
                  <a:lnTo>
                    <a:pt x="686" y="2392"/>
                  </a:lnTo>
                  <a:lnTo>
                    <a:pt x="706" y="2392"/>
                  </a:lnTo>
                  <a:lnTo>
                    <a:pt x="706" y="2384"/>
                  </a:lnTo>
                  <a:lnTo>
                    <a:pt x="713" y="2384"/>
                  </a:lnTo>
                  <a:lnTo>
                    <a:pt x="713" y="2375"/>
                  </a:lnTo>
                  <a:lnTo>
                    <a:pt x="753" y="2375"/>
                  </a:lnTo>
                  <a:lnTo>
                    <a:pt x="753" y="2367"/>
                  </a:lnTo>
                  <a:lnTo>
                    <a:pt x="760" y="2367"/>
                  </a:lnTo>
                  <a:lnTo>
                    <a:pt x="760" y="2359"/>
                  </a:lnTo>
                  <a:lnTo>
                    <a:pt x="767" y="2359"/>
                  </a:lnTo>
                  <a:lnTo>
                    <a:pt x="767" y="2350"/>
                  </a:lnTo>
                  <a:lnTo>
                    <a:pt x="773" y="2350"/>
                  </a:lnTo>
                  <a:lnTo>
                    <a:pt x="773" y="2342"/>
                  </a:lnTo>
                  <a:lnTo>
                    <a:pt x="787" y="2342"/>
                  </a:lnTo>
                  <a:lnTo>
                    <a:pt x="787" y="2333"/>
                  </a:lnTo>
                  <a:lnTo>
                    <a:pt x="794" y="2333"/>
                  </a:lnTo>
                  <a:lnTo>
                    <a:pt x="794" y="2317"/>
                  </a:lnTo>
                  <a:lnTo>
                    <a:pt x="800" y="2317"/>
                  </a:lnTo>
                  <a:lnTo>
                    <a:pt x="800" y="2300"/>
                  </a:lnTo>
                  <a:lnTo>
                    <a:pt x="814" y="2300"/>
                  </a:lnTo>
                  <a:lnTo>
                    <a:pt x="814" y="2292"/>
                  </a:lnTo>
                  <a:lnTo>
                    <a:pt x="820" y="2292"/>
                  </a:lnTo>
                  <a:lnTo>
                    <a:pt x="820" y="2266"/>
                  </a:lnTo>
                  <a:lnTo>
                    <a:pt x="834" y="2266"/>
                  </a:lnTo>
                  <a:lnTo>
                    <a:pt x="834" y="2250"/>
                  </a:lnTo>
                  <a:lnTo>
                    <a:pt x="841" y="2250"/>
                  </a:lnTo>
                  <a:lnTo>
                    <a:pt x="841" y="2233"/>
                  </a:lnTo>
                  <a:lnTo>
                    <a:pt x="847" y="2233"/>
                  </a:lnTo>
                  <a:lnTo>
                    <a:pt x="847" y="2199"/>
                  </a:lnTo>
                  <a:lnTo>
                    <a:pt x="854" y="2199"/>
                  </a:lnTo>
                  <a:lnTo>
                    <a:pt x="854" y="2157"/>
                  </a:lnTo>
                  <a:lnTo>
                    <a:pt x="861" y="2157"/>
                  </a:lnTo>
                  <a:lnTo>
                    <a:pt x="861" y="2148"/>
                  </a:lnTo>
                  <a:lnTo>
                    <a:pt x="868" y="2148"/>
                  </a:lnTo>
                  <a:lnTo>
                    <a:pt x="868" y="2140"/>
                  </a:lnTo>
                  <a:lnTo>
                    <a:pt x="874" y="2140"/>
                  </a:lnTo>
                  <a:lnTo>
                    <a:pt x="874" y="2131"/>
                  </a:lnTo>
                  <a:lnTo>
                    <a:pt x="881" y="2131"/>
                  </a:lnTo>
                  <a:lnTo>
                    <a:pt x="881" y="2123"/>
                  </a:lnTo>
                  <a:lnTo>
                    <a:pt x="888" y="2123"/>
                  </a:lnTo>
                  <a:lnTo>
                    <a:pt x="888" y="2106"/>
                  </a:lnTo>
                  <a:lnTo>
                    <a:pt x="894" y="2106"/>
                  </a:lnTo>
                  <a:lnTo>
                    <a:pt x="894" y="2089"/>
                  </a:lnTo>
                  <a:lnTo>
                    <a:pt x="901" y="2089"/>
                  </a:lnTo>
                  <a:lnTo>
                    <a:pt x="901" y="2063"/>
                  </a:lnTo>
                  <a:lnTo>
                    <a:pt x="908" y="2063"/>
                  </a:lnTo>
                  <a:lnTo>
                    <a:pt x="908" y="2054"/>
                  </a:lnTo>
                  <a:lnTo>
                    <a:pt x="921" y="2054"/>
                  </a:lnTo>
                  <a:lnTo>
                    <a:pt x="921" y="2046"/>
                  </a:lnTo>
                  <a:lnTo>
                    <a:pt x="935" y="2046"/>
                  </a:lnTo>
                  <a:lnTo>
                    <a:pt x="935" y="2037"/>
                  </a:lnTo>
                  <a:lnTo>
                    <a:pt x="942" y="2037"/>
                  </a:lnTo>
                  <a:lnTo>
                    <a:pt x="942" y="2011"/>
                  </a:lnTo>
                  <a:lnTo>
                    <a:pt x="948" y="2011"/>
                  </a:lnTo>
                  <a:lnTo>
                    <a:pt x="948" y="2002"/>
                  </a:lnTo>
                  <a:lnTo>
                    <a:pt x="955" y="2002"/>
                  </a:lnTo>
                  <a:lnTo>
                    <a:pt x="955" y="1985"/>
                  </a:lnTo>
                  <a:lnTo>
                    <a:pt x="968" y="1985"/>
                  </a:lnTo>
                  <a:lnTo>
                    <a:pt x="968" y="1951"/>
                  </a:lnTo>
                  <a:lnTo>
                    <a:pt x="975" y="1951"/>
                  </a:lnTo>
                  <a:lnTo>
                    <a:pt x="982" y="1951"/>
                  </a:lnTo>
                  <a:lnTo>
                    <a:pt x="982" y="1942"/>
                  </a:lnTo>
                  <a:lnTo>
                    <a:pt x="1002" y="1942"/>
                  </a:lnTo>
                  <a:lnTo>
                    <a:pt x="1029" y="1942"/>
                  </a:lnTo>
                  <a:lnTo>
                    <a:pt x="1029" y="1933"/>
                  </a:lnTo>
                  <a:lnTo>
                    <a:pt x="1036" y="1933"/>
                  </a:lnTo>
                  <a:lnTo>
                    <a:pt x="1036" y="1924"/>
                  </a:lnTo>
                  <a:lnTo>
                    <a:pt x="1043" y="1924"/>
                  </a:lnTo>
                  <a:lnTo>
                    <a:pt x="1049" y="1924"/>
                  </a:lnTo>
                  <a:lnTo>
                    <a:pt x="1049" y="1916"/>
                  </a:lnTo>
                  <a:lnTo>
                    <a:pt x="1076" y="1916"/>
                  </a:lnTo>
                  <a:lnTo>
                    <a:pt x="1076" y="1907"/>
                  </a:lnTo>
                  <a:lnTo>
                    <a:pt x="1090" y="1907"/>
                  </a:lnTo>
                  <a:lnTo>
                    <a:pt x="1090" y="1898"/>
                  </a:lnTo>
                  <a:lnTo>
                    <a:pt x="1096" y="1898"/>
                  </a:lnTo>
                  <a:lnTo>
                    <a:pt x="1096" y="1889"/>
                  </a:lnTo>
                  <a:lnTo>
                    <a:pt x="1103" y="1889"/>
                  </a:lnTo>
                  <a:lnTo>
                    <a:pt x="1103" y="1880"/>
                  </a:lnTo>
                  <a:lnTo>
                    <a:pt x="1110" y="1880"/>
                  </a:lnTo>
                  <a:lnTo>
                    <a:pt x="1110" y="1872"/>
                  </a:lnTo>
                  <a:lnTo>
                    <a:pt x="1117" y="1872"/>
                  </a:lnTo>
                  <a:lnTo>
                    <a:pt x="1117" y="1854"/>
                  </a:lnTo>
                  <a:lnTo>
                    <a:pt x="1123" y="1854"/>
                  </a:lnTo>
                  <a:lnTo>
                    <a:pt x="1123" y="1836"/>
                  </a:lnTo>
                  <a:lnTo>
                    <a:pt x="1130" y="1836"/>
                  </a:lnTo>
                  <a:lnTo>
                    <a:pt x="1130" y="1801"/>
                  </a:lnTo>
                  <a:lnTo>
                    <a:pt x="1137" y="1801"/>
                  </a:lnTo>
                  <a:lnTo>
                    <a:pt x="1137" y="1774"/>
                  </a:lnTo>
                  <a:lnTo>
                    <a:pt x="1143" y="1774"/>
                  </a:lnTo>
                  <a:lnTo>
                    <a:pt x="1143" y="1757"/>
                  </a:lnTo>
                  <a:lnTo>
                    <a:pt x="1150" y="1757"/>
                  </a:lnTo>
                  <a:lnTo>
                    <a:pt x="1157" y="1757"/>
                  </a:lnTo>
                  <a:lnTo>
                    <a:pt x="1157" y="1721"/>
                  </a:lnTo>
                  <a:lnTo>
                    <a:pt x="1170" y="1721"/>
                  </a:lnTo>
                  <a:lnTo>
                    <a:pt x="1170" y="1694"/>
                  </a:lnTo>
                  <a:lnTo>
                    <a:pt x="1177" y="1694"/>
                  </a:lnTo>
                  <a:lnTo>
                    <a:pt x="1177" y="1676"/>
                  </a:lnTo>
                  <a:lnTo>
                    <a:pt x="1184" y="1676"/>
                  </a:lnTo>
                  <a:lnTo>
                    <a:pt x="1184" y="1658"/>
                  </a:lnTo>
                  <a:lnTo>
                    <a:pt x="1191" y="1658"/>
                  </a:lnTo>
                  <a:lnTo>
                    <a:pt x="1191" y="1631"/>
                  </a:lnTo>
                  <a:lnTo>
                    <a:pt x="1211" y="1631"/>
                  </a:lnTo>
                  <a:lnTo>
                    <a:pt x="1211" y="1622"/>
                  </a:lnTo>
                  <a:lnTo>
                    <a:pt x="1217" y="1622"/>
                  </a:lnTo>
                  <a:lnTo>
                    <a:pt x="1224" y="1622"/>
                  </a:lnTo>
                  <a:lnTo>
                    <a:pt x="1224" y="1613"/>
                  </a:lnTo>
                  <a:lnTo>
                    <a:pt x="1238" y="1613"/>
                  </a:lnTo>
                  <a:lnTo>
                    <a:pt x="1238" y="1595"/>
                  </a:lnTo>
                  <a:lnTo>
                    <a:pt x="1251" y="1595"/>
                  </a:lnTo>
                  <a:lnTo>
                    <a:pt x="1251" y="1586"/>
                  </a:lnTo>
                  <a:lnTo>
                    <a:pt x="1265" y="1586"/>
                  </a:lnTo>
                  <a:lnTo>
                    <a:pt x="1271" y="1586"/>
                  </a:lnTo>
                  <a:lnTo>
                    <a:pt x="1271" y="1577"/>
                  </a:lnTo>
                  <a:lnTo>
                    <a:pt x="1278" y="1577"/>
                  </a:lnTo>
                  <a:lnTo>
                    <a:pt x="1278" y="1568"/>
                  </a:lnTo>
                  <a:lnTo>
                    <a:pt x="1291" y="1568"/>
                  </a:lnTo>
                  <a:lnTo>
                    <a:pt x="1291" y="1558"/>
                  </a:lnTo>
                  <a:lnTo>
                    <a:pt x="1298" y="1558"/>
                  </a:lnTo>
                  <a:lnTo>
                    <a:pt x="1298" y="1549"/>
                  </a:lnTo>
                  <a:lnTo>
                    <a:pt x="1305" y="1549"/>
                  </a:lnTo>
                  <a:lnTo>
                    <a:pt x="1305" y="1540"/>
                  </a:lnTo>
                  <a:lnTo>
                    <a:pt x="1312" y="1540"/>
                  </a:lnTo>
                  <a:lnTo>
                    <a:pt x="1312" y="1531"/>
                  </a:lnTo>
                  <a:lnTo>
                    <a:pt x="1325" y="1531"/>
                  </a:lnTo>
                  <a:lnTo>
                    <a:pt x="1325" y="1513"/>
                  </a:lnTo>
                  <a:lnTo>
                    <a:pt x="1372" y="1513"/>
                  </a:lnTo>
                  <a:lnTo>
                    <a:pt x="1372" y="1494"/>
                  </a:lnTo>
                  <a:lnTo>
                    <a:pt x="1379" y="1494"/>
                  </a:lnTo>
                  <a:lnTo>
                    <a:pt x="1379" y="1485"/>
                  </a:lnTo>
                  <a:lnTo>
                    <a:pt x="1386" y="1485"/>
                  </a:lnTo>
                  <a:lnTo>
                    <a:pt x="1386" y="1457"/>
                  </a:lnTo>
                  <a:lnTo>
                    <a:pt x="1392" y="1457"/>
                  </a:lnTo>
                  <a:lnTo>
                    <a:pt x="1392" y="1448"/>
                  </a:lnTo>
                  <a:lnTo>
                    <a:pt x="1406" y="1448"/>
                  </a:lnTo>
                  <a:lnTo>
                    <a:pt x="1406" y="1438"/>
                  </a:lnTo>
                  <a:lnTo>
                    <a:pt x="1413" y="1438"/>
                  </a:lnTo>
                  <a:lnTo>
                    <a:pt x="1413" y="1429"/>
                  </a:lnTo>
                  <a:lnTo>
                    <a:pt x="1419" y="1429"/>
                  </a:lnTo>
                  <a:lnTo>
                    <a:pt x="1419" y="1401"/>
                  </a:lnTo>
                  <a:lnTo>
                    <a:pt x="1426" y="1401"/>
                  </a:lnTo>
                  <a:lnTo>
                    <a:pt x="1426" y="1392"/>
                  </a:lnTo>
                  <a:lnTo>
                    <a:pt x="1440" y="1392"/>
                  </a:lnTo>
                  <a:lnTo>
                    <a:pt x="1440" y="1373"/>
                  </a:lnTo>
                  <a:lnTo>
                    <a:pt x="1446" y="1373"/>
                  </a:lnTo>
                  <a:lnTo>
                    <a:pt x="1446" y="1363"/>
                  </a:lnTo>
                  <a:lnTo>
                    <a:pt x="1453" y="1363"/>
                  </a:lnTo>
                  <a:lnTo>
                    <a:pt x="1453" y="1354"/>
                  </a:lnTo>
                  <a:lnTo>
                    <a:pt x="1460" y="1354"/>
                  </a:lnTo>
                  <a:lnTo>
                    <a:pt x="1460" y="1344"/>
                  </a:lnTo>
                  <a:lnTo>
                    <a:pt x="1466" y="1344"/>
                  </a:lnTo>
                  <a:lnTo>
                    <a:pt x="1466" y="1335"/>
                  </a:lnTo>
                  <a:lnTo>
                    <a:pt x="1473" y="1335"/>
                  </a:lnTo>
                  <a:lnTo>
                    <a:pt x="1473" y="1326"/>
                  </a:lnTo>
                  <a:lnTo>
                    <a:pt x="1480" y="1326"/>
                  </a:lnTo>
                  <a:lnTo>
                    <a:pt x="1480" y="1316"/>
                  </a:lnTo>
                  <a:lnTo>
                    <a:pt x="1487" y="1316"/>
                  </a:lnTo>
                  <a:lnTo>
                    <a:pt x="1487" y="1297"/>
                  </a:lnTo>
                  <a:lnTo>
                    <a:pt x="1514" y="1297"/>
                  </a:lnTo>
                  <a:lnTo>
                    <a:pt x="1514" y="1288"/>
                  </a:lnTo>
                  <a:lnTo>
                    <a:pt x="1520" y="1288"/>
                  </a:lnTo>
                  <a:lnTo>
                    <a:pt x="1520" y="1278"/>
                  </a:lnTo>
                  <a:lnTo>
                    <a:pt x="1527" y="1278"/>
                  </a:lnTo>
                  <a:lnTo>
                    <a:pt x="1527" y="1269"/>
                  </a:lnTo>
                  <a:lnTo>
                    <a:pt x="1534" y="1269"/>
                  </a:lnTo>
                  <a:lnTo>
                    <a:pt x="1534" y="1259"/>
                  </a:lnTo>
                  <a:lnTo>
                    <a:pt x="1540" y="1259"/>
                  </a:lnTo>
                  <a:lnTo>
                    <a:pt x="1540" y="1250"/>
                  </a:lnTo>
                  <a:lnTo>
                    <a:pt x="1561" y="1250"/>
                  </a:lnTo>
                  <a:lnTo>
                    <a:pt x="1561" y="1240"/>
                  </a:lnTo>
                  <a:lnTo>
                    <a:pt x="1581" y="1240"/>
                  </a:lnTo>
                  <a:lnTo>
                    <a:pt x="1588" y="1240"/>
                  </a:lnTo>
                  <a:lnTo>
                    <a:pt x="1588" y="1230"/>
                  </a:lnTo>
                  <a:lnTo>
                    <a:pt x="1641" y="1230"/>
                  </a:lnTo>
                  <a:lnTo>
                    <a:pt x="1641" y="1221"/>
                  </a:lnTo>
                  <a:lnTo>
                    <a:pt x="1648" y="1221"/>
                  </a:lnTo>
                  <a:lnTo>
                    <a:pt x="1648" y="1211"/>
                  </a:lnTo>
                  <a:lnTo>
                    <a:pt x="1655" y="1211"/>
                  </a:lnTo>
                  <a:lnTo>
                    <a:pt x="1662" y="1211"/>
                  </a:lnTo>
                  <a:lnTo>
                    <a:pt x="1662" y="1202"/>
                  </a:lnTo>
                  <a:lnTo>
                    <a:pt x="1682" y="1202"/>
                  </a:lnTo>
                  <a:lnTo>
                    <a:pt x="1682" y="1182"/>
                  </a:lnTo>
                  <a:lnTo>
                    <a:pt x="1695" y="1182"/>
                  </a:lnTo>
                  <a:lnTo>
                    <a:pt x="1695" y="1172"/>
                  </a:lnTo>
                  <a:lnTo>
                    <a:pt x="1702" y="1172"/>
                  </a:lnTo>
                  <a:lnTo>
                    <a:pt x="1702" y="1163"/>
                  </a:lnTo>
                  <a:lnTo>
                    <a:pt x="1709" y="1163"/>
                  </a:lnTo>
                  <a:lnTo>
                    <a:pt x="1709" y="1153"/>
                  </a:lnTo>
                  <a:lnTo>
                    <a:pt x="1722" y="1153"/>
                  </a:lnTo>
                  <a:lnTo>
                    <a:pt x="1742" y="1153"/>
                  </a:lnTo>
                  <a:lnTo>
                    <a:pt x="1742" y="1133"/>
                  </a:lnTo>
                  <a:lnTo>
                    <a:pt x="1749" y="1133"/>
                  </a:lnTo>
                  <a:lnTo>
                    <a:pt x="1756" y="1133"/>
                  </a:lnTo>
                  <a:lnTo>
                    <a:pt x="1756" y="1123"/>
                  </a:lnTo>
                  <a:lnTo>
                    <a:pt x="1763" y="1123"/>
                  </a:lnTo>
                  <a:lnTo>
                    <a:pt x="1763" y="1114"/>
                  </a:lnTo>
                  <a:lnTo>
                    <a:pt x="1769" y="1114"/>
                  </a:lnTo>
                  <a:lnTo>
                    <a:pt x="1769" y="1104"/>
                  </a:lnTo>
                  <a:lnTo>
                    <a:pt x="1789" y="1104"/>
                  </a:lnTo>
                  <a:lnTo>
                    <a:pt x="1789" y="1094"/>
                  </a:lnTo>
                  <a:lnTo>
                    <a:pt x="1803" y="1094"/>
                  </a:lnTo>
                  <a:lnTo>
                    <a:pt x="1803" y="1064"/>
                  </a:lnTo>
                  <a:lnTo>
                    <a:pt x="1810" y="1064"/>
                  </a:lnTo>
                  <a:lnTo>
                    <a:pt x="1810" y="1054"/>
                  </a:lnTo>
                  <a:lnTo>
                    <a:pt x="1816" y="1054"/>
                  </a:lnTo>
                  <a:lnTo>
                    <a:pt x="1816" y="1034"/>
                  </a:lnTo>
                  <a:lnTo>
                    <a:pt x="1823" y="1034"/>
                  </a:lnTo>
                  <a:lnTo>
                    <a:pt x="1823" y="1024"/>
                  </a:lnTo>
                  <a:lnTo>
                    <a:pt x="1843" y="1024"/>
                  </a:lnTo>
                  <a:lnTo>
                    <a:pt x="1870" y="1024"/>
                  </a:lnTo>
                  <a:lnTo>
                    <a:pt x="1884" y="1024"/>
                  </a:lnTo>
                  <a:lnTo>
                    <a:pt x="1884" y="1014"/>
                  </a:lnTo>
                  <a:lnTo>
                    <a:pt x="1917" y="1014"/>
                  </a:lnTo>
                  <a:lnTo>
                    <a:pt x="1917" y="1004"/>
                  </a:lnTo>
                  <a:lnTo>
                    <a:pt x="1931" y="1004"/>
                  </a:lnTo>
                  <a:lnTo>
                    <a:pt x="1931" y="994"/>
                  </a:lnTo>
                  <a:lnTo>
                    <a:pt x="1937" y="994"/>
                  </a:lnTo>
                  <a:lnTo>
                    <a:pt x="1937" y="984"/>
                  </a:lnTo>
                  <a:lnTo>
                    <a:pt x="1944" y="984"/>
                  </a:lnTo>
                  <a:lnTo>
                    <a:pt x="1944" y="973"/>
                  </a:lnTo>
                  <a:lnTo>
                    <a:pt x="1951" y="973"/>
                  </a:lnTo>
                  <a:lnTo>
                    <a:pt x="1951" y="963"/>
                  </a:lnTo>
                  <a:lnTo>
                    <a:pt x="1964" y="963"/>
                  </a:lnTo>
                  <a:lnTo>
                    <a:pt x="1964" y="953"/>
                  </a:lnTo>
                  <a:lnTo>
                    <a:pt x="1985" y="953"/>
                  </a:lnTo>
                  <a:lnTo>
                    <a:pt x="1985" y="942"/>
                  </a:lnTo>
                  <a:lnTo>
                    <a:pt x="2018" y="942"/>
                  </a:lnTo>
                  <a:lnTo>
                    <a:pt x="2018" y="932"/>
                  </a:lnTo>
                  <a:lnTo>
                    <a:pt x="2032" y="932"/>
                  </a:lnTo>
                  <a:lnTo>
                    <a:pt x="2032" y="912"/>
                  </a:lnTo>
                  <a:lnTo>
                    <a:pt x="2038" y="912"/>
                  </a:lnTo>
                  <a:lnTo>
                    <a:pt x="2038" y="901"/>
                  </a:lnTo>
                  <a:lnTo>
                    <a:pt x="2092" y="901"/>
                  </a:lnTo>
                  <a:lnTo>
                    <a:pt x="2092" y="891"/>
                  </a:lnTo>
                  <a:lnTo>
                    <a:pt x="2106" y="891"/>
                  </a:lnTo>
                  <a:lnTo>
                    <a:pt x="2106" y="881"/>
                  </a:lnTo>
                  <a:lnTo>
                    <a:pt x="2133" y="881"/>
                  </a:lnTo>
                  <a:lnTo>
                    <a:pt x="2133" y="871"/>
                  </a:lnTo>
                  <a:lnTo>
                    <a:pt x="2180" y="871"/>
                  </a:lnTo>
                  <a:lnTo>
                    <a:pt x="2180" y="860"/>
                  </a:lnTo>
                  <a:lnTo>
                    <a:pt x="2200" y="860"/>
                  </a:lnTo>
                  <a:lnTo>
                    <a:pt x="2200" y="850"/>
                  </a:lnTo>
                  <a:lnTo>
                    <a:pt x="2234" y="850"/>
                  </a:lnTo>
                  <a:lnTo>
                    <a:pt x="2234" y="840"/>
                  </a:lnTo>
                  <a:lnTo>
                    <a:pt x="2240" y="840"/>
                  </a:lnTo>
                  <a:lnTo>
                    <a:pt x="2240" y="829"/>
                  </a:lnTo>
                  <a:lnTo>
                    <a:pt x="2247" y="829"/>
                  </a:lnTo>
                  <a:lnTo>
                    <a:pt x="2247" y="809"/>
                  </a:lnTo>
                  <a:lnTo>
                    <a:pt x="2267" y="809"/>
                  </a:lnTo>
                  <a:lnTo>
                    <a:pt x="2281" y="809"/>
                  </a:lnTo>
                  <a:lnTo>
                    <a:pt x="2314" y="809"/>
                  </a:lnTo>
                  <a:lnTo>
                    <a:pt x="2314" y="798"/>
                  </a:lnTo>
                  <a:lnTo>
                    <a:pt x="2334" y="798"/>
                  </a:lnTo>
                  <a:lnTo>
                    <a:pt x="2334" y="777"/>
                  </a:lnTo>
                  <a:lnTo>
                    <a:pt x="2382" y="777"/>
                  </a:lnTo>
                  <a:lnTo>
                    <a:pt x="2382" y="767"/>
                  </a:lnTo>
                  <a:lnTo>
                    <a:pt x="2388" y="767"/>
                  </a:lnTo>
                  <a:lnTo>
                    <a:pt x="2388" y="756"/>
                  </a:lnTo>
                  <a:lnTo>
                    <a:pt x="2395" y="756"/>
                  </a:lnTo>
                  <a:lnTo>
                    <a:pt x="2395" y="746"/>
                  </a:lnTo>
                  <a:lnTo>
                    <a:pt x="2402" y="746"/>
                  </a:lnTo>
                  <a:lnTo>
                    <a:pt x="2402" y="735"/>
                  </a:lnTo>
                  <a:lnTo>
                    <a:pt x="2409" y="735"/>
                  </a:lnTo>
                  <a:lnTo>
                    <a:pt x="2409" y="724"/>
                  </a:lnTo>
                  <a:lnTo>
                    <a:pt x="2456" y="724"/>
                  </a:lnTo>
                  <a:lnTo>
                    <a:pt x="2456" y="713"/>
                  </a:lnTo>
                  <a:lnTo>
                    <a:pt x="2483" y="713"/>
                  </a:lnTo>
                  <a:lnTo>
                    <a:pt x="2483" y="702"/>
                  </a:lnTo>
                  <a:lnTo>
                    <a:pt x="2509" y="702"/>
                  </a:lnTo>
                  <a:lnTo>
                    <a:pt x="2509" y="670"/>
                  </a:lnTo>
                  <a:lnTo>
                    <a:pt x="2550" y="670"/>
                  </a:lnTo>
                  <a:lnTo>
                    <a:pt x="2550" y="649"/>
                  </a:lnTo>
                  <a:lnTo>
                    <a:pt x="2563" y="649"/>
                  </a:lnTo>
                  <a:lnTo>
                    <a:pt x="2563" y="638"/>
                  </a:lnTo>
                  <a:lnTo>
                    <a:pt x="2583" y="638"/>
                  </a:lnTo>
                  <a:lnTo>
                    <a:pt x="2583" y="627"/>
                  </a:lnTo>
                  <a:lnTo>
                    <a:pt x="2590" y="627"/>
                  </a:lnTo>
                  <a:lnTo>
                    <a:pt x="2590" y="616"/>
                  </a:lnTo>
                  <a:lnTo>
                    <a:pt x="2597" y="616"/>
                  </a:lnTo>
                  <a:lnTo>
                    <a:pt x="2597" y="605"/>
                  </a:lnTo>
                  <a:lnTo>
                    <a:pt x="2644" y="605"/>
                  </a:lnTo>
                  <a:lnTo>
                    <a:pt x="2664" y="605"/>
                  </a:lnTo>
                  <a:lnTo>
                    <a:pt x="2664" y="594"/>
                  </a:lnTo>
                  <a:lnTo>
                    <a:pt x="2684" y="594"/>
                  </a:lnTo>
                  <a:lnTo>
                    <a:pt x="2738" y="594"/>
                  </a:lnTo>
                  <a:lnTo>
                    <a:pt x="2738" y="583"/>
                  </a:lnTo>
                  <a:lnTo>
                    <a:pt x="2745" y="583"/>
                  </a:lnTo>
                  <a:lnTo>
                    <a:pt x="2745" y="572"/>
                  </a:lnTo>
                  <a:lnTo>
                    <a:pt x="2785" y="572"/>
                  </a:lnTo>
                  <a:lnTo>
                    <a:pt x="2792" y="572"/>
                  </a:lnTo>
                  <a:lnTo>
                    <a:pt x="2826" y="572"/>
                  </a:lnTo>
                  <a:lnTo>
                    <a:pt x="2826" y="561"/>
                  </a:lnTo>
                  <a:lnTo>
                    <a:pt x="2832" y="561"/>
                  </a:lnTo>
                  <a:lnTo>
                    <a:pt x="2832" y="549"/>
                  </a:lnTo>
                  <a:lnTo>
                    <a:pt x="2839" y="549"/>
                  </a:lnTo>
                  <a:lnTo>
                    <a:pt x="2839" y="538"/>
                  </a:lnTo>
                  <a:lnTo>
                    <a:pt x="2846" y="538"/>
                  </a:lnTo>
                  <a:lnTo>
                    <a:pt x="2846" y="526"/>
                  </a:lnTo>
                  <a:lnTo>
                    <a:pt x="2853" y="526"/>
                  </a:lnTo>
                  <a:lnTo>
                    <a:pt x="2853" y="515"/>
                  </a:lnTo>
                  <a:lnTo>
                    <a:pt x="2880" y="515"/>
                  </a:lnTo>
                  <a:lnTo>
                    <a:pt x="2880" y="503"/>
                  </a:lnTo>
                  <a:lnTo>
                    <a:pt x="2906" y="503"/>
                  </a:lnTo>
                  <a:lnTo>
                    <a:pt x="2906" y="492"/>
                  </a:lnTo>
                  <a:lnTo>
                    <a:pt x="2947" y="492"/>
                  </a:lnTo>
                  <a:lnTo>
                    <a:pt x="2947" y="480"/>
                  </a:lnTo>
                  <a:lnTo>
                    <a:pt x="2974" y="480"/>
                  </a:lnTo>
                  <a:lnTo>
                    <a:pt x="2974" y="469"/>
                  </a:lnTo>
                  <a:lnTo>
                    <a:pt x="3068" y="469"/>
                  </a:lnTo>
                  <a:lnTo>
                    <a:pt x="3068" y="457"/>
                  </a:lnTo>
                  <a:lnTo>
                    <a:pt x="3081" y="457"/>
                  </a:lnTo>
                  <a:lnTo>
                    <a:pt x="3135" y="457"/>
                  </a:lnTo>
                  <a:lnTo>
                    <a:pt x="3135" y="446"/>
                  </a:lnTo>
                  <a:lnTo>
                    <a:pt x="3189" y="446"/>
                  </a:lnTo>
                  <a:lnTo>
                    <a:pt x="3189" y="434"/>
                  </a:lnTo>
                  <a:lnTo>
                    <a:pt x="3256" y="434"/>
                  </a:lnTo>
                  <a:lnTo>
                    <a:pt x="3256" y="422"/>
                  </a:lnTo>
                  <a:lnTo>
                    <a:pt x="3297" y="422"/>
                  </a:lnTo>
                  <a:lnTo>
                    <a:pt x="3297" y="410"/>
                  </a:lnTo>
                  <a:lnTo>
                    <a:pt x="3357" y="410"/>
                  </a:lnTo>
                  <a:lnTo>
                    <a:pt x="3357" y="399"/>
                  </a:lnTo>
                  <a:lnTo>
                    <a:pt x="3378" y="399"/>
                  </a:lnTo>
                  <a:lnTo>
                    <a:pt x="3378" y="375"/>
                  </a:lnTo>
                  <a:lnTo>
                    <a:pt x="3398" y="375"/>
                  </a:lnTo>
                  <a:lnTo>
                    <a:pt x="3398" y="363"/>
                  </a:lnTo>
                  <a:lnTo>
                    <a:pt x="3411" y="363"/>
                  </a:lnTo>
                  <a:lnTo>
                    <a:pt x="3411" y="352"/>
                  </a:lnTo>
                  <a:lnTo>
                    <a:pt x="3438" y="352"/>
                  </a:lnTo>
                  <a:lnTo>
                    <a:pt x="3505" y="352"/>
                  </a:lnTo>
                  <a:lnTo>
                    <a:pt x="3505" y="340"/>
                  </a:lnTo>
                  <a:lnTo>
                    <a:pt x="3519" y="340"/>
                  </a:lnTo>
                  <a:lnTo>
                    <a:pt x="3600" y="340"/>
                  </a:lnTo>
                  <a:lnTo>
                    <a:pt x="3613" y="340"/>
                  </a:lnTo>
                  <a:lnTo>
                    <a:pt x="3613" y="327"/>
                  </a:lnTo>
                  <a:lnTo>
                    <a:pt x="3620" y="327"/>
                  </a:lnTo>
                  <a:lnTo>
                    <a:pt x="3680" y="327"/>
                  </a:lnTo>
                  <a:lnTo>
                    <a:pt x="3714" y="327"/>
                  </a:lnTo>
                  <a:lnTo>
                    <a:pt x="3714" y="313"/>
                  </a:lnTo>
                  <a:lnTo>
                    <a:pt x="3761" y="313"/>
                  </a:lnTo>
                  <a:lnTo>
                    <a:pt x="3761" y="286"/>
                  </a:lnTo>
                  <a:lnTo>
                    <a:pt x="3808" y="286"/>
                  </a:lnTo>
                  <a:lnTo>
                    <a:pt x="3808" y="257"/>
                  </a:lnTo>
                  <a:lnTo>
                    <a:pt x="3835" y="257"/>
                  </a:lnTo>
                  <a:lnTo>
                    <a:pt x="3923" y="257"/>
                  </a:lnTo>
                  <a:lnTo>
                    <a:pt x="3956" y="257"/>
                  </a:lnTo>
                  <a:lnTo>
                    <a:pt x="4084" y="257"/>
                  </a:lnTo>
                  <a:lnTo>
                    <a:pt x="4252" y="257"/>
                  </a:lnTo>
                  <a:lnTo>
                    <a:pt x="4340" y="257"/>
                  </a:lnTo>
                  <a:lnTo>
                    <a:pt x="4340" y="239"/>
                  </a:lnTo>
                  <a:lnTo>
                    <a:pt x="4360" y="239"/>
                  </a:lnTo>
                  <a:lnTo>
                    <a:pt x="4360" y="221"/>
                  </a:lnTo>
                  <a:lnTo>
                    <a:pt x="4407" y="221"/>
                  </a:lnTo>
                  <a:lnTo>
                    <a:pt x="4488" y="221"/>
                  </a:lnTo>
                  <a:lnTo>
                    <a:pt x="4488" y="202"/>
                  </a:lnTo>
                  <a:lnTo>
                    <a:pt x="4508" y="202"/>
                  </a:lnTo>
                  <a:lnTo>
                    <a:pt x="4508" y="183"/>
                  </a:lnTo>
                  <a:lnTo>
                    <a:pt x="4521" y="183"/>
                  </a:lnTo>
                  <a:lnTo>
                    <a:pt x="4521" y="163"/>
                  </a:lnTo>
                  <a:lnTo>
                    <a:pt x="4548" y="163"/>
                  </a:lnTo>
                  <a:lnTo>
                    <a:pt x="4548" y="144"/>
                  </a:lnTo>
                  <a:lnTo>
                    <a:pt x="4717" y="144"/>
                  </a:lnTo>
                  <a:lnTo>
                    <a:pt x="4717" y="125"/>
                  </a:lnTo>
                  <a:lnTo>
                    <a:pt x="4777" y="125"/>
                  </a:lnTo>
                  <a:lnTo>
                    <a:pt x="4777" y="106"/>
                  </a:lnTo>
                  <a:lnTo>
                    <a:pt x="4811" y="106"/>
                  </a:lnTo>
                  <a:lnTo>
                    <a:pt x="4912" y="106"/>
                  </a:lnTo>
                  <a:lnTo>
                    <a:pt x="5033" y="106"/>
                  </a:lnTo>
                  <a:lnTo>
                    <a:pt x="5060" y="106"/>
                  </a:lnTo>
                  <a:lnTo>
                    <a:pt x="5134" y="106"/>
                  </a:lnTo>
                  <a:lnTo>
                    <a:pt x="5167" y="106"/>
                  </a:lnTo>
                  <a:lnTo>
                    <a:pt x="5450" y="106"/>
                  </a:lnTo>
                  <a:lnTo>
                    <a:pt x="5612" y="106"/>
                  </a:lnTo>
                  <a:lnTo>
                    <a:pt x="5847" y="106"/>
                  </a:lnTo>
                  <a:lnTo>
                    <a:pt x="6224" y="106"/>
                  </a:lnTo>
                  <a:lnTo>
                    <a:pt x="6224" y="0"/>
                  </a:lnTo>
                  <a:lnTo>
                    <a:pt x="6870"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53" name="Freeform 94"/>
            <p:cNvSpPr/>
            <p:nvPr/>
          </p:nvSpPr>
          <p:spPr>
            <a:xfrm flipV="1">
              <a:off x="902880" y="1577520"/>
              <a:ext cx="6990120" cy="3618000"/>
            </a:xfrm>
            <a:custGeom>
              <a:avLst/>
              <a:gdLst/>
              <a:ahLst/>
              <a:rect l="l" t="t" r="r" b="b"/>
              <a:pathLst>
                <a:path w="6614" h="3431">
                  <a:moveTo>
                    <a:pt x="0" y="3431"/>
                  </a:moveTo>
                  <a:lnTo>
                    <a:pt x="6" y="3431"/>
                  </a:lnTo>
                  <a:lnTo>
                    <a:pt x="67" y="3431"/>
                  </a:lnTo>
                  <a:lnTo>
                    <a:pt x="67" y="3423"/>
                  </a:lnTo>
                  <a:lnTo>
                    <a:pt x="74" y="3423"/>
                  </a:lnTo>
                  <a:lnTo>
                    <a:pt x="74" y="3415"/>
                  </a:lnTo>
                  <a:lnTo>
                    <a:pt x="107" y="3415"/>
                  </a:lnTo>
                  <a:lnTo>
                    <a:pt x="107" y="3407"/>
                  </a:lnTo>
                  <a:lnTo>
                    <a:pt x="114" y="3407"/>
                  </a:lnTo>
                  <a:lnTo>
                    <a:pt x="114" y="3399"/>
                  </a:lnTo>
                  <a:lnTo>
                    <a:pt x="121" y="3399"/>
                  </a:lnTo>
                  <a:lnTo>
                    <a:pt x="121" y="3383"/>
                  </a:lnTo>
                  <a:lnTo>
                    <a:pt x="134" y="3383"/>
                  </a:lnTo>
                  <a:lnTo>
                    <a:pt x="134" y="3367"/>
                  </a:lnTo>
                  <a:lnTo>
                    <a:pt x="141" y="3367"/>
                  </a:lnTo>
                  <a:lnTo>
                    <a:pt x="141" y="3359"/>
                  </a:lnTo>
                  <a:lnTo>
                    <a:pt x="148" y="3359"/>
                  </a:lnTo>
                  <a:lnTo>
                    <a:pt x="148" y="3343"/>
                  </a:lnTo>
                  <a:lnTo>
                    <a:pt x="168" y="3343"/>
                  </a:lnTo>
                  <a:lnTo>
                    <a:pt x="168" y="3335"/>
                  </a:lnTo>
                  <a:lnTo>
                    <a:pt x="174" y="3335"/>
                  </a:lnTo>
                  <a:lnTo>
                    <a:pt x="174" y="3327"/>
                  </a:lnTo>
                  <a:lnTo>
                    <a:pt x="195" y="3327"/>
                  </a:lnTo>
                  <a:lnTo>
                    <a:pt x="195" y="3310"/>
                  </a:lnTo>
                  <a:lnTo>
                    <a:pt x="215" y="3310"/>
                  </a:lnTo>
                  <a:lnTo>
                    <a:pt x="215" y="3302"/>
                  </a:lnTo>
                  <a:lnTo>
                    <a:pt x="222" y="3302"/>
                  </a:lnTo>
                  <a:lnTo>
                    <a:pt x="222" y="3286"/>
                  </a:lnTo>
                  <a:lnTo>
                    <a:pt x="228" y="3286"/>
                  </a:lnTo>
                  <a:lnTo>
                    <a:pt x="228" y="3278"/>
                  </a:lnTo>
                  <a:lnTo>
                    <a:pt x="235" y="3278"/>
                  </a:lnTo>
                  <a:lnTo>
                    <a:pt x="235" y="3270"/>
                  </a:lnTo>
                  <a:lnTo>
                    <a:pt x="242" y="3270"/>
                  </a:lnTo>
                  <a:lnTo>
                    <a:pt x="242" y="3254"/>
                  </a:lnTo>
                  <a:lnTo>
                    <a:pt x="248" y="3254"/>
                  </a:lnTo>
                  <a:lnTo>
                    <a:pt x="248" y="3237"/>
                  </a:lnTo>
                  <a:lnTo>
                    <a:pt x="255" y="3237"/>
                  </a:lnTo>
                  <a:lnTo>
                    <a:pt x="255" y="3221"/>
                  </a:lnTo>
                  <a:lnTo>
                    <a:pt x="262" y="3221"/>
                  </a:lnTo>
                  <a:lnTo>
                    <a:pt x="262" y="3196"/>
                  </a:lnTo>
                  <a:lnTo>
                    <a:pt x="269" y="3196"/>
                  </a:lnTo>
                  <a:lnTo>
                    <a:pt x="275" y="3196"/>
                  </a:lnTo>
                  <a:lnTo>
                    <a:pt x="275" y="3147"/>
                  </a:lnTo>
                  <a:lnTo>
                    <a:pt x="282" y="3147"/>
                  </a:lnTo>
                  <a:lnTo>
                    <a:pt x="282" y="3131"/>
                  </a:lnTo>
                  <a:lnTo>
                    <a:pt x="289" y="3131"/>
                  </a:lnTo>
                  <a:lnTo>
                    <a:pt x="289" y="3122"/>
                  </a:lnTo>
                  <a:lnTo>
                    <a:pt x="296" y="3122"/>
                  </a:lnTo>
                  <a:lnTo>
                    <a:pt x="296" y="3106"/>
                  </a:lnTo>
                  <a:lnTo>
                    <a:pt x="302" y="3106"/>
                  </a:lnTo>
                  <a:lnTo>
                    <a:pt x="302" y="3089"/>
                  </a:lnTo>
                  <a:lnTo>
                    <a:pt x="316" y="3089"/>
                  </a:lnTo>
                  <a:lnTo>
                    <a:pt x="316" y="3073"/>
                  </a:lnTo>
                  <a:lnTo>
                    <a:pt x="322" y="3073"/>
                  </a:lnTo>
                  <a:lnTo>
                    <a:pt x="322" y="3056"/>
                  </a:lnTo>
                  <a:lnTo>
                    <a:pt x="329" y="3056"/>
                  </a:lnTo>
                  <a:lnTo>
                    <a:pt x="329" y="3048"/>
                  </a:lnTo>
                  <a:lnTo>
                    <a:pt x="336" y="3048"/>
                  </a:lnTo>
                  <a:lnTo>
                    <a:pt x="336" y="3023"/>
                  </a:lnTo>
                  <a:lnTo>
                    <a:pt x="343" y="3023"/>
                  </a:lnTo>
                  <a:lnTo>
                    <a:pt x="343" y="3015"/>
                  </a:lnTo>
                  <a:lnTo>
                    <a:pt x="349" y="3015"/>
                  </a:lnTo>
                  <a:lnTo>
                    <a:pt x="349" y="3006"/>
                  </a:lnTo>
                  <a:lnTo>
                    <a:pt x="383" y="3006"/>
                  </a:lnTo>
                  <a:lnTo>
                    <a:pt x="383" y="2973"/>
                  </a:lnTo>
                  <a:lnTo>
                    <a:pt x="417" y="2973"/>
                  </a:lnTo>
                  <a:lnTo>
                    <a:pt x="417" y="2965"/>
                  </a:lnTo>
                  <a:lnTo>
                    <a:pt x="450" y="2965"/>
                  </a:lnTo>
                  <a:lnTo>
                    <a:pt x="450" y="2956"/>
                  </a:lnTo>
                  <a:lnTo>
                    <a:pt x="464" y="2956"/>
                  </a:lnTo>
                  <a:lnTo>
                    <a:pt x="464" y="2940"/>
                  </a:lnTo>
                  <a:lnTo>
                    <a:pt x="511" y="2940"/>
                  </a:lnTo>
                  <a:lnTo>
                    <a:pt x="518" y="2940"/>
                  </a:lnTo>
                  <a:lnTo>
                    <a:pt x="518" y="2931"/>
                  </a:lnTo>
                  <a:lnTo>
                    <a:pt x="531" y="2931"/>
                  </a:lnTo>
                  <a:lnTo>
                    <a:pt x="531" y="2923"/>
                  </a:lnTo>
                  <a:lnTo>
                    <a:pt x="538" y="2923"/>
                  </a:lnTo>
                  <a:lnTo>
                    <a:pt x="538" y="2914"/>
                  </a:lnTo>
                  <a:lnTo>
                    <a:pt x="551" y="2914"/>
                  </a:lnTo>
                  <a:lnTo>
                    <a:pt x="551" y="2906"/>
                  </a:lnTo>
                  <a:lnTo>
                    <a:pt x="558" y="2906"/>
                  </a:lnTo>
                  <a:lnTo>
                    <a:pt x="565" y="2906"/>
                  </a:lnTo>
                  <a:lnTo>
                    <a:pt x="565" y="2889"/>
                  </a:lnTo>
                  <a:lnTo>
                    <a:pt x="571" y="2889"/>
                  </a:lnTo>
                  <a:lnTo>
                    <a:pt x="571" y="2872"/>
                  </a:lnTo>
                  <a:lnTo>
                    <a:pt x="578" y="2872"/>
                  </a:lnTo>
                  <a:lnTo>
                    <a:pt x="578" y="2855"/>
                  </a:lnTo>
                  <a:lnTo>
                    <a:pt x="585" y="2855"/>
                  </a:lnTo>
                  <a:lnTo>
                    <a:pt x="585" y="2830"/>
                  </a:lnTo>
                  <a:lnTo>
                    <a:pt x="592" y="2830"/>
                  </a:lnTo>
                  <a:lnTo>
                    <a:pt x="592" y="2821"/>
                  </a:lnTo>
                  <a:lnTo>
                    <a:pt x="598" y="2821"/>
                  </a:lnTo>
                  <a:lnTo>
                    <a:pt x="598" y="2796"/>
                  </a:lnTo>
                  <a:lnTo>
                    <a:pt x="605" y="2796"/>
                  </a:lnTo>
                  <a:lnTo>
                    <a:pt x="605" y="2778"/>
                  </a:lnTo>
                  <a:lnTo>
                    <a:pt x="612" y="2778"/>
                  </a:lnTo>
                  <a:lnTo>
                    <a:pt x="612" y="2753"/>
                  </a:lnTo>
                  <a:lnTo>
                    <a:pt x="619" y="2753"/>
                  </a:lnTo>
                  <a:lnTo>
                    <a:pt x="619" y="2736"/>
                  </a:lnTo>
                  <a:lnTo>
                    <a:pt x="632" y="2736"/>
                  </a:lnTo>
                  <a:lnTo>
                    <a:pt x="639" y="2736"/>
                  </a:lnTo>
                  <a:lnTo>
                    <a:pt x="652" y="2736"/>
                  </a:lnTo>
                  <a:lnTo>
                    <a:pt x="652" y="2718"/>
                  </a:lnTo>
                  <a:lnTo>
                    <a:pt x="659" y="2718"/>
                  </a:lnTo>
                  <a:lnTo>
                    <a:pt x="659" y="2710"/>
                  </a:lnTo>
                  <a:lnTo>
                    <a:pt x="666" y="2710"/>
                  </a:lnTo>
                  <a:lnTo>
                    <a:pt x="666" y="2701"/>
                  </a:lnTo>
                  <a:lnTo>
                    <a:pt x="672" y="2701"/>
                  </a:lnTo>
                  <a:lnTo>
                    <a:pt x="672" y="2692"/>
                  </a:lnTo>
                  <a:lnTo>
                    <a:pt x="679" y="2692"/>
                  </a:lnTo>
                  <a:lnTo>
                    <a:pt x="679" y="2683"/>
                  </a:lnTo>
                  <a:lnTo>
                    <a:pt x="693" y="2683"/>
                  </a:lnTo>
                  <a:lnTo>
                    <a:pt x="693" y="2675"/>
                  </a:lnTo>
                  <a:lnTo>
                    <a:pt x="713" y="2675"/>
                  </a:lnTo>
                  <a:lnTo>
                    <a:pt x="713" y="2666"/>
                  </a:lnTo>
                  <a:lnTo>
                    <a:pt x="726" y="2666"/>
                  </a:lnTo>
                  <a:lnTo>
                    <a:pt x="726" y="2657"/>
                  </a:lnTo>
                  <a:lnTo>
                    <a:pt x="740" y="2657"/>
                  </a:lnTo>
                  <a:lnTo>
                    <a:pt x="740" y="2640"/>
                  </a:lnTo>
                  <a:lnTo>
                    <a:pt x="746" y="2640"/>
                  </a:lnTo>
                  <a:lnTo>
                    <a:pt x="746" y="2623"/>
                  </a:lnTo>
                  <a:lnTo>
                    <a:pt x="753" y="2623"/>
                  </a:lnTo>
                  <a:lnTo>
                    <a:pt x="753" y="2614"/>
                  </a:lnTo>
                  <a:lnTo>
                    <a:pt x="767" y="2614"/>
                  </a:lnTo>
                  <a:lnTo>
                    <a:pt x="767" y="2605"/>
                  </a:lnTo>
                  <a:lnTo>
                    <a:pt x="773" y="2605"/>
                  </a:lnTo>
                  <a:lnTo>
                    <a:pt x="773" y="2597"/>
                  </a:lnTo>
                  <a:lnTo>
                    <a:pt x="787" y="2597"/>
                  </a:lnTo>
                  <a:lnTo>
                    <a:pt x="794" y="2597"/>
                  </a:lnTo>
                  <a:lnTo>
                    <a:pt x="794" y="2588"/>
                  </a:lnTo>
                  <a:lnTo>
                    <a:pt x="800" y="2588"/>
                  </a:lnTo>
                  <a:lnTo>
                    <a:pt x="800" y="2570"/>
                  </a:lnTo>
                  <a:lnTo>
                    <a:pt x="807" y="2570"/>
                  </a:lnTo>
                  <a:lnTo>
                    <a:pt x="807" y="2553"/>
                  </a:lnTo>
                  <a:lnTo>
                    <a:pt x="814" y="2553"/>
                  </a:lnTo>
                  <a:lnTo>
                    <a:pt x="814" y="2526"/>
                  </a:lnTo>
                  <a:lnTo>
                    <a:pt x="820" y="2526"/>
                  </a:lnTo>
                  <a:lnTo>
                    <a:pt x="820" y="2491"/>
                  </a:lnTo>
                  <a:lnTo>
                    <a:pt x="827" y="2491"/>
                  </a:lnTo>
                  <a:lnTo>
                    <a:pt x="827" y="2465"/>
                  </a:lnTo>
                  <a:lnTo>
                    <a:pt x="841" y="2465"/>
                  </a:lnTo>
                  <a:lnTo>
                    <a:pt x="841" y="2420"/>
                  </a:lnTo>
                  <a:lnTo>
                    <a:pt x="847" y="2420"/>
                  </a:lnTo>
                  <a:lnTo>
                    <a:pt x="847" y="2403"/>
                  </a:lnTo>
                  <a:lnTo>
                    <a:pt x="854" y="2403"/>
                  </a:lnTo>
                  <a:lnTo>
                    <a:pt x="854" y="2358"/>
                  </a:lnTo>
                  <a:lnTo>
                    <a:pt x="861" y="2358"/>
                  </a:lnTo>
                  <a:lnTo>
                    <a:pt x="861" y="2305"/>
                  </a:lnTo>
                  <a:lnTo>
                    <a:pt x="874" y="2305"/>
                  </a:lnTo>
                  <a:lnTo>
                    <a:pt x="874" y="2278"/>
                  </a:lnTo>
                  <a:lnTo>
                    <a:pt x="881" y="2278"/>
                  </a:lnTo>
                  <a:lnTo>
                    <a:pt x="881" y="2260"/>
                  </a:lnTo>
                  <a:lnTo>
                    <a:pt x="888" y="2260"/>
                  </a:lnTo>
                  <a:lnTo>
                    <a:pt x="888" y="2242"/>
                  </a:lnTo>
                  <a:lnTo>
                    <a:pt x="894" y="2242"/>
                  </a:lnTo>
                  <a:lnTo>
                    <a:pt x="894" y="2215"/>
                  </a:lnTo>
                  <a:lnTo>
                    <a:pt x="901" y="2215"/>
                  </a:lnTo>
                  <a:lnTo>
                    <a:pt x="901" y="2197"/>
                  </a:lnTo>
                  <a:lnTo>
                    <a:pt x="908" y="2197"/>
                  </a:lnTo>
                  <a:lnTo>
                    <a:pt x="908" y="2170"/>
                  </a:lnTo>
                  <a:lnTo>
                    <a:pt x="915" y="2170"/>
                  </a:lnTo>
                  <a:lnTo>
                    <a:pt x="915" y="2161"/>
                  </a:lnTo>
                  <a:lnTo>
                    <a:pt x="921" y="2161"/>
                  </a:lnTo>
                  <a:lnTo>
                    <a:pt x="921" y="2125"/>
                  </a:lnTo>
                  <a:lnTo>
                    <a:pt x="928" y="2125"/>
                  </a:lnTo>
                  <a:lnTo>
                    <a:pt x="928" y="2098"/>
                  </a:lnTo>
                  <a:lnTo>
                    <a:pt x="935" y="2098"/>
                  </a:lnTo>
                  <a:lnTo>
                    <a:pt x="935" y="2089"/>
                  </a:lnTo>
                  <a:lnTo>
                    <a:pt x="942" y="2089"/>
                  </a:lnTo>
                  <a:lnTo>
                    <a:pt x="942" y="2071"/>
                  </a:lnTo>
                  <a:lnTo>
                    <a:pt x="948" y="2071"/>
                  </a:lnTo>
                  <a:lnTo>
                    <a:pt x="948" y="2052"/>
                  </a:lnTo>
                  <a:lnTo>
                    <a:pt x="955" y="2052"/>
                  </a:lnTo>
                  <a:lnTo>
                    <a:pt x="968" y="2052"/>
                  </a:lnTo>
                  <a:lnTo>
                    <a:pt x="968" y="2043"/>
                  </a:lnTo>
                  <a:lnTo>
                    <a:pt x="995" y="2043"/>
                  </a:lnTo>
                  <a:lnTo>
                    <a:pt x="995" y="2034"/>
                  </a:lnTo>
                  <a:lnTo>
                    <a:pt x="1009" y="2034"/>
                  </a:lnTo>
                  <a:lnTo>
                    <a:pt x="1009" y="2025"/>
                  </a:lnTo>
                  <a:lnTo>
                    <a:pt x="1022" y="2025"/>
                  </a:lnTo>
                  <a:lnTo>
                    <a:pt x="1022" y="2016"/>
                  </a:lnTo>
                  <a:lnTo>
                    <a:pt x="1029" y="2016"/>
                  </a:lnTo>
                  <a:lnTo>
                    <a:pt x="1029" y="2007"/>
                  </a:lnTo>
                  <a:lnTo>
                    <a:pt x="1036" y="2007"/>
                  </a:lnTo>
                  <a:lnTo>
                    <a:pt x="1036" y="1998"/>
                  </a:lnTo>
                  <a:lnTo>
                    <a:pt x="1043" y="1998"/>
                  </a:lnTo>
                  <a:lnTo>
                    <a:pt x="1043" y="1979"/>
                  </a:lnTo>
                  <a:lnTo>
                    <a:pt x="1069" y="1979"/>
                  </a:lnTo>
                  <a:lnTo>
                    <a:pt x="1069" y="1961"/>
                  </a:lnTo>
                  <a:lnTo>
                    <a:pt x="1076" y="1961"/>
                  </a:lnTo>
                  <a:lnTo>
                    <a:pt x="1076" y="1952"/>
                  </a:lnTo>
                  <a:lnTo>
                    <a:pt x="1083" y="1952"/>
                  </a:lnTo>
                  <a:lnTo>
                    <a:pt x="1083" y="1933"/>
                  </a:lnTo>
                  <a:lnTo>
                    <a:pt x="1096" y="1933"/>
                  </a:lnTo>
                  <a:lnTo>
                    <a:pt x="1096" y="1906"/>
                  </a:lnTo>
                  <a:lnTo>
                    <a:pt x="1103" y="1906"/>
                  </a:lnTo>
                  <a:lnTo>
                    <a:pt x="1103" y="1851"/>
                  </a:lnTo>
                  <a:lnTo>
                    <a:pt x="1110" y="1851"/>
                  </a:lnTo>
                  <a:lnTo>
                    <a:pt x="1110" y="1832"/>
                  </a:lnTo>
                  <a:lnTo>
                    <a:pt x="1117" y="1832"/>
                  </a:lnTo>
                  <a:lnTo>
                    <a:pt x="1117" y="1814"/>
                  </a:lnTo>
                  <a:lnTo>
                    <a:pt x="1123" y="1814"/>
                  </a:lnTo>
                  <a:lnTo>
                    <a:pt x="1123" y="1786"/>
                  </a:lnTo>
                  <a:lnTo>
                    <a:pt x="1130" y="1786"/>
                  </a:lnTo>
                  <a:lnTo>
                    <a:pt x="1130" y="1740"/>
                  </a:lnTo>
                  <a:lnTo>
                    <a:pt x="1137" y="1740"/>
                  </a:lnTo>
                  <a:lnTo>
                    <a:pt x="1137" y="1684"/>
                  </a:lnTo>
                  <a:lnTo>
                    <a:pt x="1143" y="1684"/>
                  </a:lnTo>
                  <a:lnTo>
                    <a:pt x="1143" y="1656"/>
                  </a:lnTo>
                  <a:lnTo>
                    <a:pt x="1157" y="1656"/>
                  </a:lnTo>
                  <a:lnTo>
                    <a:pt x="1157" y="1628"/>
                  </a:lnTo>
                  <a:lnTo>
                    <a:pt x="1164" y="1628"/>
                  </a:lnTo>
                  <a:lnTo>
                    <a:pt x="1164" y="1619"/>
                  </a:lnTo>
                  <a:lnTo>
                    <a:pt x="1184" y="1619"/>
                  </a:lnTo>
                  <a:lnTo>
                    <a:pt x="1184" y="1609"/>
                  </a:lnTo>
                  <a:lnTo>
                    <a:pt x="1191" y="1609"/>
                  </a:lnTo>
                  <a:lnTo>
                    <a:pt x="1191" y="1581"/>
                  </a:lnTo>
                  <a:lnTo>
                    <a:pt x="1197" y="1581"/>
                  </a:lnTo>
                  <a:lnTo>
                    <a:pt x="1197" y="1572"/>
                  </a:lnTo>
                  <a:lnTo>
                    <a:pt x="1217" y="1572"/>
                  </a:lnTo>
                  <a:lnTo>
                    <a:pt x="1217" y="1562"/>
                  </a:lnTo>
                  <a:lnTo>
                    <a:pt x="1224" y="1562"/>
                  </a:lnTo>
                  <a:lnTo>
                    <a:pt x="1224" y="1543"/>
                  </a:lnTo>
                  <a:lnTo>
                    <a:pt x="1231" y="1543"/>
                  </a:lnTo>
                  <a:lnTo>
                    <a:pt x="1231" y="1534"/>
                  </a:lnTo>
                  <a:lnTo>
                    <a:pt x="1238" y="1534"/>
                  </a:lnTo>
                  <a:lnTo>
                    <a:pt x="1238" y="1515"/>
                  </a:lnTo>
                  <a:lnTo>
                    <a:pt x="1244" y="1515"/>
                  </a:lnTo>
                  <a:lnTo>
                    <a:pt x="1244" y="1506"/>
                  </a:lnTo>
                  <a:lnTo>
                    <a:pt x="1265" y="1506"/>
                  </a:lnTo>
                  <a:lnTo>
                    <a:pt x="1265" y="1496"/>
                  </a:lnTo>
                  <a:lnTo>
                    <a:pt x="1278" y="1496"/>
                  </a:lnTo>
                  <a:lnTo>
                    <a:pt x="1278" y="1478"/>
                  </a:lnTo>
                  <a:lnTo>
                    <a:pt x="1285" y="1478"/>
                  </a:lnTo>
                  <a:lnTo>
                    <a:pt x="1285" y="1468"/>
                  </a:lnTo>
                  <a:lnTo>
                    <a:pt x="1291" y="1468"/>
                  </a:lnTo>
                  <a:lnTo>
                    <a:pt x="1291" y="1459"/>
                  </a:lnTo>
                  <a:lnTo>
                    <a:pt x="1312" y="1459"/>
                  </a:lnTo>
                  <a:lnTo>
                    <a:pt x="1312" y="1449"/>
                  </a:lnTo>
                  <a:lnTo>
                    <a:pt x="1325" y="1449"/>
                  </a:lnTo>
                  <a:lnTo>
                    <a:pt x="1325" y="1430"/>
                  </a:lnTo>
                  <a:lnTo>
                    <a:pt x="1372" y="1430"/>
                  </a:lnTo>
                  <a:lnTo>
                    <a:pt x="1372" y="1421"/>
                  </a:lnTo>
                  <a:lnTo>
                    <a:pt x="1386" y="1421"/>
                  </a:lnTo>
                  <a:lnTo>
                    <a:pt x="1386" y="1411"/>
                  </a:lnTo>
                  <a:lnTo>
                    <a:pt x="1392" y="1411"/>
                  </a:lnTo>
                  <a:lnTo>
                    <a:pt x="1392" y="1402"/>
                  </a:lnTo>
                  <a:lnTo>
                    <a:pt x="1406" y="1402"/>
                  </a:lnTo>
                  <a:lnTo>
                    <a:pt x="1406" y="1373"/>
                  </a:lnTo>
                  <a:lnTo>
                    <a:pt x="1413" y="1373"/>
                  </a:lnTo>
                  <a:lnTo>
                    <a:pt x="1413" y="1345"/>
                  </a:lnTo>
                  <a:lnTo>
                    <a:pt x="1419" y="1345"/>
                  </a:lnTo>
                  <a:lnTo>
                    <a:pt x="1419" y="1316"/>
                  </a:lnTo>
                  <a:lnTo>
                    <a:pt x="1426" y="1316"/>
                  </a:lnTo>
                  <a:lnTo>
                    <a:pt x="1426" y="1297"/>
                  </a:lnTo>
                  <a:lnTo>
                    <a:pt x="1433" y="1297"/>
                  </a:lnTo>
                  <a:lnTo>
                    <a:pt x="1433" y="1288"/>
                  </a:lnTo>
                  <a:lnTo>
                    <a:pt x="1440" y="1288"/>
                  </a:lnTo>
                  <a:lnTo>
                    <a:pt x="1440" y="1269"/>
                  </a:lnTo>
                  <a:lnTo>
                    <a:pt x="1446" y="1269"/>
                  </a:lnTo>
                  <a:lnTo>
                    <a:pt x="1446" y="1249"/>
                  </a:lnTo>
                  <a:lnTo>
                    <a:pt x="1453" y="1249"/>
                  </a:lnTo>
                  <a:lnTo>
                    <a:pt x="1453" y="1230"/>
                  </a:lnTo>
                  <a:lnTo>
                    <a:pt x="1460" y="1230"/>
                  </a:lnTo>
                  <a:lnTo>
                    <a:pt x="1460" y="1221"/>
                  </a:lnTo>
                  <a:lnTo>
                    <a:pt x="1466" y="1221"/>
                  </a:lnTo>
                  <a:lnTo>
                    <a:pt x="1466" y="1202"/>
                  </a:lnTo>
                  <a:lnTo>
                    <a:pt x="1487" y="1202"/>
                  </a:lnTo>
                  <a:lnTo>
                    <a:pt x="1487" y="1173"/>
                  </a:lnTo>
                  <a:lnTo>
                    <a:pt x="1500" y="1173"/>
                  </a:lnTo>
                  <a:lnTo>
                    <a:pt x="1500" y="1164"/>
                  </a:lnTo>
                  <a:lnTo>
                    <a:pt x="1507" y="1164"/>
                  </a:lnTo>
                  <a:lnTo>
                    <a:pt x="1507" y="1135"/>
                  </a:lnTo>
                  <a:lnTo>
                    <a:pt x="1514" y="1135"/>
                  </a:lnTo>
                  <a:lnTo>
                    <a:pt x="1514" y="1126"/>
                  </a:lnTo>
                  <a:lnTo>
                    <a:pt x="1527" y="1126"/>
                  </a:lnTo>
                  <a:lnTo>
                    <a:pt x="1534" y="1126"/>
                  </a:lnTo>
                  <a:lnTo>
                    <a:pt x="1534" y="1116"/>
                  </a:lnTo>
                  <a:lnTo>
                    <a:pt x="1540" y="1116"/>
                  </a:lnTo>
                  <a:lnTo>
                    <a:pt x="1540" y="1106"/>
                  </a:lnTo>
                  <a:lnTo>
                    <a:pt x="1547" y="1106"/>
                  </a:lnTo>
                  <a:lnTo>
                    <a:pt x="1547" y="1096"/>
                  </a:lnTo>
                  <a:lnTo>
                    <a:pt x="1554" y="1096"/>
                  </a:lnTo>
                  <a:lnTo>
                    <a:pt x="1554" y="1087"/>
                  </a:lnTo>
                  <a:lnTo>
                    <a:pt x="1581" y="1087"/>
                  </a:lnTo>
                  <a:lnTo>
                    <a:pt x="1581" y="1077"/>
                  </a:lnTo>
                  <a:lnTo>
                    <a:pt x="1608" y="1077"/>
                  </a:lnTo>
                  <a:lnTo>
                    <a:pt x="1608" y="1067"/>
                  </a:lnTo>
                  <a:lnTo>
                    <a:pt x="1621" y="1067"/>
                  </a:lnTo>
                  <a:lnTo>
                    <a:pt x="1621" y="1057"/>
                  </a:lnTo>
                  <a:lnTo>
                    <a:pt x="1655" y="1057"/>
                  </a:lnTo>
                  <a:lnTo>
                    <a:pt x="1655" y="1047"/>
                  </a:lnTo>
                  <a:lnTo>
                    <a:pt x="1662" y="1047"/>
                  </a:lnTo>
                  <a:lnTo>
                    <a:pt x="1662" y="1028"/>
                  </a:lnTo>
                  <a:lnTo>
                    <a:pt x="1682" y="1028"/>
                  </a:lnTo>
                  <a:lnTo>
                    <a:pt x="1682" y="1018"/>
                  </a:lnTo>
                  <a:lnTo>
                    <a:pt x="1689" y="1018"/>
                  </a:lnTo>
                  <a:lnTo>
                    <a:pt x="1689" y="1008"/>
                  </a:lnTo>
                  <a:lnTo>
                    <a:pt x="1695" y="1008"/>
                  </a:lnTo>
                  <a:lnTo>
                    <a:pt x="1695" y="998"/>
                  </a:lnTo>
                  <a:lnTo>
                    <a:pt x="1709" y="998"/>
                  </a:lnTo>
                  <a:lnTo>
                    <a:pt x="1709" y="988"/>
                  </a:lnTo>
                  <a:lnTo>
                    <a:pt x="1715" y="988"/>
                  </a:lnTo>
                  <a:lnTo>
                    <a:pt x="1715" y="968"/>
                  </a:lnTo>
                  <a:lnTo>
                    <a:pt x="1742" y="968"/>
                  </a:lnTo>
                  <a:lnTo>
                    <a:pt x="1742" y="918"/>
                  </a:lnTo>
                  <a:lnTo>
                    <a:pt x="1756" y="918"/>
                  </a:lnTo>
                  <a:lnTo>
                    <a:pt x="1756" y="888"/>
                  </a:lnTo>
                  <a:lnTo>
                    <a:pt x="1763" y="888"/>
                  </a:lnTo>
                  <a:lnTo>
                    <a:pt x="1763" y="878"/>
                  </a:lnTo>
                  <a:lnTo>
                    <a:pt x="1796" y="878"/>
                  </a:lnTo>
                  <a:lnTo>
                    <a:pt x="1796" y="858"/>
                  </a:lnTo>
                  <a:lnTo>
                    <a:pt x="1803" y="858"/>
                  </a:lnTo>
                  <a:lnTo>
                    <a:pt x="1803" y="848"/>
                  </a:lnTo>
                  <a:lnTo>
                    <a:pt x="1810" y="848"/>
                  </a:lnTo>
                  <a:lnTo>
                    <a:pt x="1810" y="838"/>
                  </a:lnTo>
                  <a:lnTo>
                    <a:pt x="1823" y="838"/>
                  </a:lnTo>
                  <a:lnTo>
                    <a:pt x="1823" y="828"/>
                  </a:lnTo>
                  <a:lnTo>
                    <a:pt x="1837" y="828"/>
                  </a:lnTo>
                  <a:lnTo>
                    <a:pt x="1837" y="817"/>
                  </a:lnTo>
                  <a:lnTo>
                    <a:pt x="1850" y="817"/>
                  </a:lnTo>
                  <a:lnTo>
                    <a:pt x="1850" y="807"/>
                  </a:lnTo>
                  <a:lnTo>
                    <a:pt x="1870" y="807"/>
                  </a:lnTo>
                  <a:lnTo>
                    <a:pt x="1870" y="797"/>
                  </a:lnTo>
                  <a:lnTo>
                    <a:pt x="1877" y="797"/>
                  </a:lnTo>
                  <a:lnTo>
                    <a:pt x="1877" y="787"/>
                  </a:lnTo>
                  <a:lnTo>
                    <a:pt x="1917" y="787"/>
                  </a:lnTo>
                  <a:lnTo>
                    <a:pt x="1917" y="777"/>
                  </a:lnTo>
                  <a:lnTo>
                    <a:pt x="1924" y="777"/>
                  </a:lnTo>
                  <a:lnTo>
                    <a:pt x="1924" y="767"/>
                  </a:lnTo>
                  <a:lnTo>
                    <a:pt x="1944" y="767"/>
                  </a:lnTo>
                  <a:lnTo>
                    <a:pt x="1944" y="757"/>
                  </a:lnTo>
                  <a:lnTo>
                    <a:pt x="1951" y="757"/>
                  </a:lnTo>
                  <a:lnTo>
                    <a:pt x="1951" y="737"/>
                  </a:lnTo>
                  <a:lnTo>
                    <a:pt x="1971" y="737"/>
                  </a:lnTo>
                  <a:lnTo>
                    <a:pt x="1971" y="727"/>
                  </a:lnTo>
                  <a:lnTo>
                    <a:pt x="1978" y="727"/>
                  </a:lnTo>
                  <a:lnTo>
                    <a:pt x="1978" y="717"/>
                  </a:lnTo>
                  <a:lnTo>
                    <a:pt x="2005" y="717"/>
                  </a:lnTo>
                  <a:lnTo>
                    <a:pt x="2005" y="706"/>
                  </a:lnTo>
                  <a:lnTo>
                    <a:pt x="2018" y="706"/>
                  </a:lnTo>
                  <a:lnTo>
                    <a:pt x="2018" y="696"/>
                  </a:lnTo>
                  <a:lnTo>
                    <a:pt x="2059" y="696"/>
                  </a:lnTo>
                  <a:lnTo>
                    <a:pt x="2059" y="686"/>
                  </a:lnTo>
                  <a:lnTo>
                    <a:pt x="2072" y="686"/>
                  </a:lnTo>
                  <a:lnTo>
                    <a:pt x="2072" y="676"/>
                  </a:lnTo>
                  <a:lnTo>
                    <a:pt x="2086" y="676"/>
                  </a:lnTo>
                  <a:lnTo>
                    <a:pt x="2086" y="666"/>
                  </a:lnTo>
                  <a:lnTo>
                    <a:pt x="2133" y="666"/>
                  </a:lnTo>
                  <a:lnTo>
                    <a:pt x="2133" y="656"/>
                  </a:lnTo>
                  <a:lnTo>
                    <a:pt x="2213" y="656"/>
                  </a:lnTo>
                  <a:lnTo>
                    <a:pt x="2213" y="646"/>
                  </a:lnTo>
                  <a:lnTo>
                    <a:pt x="2247" y="646"/>
                  </a:lnTo>
                  <a:lnTo>
                    <a:pt x="2247" y="636"/>
                  </a:lnTo>
                  <a:lnTo>
                    <a:pt x="2260" y="636"/>
                  </a:lnTo>
                  <a:lnTo>
                    <a:pt x="2260" y="626"/>
                  </a:lnTo>
                  <a:lnTo>
                    <a:pt x="2267" y="626"/>
                  </a:lnTo>
                  <a:lnTo>
                    <a:pt x="2267" y="606"/>
                  </a:lnTo>
                  <a:lnTo>
                    <a:pt x="2274" y="606"/>
                  </a:lnTo>
                  <a:lnTo>
                    <a:pt x="2274" y="585"/>
                  </a:lnTo>
                  <a:lnTo>
                    <a:pt x="2301" y="585"/>
                  </a:lnTo>
                  <a:lnTo>
                    <a:pt x="2301" y="575"/>
                  </a:lnTo>
                  <a:lnTo>
                    <a:pt x="2308" y="575"/>
                  </a:lnTo>
                  <a:lnTo>
                    <a:pt x="2375" y="575"/>
                  </a:lnTo>
                  <a:lnTo>
                    <a:pt x="2375" y="554"/>
                  </a:lnTo>
                  <a:lnTo>
                    <a:pt x="2382" y="554"/>
                  </a:lnTo>
                  <a:lnTo>
                    <a:pt x="2382" y="543"/>
                  </a:lnTo>
                  <a:lnTo>
                    <a:pt x="2388" y="543"/>
                  </a:lnTo>
                  <a:lnTo>
                    <a:pt x="2388" y="533"/>
                  </a:lnTo>
                  <a:lnTo>
                    <a:pt x="2409" y="533"/>
                  </a:lnTo>
                  <a:lnTo>
                    <a:pt x="2409" y="523"/>
                  </a:lnTo>
                  <a:lnTo>
                    <a:pt x="2516" y="523"/>
                  </a:lnTo>
                  <a:lnTo>
                    <a:pt x="2516" y="502"/>
                  </a:lnTo>
                  <a:lnTo>
                    <a:pt x="2530" y="502"/>
                  </a:lnTo>
                  <a:lnTo>
                    <a:pt x="2536" y="502"/>
                  </a:lnTo>
                  <a:lnTo>
                    <a:pt x="2536" y="491"/>
                  </a:lnTo>
                  <a:lnTo>
                    <a:pt x="2563" y="491"/>
                  </a:lnTo>
                  <a:lnTo>
                    <a:pt x="2563" y="480"/>
                  </a:lnTo>
                  <a:lnTo>
                    <a:pt x="2577" y="480"/>
                  </a:lnTo>
                  <a:lnTo>
                    <a:pt x="2577" y="470"/>
                  </a:lnTo>
                  <a:lnTo>
                    <a:pt x="2583" y="470"/>
                  </a:lnTo>
                  <a:lnTo>
                    <a:pt x="2583" y="459"/>
                  </a:lnTo>
                  <a:lnTo>
                    <a:pt x="2590" y="459"/>
                  </a:lnTo>
                  <a:lnTo>
                    <a:pt x="2590" y="438"/>
                  </a:lnTo>
                  <a:lnTo>
                    <a:pt x="2678" y="438"/>
                  </a:lnTo>
                  <a:lnTo>
                    <a:pt x="2678" y="427"/>
                  </a:lnTo>
                  <a:lnTo>
                    <a:pt x="2691" y="427"/>
                  </a:lnTo>
                  <a:lnTo>
                    <a:pt x="2691" y="406"/>
                  </a:lnTo>
                  <a:lnTo>
                    <a:pt x="2846" y="406"/>
                  </a:lnTo>
                  <a:lnTo>
                    <a:pt x="2866" y="406"/>
                  </a:lnTo>
                  <a:lnTo>
                    <a:pt x="2866" y="394"/>
                  </a:lnTo>
                  <a:lnTo>
                    <a:pt x="2947" y="394"/>
                  </a:lnTo>
                  <a:lnTo>
                    <a:pt x="2947" y="383"/>
                  </a:lnTo>
                  <a:lnTo>
                    <a:pt x="3014" y="383"/>
                  </a:lnTo>
                  <a:lnTo>
                    <a:pt x="3021" y="383"/>
                  </a:lnTo>
                  <a:lnTo>
                    <a:pt x="3021" y="371"/>
                  </a:lnTo>
                  <a:lnTo>
                    <a:pt x="3061" y="371"/>
                  </a:lnTo>
                  <a:lnTo>
                    <a:pt x="3061" y="360"/>
                  </a:lnTo>
                  <a:lnTo>
                    <a:pt x="3075" y="360"/>
                  </a:lnTo>
                  <a:lnTo>
                    <a:pt x="3075" y="348"/>
                  </a:lnTo>
                  <a:lnTo>
                    <a:pt x="3081" y="348"/>
                  </a:lnTo>
                  <a:lnTo>
                    <a:pt x="3081" y="337"/>
                  </a:lnTo>
                  <a:lnTo>
                    <a:pt x="3129" y="337"/>
                  </a:lnTo>
                  <a:lnTo>
                    <a:pt x="3169" y="337"/>
                  </a:lnTo>
                  <a:lnTo>
                    <a:pt x="3169" y="313"/>
                  </a:lnTo>
                  <a:lnTo>
                    <a:pt x="3263" y="313"/>
                  </a:lnTo>
                  <a:lnTo>
                    <a:pt x="3263" y="301"/>
                  </a:lnTo>
                  <a:lnTo>
                    <a:pt x="3324" y="301"/>
                  </a:lnTo>
                  <a:lnTo>
                    <a:pt x="3324" y="289"/>
                  </a:lnTo>
                  <a:lnTo>
                    <a:pt x="3344" y="289"/>
                  </a:lnTo>
                  <a:lnTo>
                    <a:pt x="3344" y="277"/>
                  </a:lnTo>
                  <a:lnTo>
                    <a:pt x="3364" y="277"/>
                  </a:lnTo>
                  <a:lnTo>
                    <a:pt x="3364" y="265"/>
                  </a:lnTo>
                  <a:lnTo>
                    <a:pt x="3512" y="265"/>
                  </a:lnTo>
                  <a:lnTo>
                    <a:pt x="3512" y="253"/>
                  </a:lnTo>
                  <a:lnTo>
                    <a:pt x="3606" y="253"/>
                  </a:lnTo>
                  <a:lnTo>
                    <a:pt x="3606" y="241"/>
                  </a:lnTo>
                  <a:lnTo>
                    <a:pt x="3667" y="241"/>
                  </a:lnTo>
                  <a:lnTo>
                    <a:pt x="3667" y="228"/>
                  </a:lnTo>
                  <a:lnTo>
                    <a:pt x="3680" y="228"/>
                  </a:lnTo>
                  <a:lnTo>
                    <a:pt x="3680" y="204"/>
                  </a:lnTo>
                  <a:lnTo>
                    <a:pt x="3721" y="204"/>
                  </a:lnTo>
                  <a:lnTo>
                    <a:pt x="3721" y="192"/>
                  </a:lnTo>
                  <a:lnTo>
                    <a:pt x="3761" y="192"/>
                  </a:lnTo>
                  <a:lnTo>
                    <a:pt x="3761" y="180"/>
                  </a:lnTo>
                  <a:lnTo>
                    <a:pt x="3855" y="180"/>
                  </a:lnTo>
                  <a:lnTo>
                    <a:pt x="3875" y="180"/>
                  </a:lnTo>
                  <a:lnTo>
                    <a:pt x="3875" y="168"/>
                  </a:lnTo>
                  <a:lnTo>
                    <a:pt x="4091" y="168"/>
                  </a:lnTo>
                  <a:lnTo>
                    <a:pt x="4091" y="155"/>
                  </a:lnTo>
                  <a:lnTo>
                    <a:pt x="4259" y="155"/>
                  </a:lnTo>
                  <a:lnTo>
                    <a:pt x="4447" y="155"/>
                  </a:lnTo>
                  <a:lnTo>
                    <a:pt x="4447" y="141"/>
                  </a:lnTo>
                  <a:lnTo>
                    <a:pt x="4582" y="141"/>
                  </a:lnTo>
                  <a:lnTo>
                    <a:pt x="4582" y="127"/>
                  </a:lnTo>
                  <a:lnTo>
                    <a:pt x="4609" y="127"/>
                  </a:lnTo>
                  <a:lnTo>
                    <a:pt x="4730" y="127"/>
                  </a:lnTo>
                  <a:lnTo>
                    <a:pt x="4730" y="111"/>
                  </a:lnTo>
                  <a:lnTo>
                    <a:pt x="4737" y="111"/>
                  </a:lnTo>
                  <a:lnTo>
                    <a:pt x="4737" y="95"/>
                  </a:lnTo>
                  <a:lnTo>
                    <a:pt x="4797" y="95"/>
                  </a:lnTo>
                  <a:lnTo>
                    <a:pt x="4804" y="95"/>
                  </a:lnTo>
                  <a:lnTo>
                    <a:pt x="5551" y="95"/>
                  </a:lnTo>
                  <a:lnTo>
                    <a:pt x="5847" y="95"/>
                  </a:lnTo>
                  <a:lnTo>
                    <a:pt x="5955" y="95"/>
                  </a:lnTo>
                  <a:lnTo>
                    <a:pt x="5955" y="48"/>
                  </a:lnTo>
                  <a:lnTo>
                    <a:pt x="6614" y="48"/>
                  </a:lnTo>
                  <a:lnTo>
                    <a:pt x="6614" y="0"/>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54" name="Rectangle 95"/>
            <p:cNvSpPr/>
            <p:nvPr/>
          </p:nvSpPr>
          <p:spPr>
            <a:xfrm>
              <a:off x="3793320" y="5756400"/>
              <a:ext cx="25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from Induction (Months)</a:t>
              </a:r>
              <a:endParaRPr b="0" lang="en-US" sz="1400" spc="-1" strike="noStrike">
                <a:solidFill>
                  <a:srgbClr val="000000"/>
                </a:solidFill>
                <a:latin typeface="Arial"/>
              </a:endParaRPr>
            </a:p>
          </p:txBody>
        </p:sp>
        <p:sp>
          <p:nvSpPr>
            <p:cNvPr id="2355" name="Rectangle 96"/>
            <p:cNvSpPr/>
            <p:nvPr/>
          </p:nvSpPr>
          <p:spPr>
            <a:xfrm rot="16200000">
              <a:off x="-422280" y="3223440"/>
              <a:ext cx="166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vival Probability</a:t>
              </a:r>
              <a:endParaRPr b="0" lang="en-US" sz="1400" spc="-1" strike="noStrike">
                <a:solidFill>
                  <a:srgbClr val="000000"/>
                </a:solidFill>
                <a:latin typeface="Arial"/>
              </a:endParaRPr>
            </a:p>
          </p:txBody>
        </p:sp>
      </p:grpSp>
      <p:sp>
        <p:nvSpPr>
          <p:cNvPr id="2356" name="PlaceHolder 1"/>
          <p:cNvSpPr>
            <a:spLocks noGrp="1"/>
          </p:cNvSpPr>
          <p:nvPr>
            <p:ph type="title"/>
          </p:nvPr>
        </p:nvSpPr>
        <p:spPr>
          <a:xfrm>
            <a:off x="0" y="228240"/>
            <a:ext cx="9067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PointBreak: PFS from </a:t>
            </a:r>
            <a:br>
              <a:rPr sz="4000"/>
            </a:br>
            <a:r>
              <a:rPr b="0" lang="en-US" sz="4000" spc="-1" strike="noStrike">
                <a:solidFill>
                  <a:srgbClr val="000000"/>
                </a:solidFill>
                <a:latin typeface="Arial"/>
                <a:ea typeface="MS PGothic"/>
              </a:rPr>
              <a:t>Randomization (ITT)</a:t>
            </a:r>
            <a:endParaRPr b="0" lang="en-US" sz="4000" spc="-1" strike="noStrike">
              <a:solidFill>
                <a:srgbClr val="000000"/>
              </a:solidFill>
              <a:latin typeface="Arial"/>
            </a:endParaRPr>
          </a:p>
        </p:txBody>
      </p:sp>
      <p:sp>
        <p:nvSpPr>
          <p:cNvPr id="2357" name="Text Box 15"/>
          <p:cNvSpPr/>
          <p:nvPr/>
        </p:nvSpPr>
        <p:spPr>
          <a:xfrm>
            <a:off x="1828800" y="5987880"/>
            <a:ext cx="6858000" cy="7938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ea typeface="Arial Unicode MS"/>
              </a:rPr>
              <a:t>a</a:t>
            </a:r>
            <a:r>
              <a:rPr b="0" lang="en-US" sz="1200" spc="-1" strike="noStrike">
                <a:solidFill>
                  <a:srgbClr val="000000"/>
                </a:solidFill>
                <a:latin typeface="Arial"/>
                <a:ea typeface="Arial Unicode MS"/>
              </a:rPr>
              <a:t>Exploratory analy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Censoring rate for Pem + Cb + Bev was 26.9; for Pac + Cb + Bev was 23.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TPD=time to progressive dise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With permission from Patel, et al. Presented at IASLC. 2012 (abstr LBPL1).</a:t>
            </a:r>
            <a:endParaRPr b="0" lang="en-US" sz="1000" spc="-1" strike="noStrike">
              <a:solidFill>
                <a:srgbClr val="000000"/>
              </a:solidFill>
              <a:latin typeface="Arial"/>
            </a:endParaRPr>
          </a:p>
        </p:txBody>
      </p:sp>
      <p:graphicFrame>
        <p:nvGraphicFramePr>
          <p:cNvPr id="2358" name=""/>
          <p:cNvGraphicFramePr/>
          <p:nvPr/>
        </p:nvGraphicFramePr>
        <p:xfrm>
          <a:off x="3822840" y="1913040"/>
          <a:ext cx="4984560" cy="2411280"/>
        </p:xfrm>
        <a:graphic>
          <a:graphicData uri="http://schemas.openxmlformats.org/drawingml/2006/table">
            <a:tbl>
              <a:tblPr/>
              <a:tblGrid>
                <a:gridCol w="2070000"/>
                <a:gridCol w="1495440"/>
                <a:gridCol w="1419120"/>
              </a:tblGrid>
              <a:tr h="27756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a:noFill/>
                    </a:lnL>
                    <a:lnR w="5760">
                      <a:solidFill>
                        <a:srgbClr val="000000"/>
                      </a:solidFill>
                    </a:lnR>
                    <a:lnT w="13680">
                      <a:solidFill>
                        <a:srgbClr val="000000"/>
                      </a:solidFill>
                    </a:lnT>
                    <a:lnB w="1368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0000"/>
                          </a:solidFill>
                          <a:latin typeface="Arial"/>
                          <a:ea typeface="Arial Unicode MS"/>
                        </a:rPr>
                        <a:t>Pem + Cb + Bev</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6666ff"/>
                          </a:solidFill>
                          <a:latin typeface="Arial"/>
                          <a:ea typeface="Arial Unicode MS"/>
                        </a:rPr>
                        <a:t>Pac + Cb + Bev</a:t>
                      </a:r>
                      <a:endParaRPr b="0" lang="en-US" sz="1400" spc="-1" strike="noStrike">
                        <a:solidFill>
                          <a:srgbClr val="000000"/>
                        </a:solidFill>
                        <a:latin typeface="Arial"/>
                      </a:endParaRPr>
                    </a:p>
                  </a:txBody>
                  <a:tcPr anchor="t">
                    <a:lnL w="5760">
                      <a:solidFill>
                        <a:srgbClr val="000000"/>
                      </a:solidFill>
                    </a:lnL>
                    <a:lnR>
                      <a:noFill/>
                    </a:lnR>
                    <a:lnT w="13680">
                      <a:solidFill>
                        <a:srgbClr val="000000"/>
                      </a:solidFill>
                    </a:lnT>
                    <a:lnB w="13680">
                      <a:solidFill>
                        <a:srgbClr val="000000"/>
                      </a:solidFill>
                    </a:lnB>
                    <a:noFill/>
                  </a:tcPr>
                </a:tc>
              </a:tr>
              <a:tr h="31932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PFS median, months</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6.0</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5.6</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277560">
                <a:tc>
                  <a:txBody>
                    <a:bodyPr lIns="0" rIns="0" tIns="0" bIns="0" anchor="ctr">
                      <a:noAutofit/>
                    </a:bodyPr>
                    <a:p>
                      <a:pPr marL="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HR (95% CI); </a:t>
                      </a:r>
                      <a:r>
                        <a:rPr b="0" i="1" lang="en-US" sz="1400" spc="-1" strike="noStrike">
                          <a:solidFill>
                            <a:srgbClr val="000000"/>
                          </a:solidFill>
                          <a:latin typeface="Arial"/>
                          <a:ea typeface="Arial Unicode MS"/>
                        </a:rPr>
                        <a:t>P </a:t>
                      </a:r>
                      <a:r>
                        <a:rPr b="0" lang="en-US" sz="1400" spc="-1" strike="noStrike">
                          <a:solidFill>
                            <a:srgbClr val="000000"/>
                          </a:solidFill>
                          <a:latin typeface="Arial"/>
                          <a:ea typeface="Arial Unicode MS"/>
                        </a:rPr>
                        <a:t>value</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3 (0.71, 0.96); </a:t>
                      </a:r>
                      <a:r>
                        <a:rPr b="0" i="1" lang="en-US" sz="1400" spc="-1" strike="noStrike">
                          <a:solidFill>
                            <a:srgbClr val="000000"/>
                          </a:solidFill>
                          <a:latin typeface="Arial"/>
                        </a:rPr>
                        <a:t>P</a:t>
                      </a:r>
                      <a:r>
                        <a:rPr b="0" lang="en-US" sz="1400" spc="-1" strike="noStrike">
                          <a:solidFill>
                            <a:srgbClr val="000000"/>
                          </a:solidFill>
                          <a:latin typeface="Arial"/>
                        </a:rPr>
                        <a:t>=</a:t>
                      </a:r>
                      <a:r>
                        <a:rPr b="0" lang="en-US" sz="1400" spc="-1" strike="noStrike">
                          <a:solidFill>
                            <a:srgbClr val="000000"/>
                          </a:solidFill>
                          <a:latin typeface="Arial"/>
                          <a:ea typeface="Arial Unicode MS"/>
                        </a:rPr>
                        <a:t>0.012</a:t>
                      </a:r>
                      <a:r>
                        <a:rPr b="0" lang="en-US" sz="1400" spc="-1" strike="noStrike">
                          <a:solidFill>
                            <a:srgbClr val="000000"/>
                          </a:solidFill>
                          <a:latin typeface="Arial"/>
                        </a:rPr>
                        <a:t> </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TTPD, months</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7.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6.0</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76120">
                <a:tc>
                  <a:txBody>
                    <a:bodyPr lIns="0" rIns="0" tIns="0" bIns="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HR (95% CI</a:t>
                      </a:r>
                      <a:r>
                        <a:rPr b="0" i="1" lang="en-US" sz="1400" spc="-1" strike="noStrike">
                          <a:solidFill>
                            <a:srgbClr val="000000"/>
                          </a:solidFill>
                          <a:latin typeface="Arial"/>
                          <a:ea typeface="Arial Unicode MS"/>
                        </a:rPr>
                        <a:t>); P </a:t>
                      </a:r>
                      <a:r>
                        <a:rPr b="0" lang="en-US" sz="1400" spc="-1" strike="noStrike">
                          <a:solidFill>
                            <a:srgbClr val="000000"/>
                          </a:solidFill>
                          <a:latin typeface="Arial"/>
                          <a:ea typeface="Arial Unicode MS"/>
                        </a:rPr>
                        <a:t>value</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9 (0.67, 0.94); </a:t>
                      </a:r>
                      <a:r>
                        <a:rPr b="0" i="1" lang="en-US" sz="1400" spc="-1" strike="noStrike">
                          <a:solidFill>
                            <a:srgbClr val="000000"/>
                          </a:solidFill>
                          <a:latin typeface="Arial"/>
                          <a:ea typeface="Arial"/>
                        </a:rPr>
                        <a:t>P</a:t>
                      </a:r>
                      <a:r>
                        <a:rPr b="0" lang="en-US" sz="1400" spc="-1" strike="noStrike">
                          <a:solidFill>
                            <a:srgbClr val="000000"/>
                          </a:solidFill>
                          <a:latin typeface="Arial"/>
                          <a:ea typeface="Arial"/>
                        </a:rPr>
                        <a:t>=0.006</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ORR, %</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34.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33.0</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42696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G4 PFS</a:t>
                      </a:r>
                      <a:r>
                        <a:rPr b="0" lang="en-US" sz="1400" spc="-1" strike="noStrike" baseline="30000">
                          <a:solidFill>
                            <a:srgbClr val="000000"/>
                          </a:solidFill>
                          <a:latin typeface="Arial"/>
                          <a:ea typeface="Arial Unicode MS"/>
                        </a:rPr>
                        <a:t>a</a:t>
                      </a:r>
                      <a:r>
                        <a:rPr b="0" lang="en-US" sz="1400" spc="-1" strike="noStrike">
                          <a:solidFill>
                            <a:srgbClr val="000000"/>
                          </a:solidFill>
                          <a:latin typeface="Arial"/>
                          <a:ea typeface="Arial Unicode MS"/>
                        </a:rPr>
                        <a:t> median, months</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4.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3.0</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77920">
                <a:tc>
                  <a:txBody>
                    <a:bodyPr lIns="0" rIns="0" tIns="0" bIns="0" anchor="ctr">
                      <a:noAutofit/>
                    </a:bodyPr>
                    <a:p>
                      <a:pPr marL="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HR (95% CI); </a:t>
                      </a:r>
                      <a:r>
                        <a:rPr b="0" i="1" lang="en-US" sz="1400" spc="-1" strike="noStrike">
                          <a:solidFill>
                            <a:srgbClr val="000000"/>
                          </a:solidFill>
                          <a:latin typeface="Arial"/>
                          <a:ea typeface="Arial Unicode MS"/>
                        </a:rPr>
                        <a:t>P </a:t>
                      </a:r>
                      <a:r>
                        <a:rPr b="0" lang="en-US" sz="1400" spc="-1" strike="noStrike">
                          <a:solidFill>
                            <a:srgbClr val="000000"/>
                          </a:solidFill>
                          <a:latin typeface="Arial"/>
                          <a:ea typeface="Arial Unicode MS"/>
                        </a:rPr>
                        <a:t>value</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0.74 (0.64, 0.86); </a:t>
                      </a:r>
                      <a:r>
                        <a:rPr b="0" i="1" lang="en-US" sz="1400" spc="-1" strike="noStrike">
                          <a:solidFill>
                            <a:srgbClr val="000000"/>
                          </a:solidFill>
                          <a:latin typeface="Arial"/>
                        </a:rPr>
                        <a:t>P</a:t>
                      </a:r>
                      <a:r>
                        <a:rPr b="0" lang="en-US" sz="1400" spc="-1" strike="noStrike">
                          <a:solidFill>
                            <a:srgbClr val="000000"/>
                          </a:solidFill>
                          <a:latin typeface="Arial"/>
                        </a:rPr>
                        <a:t>&lt;0.001 </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PointBreak: OS From Randomization (ITT)</a:t>
            </a:r>
            <a:endParaRPr b="0" lang="en-US" sz="3600" spc="-1" strike="noStrike">
              <a:solidFill>
                <a:srgbClr val="000000"/>
              </a:solidFill>
              <a:latin typeface="Arial"/>
            </a:endParaRPr>
          </a:p>
        </p:txBody>
      </p:sp>
      <p:graphicFrame>
        <p:nvGraphicFramePr>
          <p:cNvPr id="2360" name=""/>
          <p:cNvGraphicFramePr/>
          <p:nvPr/>
        </p:nvGraphicFramePr>
        <p:xfrm>
          <a:off x="4343400" y="1752480"/>
          <a:ext cx="4687920" cy="1712880"/>
        </p:xfrm>
        <a:graphic>
          <a:graphicData uri="http://schemas.openxmlformats.org/drawingml/2006/table">
            <a:tbl>
              <a:tblPr/>
              <a:tblGrid>
                <a:gridCol w="1741320"/>
                <a:gridCol w="1473480"/>
                <a:gridCol w="1473120"/>
              </a:tblGrid>
              <a:tr h="25740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Unicode MS"/>
                        </a:rPr>
                        <a:t> </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0000"/>
                          </a:solidFill>
                          <a:latin typeface="Arial"/>
                          <a:ea typeface="Arial Unicode MS"/>
                        </a:rPr>
                        <a:t>Pem + Cb + Bev</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6666ff"/>
                          </a:solidFill>
                          <a:latin typeface="Arial"/>
                          <a:ea typeface="Arial Unicode MS"/>
                        </a:rPr>
                        <a:t>Pac + Cb + Bev</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13680">
                      <a:solidFill>
                        <a:srgbClr val="000000"/>
                      </a:solidFill>
                    </a:lnB>
                    <a:noFill/>
                  </a:tcPr>
                </a:tc>
              </a:tr>
              <a:tr h="25704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OS median, months</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1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13.4</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426960">
                <a:tc>
                  <a:txBody>
                    <a:bodyPr lIns="0" rIns="0" tIns="0" bIns="0" anchor="ctr">
                      <a:noAutofit/>
                    </a:bodyPr>
                    <a:p>
                      <a:pPr marL="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HR (95% CI); </a:t>
                      </a:r>
                      <a:r>
                        <a:rPr b="0" i="1" lang="en-US" sz="1400" spc="-1" strike="noStrike">
                          <a:solidFill>
                            <a:srgbClr val="000000"/>
                          </a:solidFill>
                          <a:latin typeface="Arial"/>
                          <a:ea typeface="Arial Unicode MS"/>
                        </a:rPr>
                        <a:t>P </a:t>
                      </a:r>
                      <a:r>
                        <a:rPr b="0" lang="en-US" sz="1400" spc="-1" strike="noStrike">
                          <a:solidFill>
                            <a:srgbClr val="000000"/>
                          </a:solidFill>
                          <a:latin typeface="Arial"/>
                          <a:ea typeface="Arial Unicode MS"/>
                        </a:rPr>
                        <a:t>value</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0.86, 1.16); </a:t>
                      </a:r>
                      <a:r>
                        <a:rPr b="0" i="1" lang="en-US" sz="1400" spc="-1" strike="noStrike">
                          <a:solidFill>
                            <a:srgbClr val="000000"/>
                          </a:solidFill>
                          <a:latin typeface="Arial"/>
                          <a:ea typeface="Arial Unicode MS"/>
                        </a:rPr>
                        <a:t>P</a:t>
                      </a:r>
                      <a:r>
                        <a:rPr b="0" lang="en-US" sz="1400" spc="-1" strike="noStrike">
                          <a:solidFill>
                            <a:srgbClr val="000000"/>
                          </a:solidFill>
                          <a:latin typeface="Arial"/>
                          <a:ea typeface="Arial Unicode MS"/>
                        </a:rPr>
                        <a:t>=0.949</a:t>
                      </a:r>
                      <a:r>
                        <a:rPr b="0" lang="en-US" sz="1400" spc="-1" strike="noStrike">
                          <a:solidFill>
                            <a:srgbClr val="000000"/>
                          </a:solidFill>
                          <a:latin typeface="Arial"/>
                        </a:rPr>
                        <a:t> </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257400">
                <a:tc gridSpan="3">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Survival rate, % </a:t>
                      </a:r>
                      <a:endParaRPr b="0" lang="en-US" sz="14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257040">
                <a:tc>
                  <a:txBody>
                    <a:bodyPr lIns="0" rIns="0" tIns="0" bIns="0" anchor="ctr">
                      <a:noAutofit/>
                    </a:bodyPr>
                    <a:p>
                      <a:pPr marL="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1-year</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r>
                        <a:rPr b="0" lang="en-US" sz="1400" spc="-1" strike="noStrike">
                          <a:solidFill>
                            <a:srgbClr val="000000"/>
                          </a:solidFill>
                          <a:latin typeface="Arial"/>
                          <a:ea typeface="Arial Unicode MS"/>
                        </a:rPr>
                        <a:t>52.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r>
                        <a:rPr b="0" lang="en-US" sz="1400" spc="-1" strike="noStrike">
                          <a:solidFill>
                            <a:srgbClr val="000000"/>
                          </a:solidFill>
                          <a:latin typeface="Arial"/>
                          <a:ea typeface="Arial Unicode MS"/>
                        </a:rPr>
                        <a:t>54.1</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57040">
                <a:tc>
                  <a:txBody>
                    <a:bodyPr lIns="0" rIns="0" tIns="0" bIns="0" anchor="ctr">
                      <a:noAutofit/>
                    </a:bodyPr>
                    <a:p>
                      <a:pPr marL="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2-year</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r>
                        <a:rPr b="0" lang="en-US" sz="1400" spc="-1" strike="noStrike">
                          <a:solidFill>
                            <a:srgbClr val="000000"/>
                          </a:solidFill>
                          <a:latin typeface="Arial"/>
                          <a:ea typeface="Arial Unicode MS"/>
                        </a:rPr>
                        <a:t>24.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r>
                        <a:rPr b="0" lang="en-US" sz="1400" spc="-1" strike="noStrike">
                          <a:solidFill>
                            <a:srgbClr val="000000"/>
                          </a:solidFill>
                          <a:latin typeface="Arial"/>
                          <a:ea typeface="Arial Unicode MS"/>
                        </a:rPr>
                        <a:t>21.2</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
        <p:nvSpPr>
          <p:cNvPr id="2361" name="Text Box 15"/>
          <p:cNvSpPr/>
          <p:nvPr/>
        </p:nvSpPr>
        <p:spPr>
          <a:xfrm>
            <a:off x="2133720" y="6387120"/>
            <a:ext cx="6019560" cy="4136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Censoring rate for Pem + Cb + Bev was 27.8; for Pac + Cb + Bev was 27.2</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With permission from Patel, et al. Presented at IASLC. 2012 (abstr LBPL1).</a:t>
            </a:r>
            <a:endParaRPr b="0" lang="en-US" sz="1000" spc="-1" strike="noStrike">
              <a:solidFill>
                <a:srgbClr val="000000"/>
              </a:solidFill>
              <a:latin typeface="Arial"/>
            </a:endParaRPr>
          </a:p>
        </p:txBody>
      </p:sp>
      <p:sp>
        <p:nvSpPr>
          <p:cNvPr id="2362" name="AutoShape 99"/>
          <p:cNvSpPr/>
          <p:nvPr/>
        </p:nvSpPr>
        <p:spPr>
          <a:xfrm>
            <a:off x="87480" y="100080"/>
            <a:ext cx="8969040" cy="666252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63" name="Rectangle 101"/>
          <p:cNvSpPr/>
          <p:nvPr/>
        </p:nvSpPr>
        <p:spPr>
          <a:xfrm>
            <a:off x="87480" y="100080"/>
            <a:ext cx="8969040" cy="666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364" name="Group 134276"/>
          <p:cNvGrpSpPr/>
          <p:nvPr/>
        </p:nvGrpSpPr>
        <p:grpSpPr>
          <a:xfrm>
            <a:off x="281160" y="1770120"/>
            <a:ext cx="8549640" cy="4417560"/>
            <a:chOff x="281160" y="1770120"/>
            <a:chExt cx="8549640" cy="4417560"/>
          </a:xfrm>
        </p:grpSpPr>
        <p:sp>
          <p:nvSpPr>
            <p:cNvPr id="2365" name="Rectangle 102"/>
            <p:cNvSpPr/>
            <p:nvPr/>
          </p:nvSpPr>
          <p:spPr>
            <a:xfrm>
              <a:off x="831960" y="1850760"/>
              <a:ext cx="7924680" cy="364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6" name="Line 103"/>
            <p:cNvSpPr/>
            <p:nvPr/>
          </p:nvSpPr>
          <p:spPr>
            <a:xfrm>
              <a:off x="831960" y="5492880"/>
              <a:ext cx="7924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67" name="Line 104"/>
            <p:cNvSpPr/>
            <p:nvPr/>
          </p:nvSpPr>
          <p:spPr>
            <a:xfrm flipV="1">
              <a:off x="83196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68" name="Line 105"/>
            <p:cNvSpPr/>
            <p:nvPr/>
          </p:nvSpPr>
          <p:spPr>
            <a:xfrm flipV="1">
              <a:off x="144000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69" name="Line 106"/>
            <p:cNvSpPr/>
            <p:nvPr/>
          </p:nvSpPr>
          <p:spPr>
            <a:xfrm flipV="1">
              <a:off x="204948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0" name="Line 107"/>
            <p:cNvSpPr/>
            <p:nvPr/>
          </p:nvSpPr>
          <p:spPr>
            <a:xfrm flipV="1">
              <a:off x="265896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1" name="Line 108"/>
            <p:cNvSpPr/>
            <p:nvPr/>
          </p:nvSpPr>
          <p:spPr>
            <a:xfrm flipV="1">
              <a:off x="326880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2" name="Line 109"/>
            <p:cNvSpPr/>
            <p:nvPr/>
          </p:nvSpPr>
          <p:spPr>
            <a:xfrm flipV="1">
              <a:off x="387972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3" name="Line 110"/>
            <p:cNvSpPr/>
            <p:nvPr/>
          </p:nvSpPr>
          <p:spPr>
            <a:xfrm flipV="1">
              <a:off x="448956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4" name="Line 111"/>
            <p:cNvSpPr/>
            <p:nvPr/>
          </p:nvSpPr>
          <p:spPr>
            <a:xfrm flipV="1">
              <a:off x="509760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5" name="Line 112"/>
            <p:cNvSpPr/>
            <p:nvPr/>
          </p:nvSpPr>
          <p:spPr>
            <a:xfrm flipV="1">
              <a:off x="570708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6" name="Line 113"/>
            <p:cNvSpPr/>
            <p:nvPr/>
          </p:nvSpPr>
          <p:spPr>
            <a:xfrm flipV="1">
              <a:off x="631836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7" name="Line 114"/>
            <p:cNvSpPr/>
            <p:nvPr/>
          </p:nvSpPr>
          <p:spPr>
            <a:xfrm flipV="1">
              <a:off x="692784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8" name="Line 115"/>
            <p:cNvSpPr/>
            <p:nvPr/>
          </p:nvSpPr>
          <p:spPr>
            <a:xfrm flipV="1">
              <a:off x="753768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9" name="Line 116"/>
            <p:cNvSpPr/>
            <p:nvPr/>
          </p:nvSpPr>
          <p:spPr>
            <a:xfrm flipV="1">
              <a:off x="814716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80" name="Line 117"/>
            <p:cNvSpPr/>
            <p:nvPr/>
          </p:nvSpPr>
          <p:spPr>
            <a:xfrm flipV="1">
              <a:off x="875664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81" name="Line 118"/>
            <p:cNvSpPr/>
            <p:nvPr/>
          </p:nvSpPr>
          <p:spPr>
            <a:xfrm flipV="1">
              <a:off x="10350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2" name="Line 119"/>
            <p:cNvSpPr/>
            <p:nvPr/>
          </p:nvSpPr>
          <p:spPr>
            <a:xfrm flipV="1">
              <a:off x="12366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3" name="Line 120"/>
            <p:cNvSpPr/>
            <p:nvPr/>
          </p:nvSpPr>
          <p:spPr>
            <a:xfrm flipV="1">
              <a:off x="164304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4" name="Line 121"/>
            <p:cNvSpPr/>
            <p:nvPr/>
          </p:nvSpPr>
          <p:spPr>
            <a:xfrm flipV="1">
              <a:off x="184644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5" name="Line 122"/>
            <p:cNvSpPr/>
            <p:nvPr/>
          </p:nvSpPr>
          <p:spPr>
            <a:xfrm flipV="1">
              <a:off x="225252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6" name="Line 123"/>
            <p:cNvSpPr/>
            <p:nvPr/>
          </p:nvSpPr>
          <p:spPr>
            <a:xfrm flipV="1">
              <a:off x="245592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7" name="Line 124"/>
            <p:cNvSpPr/>
            <p:nvPr/>
          </p:nvSpPr>
          <p:spPr>
            <a:xfrm flipV="1">
              <a:off x="286236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8" name="Line 125"/>
            <p:cNvSpPr/>
            <p:nvPr/>
          </p:nvSpPr>
          <p:spPr>
            <a:xfrm flipV="1">
              <a:off x="30654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9" name="Line 126"/>
            <p:cNvSpPr/>
            <p:nvPr/>
          </p:nvSpPr>
          <p:spPr>
            <a:xfrm flipV="1">
              <a:off x="347364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0" name="Line 127"/>
            <p:cNvSpPr/>
            <p:nvPr/>
          </p:nvSpPr>
          <p:spPr>
            <a:xfrm flipV="1">
              <a:off x="367668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1" name="Line 128"/>
            <p:cNvSpPr/>
            <p:nvPr/>
          </p:nvSpPr>
          <p:spPr>
            <a:xfrm flipV="1">
              <a:off x="408312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2" name="Line 129"/>
            <p:cNvSpPr/>
            <p:nvPr/>
          </p:nvSpPr>
          <p:spPr>
            <a:xfrm flipV="1">
              <a:off x="428616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3" name="Line 130"/>
            <p:cNvSpPr/>
            <p:nvPr/>
          </p:nvSpPr>
          <p:spPr>
            <a:xfrm flipV="1">
              <a:off x="46926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4" name="Line 131"/>
            <p:cNvSpPr/>
            <p:nvPr/>
          </p:nvSpPr>
          <p:spPr>
            <a:xfrm flipV="1">
              <a:off x="48960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5" name="Line 132"/>
            <p:cNvSpPr/>
            <p:nvPr/>
          </p:nvSpPr>
          <p:spPr>
            <a:xfrm flipV="1">
              <a:off x="530064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6" name="Line 133"/>
            <p:cNvSpPr/>
            <p:nvPr/>
          </p:nvSpPr>
          <p:spPr>
            <a:xfrm flipV="1">
              <a:off x="550404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7" name="Line 134"/>
            <p:cNvSpPr/>
            <p:nvPr/>
          </p:nvSpPr>
          <p:spPr>
            <a:xfrm flipV="1">
              <a:off x="591048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8" name="Line 135"/>
            <p:cNvSpPr/>
            <p:nvPr/>
          </p:nvSpPr>
          <p:spPr>
            <a:xfrm flipV="1">
              <a:off x="611496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9" name="Line 136"/>
            <p:cNvSpPr/>
            <p:nvPr/>
          </p:nvSpPr>
          <p:spPr>
            <a:xfrm flipV="1">
              <a:off x="65214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0" name="Line 137"/>
            <p:cNvSpPr/>
            <p:nvPr/>
          </p:nvSpPr>
          <p:spPr>
            <a:xfrm flipV="1">
              <a:off x="67248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1" name="Line 138"/>
            <p:cNvSpPr/>
            <p:nvPr/>
          </p:nvSpPr>
          <p:spPr>
            <a:xfrm flipV="1">
              <a:off x="713124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2" name="Line 139"/>
            <p:cNvSpPr/>
            <p:nvPr/>
          </p:nvSpPr>
          <p:spPr>
            <a:xfrm flipV="1">
              <a:off x="733428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3" name="Line 140"/>
            <p:cNvSpPr/>
            <p:nvPr/>
          </p:nvSpPr>
          <p:spPr>
            <a:xfrm flipV="1">
              <a:off x="774072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4" name="Line 141"/>
            <p:cNvSpPr/>
            <p:nvPr/>
          </p:nvSpPr>
          <p:spPr>
            <a:xfrm flipV="1">
              <a:off x="794376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5" name="Line 142"/>
            <p:cNvSpPr/>
            <p:nvPr/>
          </p:nvSpPr>
          <p:spPr>
            <a:xfrm flipV="1">
              <a:off x="83502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6" name="Line 143"/>
            <p:cNvSpPr/>
            <p:nvPr/>
          </p:nvSpPr>
          <p:spPr>
            <a:xfrm flipV="1">
              <a:off x="85536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7" name="Rectangle 144"/>
            <p:cNvSpPr/>
            <p:nvPr/>
          </p:nvSpPr>
          <p:spPr>
            <a:xfrm>
              <a:off x="790200" y="56199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408" name="Rectangle 145"/>
            <p:cNvSpPr/>
            <p:nvPr/>
          </p:nvSpPr>
          <p:spPr>
            <a:xfrm>
              <a:off x="1399680" y="56199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2409" name="Rectangle 146"/>
            <p:cNvSpPr/>
            <p:nvPr/>
          </p:nvSpPr>
          <p:spPr>
            <a:xfrm>
              <a:off x="2009520" y="56199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2410" name="Rectangle 147"/>
            <p:cNvSpPr/>
            <p:nvPr/>
          </p:nvSpPr>
          <p:spPr>
            <a:xfrm>
              <a:off x="2617560" y="56199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2411" name="Rectangle 148"/>
            <p:cNvSpPr/>
            <p:nvPr/>
          </p:nvSpPr>
          <p:spPr>
            <a:xfrm>
              <a:off x="318636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2</a:t>
              </a:r>
              <a:endParaRPr b="0" lang="en-US" sz="1100" spc="-1" strike="noStrike">
                <a:solidFill>
                  <a:srgbClr val="000000"/>
                </a:solidFill>
                <a:latin typeface="Arial"/>
              </a:endParaRPr>
            </a:p>
          </p:txBody>
        </p:sp>
        <p:sp>
          <p:nvSpPr>
            <p:cNvPr id="2412" name="Rectangle 149"/>
            <p:cNvSpPr/>
            <p:nvPr/>
          </p:nvSpPr>
          <p:spPr>
            <a:xfrm>
              <a:off x="379764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5</a:t>
              </a:r>
              <a:endParaRPr b="0" lang="en-US" sz="1100" spc="-1" strike="noStrike">
                <a:solidFill>
                  <a:srgbClr val="000000"/>
                </a:solidFill>
                <a:latin typeface="Arial"/>
              </a:endParaRPr>
            </a:p>
          </p:txBody>
        </p:sp>
        <p:sp>
          <p:nvSpPr>
            <p:cNvPr id="2413" name="Rectangle 150"/>
            <p:cNvSpPr/>
            <p:nvPr/>
          </p:nvSpPr>
          <p:spPr>
            <a:xfrm>
              <a:off x="440568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8</a:t>
              </a:r>
              <a:endParaRPr b="0" lang="en-US" sz="1100" spc="-1" strike="noStrike">
                <a:solidFill>
                  <a:srgbClr val="000000"/>
                </a:solidFill>
                <a:latin typeface="Arial"/>
              </a:endParaRPr>
            </a:p>
          </p:txBody>
        </p:sp>
        <p:sp>
          <p:nvSpPr>
            <p:cNvPr id="2414" name="Rectangle 151"/>
            <p:cNvSpPr/>
            <p:nvPr/>
          </p:nvSpPr>
          <p:spPr>
            <a:xfrm>
              <a:off x="501516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1</a:t>
              </a:r>
              <a:endParaRPr b="0" lang="en-US" sz="1100" spc="-1" strike="noStrike">
                <a:solidFill>
                  <a:srgbClr val="000000"/>
                </a:solidFill>
                <a:latin typeface="Arial"/>
              </a:endParaRPr>
            </a:p>
          </p:txBody>
        </p:sp>
        <p:sp>
          <p:nvSpPr>
            <p:cNvPr id="2415" name="Rectangle 152"/>
            <p:cNvSpPr/>
            <p:nvPr/>
          </p:nvSpPr>
          <p:spPr>
            <a:xfrm>
              <a:off x="562500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4</a:t>
              </a:r>
              <a:endParaRPr b="0" lang="en-US" sz="1100" spc="-1" strike="noStrike">
                <a:solidFill>
                  <a:srgbClr val="000000"/>
                </a:solidFill>
                <a:latin typeface="Arial"/>
              </a:endParaRPr>
            </a:p>
          </p:txBody>
        </p:sp>
        <p:sp>
          <p:nvSpPr>
            <p:cNvPr id="2416" name="Rectangle 153"/>
            <p:cNvSpPr/>
            <p:nvPr/>
          </p:nvSpPr>
          <p:spPr>
            <a:xfrm>
              <a:off x="623628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7</a:t>
              </a:r>
              <a:endParaRPr b="0" lang="en-US" sz="1100" spc="-1" strike="noStrike">
                <a:solidFill>
                  <a:srgbClr val="000000"/>
                </a:solidFill>
                <a:latin typeface="Arial"/>
              </a:endParaRPr>
            </a:p>
          </p:txBody>
        </p:sp>
        <p:sp>
          <p:nvSpPr>
            <p:cNvPr id="2417" name="Rectangle 154"/>
            <p:cNvSpPr/>
            <p:nvPr/>
          </p:nvSpPr>
          <p:spPr>
            <a:xfrm>
              <a:off x="684576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a:t>
              </a:r>
              <a:endParaRPr b="0" lang="en-US" sz="1100" spc="-1" strike="noStrike">
                <a:solidFill>
                  <a:srgbClr val="000000"/>
                </a:solidFill>
                <a:latin typeface="Arial"/>
              </a:endParaRPr>
            </a:p>
          </p:txBody>
        </p:sp>
        <p:sp>
          <p:nvSpPr>
            <p:cNvPr id="2418" name="Rectangle 155"/>
            <p:cNvSpPr/>
            <p:nvPr/>
          </p:nvSpPr>
          <p:spPr>
            <a:xfrm>
              <a:off x="745524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3</a:t>
              </a:r>
              <a:endParaRPr b="0" lang="en-US" sz="1100" spc="-1" strike="noStrike">
                <a:solidFill>
                  <a:srgbClr val="000000"/>
                </a:solidFill>
                <a:latin typeface="Arial"/>
              </a:endParaRPr>
            </a:p>
          </p:txBody>
        </p:sp>
        <p:sp>
          <p:nvSpPr>
            <p:cNvPr id="2419" name="Rectangle 156"/>
            <p:cNvSpPr/>
            <p:nvPr/>
          </p:nvSpPr>
          <p:spPr>
            <a:xfrm>
              <a:off x="806328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6</a:t>
              </a:r>
              <a:endParaRPr b="0" lang="en-US" sz="1100" spc="-1" strike="noStrike">
                <a:solidFill>
                  <a:srgbClr val="000000"/>
                </a:solidFill>
                <a:latin typeface="Arial"/>
              </a:endParaRPr>
            </a:p>
          </p:txBody>
        </p:sp>
        <p:sp>
          <p:nvSpPr>
            <p:cNvPr id="2420" name="Rectangle 157"/>
            <p:cNvSpPr/>
            <p:nvPr/>
          </p:nvSpPr>
          <p:spPr>
            <a:xfrm>
              <a:off x="867456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9</a:t>
              </a:r>
              <a:endParaRPr b="0" lang="en-US" sz="1100" spc="-1" strike="noStrike">
                <a:solidFill>
                  <a:srgbClr val="000000"/>
                </a:solidFill>
                <a:latin typeface="Arial"/>
              </a:endParaRPr>
            </a:p>
          </p:txBody>
        </p:sp>
        <p:sp>
          <p:nvSpPr>
            <p:cNvPr id="2421" name="Line 158"/>
            <p:cNvSpPr/>
            <p:nvPr/>
          </p:nvSpPr>
          <p:spPr>
            <a:xfrm flipV="1">
              <a:off x="831960" y="1850400"/>
              <a:ext cx="0" cy="364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2" name="Line 159"/>
            <p:cNvSpPr/>
            <p:nvPr/>
          </p:nvSpPr>
          <p:spPr>
            <a:xfrm>
              <a:off x="777960" y="542160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3" name="Line 160"/>
            <p:cNvSpPr/>
            <p:nvPr/>
          </p:nvSpPr>
          <p:spPr>
            <a:xfrm>
              <a:off x="777960" y="50644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4" name="Line 161"/>
            <p:cNvSpPr/>
            <p:nvPr/>
          </p:nvSpPr>
          <p:spPr>
            <a:xfrm>
              <a:off x="777960" y="470700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5" name="Line 162"/>
            <p:cNvSpPr/>
            <p:nvPr/>
          </p:nvSpPr>
          <p:spPr>
            <a:xfrm>
              <a:off x="777960" y="43498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6" name="Line 163"/>
            <p:cNvSpPr/>
            <p:nvPr/>
          </p:nvSpPr>
          <p:spPr>
            <a:xfrm>
              <a:off x="777960" y="39927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7" name="Line 164"/>
            <p:cNvSpPr/>
            <p:nvPr/>
          </p:nvSpPr>
          <p:spPr>
            <a:xfrm>
              <a:off x="777960" y="36352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8" name="Line 165"/>
            <p:cNvSpPr/>
            <p:nvPr/>
          </p:nvSpPr>
          <p:spPr>
            <a:xfrm>
              <a:off x="777960" y="32781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9" name="Line 166"/>
            <p:cNvSpPr/>
            <p:nvPr/>
          </p:nvSpPr>
          <p:spPr>
            <a:xfrm>
              <a:off x="777960" y="29210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0" name="Line 167"/>
            <p:cNvSpPr/>
            <p:nvPr/>
          </p:nvSpPr>
          <p:spPr>
            <a:xfrm>
              <a:off x="777960" y="25653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1" name="Line 168"/>
            <p:cNvSpPr/>
            <p:nvPr/>
          </p:nvSpPr>
          <p:spPr>
            <a:xfrm>
              <a:off x="777960" y="22082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2" name="Line 169"/>
            <p:cNvSpPr/>
            <p:nvPr/>
          </p:nvSpPr>
          <p:spPr>
            <a:xfrm>
              <a:off x="777960" y="18507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3" name="Line 170"/>
            <p:cNvSpPr/>
            <p:nvPr/>
          </p:nvSpPr>
          <p:spPr>
            <a:xfrm>
              <a:off x="798480" y="524232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4" name="Line 171"/>
            <p:cNvSpPr/>
            <p:nvPr/>
          </p:nvSpPr>
          <p:spPr>
            <a:xfrm>
              <a:off x="798480" y="488484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5" name="Line 172"/>
            <p:cNvSpPr/>
            <p:nvPr/>
          </p:nvSpPr>
          <p:spPr>
            <a:xfrm>
              <a:off x="798480" y="452772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6" name="Line 173"/>
            <p:cNvSpPr/>
            <p:nvPr/>
          </p:nvSpPr>
          <p:spPr>
            <a:xfrm>
              <a:off x="798480" y="417204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7" name="Line 174"/>
            <p:cNvSpPr/>
            <p:nvPr/>
          </p:nvSpPr>
          <p:spPr>
            <a:xfrm>
              <a:off x="798480" y="381492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8" name="Line 175"/>
            <p:cNvSpPr/>
            <p:nvPr/>
          </p:nvSpPr>
          <p:spPr>
            <a:xfrm>
              <a:off x="798480" y="345780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9" name="Line 176"/>
            <p:cNvSpPr/>
            <p:nvPr/>
          </p:nvSpPr>
          <p:spPr>
            <a:xfrm>
              <a:off x="798480" y="309888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40" name="Line 177"/>
            <p:cNvSpPr/>
            <p:nvPr/>
          </p:nvSpPr>
          <p:spPr>
            <a:xfrm>
              <a:off x="798480" y="274320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41" name="Line 178"/>
            <p:cNvSpPr/>
            <p:nvPr/>
          </p:nvSpPr>
          <p:spPr>
            <a:xfrm>
              <a:off x="798480" y="238608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42" name="Line 179"/>
            <p:cNvSpPr/>
            <p:nvPr/>
          </p:nvSpPr>
          <p:spPr>
            <a:xfrm>
              <a:off x="798480" y="202860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43" name="Rectangle 180"/>
            <p:cNvSpPr/>
            <p:nvPr/>
          </p:nvSpPr>
          <p:spPr>
            <a:xfrm>
              <a:off x="496440" y="534060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0</a:t>
              </a:r>
              <a:endParaRPr b="0" lang="en-US" sz="1100" spc="-1" strike="noStrike">
                <a:solidFill>
                  <a:srgbClr val="000000"/>
                </a:solidFill>
                <a:latin typeface="Arial"/>
              </a:endParaRPr>
            </a:p>
          </p:txBody>
        </p:sp>
        <p:sp>
          <p:nvSpPr>
            <p:cNvPr id="2444" name="Rectangle 181"/>
            <p:cNvSpPr/>
            <p:nvPr/>
          </p:nvSpPr>
          <p:spPr>
            <a:xfrm>
              <a:off x="496440" y="49834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1</a:t>
              </a:r>
              <a:endParaRPr b="0" lang="en-US" sz="1100" spc="-1" strike="noStrike">
                <a:solidFill>
                  <a:srgbClr val="000000"/>
                </a:solidFill>
                <a:latin typeface="Arial"/>
              </a:endParaRPr>
            </a:p>
          </p:txBody>
        </p:sp>
        <p:sp>
          <p:nvSpPr>
            <p:cNvPr id="2445" name="Rectangle 182"/>
            <p:cNvSpPr/>
            <p:nvPr/>
          </p:nvSpPr>
          <p:spPr>
            <a:xfrm>
              <a:off x="496440" y="462600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2</a:t>
              </a:r>
              <a:endParaRPr b="0" lang="en-US" sz="1100" spc="-1" strike="noStrike">
                <a:solidFill>
                  <a:srgbClr val="000000"/>
                </a:solidFill>
                <a:latin typeface="Arial"/>
              </a:endParaRPr>
            </a:p>
          </p:txBody>
        </p:sp>
        <p:sp>
          <p:nvSpPr>
            <p:cNvPr id="2446" name="Rectangle 183"/>
            <p:cNvSpPr/>
            <p:nvPr/>
          </p:nvSpPr>
          <p:spPr>
            <a:xfrm>
              <a:off x="496440" y="42688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3</a:t>
              </a:r>
              <a:endParaRPr b="0" lang="en-US" sz="1100" spc="-1" strike="noStrike">
                <a:solidFill>
                  <a:srgbClr val="000000"/>
                </a:solidFill>
                <a:latin typeface="Arial"/>
              </a:endParaRPr>
            </a:p>
          </p:txBody>
        </p:sp>
        <p:sp>
          <p:nvSpPr>
            <p:cNvPr id="2447" name="Rectangle 184"/>
            <p:cNvSpPr/>
            <p:nvPr/>
          </p:nvSpPr>
          <p:spPr>
            <a:xfrm>
              <a:off x="496440" y="391176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4</a:t>
              </a:r>
              <a:endParaRPr b="0" lang="en-US" sz="1100" spc="-1" strike="noStrike">
                <a:solidFill>
                  <a:srgbClr val="000000"/>
                </a:solidFill>
                <a:latin typeface="Arial"/>
              </a:endParaRPr>
            </a:p>
          </p:txBody>
        </p:sp>
        <p:sp>
          <p:nvSpPr>
            <p:cNvPr id="2448" name="Rectangle 185"/>
            <p:cNvSpPr/>
            <p:nvPr/>
          </p:nvSpPr>
          <p:spPr>
            <a:xfrm>
              <a:off x="496440" y="355464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5</a:t>
              </a:r>
              <a:endParaRPr b="0" lang="en-US" sz="1100" spc="-1" strike="noStrike">
                <a:solidFill>
                  <a:srgbClr val="000000"/>
                </a:solidFill>
                <a:latin typeface="Arial"/>
              </a:endParaRPr>
            </a:p>
          </p:txBody>
        </p:sp>
        <p:sp>
          <p:nvSpPr>
            <p:cNvPr id="2449" name="Rectangle 186"/>
            <p:cNvSpPr/>
            <p:nvPr/>
          </p:nvSpPr>
          <p:spPr>
            <a:xfrm>
              <a:off x="496440" y="319896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6</a:t>
              </a:r>
              <a:endParaRPr b="0" lang="en-US" sz="1100" spc="-1" strike="noStrike">
                <a:solidFill>
                  <a:srgbClr val="000000"/>
                </a:solidFill>
                <a:latin typeface="Arial"/>
              </a:endParaRPr>
            </a:p>
          </p:txBody>
        </p:sp>
        <p:sp>
          <p:nvSpPr>
            <p:cNvPr id="2450" name="Rectangle 187"/>
            <p:cNvSpPr/>
            <p:nvPr/>
          </p:nvSpPr>
          <p:spPr>
            <a:xfrm>
              <a:off x="496440" y="28414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7</a:t>
              </a:r>
              <a:endParaRPr b="0" lang="en-US" sz="1100" spc="-1" strike="noStrike">
                <a:solidFill>
                  <a:srgbClr val="000000"/>
                </a:solidFill>
                <a:latin typeface="Arial"/>
              </a:endParaRPr>
            </a:p>
          </p:txBody>
        </p:sp>
        <p:sp>
          <p:nvSpPr>
            <p:cNvPr id="2451" name="Rectangle 188"/>
            <p:cNvSpPr/>
            <p:nvPr/>
          </p:nvSpPr>
          <p:spPr>
            <a:xfrm>
              <a:off x="496440" y="248436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8</a:t>
              </a:r>
              <a:endParaRPr b="0" lang="en-US" sz="1100" spc="-1" strike="noStrike">
                <a:solidFill>
                  <a:srgbClr val="000000"/>
                </a:solidFill>
                <a:latin typeface="Arial"/>
              </a:endParaRPr>
            </a:p>
          </p:txBody>
        </p:sp>
        <p:sp>
          <p:nvSpPr>
            <p:cNvPr id="2452" name="Rectangle 189"/>
            <p:cNvSpPr/>
            <p:nvPr/>
          </p:nvSpPr>
          <p:spPr>
            <a:xfrm>
              <a:off x="496440" y="212724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9</a:t>
              </a:r>
              <a:endParaRPr b="0" lang="en-US" sz="1100" spc="-1" strike="noStrike">
                <a:solidFill>
                  <a:srgbClr val="000000"/>
                </a:solidFill>
                <a:latin typeface="Arial"/>
              </a:endParaRPr>
            </a:p>
          </p:txBody>
        </p:sp>
        <p:sp>
          <p:nvSpPr>
            <p:cNvPr id="2453" name="Rectangle 190"/>
            <p:cNvSpPr/>
            <p:nvPr/>
          </p:nvSpPr>
          <p:spPr>
            <a:xfrm>
              <a:off x="496440" y="177012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a:t>
              </a:r>
              <a:endParaRPr b="0" lang="en-US" sz="1100" spc="-1" strike="noStrike">
                <a:solidFill>
                  <a:srgbClr val="000000"/>
                </a:solidFill>
                <a:latin typeface="Arial"/>
              </a:endParaRPr>
            </a:p>
          </p:txBody>
        </p:sp>
        <p:sp>
          <p:nvSpPr>
            <p:cNvPr id="2454" name="Freeform 191"/>
            <p:cNvSpPr/>
            <p:nvPr/>
          </p:nvSpPr>
          <p:spPr>
            <a:xfrm flipV="1">
              <a:off x="831960" y="1849680"/>
              <a:ext cx="7529400" cy="3195720"/>
            </a:xfrm>
            <a:custGeom>
              <a:avLst/>
              <a:gdLst/>
              <a:ahLst/>
              <a:rect l="l" t="t" r="r" b="b"/>
              <a:pathLst>
                <a:path w="7006" h="3072">
                  <a:moveTo>
                    <a:pt x="0" y="3072"/>
                  </a:moveTo>
                  <a:lnTo>
                    <a:pt x="6" y="3072"/>
                  </a:lnTo>
                  <a:lnTo>
                    <a:pt x="24" y="3072"/>
                  </a:lnTo>
                  <a:lnTo>
                    <a:pt x="43" y="3072"/>
                  </a:lnTo>
                  <a:lnTo>
                    <a:pt x="55" y="3072"/>
                  </a:lnTo>
                  <a:lnTo>
                    <a:pt x="55" y="3065"/>
                  </a:lnTo>
                  <a:lnTo>
                    <a:pt x="62" y="3065"/>
                  </a:lnTo>
                  <a:lnTo>
                    <a:pt x="62" y="3058"/>
                  </a:lnTo>
                  <a:lnTo>
                    <a:pt x="68" y="3058"/>
                  </a:lnTo>
                  <a:lnTo>
                    <a:pt x="68" y="3051"/>
                  </a:lnTo>
                  <a:lnTo>
                    <a:pt x="86" y="3051"/>
                  </a:lnTo>
                  <a:lnTo>
                    <a:pt x="86" y="3043"/>
                  </a:lnTo>
                  <a:lnTo>
                    <a:pt x="99" y="3043"/>
                  </a:lnTo>
                  <a:lnTo>
                    <a:pt x="99" y="3036"/>
                  </a:lnTo>
                  <a:lnTo>
                    <a:pt x="105" y="3036"/>
                  </a:lnTo>
                  <a:lnTo>
                    <a:pt x="105" y="3029"/>
                  </a:lnTo>
                  <a:lnTo>
                    <a:pt x="118" y="3029"/>
                  </a:lnTo>
                  <a:lnTo>
                    <a:pt x="118" y="3021"/>
                  </a:lnTo>
                  <a:lnTo>
                    <a:pt x="130" y="3021"/>
                  </a:lnTo>
                  <a:lnTo>
                    <a:pt x="130" y="3014"/>
                  </a:lnTo>
                  <a:lnTo>
                    <a:pt x="142" y="3014"/>
                  </a:lnTo>
                  <a:lnTo>
                    <a:pt x="142" y="3007"/>
                  </a:lnTo>
                  <a:lnTo>
                    <a:pt x="149" y="3007"/>
                  </a:lnTo>
                  <a:lnTo>
                    <a:pt x="149" y="2999"/>
                  </a:lnTo>
                  <a:lnTo>
                    <a:pt x="161" y="2999"/>
                  </a:lnTo>
                  <a:lnTo>
                    <a:pt x="161" y="2992"/>
                  </a:lnTo>
                  <a:lnTo>
                    <a:pt x="167" y="2992"/>
                  </a:lnTo>
                  <a:lnTo>
                    <a:pt x="167" y="2985"/>
                  </a:lnTo>
                  <a:lnTo>
                    <a:pt x="173" y="2985"/>
                  </a:lnTo>
                  <a:lnTo>
                    <a:pt x="173" y="2970"/>
                  </a:lnTo>
                  <a:lnTo>
                    <a:pt x="180" y="2970"/>
                  </a:lnTo>
                  <a:lnTo>
                    <a:pt x="180" y="2963"/>
                  </a:lnTo>
                  <a:lnTo>
                    <a:pt x="186" y="2963"/>
                  </a:lnTo>
                  <a:lnTo>
                    <a:pt x="186" y="2955"/>
                  </a:lnTo>
                  <a:lnTo>
                    <a:pt x="198" y="2955"/>
                  </a:lnTo>
                  <a:lnTo>
                    <a:pt x="198" y="2948"/>
                  </a:lnTo>
                  <a:lnTo>
                    <a:pt x="211" y="2948"/>
                  </a:lnTo>
                  <a:lnTo>
                    <a:pt x="211" y="2941"/>
                  </a:lnTo>
                  <a:lnTo>
                    <a:pt x="223" y="2941"/>
                  </a:lnTo>
                  <a:lnTo>
                    <a:pt x="223" y="2926"/>
                  </a:lnTo>
                  <a:lnTo>
                    <a:pt x="229" y="2926"/>
                  </a:lnTo>
                  <a:lnTo>
                    <a:pt x="229" y="2919"/>
                  </a:lnTo>
                  <a:lnTo>
                    <a:pt x="254" y="2919"/>
                  </a:lnTo>
                  <a:lnTo>
                    <a:pt x="254" y="2911"/>
                  </a:lnTo>
                  <a:lnTo>
                    <a:pt x="260" y="2911"/>
                  </a:lnTo>
                  <a:lnTo>
                    <a:pt x="260" y="2897"/>
                  </a:lnTo>
                  <a:lnTo>
                    <a:pt x="267" y="2897"/>
                  </a:lnTo>
                  <a:lnTo>
                    <a:pt x="267" y="2882"/>
                  </a:lnTo>
                  <a:lnTo>
                    <a:pt x="285" y="2882"/>
                  </a:lnTo>
                  <a:lnTo>
                    <a:pt x="285" y="2867"/>
                  </a:lnTo>
                  <a:lnTo>
                    <a:pt x="291" y="2867"/>
                  </a:lnTo>
                  <a:lnTo>
                    <a:pt x="298" y="2867"/>
                  </a:lnTo>
                  <a:lnTo>
                    <a:pt x="298" y="2860"/>
                  </a:lnTo>
                  <a:lnTo>
                    <a:pt x="304" y="2860"/>
                  </a:lnTo>
                  <a:lnTo>
                    <a:pt x="310" y="2860"/>
                  </a:lnTo>
                  <a:lnTo>
                    <a:pt x="310" y="2852"/>
                  </a:lnTo>
                  <a:lnTo>
                    <a:pt x="316" y="2852"/>
                  </a:lnTo>
                  <a:lnTo>
                    <a:pt x="316" y="2845"/>
                  </a:lnTo>
                  <a:lnTo>
                    <a:pt x="322" y="2845"/>
                  </a:lnTo>
                  <a:lnTo>
                    <a:pt x="366" y="2845"/>
                  </a:lnTo>
                  <a:lnTo>
                    <a:pt x="366" y="2823"/>
                  </a:lnTo>
                  <a:lnTo>
                    <a:pt x="372" y="2823"/>
                  </a:lnTo>
                  <a:lnTo>
                    <a:pt x="372" y="2815"/>
                  </a:lnTo>
                  <a:lnTo>
                    <a:pt x="385" y="2815"/>
                  </a:lnTo>
                  <a:lnTo>
                    <a:pt x="385" y="2801"/>
                  </a:lnTo>
                  <a:lnTo>
                    <a:pt x="391" y="2801"/>
                  </a:lnTo>
                  <a:lnTo>
                    <a:pt x="391" y="2786"/>
                  </a:lnTo>
                  <a:lnTo>
                    <a:pt x="409" y="2786"/>
                  </a:lnTo>
                  <a:lnTo>
                    <a:pt x="409" y="2778"/>
                  </a:lnTo>
                  <a:lnTo>
                    <a:pt x="428" y="2778"/>
                  </a:lnTo>
                  <a:lnTo>
                    <a:pt x="428" y="2763"/>
                  </a:lnTo>
                  <a:lnTo>
                    <a:pt x="434" y="2763"/>
                  </a:lnTo>
                  <a:lnTo>
                    <a:pt x="434" y="2756"/>
                  </a:lnTo>
                  <a:lnTo>
                    <a:pt x="447" y="2756"/>
                  </a:lnTo>
                  <a:lnTo>
                    <a:pt x="447" y="2749"/>
                  </a:lnTo>
                  <a:lnTo>
                    <a:pt x="459" y="2749"/>
                  </a:lnTo>
                  <a:lnTo>
                    <a:pt x="472" y="2749"/>
                  </a:lnTo>
                  <a:lnTo>
                    <a:pt x="472" y="2734"/>
                  </a:lnTo>
                  <a:lnTo>
                    <a:pt x="478" y="2734"/>
                  </a:lnTo>
                  <a:lnTo>
                    <a:pt x="484" y="2734"/>
                  </a:lnTo>
                  <a:lnTo>
                    <a:pt x="484" y="2726"/>
                  </a:lnTo>
                  <a:lnTo>
                    <a:pt x="490" y="2726"/>
                  </a:lnTo>
                  <a:lnTo>
                    <a:pt x="490" y="2719"/>
                  </a:lnTo>
                  <a:lnTo>
                    <a:pt x="509" y="2719"/>
                  </a:lnTo>
                  <a:lnTo>
                    <a:pt x="509" y="2711"/>
                  </a:lnTo>
                  <a:lnTo>
                    <a:pt x="515" y="2711"/>
                  </a:lnTo>
                  <a:lnTo>
                    <a:pt x="534" y="2711"/>
                  </a:lnTo>
                  <a:lnTo>
                    <a:pt x="540" y="2711"/>
                  </a:lnTo>
                  <a:lnTo>
                    <a:pt x="540" y="2696"/>
                  </a:lnTo>
                  <a:lnTo>
                    <a:pt x="552" y="2696"/>
                  </a:lnTo>
                  <a:lnTo>
                    <a:pt x="559" y="2696"/>
                  </a:lnTo>
                  <a:lnTo>
                    <a:pt x="559" y="2689"/>
                  </a:lnTo>
                  <a:lnTo>
                    <a:pt x="571" y="2689"/>
                  </a:lnTo>
                  <a:lnTo>
                    <a:pt x="571" y="2681"/>
                  </a:lnTo>
                  <a:lnTo>
                    <a:pt x="577" y="2681"/>
                  </a:lnTo>
                  <a:lnTo>
                    <a:pt x="577" y="2674"/>
                  </a:lnTo>
                  <a:lnTo>
                    <a:pt x="583" y="2674"/>
                  </a:lnTo>
                  <a:lnTo>
                    <a:pt x="596" y="2674"/>
                  </a:lnTo>
                  <a:lnTo>
                    <a:pt x="596" y="2666"/>
                  </a:lnTo>
                  <a:lnTo>
                    <a:pt x="602" y="2666"/>
                  </a:lnTo>
                  <a:lnTo>
                    <a:pt x="602" y="2651"/>
                  </a:lnTo>
                  <a:lnTo>
                    <a:pt x="614" y="2651"/>
                  </a:lnTo>
                  <a:lnTo>
                    <a:pt x="614" y="2636"/>
                  </a:lnTo>
                  <a:lnTo>
                    <a:pt x="627" y="2636"/>
                  </a:lnTo>
                  <a:lnTo>
                    <a:pt x="627" y="2629"/>
                  </a:lnTo>
                  <a:lnTo>
                    <a:pt x="633" y="2629"/>
                  </a:lnTo>
                  <a:lnTo>
                    <a:pt x="633" y="2614"/>
                  </a:lnTo>
                  <a:lnTo>
                    <a:pt x="670" y="2614"/>
                  </a:lnTo>
                  <a:lnTo>
                    <a:pt x="670" y="2606"/>
                  </a:lnTo>
                  <a:lnTo>
                    <a:pt x="677" y="2606"/>
                  </a:lnTo>
                  <a:lnTo>
                    <a:pt x="701" y="2606"/>
                  </a:lnTo>
                  <a:lnTo>
                    <a:pt x="701" y="2576"/>
                  </a:lnTo>
                  <a:lnTo>
                    <a:pt x="708" y="2576"/>
                  </a:lnTo>
                  <a:lnTo>
                    <a:pt x="714" y="2576"/>
                  </a:lnTo>
                  <a:lnTo>
                    <a:pt x="714" y="2561"/>
                  </a:lnTo>
                  <a:lnTo>
                    <a:pt x="720" y="2561"/>
                  </a:lnTo>
                  <a:lnTo>
                    <a:pt x="720" y="2553"/>
                  </a:lnTo>
                  <a:lnTo>
                    <a:pt x="726" y="2553"/>
                  </a:lnTo>
                  <a:lnTo>
                    <a:pt x="726" y="2546"/>
                  </a:lnTo>
                  <a:lnTo>
                    <a:pt x="732" y="2546"/>
                  </a:lnTo>
                  <a:lnTo>
                    <a:pt x="732" y="2538"/>
                  </a:lnTo>
                  <a:lnTo>
                    <a:pt x="745" y="2538"/>
                  </a:lnTo>
                  <a:lnTo>
                    <a:pt x="745" y="2523"/>
                  </a:lnTo>
                  <a:lnTo>
                    <a:pt x="751" y="2523"/>
                  </a:lnTo>
                  <a:lnTo>
                    <a:pt x="751" y="2516"/>
                  </a:lnTo>
                  <a:lnTo>
                    <a:pt x="764" y="2516"/>
                  </a:lnTo>
                  <a:lnTo>
                    <a:pt x="764" y="2493"/>
                  </a:lnTo>
                  <a:lnTo>
                    <a:pt x="776" y="2493"/>
                  </a:lnTo>
                  <a:lnTo>
                    <a:pt x="776" y="2485"/>
                  </a:lnTo>
                  <a:lnTo>
                    <a:pt x="782" y="2485"/>
                  </a:lnTo>
                  <a:lnTo>
                    <a:pt x="782" y="2478"/>
                  </a:lnTo>
                  <a:lnTo>
                    <a:pt x="788" y="2478"/>
                  </a:lnTo>
                  <a:lnTo>
                    <a:pt x="788" y="2470"/>
                  </a:lnTo>
                  <a:lnTo>
                    <a:pt x="807" y="2470"/>
                  </a:lnTo>
                  <a:lnTo>
                    <a:pt x="807" y="2463"/>
                  </a:lnTo>
                  <a:lnTo>
                    <a:pt x="819" y="2463"/>
                  </a:lnTo>
                  <a:lnTo>
                    <a:pt x="819" y="2455"/>
                  </a:lnTo>
                  <a:lnTo>
                    <a:pt x="832" y="2455"/>
                  </a:lnTo>
                  <a:lnTo>
                    <a:pt x="832" y="2440"/>
                  </a:lnTo>
                  <a:lnTo>
                    <a:pt x="838" y="2440"/>
                  </a:lnTo>
                  <a:lnTo>
                    <a:pt x="838" y="2432"/>
                  </a:lnTo>
                  <a:lnTo>
                    <a:pt x="844" y="2432"/>
                  </a:lnTo>
                  <a:lnTo>
                    <a:pt x="844" y="2425"/>
                  </a:lnTo>
                  <a:lnTo>
                    <a:pt x="869" y="2425"/>
                  </a:lnTo>
                  <a:lnTo>
                    <a:pt x="888" y="2425"/>
                  </a:lnTo>
                  <a:lnTo>
                    <a:pt x="888" y="2417"/>
                  </a:lnTo>
                  <a:lnTo>
                    <a:pt x="900" y="2417"/>
                  </a:lnTo>
                  <a:lnTo>
                    <a:pt x="900" y="2410"/>
                  </a:lnTo>
                  <a:lnTo>
                    <a:pt x="906" y="2410"/>
                  </a:lnTo>
                  <a:lnTo>
                    <a:pt x="906" y="2402"/>
                  </a:lnTo>
                  <a:lnTo>
                    <a:pt x="913" y="2402"/>
                  </a:lnTo>
                  <a:lnTo>
                    <a:pt x="913" y="2394"/>
                  </a:lnTo>
                  <a:lnTo>
                    <a:pt x="919" y="2394"/>
                  </a:lnTo>
                  <a:lnTo>
                    <a:pt x="919" y="2387"/>
                  </a:lnTo>
                  <a:lnTo>
                    <a:pt x="925" y="2387"/>
                  </a:lnTo>
                  <a:lnTo>
                    <a:pt x="925" y="2379"/>
                  </a:lnTo>
                  <a:lnTo>
                    <a:pt x="931" y="2379"/>
                  </a:lnTo>
                  <a:lnTo>
                    <a:pt x="931" y="2372"/>
                  </a:lnTo>
                  <a:lnTo>
                    <a:pt x="937" y="2372"/>
                  </a:lnTo>
                  <a:lnTo>
                    <a:pt x="937" y="2364"/>
                  </a:lnTo>
                  <a:lnTo>
                    <a:pt x="956" y="2364"/>
                  </a:lnTo>
                  <a:lnTo>
                    <a:pt x="956" y="2356"/>
                  </a:lnTo>
                  <a:lnTo>
                    <a:pt x="987" y="2356"/>
                  </a:lnTo>
                  <a:lnTo>
                    <a:pt x="987" y="2349"/>
                  </a:lnTo>
                  <a:lnTo>
                    <a:pt x="993" y="2349"/>
                  </a:lnTo>
                  <a:lnTo>
                    <a:pt x="993" y="2334"/>
                  </a:lnTo>
                  <a:lnTo>
                    <a:pt x="1018" y="2334"/>
                  </a:lnTo>
                  <a:lnTo>
                    <a:pt x="1018" y="2318"/>
                  </a:lnTo>
                  <a:lnTo>
                    <a:pt x="1024" y="2318"/>
                  </a:lnTo>
                  <a:lnTo>
                    <a:pt x="1024" y="2311"/>
                  </a:lnTo>
                  <a:lnTo>
                    <a:pt x="1031" y="2311"/>
                  </a:lnTo>
                  <a:lnTo>
                    <a:pt x="1031" y="2303"/>
                  </a:lnTo>
                  <a:lnTo>
                    <a:pt x="1037" y="2303"/>
                  </a:lnTo>
                  <a:lnTo>
                    <a:pt x="1037" y="2296"/>
                  </a:lnTo>
                  <a:lnTo>
                    <a:pt x="1043" y="2296"/>
                  </a:lnTo>
                  <a:lnTo>
                    <a:pt x="1043" y="2288"/>
                  </a:lnTo>
                  <a:lnTo>
                    <a:pt x="1062" y="2288"/>
                  </a:lnTo>
                  <a:lnTo>
                    <a:pt x="1062" y="2280"/>
                  </a:lnTo>
                  <a:lnTo>
                    <a:pt x="1080" y="2280"/>
                  </a:lnTo>
                  <a:lnTo>
                    <a:pt x="1080" y="2265"/>
                  </a:lnTo>
                  <a:lnTo>
                    <a:pt x="1099" y="2265"/>
                  </a:lnTo>
                  <a:lnTo>
                    <a:pt x="1118" y="2265"/>
                  </a:lnTo>
                  <a:lnTo>
                    <a:pt x="1118" y="2258"/>
                  </a:lnTo>
                  <a:lnTo>
                    <a:pt x="1124" y="2258"/>
                  </a:lnTo>
                  <a:lnTo>
                    <a:pt x="1124" y="2242"/>
                  </a:lnTo>
                  <a:lnTo>
                    <a:pt x="1142" y="2242"/>
                  </a:lnTo>
                  <a:lnTo>
                    <a:pt x="1142" y="2235"/>
                  </a:lnTo>
                  <a:lnTo>
                    <a:pt x="1192" y="2235"/>
                  </a:lnTo>
                  <a:lnTo>
                    <a:pt x="1192" y="2212"/>
                  </a:lnTo>
                  <a:lnTo>
                    <a:pt x="1198" y="2212"/>
                  </a:lnTo>
                  <a:lnTo>
                    <a:pt x="1198" y="2204"/>
                  </a:lnTo>
                  <a:lnTo>
                    <a:pt x="1205" y="2204"/>
                  </a:lnTo>
                  <a:lnTo>
                    <a:pt x="1205" y="2189"/>
                  </a:lnTo>
                  <a:lnTo>
                    <a:pt x="1229" y="2189"/>
                  </a:lnTo>
                  <a:lnTo>
                    <a:pt x="1229" y="2181"/>
                  </a:lnTo>
                  <a:lnTo>
                    <a:pt x="1236" y="2181"/>
                  </a:lnTo>
                  <a:lnTo>
                    <a:pt x="1236" y="2166"/>
                  </a:lnTo>
                  <a:lnTo>
                    <a:pt x="1248" y="2166"/>
                  </a:lnTo>
                  <a:lnTo>
                    <a:pt x="1248" y="2158"/>
                  </a:lnTo>
                  <a:lnTo>
                    <a:pt x="1254" y="2158"/>
                  </a:lnTo>
                  <a:lnTo>
                    <a:pt x="1254" y="2151"/>
                  </a:lnTo>
                  <a:lnTo>
                    <a:pt x="1267" y="2151"/>
                  </a:lnTo>
                  <a:lnTo>
                    <a:pt x="1310" y="2151"/>
                  </a:lnTo>
                  <a:lnTo>
                    <a:pt x="1310" y="2135"/>
                  </a:lnTo>
                  <a:lnTo>
                    <a:pt x="1316" y="2135"/>
                  </a:lnTo>
                  <a:lnTo>
                    <a:pt x="1316" y="2120"/>
                  </a:lnTo>
                  <a:lnTo>
                    <a:pt x="1341" y="2120"/>
                  </a:lnTo>
                  <a:lnTo>
                    <a:pt x="1341" y="2105"/>
                  </a:lnTo>
                  <a:lnTo>
                    <a:pt x="1347" y="2105"/>
                  </a:lnTo>
                  <a:lnTo>
                    <a:pt x="1347" y="2097"/>
                  </a:lnTo>
                  <a:lnTo>
                    <a:pt x="1354" y="2097"/>
                  </a:lnTo>
                  <a:lnTo>
                    <a:pt x="1354" y="2089"/>
                  </a:lnTo>
                  <a:lnTo>
                    <a:pt x="1360" y="2089"/>
                  </a:lnTo>
                  <a:lnTo>
                    <a:pt x="1372" y="2089"/>
                  </a:lnTo>
                  <a:lnTo>
                    <a:pt x="1372" y="2082"/>
                  </a:lnTo>
                  <a:lnTo>
                    <a:pt x="1378" y="2082"/>
                  </a:lnTo>
                  <a:lnTo>
                    <a:pt x="1378" y="2074"/>
                  </a:lnTo>
                  <a:lnTo>
                    <a:pt x="1385" y="2074"/>
                  </a:lnTo>
                  <a:lnTo>
                    <a:pt x="1385" y="2066"/>
                  </a:lnTo>
                  <a:lnTo>
                    <a:pt x="1403" y="2066"/>
                  </a:lnTo>
                  <a:lnTo>
                    <a:pt x="1403" y="2058"/>
                  </a:lnTo>
                  <a:lnTo>
                    <a:pt x="1410" y="2058"/>
                  </a:lnTo>
                  <a:lnTo>
                    <a:pt x="1410" y="2051"/>
                  </a:lnTo>
                  <a:lnTo>
                    <a:pt x="1422" y="2051"/>
                  </a:lnTo>
                  <a:lnTo>
                    <a:pt x="1422" y="2043"/>
                  </a:lnTo>
                  <a:lnTo>
                    <a:pt x="1434" y="2043"/>
                  </a:lnTo>
                  <a:lnTo>
                    <a:pt x="1434" y="2035"/>
                  </a:lnTo>
                  <a:lnTo>
                    <a:pt x="1459" y="2035"/>
                  </a:lnTo>
                  <a:lnTo>
                    <a:pt x="1459" y="2020"/>
                  </a:lnTo>
                  <a:lnTo>
                    <a:pt x="1465" y="2020"/>
                  </a:lnTo>
                  <a:lnTo>
                    <a:pt x="1465" y="2012"/>
                  </a:lnTo>
                  <a:lnTo>
                    <a:pt x="1490" y="2012"/>
                  </a:lnTo>
                  <a:lnTo>
                    <a:pt x="1490" y="2004"/>
                  </a:lnTo>
                  <a:lnTo>
                    <a:pt x="1496" y="2004"/>
                  </a:lnTo>
                  <a:lnTo>
                    <a:pt x="1496" y="1997"/>
                  </a:lnTo>
                  <a:lnTo>
                    <a:pt x="1515" y="1997"/>
                  </a:lnTo>
                  <a:lnTo>
                    <a:pt x="1515" y="1989"/>
                  </a:lnTo>
                  <a:lnTo>
                    <a:pt x="1540" y="1989"/>
                  </a:lnTo>
                  <a:lnTo>
                    <a:pt x="1540" y="1973"/>
                  </a:lnTo>
                  <a:lnTo>
                    <a:pt x="1546" y="1973"/>
                  </a:lnTo>
                  <a:lnTo>
                    <a:pt x="1546" y="1966"/>
                  </a:lnTo>
                  <a:lnTo>
                    <a:pt x="1571" y="1966"/>
                  </a:lnTo>
                  <a:lnTo>
                    <a:pt x="1571" y="1950"/>
                  </a:lnTo>
                  <a:lnTo>
                    <a:pt x="1590" y="1950"/>
                  </a:lnTo>
                  <a:lnTo>
                    <a:pt x="1590" y="1935"/>
                  </a:lnTo>
                  <a:lnTo>
                    <a:pt x="1608" y="1935"/>
                  </a:lnTo>
                  <a:lnTo>
                    <a:pt x="1608" y="1927"/>
                  </a:lnTo>
                  <a:lnTo>
                    <a:pt x="1621" y="1927"/>
                  </a:lnTo>
                  <a:lnTo>
                    <a:pt x="1621" y="1919"/>
                  </a:lnTo>
                  <a:lnTo>
                    <a:pt x="1646" y="1919"/>
                  </a:lnTo>
                  <a:lnTo>
                    <a:pt x="1652" y="1919"/>
                  </a:lnTo>
                  <a:lnTo>
                    <a:pt x="1652" y="1911"/>
                  </a:lnTo>
                  <a:lnTo>
                    <a:pt x="1658" y="1911"/>
                  </a:lnTo>
                  <a:lnTo>
                    <a:pt x="1664" y="1911"/>
                  </a:lnTo>
                  <a:lnTo>
                    <a:pt x="1664" y="1904"/>
                  </a:lnTo>
                  <a:lnTo>
                    <a:pt x="1670" y="1904"/>
                  </a:lnTo>
                  <a:lnTo>
                    <a:pt x="1670" y="1896"/>
                  </a:lnTo>
                  <a:lnTo>
                    <a:pt x="1677" y="1896"/>
                  </a:lnTo>
                  <a:lnTo>
                    <a:pt x="1677" y="1880"/>
                  </a:lnTo>
                  <a:lnTo>
                    <a:pt x="1683" y="1880"/>
                  </a:lnTo>
                  <a:lnTo>
                    <a:pt x="1683" y="1857"/>
                  </a:lnTo>
                  <a:lnTo>
                    <a:pt x="1701" y="1857"/>
                  </a:lnTo>
                  <a:lnTo>
                    <a:pt x="1701" y="1849"/>
                  </a:lnTo>
                  <a:lnTo>
                    <a:pt x="1720" y="1849"/>
                  </a:lnTo>
                  <a:lnTo>
                    <a:pt x="1720" y="1841"/>
                  </a:lnTo>
                  <a:lnTo>
                    <a:pt x="1739" y="1841"/>
                  </a:lnTo>
                  <a:lnTo>
                    <a:pt x="1739" y="1833"/>
                  </a:lnTo>
                  <a:lnTo>
                    <a:pt x="1745" y="1833"/>
                  </a:lnTo>
                  <a:lnTo>
                    <a:pt x="1745" y="1810"/>
                  </a:lnTo>
                  <a:lnTo>
                    <a:pt x="1757" y="1810"/>
                  </a:lnTo>
                  <a:lnTo>
                    <a:pt x="1757" y="1802"/>
                  </a:lnTo>
                  <a:lnTo>
                    <a:pt x="1770" y="1802"/>
                  </a:lnTo>
                  <a:lnTo>
                    <a:pt x="1770" y="1794"/>
                  </a:lnTo>
                  <a:lnTo>
                    <a:pt x="1776" y="1794"/>
                  </a:lnTo>
                  <a:lnTo>
                    <a:pt x="1776" y="1786"/>
                  </a:lnTo>
                  <a:lnTo>
                    <a:pt x="1782" y="1786"/>
                  </a:lnTo>
                  <a:lnTo>
                    <a:pt x="1782" y="1778"/>
                  </a:lnTo>
                  <a:lnTo>
                    <a:pt x="1788" y="1778"/>
                  </a:lnTo>
                  <a:lnTo>
                    <a:pt x="1788" y="1771"/>
                  </a:lnTo>
                  <a:lnTo>
                    <a:pt x="1795" y="1771"/>
                  </a:lnTo>
                  <a:lnTo>
                    <a:pt x="1795" y="1747"/>
                  </a:lnTo>
                  <a:lnTo>
                    <a:pt x="1807" y="1747"/>
                  </a:lnTo>
                  <a:lnTo>
                    <a:pt x="1807" y="1739"/>
                  </a:lnTo>
                  <a:lnTo>
                    <a:pt x="1813" y="1739"/>
                  </a:lnTo>
                  <a:lnTo>
                    <a:pt x="1813" y="1731"/>
                  </a:lnTo>
                  <a:lnTo>
                    <a:pt x="1819" y="1731"/>
                  </a:lnTo>
                  <a:lnTo>
                    <a:pt x="1819" y="1724"/>
                  </a:lnTo>
                  <a:lnTo>
                    <a:pt x="1826" y="1724"/>
                  </a:lnTo>
                  <a:lnTo>
                    <a:pt x="1826" y="1716"/>
                  </a:lnTo>
                  <a:lnTo>
                    <a:pt x="1838" y="1716"/>
                  </a:lnTo>
                  <a:lnTo>
                    <a:pt x="1838" y="1708"/>
                  </a:lnTo>
                  <a:lnTo>
                    <a:pt x="1869" y="1708"/>
                  </a:lnTo>
                  <a:lnTo>
                    <a:pt x="1869" y="1700"/>
                  </a:lnTo>
                  <a:lnTo>
                    <a:pt x="1882" y="1700"/>
                  </a:lnTo>
                  <a:lnTo>
                    <a:pt x="1882" y="1685"/>
                  </a:lnTo>
                  <a:lnTo>
                    <a:pt x="1913" y="1685"/>
                  </a:lnTo>
                  <a:lnTo>
                    <a:pt x="1913" y="1677"/>
                  </a:lnTo>
                  <a:lnTo>
                    <a:pt x="1925" y="1677"/>
                  </a:lnTo>
                  <a:lnTo>
                    <a:pt x="1925" y="1661"/>
                  </a:lnTo>
                  <a:lnTo>
                    <a:pt x="1931" y="1661"/>
                  </a:lnTo>
                  <a:lnTo>
                    <a:pt x="1931" y="1653"/>
                  </a:lnTo>
                  <a:lnTo>
                    <a:pt x="1969" y="1653"/>
                  </a:lnTo>
                  <a:lnTo>
                    <a:pt x="1969" y="1645"/>
                  </a:lnTo>
                  <a:lnTo>
                    <a:pt x="1975" y="1645"/>
                  </a:lnTo>
                  <a:lnTo>
                    <a:pt x="1975" y="1638"/>
                  </a:lnTo>
                  <a:lnTo>
                    <a:pt x="1987" y="1638"/>
                  </a:lnTo>
                  <a:lnTo>
                    <a:pt x="1987" y="1606"/>
                  </a:lnTo>
                  <a:lnTo>
                    <a:pt x="2000" y="1606"/>
                  </a:lnTo>
                  <a:lnTo>
                    <a:pt x="2000" y="1598"/>
                  </a:lnTo>
                  <a:lnTo>
                    <a:pt x="2006" y="1598"/>
                  </a:lnTo>
                  <a:lnTo>
                    <a:pt x="2006" y="1591"/>
                  </a:lnTo>
                  <a:lnTo>
                    <a:pt x="2012" y="1591"/>
                  </a:lnTo>
                  <a:lnTo>
                    <a:pt x="2012" y="1583"/>
                  </a:lnTo>
                  <a:lnTo>
                    <a:pt x="2024" y="1583"/>
                  </a:lnTo>
                  <a:lnTo>
                    <a:pt x="2037" y="1583"/>
                  </a:lnTo>
                  <a:lnTo>
                    <a:pt x="2037" y="1567"/>
                  </a:lnTo>
                  <a:lnTo>
                    <a:pt x="2068" y="1567"/>
                  </a:lnTo>
                  <a:lnTo>
                    <a:pt x="2068" y="1559"/>
                  </a:lnTo>
                  <a:lnTo>
                    <a:pt x="2080" y="1559"/>
                  </a:lnTo>
                  <a:lnTo>
                    <a:pt x="2080" y="1551"/>
                  </a:lnTo>
                  <a:lnTo>
                    <a:pt x="2093" y="1551"/>
                  </a:lnTo>
                  <a:lnTo>
                    <a:pt x="2093" y="1543"/>
                  </a:lnTo>
                  <a:lnTo>
                    <a:pt x="2099" y="1543"/>
                  </a:lnTo>
                  <a:lnTo>
                    <a:pt x="2099" y="1536"/>
                  </a:lnTo>
                  <a:lnTo>
                    <a:pt x="2130" y="1536"/>
                  </a:lnTo>
                  <a:lnTo>
                    <a:pt x="2130" y="1520"/>
                  </a:lnTo>
                  <a:lnTo>
                    <a:pt x="2136" y="1520"/>
                  </a:lnTo>
                  <a:lnTo>
                    <a:pt x="2136" y="1512"/>
                  </a:lnTo>
                  <a:lnTo>
                    <a:pt x="2155" y="1512"/>
                  </a:lnTo>
                  <a:lnTo>
                    <a:pt x="2155" y="1504"/>
                  </a:lnTo>
                  <a:lnTo>
                    <a:pt x="2205" y="1504"/>
                  </a:lnTo>
                  <a:lnTo>
                    <a:pt x="2205" y="1496"/>
                  </a:lnTo>
                  <a:lnTo>
                    <a:pt x="2211" y="1496"/>
                  </a:lnTo>
                  <a:lnTo>
                    <a:pt x="2211" y="1481"/>
                  </a:lnTo>
                  <a:lnTo>
                    <a:pt x="2223" y="1481"/>
                  </a:lnTo>
                  <a:lnTo>
                    <a:pt x="2236" y="1481"/>
                  </a:lnTo>
                  <a:lnTo>
                    <a:pt x="2236" y="1473"/>
                  </a:lnTo>
                  <a:lnTo>
                    <a:pt x="2242" y="1473"/>
                  </a:lnTo>
                  <a:lnTo>
                    <a:pt x="2242" y="1457"/>
                  </a:lnTo>
                  <a:lnTo>
                    <a:pt x="2267" y="1457"/>
                  </a:lnTo>
                  <a:lnTo>
                    <a:pt x="2267" y="1449"/>
                  </a:lnTo>
                  <a:lnTo>
                    <a:pt x="2273" y="1449"/>
                  </a:lnTo>
                  <a:lnTo>
                    <a:pt x="2273" y="1433"/>
                  </a:lnTo>
                  <a:lnTo>
                    <a:pt x="2279" y="1433"/>
                  </a:lnTo>
                  <a:lnTo>
                    <a:pt x="2279" y="1425"/>
                  </a:lnTo>
                  <a:lnTo>
                    <a:pt x="2285" y="1425"/>
                  </a:lnTo>
                  <a:lnTo>
                    <a:pt x="2285" y="1409"/>
                  </a:lnTo>
                  <a:lnTo>
                    <a:pt x="2310" y="1409"/>
                  </a:lnTo>
                  <a:lnTo>
                    <a:pt x="2310" y="1402"/>
                  </a:lnTo>
                  <a:lnTo>
                    <a:pt x="2316" y="1402"/>
                  </a:lnTo>
                  <a:lnTo>
                    <a:pt x="2316" y="1394"/>
                  </a:lnTo>
                  <a:lnTo>
                    <a:pt x="2323" y="1394"/>
                  </a:lnTo>
                  <a:lnTo>
                    <a:pt x="2323" y="1386"/>
                  </a:lnTo>
                  <a:lnTo>
                    <a:pt x="2329" y="1386"/>
                  </a:lnTo>
                  <a:lnTo>
                    <a:pt x="2341" y="1386"/>
                  </a:lnTo>
                  <a:lnTo>
                    <a:pt x="2341" y="1378"/>
                  </a:lnTo>
                  <a:lnTo>
                    <a:pt x="2354" y="1378"/>
                  </a:lnTo>
                  <a:lnTo>
                    <a:pt x="2354" y="1370"/>
                  </a:lnTo>
                  <a:lnTo>
                    <a:pt x="2360" y="1370"/>
                  </a:lnTo>
                  <a:lnTo>
                    <a:pt x="2360" y="1362"/>
                  </a:lnTo>
                  <a:lnTo>
                    <a:pt x="2372" y="1362"/>
                  </a:lnTo>
                  <a:lnTo>
                    <a:pt x="2372" y="1354"/>
                  </a:lnTo>
                  <a:lnTo>
                    <a:pt x="2391" y="1354"/>
                  </a:lnTo>
                  <a:lnTo>
                    <a:pt x="2391" y="1346"/>
                  </a:lnTo>
                  <a:lnTo>
                    <a:pt x="2403" y="1346"/>
                  </a:lnTo>
                  <a:lnTo>
                    <a:pt x="2403" y="1338"/>
                  </a:lnTo>
                  <a:lnTo>
                    <a:pt x="2416" y="1338"/>
                  </a:lnTo>
                  <a:lnTo>
                    <a:pt x="2416" y="1314"/>
                  </a:lnTo>
                  <a:lnTo>
                    <a:pt x="2428" y="1314"/>
                  </a:lnTo>
                  <a:lnTo>
                    <a:pt x="2428" y="1307"/>
                  </a:lnTo>
                  <a:lnTo>
                    <a:pt x="2447" y="1307"/>
                  </a:lnTo>
                  <a:lnTo>
                    <a:pt x="2447" y="1299"/>
                  </a:lnTo>
                  <a:lnTo>
                    <a:pt x="2465" y="1299"/>
                  </a:lnTo>
                  <a:lnTo>
                    <a:pt x="2465" y="1291"/>
                  </a:lnTo>
                  <a:lnTo>
                    <a:pt x="2478" y="1291"/>
                  </a:lnTo>
                  <a:lnTo>
                    <a:pt x="2478" y="1283"/>
                  </a:lnTo>
                  <a:lnTo>
                    <a:pt x="2490" y="1283"/>
                  </a:lnTo>
                  <a:lnTo>
                    <a:pt x="2490" y="1267"/>
                  </a:lnTo>
                  <a:lnTo>
                    <a:pt x="2503" y="1267"/>
                  </a:lnTo>
                  <a:lnTo>
                    <a:pt x="2503" y="1259"/>
                  </a:lnTo>
                  <a:lnTo>
                    <a:pt x="2509" y="1259"/>
                  </a:lnTo>
                  <a:lnTo>
                    <a:pt x="2509" y="1251"/>
                  </a:lnTo>
                  <a:lnTo>
                    <a:pt x="2515" y="1251"/>
                  </a:lnTo>
                  <a:lnTo>
                    <a:pt x="2515" y="1243"/>
                  </a:lnTo>
                  <a:lnTo>
                    <a:pt x="2521" y="1243"/>
                  </a:lnTo>
                  <a:lnTo>
                    <a:pt x="2521" y="1235"/>
                  </a:lnTo>
                  <a:lnTo>
                    <a:pt x="2534" y="1235"/>
                  </a:lnTo>
                  <a:lnTo>
                    <a:pt x="2534" y="1227"/>
                  </a:lnTo>
                  <a:lnTo>
                    <a:pt x="2552" y="1227"/>
                  </a:lnTo>
                  <a:lnTo>
                    <a:pt x="2552" y="1219"/>
                  </a:lnTo>
                  <a:lnTo>
                    <a:pt x="2559" y="1219"/>
                  </a:lnTo>
                  <a:lnTo>
                    <a:pt x="2559" y="1211"/>
                  </a:lnTo>
                  <a:lnTo>
                    <a:pt x="2565" y="1211"/>
                  </a:lnTo>
                  <a:lnTo>
                    <a:pt x="2627" y="1211"/>
                  </a:lnTo>
                  <a:lnTo>
                    <a:pt x="2627" y="1203"/>
                  </a:lnTo>
                  <a:lnTo>
                    <a:pt x="2652" y="1203"/>
                  </a:lnTo>
                  <a:lnTo>
                    <a:pt x="2652" y="1187"/>
                  </a:lnTo>
                  <a:lnTo>
                    <a:pt x="2664" y="1187"/>
                  </a:lnTo>
                  <a:lnTo>
                    <a:pt x="2683" y="1187"/>
                  </a:lnTo>
                  <a:lnTo>
                    <a:pt x="2683" y="1179"/>
                  </a:lnTo>
                  <a:lnTo>
                    <a:pt x="2695" y="1179"/>
                  </a:lnTo>
                  <a:lnTo>
                    <a:pt x="2714" y="1179"/>
                  </a:lnTo>
                  <a:lnTo>
                    <a:pt x="2714" y="1171"/>
                  </a:lnTo>
                  <a:lnTo>
                    <a:pt x="2733" y="1171"/>
                  </a:lnTo>
                  <a:lnTo>
                    <a:pt x="2733" y="1163"/>
                  </a:lnTo>
                  <a:lnTo>
                    <a:pt x="2751" y="1163"/>
                  </a:lnTo>
                  <a:lnTo>
                    <a:pt x="2751" y="1155"/>
                  </a:lnTo>
                  <a:lnTo>
                    <a:pt x="2801" y="1155"/>
                  </a:lnTo>
                  <a:lnTo>
                    <a:pt x="2801" y="1146"/>
                  </a:lnTo>
                  <a:lnTo>
                    <a:pt x="2807" y="1146"/>
                  </a:lnTo>
                  <a:lnTo>
                    <a:pt x="2807" y="1138"/>
                  </a:lnTo>
                  <a:lnTo>
                    <a:pt x="2813" y="1138"/>
                  </a:lnTo>
                  <a:lnTo>
                    <a:pt x="2813" y="1130"/>
                  </a:lnTo>
                  <a:lnTo>
                    <a:pt x="2826" y="1130"/>
                  </a:lnTo>
                  <a:lnTo>
                    <a:pt x="2826" y="1122"/>
                  </a:lnTo>
                  <a:lnTo>
                    <a:pt x="2832" y="1122"/>
                  </a:lnTo>
                  <a:lnTo>
                    <a:pt x="2838" y="1122"/>
                  </a:lnTo>
                  <a:lnTo>
                    <a:pt x="2838" y="1114"/>
                  </a:lnTo>
                  <a:lnTo>
                    <a:pt x="2844" y="1114"/>
                  </a:lnTo>
                  <a:lnTo>
                    <a:pt x="2844" y="1106"/>
                  </a:lnTo>
                  <a:lnTo>
                    <a:pt x="2857" y="1106"/>
                  </a:lnTo>
                  <a:lnTo>
                    <a:pt x="2857" y="1097"/>
                  </a:lnTo>
                  <a:lnTo>
                    <a:pt x="2863" y="1097"/>
                  </a:lnTo>
                  <a:lnTo>
                    <a:pt x="2863" y="1089"/>
                  </a:lnTo>
                  <a:lnTo>
                    <a:pt x="2882" y="1089"/>
                  </a:lnTo>
                  <a:lnTo>
                    <a:pt x="2882" y="1081"/>
                  </a:lnTo>
                  <a:lnTo>
                    <a:pt x="2888" y="1081"/>
                  </a:lnTo>
                  <a:lnTo>
                    <a:pt x="2888" y="1073"/>
                  </a:lnTo>
                  <a:lnTo>
                    <a:pt x="2906" y="1073"/>
                  </a:lnTo>
                  <a:lnTo>
                    <a:pt x="2906" y="1065"/>
                  </a:lnTo>
                  <a:lnTo>
                    <a:pt x="2919" y="1065"/>
                  </a:lnTo>
                  <a:lnTo>
                    <a:pt x="2919" y="1057"/>
                  </a:lnTo>
                  <a:lnTo>
                    <a:pt x="2944" y="1057"/>
                  </a:lnTo>
                  <a:lnTo>
                    <a:pt x="2944" y="1048"/>
                  </a:lnTo>
                  <a:lnTo>
                    <a:pt x="2950" y="1048"/>
                  </a:lnTo>
                  <a:lnTo>
                    <a:pt x="2950" y="1040"/>
                  </a:lnTo>
                  <a:lnTo>
                    <a:pt x="2969" y="1040"/>
                  </a:lnTo>
                  <a:lnTo>
                    <a:pt x="2969" y="1032"/>
                  </a:lnTo>
                  <a:lnTo>
                    <a:pt x="3012" y="1032"/>
                  </a:lnTo>
                  <a:lnTo>
                    <a:pt x="3012" y="1024"/>
                  </a:lnTo>
                  <a:lnTo>
                    <a:pt x="3024" y="1024"/>
                  </a:lnTo>
                  <a:lnTo>
                    <a:pt x="3024" y="1016"/>
                  </a:lnTo>
                  <a:lnTo>
                    <a:pt x="3043" y="1016"/>
                  </a:lnTo>
                  <a:lnTo>
                    <a:pt x="3043" y="1007"/>
                  </a:lnTo>
                  <a:lnTo>
                    <a:pt x="3093" y="1007"/>
                  </a:lnTo>
                  <a:lnTo>
                    <a:pt x="3093" y="999"/>
                  </a:lnTo>
                  <a:lnTo>
                    <a:pt x="3136" y="999"/>
                  </a:lnTo>
                  <a:lnTo>
                    <a:pt x="3136" y="991"/>
                  </a:lnTo>
                  <a:lnTo>
                    <a:pt x="3143" y="991"/>
                  </a:lnTo>
                  <a:lnTo>
                    <a:pt x="3143" y="983"/>
                  </a:lnTo>
                  <a:lnTo>
                    <a:pt x="3149" y="983"/>
                  </a:lnTo>
                  <a:lnTo>
                    <a:pt x="3149" y="975"/>
                  </a:lnTo>
                  <a:lnTo>
                    <a:pt x="3155" y="975"/>
                  </a:lnTo>
                  <a:lnTo>
                    <a:pt x="3155" y="967"/>
                  </a:lnTo>
                  <a:lnTo>
                    <a:pt x="3161" y="967"/>
                  </a:lnTo>
                  <a:lnTo>
                    <a:pt x="3161" y="950"/>
                  </a:lnTo>
                  <a:lnTo>
                    <a:pt x="3186" y="950"/>
                  </a:lnTo>
                  <a:lnTo>
                    <a:pt x="3186" y="942"/>
                  </a:lnTo>
                  <a:lnTo>
                    <a:pt x="3192" y="942"/>
                  </a:lnTo>
                  <a:lnTo>
                    <a:pt x="3192" y="934"/>
                  </a:lnTo>
                  <a:lnTo>
                    <a:pt x="3205" y="934"/>
                  </a:lnTo>
                  <a:lnTo>
                    <a:pt x="3205" y="926"/>
                  </a:lnTo>
                  <a:lnTo>
                    <a:pt x="3211" y="926"/>
                  </a:lnTo>
                  <a:lnTo>
                    <a:pt x="3211" y="917"/>
                  </a:lnTo>
                  <a:lnTo>
                    <a:pt x="3261" y="917"/>
                  </a:lnTo>
                  <a:lnTo>
                    <a:pt x="3261" y="909"/>
                  </a:lnTo>
                  <a:lnTo>
                    <a:pt x="3273" y="909"/>
                  </a:lnTo>
                  <a:lnTo>
                    <a:pt x="3273" y="893"/>
                  </a:lnTo>
                  <a:lnTo>
                    <a:pt x="3335" y="893"/>
                  </a:lnTo>
                  <a:lnTo>
                    <a:pt x="3335" y="877"/>
                  </a:lnTo>
                  <a:lnTo>
                    <a:pt x="3354" y="877"/>
                  </a:lnTo>
                  <a:lnTo>
                    <a:pt x="3354" y="860"/>
                  </a:lnTo>
                  <a:lnTo>
                    <a:pt x="3385" y="860"/>
                  </a:lnTo>
                  <a:lnTo>
                    <a:pt x="3385" y="852"/>
                  </a:lnTo>
                  <a:lnTo>
                    <a:pt x="3403" y="852"/>
                  </a:lnTo>
                  <a:lnTo>
                    <a:pt x="3422" y="852"/>
                  </a:lnTo>
                  <a:lnTo>
                    <a:pt x="3441" y="852"/>
                  </a:lnTo>
                  <a:lnTo>
                    <a:pt x="3447" y="852"/>
                  </a:lnTo>
                  <a:lnTo>
                    <a:pt x="3453" y="852"/>
                  </a:lnTo>
                  <a:lnTo>
                    <a:pt x="3453" y="844"/>
                  </a:lnTo>
                  <a:lnTo>
                    <a:pt x="3472" y="844"/>
                  </a:lnTo>
                  <a:lnTo>
                    <a:pt x="3472" y="835"/>
                  </a:lnTo>
                  <a:lnTo>
                    <a:pt x="3484" y="835"/>
                  </a:lnTo>
                  <a:lnTo>
                    <a:pt x="3509" y="835"/>
                  </a:lnTo>
                  <a:lnTo>
                    <a:pt x="3540" y="835"/>
                  </a:lnTo>
                  <a:lnTo>
                    <a:pt x="3552" y="835"/>
                  </a:lnTo>
                  <a:lnTo>
                    <a:pt x="3552" y="826"/>
                  </a:lnTo>
                  <a:lnTo>
                    <a:pt x="3565" y="826"/>
                  </a:lnTo>
                  <a:lnTo>
                    <a:pt x="3565" y="818"/>
                  </a:lnTo>
                  <a:lnTo>
                    <a:pt x="3571" y="818"/>
                  </a:lnTo>
                  <a:lnTo>
                    <a:pt x="3584" y="818"/>
                  </a:lnTo>
                  <a:lnTo>
                    <a:pt x="3584" y="809"/>
                  </a:lnTo>
                  <a:lnTo>
                    <a:pt x="3596" y="809"/>
                  </a:lnTo>
                  <a:lnTo>
                    <a:pt x="3608" y="809"/>
                  </a:lnTo>
                  <a:lnTo>
                    <a:pt x="3621" y="809"/>
                  </a:lnTo>
                  <a:lnTo>
                    <a:pt x="3621" y="800"/>
                  </a:lnTo>
                  <a:lnTo>
                    <a:pt x="3627" y="800"/>
                  </a:lnTo>
                  <a:lnTo>
                    <a:pt x="3627" y="791"/>
                  </a:lnTo>
                  <a:lnTo>
                    <a:pt x="3639" y="791"/>
                  </a:lnTo>
                  <a:lnTo>
                    <a:pt x="3652" y="791"/>
                  </a:lnTo>
                  <a:lnTo>
                    <a:pt x="3652" y="782"/>
                  </a:lnTo>
                  <a:lnTo>
                    <a:pt x="3664" y="782"/>
                  </a:lnTo>
                  <a:lnTo>
                    <a:pt x="3670" y="782"/>
                  </a:lnTo>
                  <a:lnTo>
                    <a:pt x="3670" y="773"/>
                  </a:lnTo>
                  <a:lnTo>
                    <a:pt x="3702" y="773"/>
                  </a:lnTo>
                  <a:lnTo>
                    <a:pt x="3702" y="764"/>
                  </a:lnTo>
                  <a:lnTo>
                    <a:pt x="3720" y="764"/>
                  </a:lnTo>
                  <a:lnTo>
                    <a:pt x="3720" y="755"/>
                  </a:lnTo>
                  <a:lnTo>
                    <a:pt x="3733" y="755"/>
                  </a:lnTo>
                  <a:lnTo>
                    <a:pt x="3733" y="746"/>
                  </a:lnTo>
                  <a:lnTo>
                    <a:pt x="3739" y="746"/>
                  </a:lnTo>
                  <a:lnTo>
                    <a:pt x="3745" y="746"/>
                  </a:lnTo>
                  <a:lnTo>
                    <a:pt x="3757" y="746"/>
                  </a:lnTo>
                  <a:lnTo>
                    <a:pt x="3776" y="746"/>
                  </a:lnTo>
                  <a:lnTo>
                    <a:pt x="3776" y="736"/>
                  </a:lnTo>
                  <a:lnTo>
                    <a:pt x="3788" y="736"/>
                  </a:lnTo>
                  <a:lnTo>
                    <a:pt x="3795" y="736"/>
                  </a:lnTo>
                  <a:lnTo>
                    <a:pt x="3795" y="727"/>
                  </a:lnTo>
                  <a:lnTo>
                    <a:pt x="3813" y="727"/>
                  </a:lnTo>
                  <a:lnTo>
                    <a:pt x="3813" y="717"/>
                  </a:lnTo>
                  <a:lnTo>
                    <a:pt x="3820" y="717"/>
                  </a:lnTo>
                  <a:lnTo>
                    <a:pt x="3826" y="717"/>
                  </a:lnTo>
                  <a:lnTo>
                    <a:pt x="3826" y="698"/>
                  </a:lnTo>
                  <a:lnTo>
                    <a:pt x="3844" y="698"/>
                  </a:lnTo>
                  <a:lnTo>
                    <a:pt x="3869" y="698"/>
                  </a:lnTo>
                  <a:lnTo>
                    <a:pt x="3869" y="688"/>
                  </a:lnTo>
                  <a:lnTo>
                    <a:pt x="3875" y="688"/>
                  </a:lnTo>
                  <a:lnTo>
                    <a:pt x="3875" y="678"/>
                  </a:lnTo>
                  <a:lnTo>
                    <a:pt x="3900" y="678"/>
                  </a:lnTo>
                  <a:lnTo>
                    <a:pt x="3925" y="678"/>
                  </a:lnTo>
                  <a:lnTo>
                    <a:pt x="3944" y="678"/>
                  </a:lnTo>
                  <a:lnTo>
                    <a:pt x="3956" y="678"/>
                  </a:lnTo>
                  <a:lnTo>
                    <a:pt x="3956" y="668"/>
                  </a:lnTo>
                  <a:lnTo>
                    <a:pt x="3969" y="668"/>
                  </a:lnTo>
                  <a:lnTo>
                    <a:pt x="3969" y="647"/>
                  </a:lnTo>
                  <a:lnTo>
                    <a:pt x="3975" y="647"/>
                  </a:lnTo>
                  <a:lnTo>
                    <a:pt x="3975" y="637"/>
                  </a:lnTo>
                  <a:lnTo>
                    <a:pt x="3981" y="637"/>
                  </a:lnTo>
                  <a:lnTo>
                    <a:pt x="3981" y="626"/>
                  </a:lnTo>
                  <a:lnTo>
                    <a:pt x="3987" y="626"/>
                  </a:lnTo>
                  <a:lnTo>
                    <a:pt x="3987" y="616"/>
                  </a:lnTo>
                  <a:lnTo>
                    <a:pt x="4006" y="616"/>
                  </a:lnTo>
                  <a:lnTo>
                    <a:pt x="4025" y="616"/>
                  </a:lnTo>
                  <a:lnTo>
                    <a:pt x="4080" y="616"/>
                  </a:lnTo>
                  <a:lnTo>
                    <a:pt x="4080" y="606"/>
                  </a:lnTo>
                  <a:lnTo>
                    <a:pt x="4087" y="606"/>
                  </a:lnTo>
                  <a:lnTo>
                    <a:pt x="4105" y="606"/>
                  </a:lnTo>
                  <a:lnTo>
                    <a:pt x="4111" y="606"/>
                  </a:lnTo>
                  <a:lnTo>
                    <a:pt x="4130" y="606"/>
                  </a:lnTo>
                  <a:lnTo>
                    <a:pt x="4136" y="606"/>
                  </a:lnTo>
                  <a:lnTo>
                    <a:pt x="4143" y="606"/>
                  </a:lnTo>
                  <a:lnTo>
                    <a:pt x="4143" y="595"/>
                  </a:lnTo>
                  <a:lnTo>
                    <a:pt x="4155" y="595"/>
                  </a:lnTo>
                  <a:lnTo>
                    <a:pt x="4161" y="595"/>
                  </a:lnTo>
                  <a:lnTo>
                    <a:pt x="4161" y="583"/>
                  </a:lnTo>
                  <a:lnTo>
                    <a:pt x="4174" y="583"/>
                  </a:lnTo>
                  <a:lnTo>
                    <a:pt x="4174" y="572"/>
                  </a:lnTo>
                  <a:lnTo>
                    <a:pt x="4180" y="572"/>
                  </a:lnTo>
                  <a:lnTo>
                    <a:pt x="4192" y="572"/>
                  </a:lnTo>
                  <a:lnTo>
                    <a:pt x="4198" y="572"/>
                  </a:lnTo>
                  <a:lnTo>
                    <a:pt x="4198" y="560"/>
                  </a:lnTo>
                  <a:lnTo>
                    <a:pt x="4217" y="560"/>
                  </a:lnTo>
                  <a:lnTo>
                    <a:pt x="4217" y="549"/>
                  </a:lnTo>
                  <a:lnTo>
                    <a:pt x="4230" y="549"/>
                  </a:lnTo>
                  <a:lnTo>
                    <a:pt x="4230" y="537"/>
                  </a:lnTo>
                  <a:lnTo>
                    <a:pt x="4236" y="537"/>
                  </a:lnTo>
                  <a:lnTo>
                    <a:pt x="4236" y="525"/>
                  </a:lnTo>
                  <a:lnTo>
                    <a:pt x="4242" y="525"/>
                  </a:lnTo>
                  <a:lnTo>
                    <a:pt x="4242" y="514"/>
                  </a:lnTo>
                  <a:lnTo>
                    <a:pt x="4292" y="514"/>
                  </a:lnTo>
                  <a:lnTo>
                    <a:pt x="4316" y="514"/>
                  </a:lnTo>
                  <a:lnTo>
                    <a:pt x="4335" y="514"/>
                  </a:lnTo>
                  <a:lnTo>
                    <a:pt x="4335" y="502"/>
                  </a:lnTo>
                  <a:lnTo>
                    <a:pt x="4341" y="502"/>
                  </a:lnTo>
                  <a:lnTo>
                    <a:pt x="4341" y="490"/>
                  </a:lnTo>
                  <a:lnTo>
                    <a:pt x="4354" y="490"/>
                  </a:lnTo>
                  <a:lnTo>
                    <a:pt x="4391" y="490"/>
                  </a:lnTo>
                  <a:lnTo>
                    <a:pt x="4391" y="478"/>
                  </a:lnTo>
                  <a:lnTo>
                    <a:pt x="4416" y="478"/>
                  </a:lnTo>
                  <a:lnTo>
                    <a:pt x="4546" y="478"/>
                  </a:lnTo>
                  <a:lnTo>
                    <a:pt x="4546" y="465"/>
                  </a:lnTo>
                  <a:lnTo>
                    <a:pt x="4553" y="465"/>
                  </a:lnTo>
                  <a:lnTo>
                    <a:pt x="4577" y="465"/>
                  </a:lnTo>
                  <a:lnTo>
                    <a:pt x="4602" y="465"/>
                  </a:lnTo>
                  <a:lnTo>
                    <a:pt x="4621" y="465"/>
                  </a:lnTo>
                  <a:lnTo>
                    <a:pt x="4646" y="465"/>
                  </a:lnTo>
                  <a:lnTo>
                    <a:pt x="4652" y="465"/>
                  </a:lnTo>
                  <a:lnTo>
                    <a:pt x="4658" y="465"/>
                  </a:lnTo>
                  <a:lnTo>
                    <a:pt x="4658" y="452"/>
                  </a:lnTo>
                  <a:lnTo>
                    <a:pt x="4677" y="452"/>
                  </a:lnTo>
                  <a:lnTo>
                    <a:pt x="4689" y="452"/>
                  </a:lnTo>
                  <a:lnTo>
                    <a:pt x="4689" y="438"/>
                  </a:lnTo>
                  <a:lnTo>
                    <a:pt x="4695" y="438"/>
                  </a:lnTo>
                  <a:lnTo>
                    <a:pt x="4695" y="424"/>
                  </a:lnTo>
                  <a:lnTo>
                    <a:pt x="4726" y="424"/>
                  </a:lnTo>
                  <a:lnTo>
                    <a:pt x="4739" y="424"/>
                  </a:lnTo>
                  <a:lnTo>
                    <a:pt x="4751" y="424"/>
                  </a:lnTo>
                  <a:lnTo>
                    <a:pt x="4757" y="424"/>
                  </a:lnTo>
                  <a:lnTo>
                    <a:pt x="4764" y="424"/>
                  </a:lnTo>
                  <a:lnTo>
                    <a:pt x="4764" y="408"/>
                  </a:lnTo>
                  <a:lnTo>
                    <a:pt x="4776" y="408"/>
                  </a:lnTo>
                  <a:lnTo>
                    <a:pt x="4801" y="408"/>
                  </a:lnTo>
                  <a:lnTo>
                    <a:pt x="4838" y="408"/>
                  </a:lnTo>
                  <a:lnTo>
                    <a:pt x="4851" y="408"/>
                  </a:lnTo>
                  <a:lnTo>
                    <a:pt x="4851" y="392"/>
                  </a:lnTo>
                  <a:lnTo>
                    <a:pt x="4882" y="392"/>
                  </a:lnTo>
                  <a:lnTo>
                    <a:pt x="4900" y="392"/>
                  </a:lnTo>
                  <a:lnTo>
                    <a:pt x="4913" y="392"/>
                  </a:lnTo>
                  <a:lnTo>
                    <a:pt x="4925" y="392"/>
                  </a:lnTo>
                  <a:lnTo>
                    <a:pt x="4931" y="392"/>
                  </a:lnTo>
                  <a:lnTo>
                    <a:pt x="4956" y="392"/>
                  </a:lnTo>
                  <a:lnTo>
                    <a:pt x="4956" y="354"/>
                  </a:lnTo>
                  <a:lnTo>
                    <a:pt x="4962" y="354"/>
                  </a:lnTo>
                  <a:lnTo>
                    <a:pt x="4962" y="336"/>
                  </a:lnTo>
                  <a:lnTo>
                    <a:pt x="5062" y="336"/>
                  </a:lnTo>
                  <a:lnTo>
                    <a:pt x="5062" y="317"/>
                  </a:lnTo>
                  <a:lnTo>
                    <a:pt x="5093" y="317"/>
                  </a:lnTo>
                  <a:lnTo>
                    <a:pt x="5143" y="317"/>
                  </a:lnTo>
                  <a:lnTo>
                    <a:pt x="5174" y="317"/>
                  </a:lnTo>
                  <a:lnTo>
                    <a:pt x="5242" y="317"/>
                  </a:lnTo>
                  <a:lnTo>
                    <a:pt x="5273" y="317"/>
                  </a:lnTo>
                  <a:lnTo>
                    <a:pt x="5317" y="317"/>
                  </a:lnTo>
                  <a:lnTo>
                    <a:pt x="5335" y="317"/>
                  </a:lnTo>
                  <a:lnTo>
                    <a:pt x="5435" y="317"/>
                  </a:lnTo>
                  <a:lnTo>
                    <a:pt x="5435" y="294"/>
                  </a:lnTo>
                  <a:lnTo>
                    <a:pt x="5490" y="294"/>
                  </a:lnTo>
                  <a:lnTo>
                    <a:pt x="5503" y="294"/>
                  </a:lnTo>
                  <a:lnTo>
                    <a:pt x="5509" y="294"/>
                  </a:lnTo>
                  <a:lnTo>
                    <a:pt x="5534" y="294"/>
                  </a:lnTo>
                  <a:lnTo>
                    <a:pt x="5540" y="294"/>
                  </a:lnTo>
                  <a:lnTo>
                    <a:pt x="5584" y="294"/>
                  </a:lnTo>
                  <a:lnTo>
                    <a:pt x="5584" y="264"/>
                  </a:lnTo>
                  <a:lnTo>
                    <a:pt x="5627" y="264"/>
                  </a:lnTo>
                  <a:lnTo>
                    <a:pt x="5671" y="264"/>
                  </a:lnTo>
                  <a:lnTo>
                    <a:pt x="5671" y="233"/>
                  </a:lnTo>
                  <a:lnTo>
                    <a:pt x="5714" y="233"/>
                  </a:lnTo>
                  <a:lnTo>
                    <a:pt x="5714" y="202"/>
                  </a:lnTo>
                  <a:lnTo>
                    <a:pt x="5745" y="202"/>
                  </a:lnTo>
                  <a:lnTo>
                    <a:pt x="5776" y="202"/>
                  </a:lnTo>
                  <a:lnTo>
                    <a:pt x="5782" y="202"/>
                  </a:lnTo>
                  <a:lnTo>
                    <a:pt x="5826" y="202"/>
                  </a:lnTo>
                  <a:lnTo>
                    <a:pt x="5826" y="164"/>
                  </a:lnTo>
                  <a:lnTo>
                    <a:pt x="5863" y="164"/>
                  </a:lnTo>
                  <a:lnTo>
                    <a:pt x="5969" y="164"/>
                  </a:lnTo>
                  <a:lnTo>
                    <a:pt x="5994" y="164"/>
                  </a:lnTo>
                  <a:lnTo>
                    <a:pt x="6012" y="164"/>
                  </a:lnTo>
                  <a:lnTo>
                    <a:pt x="6049" y="164"/>
                  </a:lnTo>
                  <a:lnTo>
                    <a:pt x="6136" y="164"/>
                  </a:lnTo>
                  <a:lnTo>
                    <a:pt x="6391" y="164"/>
                  </a:lnTo>
                  <a:lnTo>
                    <a:pt x="6466" y="164"/>
                  </a:lnTo>
                  <a:lnTo>
                    <a:pt x="6466" y="90"/>
                  </a:lnTo>
                  <a:lnTo>
                    <a:pt x="6490" y="90"/>
                  </a:lnTo>
                  <a:lnTo>
                    <a:pt x="6559" y="90"/>
                  </a:lnTo>
                  <a:lnTo>
                    <a:pt x="6559" y="0"/>
                  </a:lnTo>
                  <a:lnTo>
                    <a:pt x="6664" y="0"/>
                  </a:lnTo>
                  <a:lnTo>
                    <a:pt x="6683" y="0"/>
                  </a:lnTo>
                  <a:lnTo>
                    <a:pt x="6714" y="0"/>
                  </a:lnTo>
                  <a:lnTo>
                    <a:pt x="70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55" name="Freeform 192"/>
            <p:cNvSpPr/>
            <p:nvPr/>
          </p:nvSpPr>
          <p:spPr>
            <a:xfrm flipV="1">
              <a:off x="831960" y="1849680"/>
              <a:ext cx="7202520" cy="3148200"/>
            </a:xfrm>
            <a:custGeom>
              <a:avLst/>
              <a:gdLst/>
              <a:ahLst/>
              <a:rect l="l" t="t" r="r" b="b"/>
              <a:pathLst>
                <a:path w="6702" h="3025">
                  <a:moveTo>
                    <a:pt x="0" y="3025"/>
                  </a:moveTo>
                  <a:lnTo>
                    <a:pt x="6" y="3025"/>
                  </a:lnTo>
                  <a:lnTo>
                    <a:pt x="12" y="3025"/>
                  </a:lnTo>
                  <a:lnTo>
                    <a:pt x="18" y="3025"/>
                  </a:lnTo>
                  <a:lnTo>
                    <a:pt x="55" y="3025"/>
                  </a:lnTo>
                  <a:lnTo>
                    <a:pt x="62" y="3025"/>
                  </a:lnTo>
                  <a:lnTo>
                    <a:pt x="62" y="3018"/>
                  </a:lnTo>
                  <a:lnTo>
                    <a:pt x="68" y="3018"/>
                  </a:lnTo>
                  <a:lnTo>
                    <a:pt x="68" y="3003"/>
                  </a:lnTo>
                  <a:lnTo>
                    <a:pt x="86" y="3003"/>
                  </a:lnTo>
                  <a:lnTo>
                    <a:pt x="86" y="2996"/>
                  </a:lnTo>
                  <a:lnTo>
                    <a:pt x="99" y="2996"/>
                  </a:lnTo>
                  <a:lnTo>
                    <a:pt x="99" y="2988"/>
                  </a:lnTo>
                  <a:lnTo>
                    <a:pt x="105" y="2988"/>
                  </a:lnTo>
                  <a:lnTo>
                    <a:pt x="105" y="2981"/>
                  </a:lnTo>
                  <a:lnTo>
                    <a:pt x="111" y="2981"/>
                  </a:lnTo>
                  <a:lnTo>
                    <a:pt x="111" y="2966"/>
                  </a:lnTo>
                  <a:lnTo>
                    <a:pt x="118" y="2966"/>
                  </a:lnTo>
                  <a:lnTo>
                    <a:pt x="124" y="2966"/>
                  </a:lnTo>
                  <a:lnTo>
                    <a:pt x="124" y="2951"/>
                  </a:lnTo>
                  <a:lnTo>
                    <a:pt x="130" y="2951"/>
                  </a:lnTo>
                  <a:lnTo>
                    <a:pt x="136" y="2951"/>
                  </a:lnTo>
                  <a:lnTo>
                    <a:pt x="136" y="2944"/>
                  </a:lnTo>
                  <a:lnTo>
                    <a:pt x="142" y="2944"/>
                  </a:lnTo>
                  <a:lnTo>
                    <a:pt x="149" y="2944"/>
                  </a:lnTo>
                  <a:lnTo>
                    <a:pt x="149" y="2936"/>
                  </a:lnTo>
                  <a:lnTo>
                    <a:pt x="155" y="2936"/>
                  </a:lnTo>
                  <a:lnTo>
                    <a:pt x="155" y="2921"/>
                  </a:lnTo>
                  <a:lnTo>
                    <a:pt x="167" y="2921"/>
                  </a:lnTo>
                  <a:lnTo>
                    <a:pt x="180" y="2921"/>
                  </a:lnTo>
                  <a:lnTo>
                    <a:pt x="180" y="2914"/>
                  </a:lnTo>
                  <a:lnTo>
                    <a:pt x="204" y="2914"/>
                  </a:lnTo>
                  <a:lnTo>
                    <a:pt x="204" y="2898"/>
                  </a:lnTo>
                  <a:lnTo>
                    <a:pt x="211" y="2898"/>
                  </a:lnTo>
                  <a:lnTo>
                    <a:pt x="211" y="2891"/>
                  </a:lnTo>
                  <a:lnTo>
                    <a:pt x="217" y="2891"/>
                  </a:lnTo>
                  <a:lnTo>
                    <a:pt x="217" y="2883"/>
                  </a:lnTo>
                  <a:lnTo>
                    <a:pt x="242" y="2883"/>
                  </a:lnTo>
                  <a:lnTo>
                    <a:pt x="242" y="2876"/>
                  </a:lnTo>
                  <a:lnTo>
                    <a:pt x="310" y="2876"/>
                  </a:lnTo>
                  <a:lnTo>
                    <a:pt x="310" y="2868"/>
                  </a:lnTo>
                  <a:lnTo>
                    <a:pt x="322" y="2868"/>
                  </a:lnTo>
                  <a:lnTo>
                    <a:pt x="322" y="2861"/>
                  </a:lnTo>
                  <a:lnTo>
                    <a:pt x="341" y="2861"/>
                  </a:lnTo>
                  <a:lnTo>
                    <a:pt x="341" y="2853"/>
                  </a:lnTo>
                  <a:lnTo>
                    <a:pt x="354" y="2853"/>
                  </a:lnTo>
                  <a:lnTo>
                    <a:pt x="354" y="2823"/>
                  </a:lnTo>
                  <a:lnTo>
                    <a:pt x="385" y="2823"/>
                  </a:lnTo>
                  <a:lnTo>
                    <a:pt x="385" y="2815"/>
                  </a:lnTo>
                  <a:lnTo>
                    <a:pt x="416" y="2815"/>
                  </a:lnTo>
                  <a:lnTo>
                    <a:pt x="416" y="2808"/>
                  </a:lnTo>
                  <a:lnTo>
                    <a:pt x="428" y="2808"/>
                  </a:lnTo>
                  <a:lnTo>
                    <a:pt x="428" y="2800"/>
                  </a:lnTo>
                  <a:lnTo>
                    <a:pt x="441" y="2800"/>
                  </a:lnTo>
                  <a:lnTo>
                    <a:pt x="441" y="2785"/>
                  </a:lnTo>
                  <a:lnTo>
                    <a:pt x="465" y="2785"/>
                  </a:lnTo>
                  <a:lnTo>
                    <a:pt x="465" y="2777"/>
                  </a:lnTo>
                  <a:lnTo>
                    <a:pt x="521" y="2777"/>
                  </a:lnTo>
                  <a:lnTo>
                    <a:pt x="521" y="2770"/>
                  </a:lnTo>
                  <a:lnTo>
                    <a:pt x="540" y="2770"/>
                  </a:lnTo>
                  <a:lnTo>
                    <a:pt x="540" y="2755"/>
                  </a:lnTo>
                  <a:lnTo>
                    <a:pt x="552" y="2755"/>
                  </a:lnTo>
                  <a:lnTo>
                    <a:pt x="552" y="2732"/>
                  </a:lnTo>
                  <a:lnTo>
                    <a:pt x="565" y="2732"/>
                  </a:lnTo>
                  <a:lnTo>
                    <a:pt x="565" y="2724"/>
                  </a:lnTo>
                  <a:lnTo>
                    <a:pt x="571" y="2724"/>
                  </a:lnTo>
                  <a:lnTo>
                    <a:pt x="571" y="2702"/>
                  </a:lnTo>
                  <a:lnTo>
                    <a:pt x="577" y="2702"/>
                  </a:lnTo>
                  <a:lnTo>
                    <a:pt x="577" y="2694"/>
                  </a:lnTo>
                  <a:lnTo>
                    <a:pt x="596" y="2694"/>
                  </a:lnTo>
                  <a:lnTo>
                    <a:pt x="596" y="2687"/>
                  </a:lnTo>
                  <a:lnTo>
                    <a:pt x="602" y="2687"/>
                  </a:lnTo>
                  <a:lnTo>
                    <a:pt x="602" y="2672"/>
                  </a:lnTo>
                  <a:lnTo>
                    <a:pt x="608" y="2672"/>
                  </a:lnTo>
                  <a:lnTo>
                    <a:pt x="608" y="2664"/>
                  </a:lnTo>
                  <a:lnTo>
                    <a:pt x="614" y="2664"/>
                  </a:lnTo>
                  <a:lnTo>
                    <a:pt x="627" y="2664"/>
                  </a:lnTo>
                  <a:lnTo>
                    <a:pt x="627" y="2656"/>
                  </a:lnTo>
                  <a:lnTo>
                    <a:pt x="633" y="2656"/>
                  </a:lnTo>
                  <a:lnTo>
                    <a:pt x="633" y="2641"/>
                  </a:lnTo>
                  <a:lnTo>
                    <a:pt x="639" y="2641"/>
                  </a:lnTo>
                  <a:lnTo>
                    <a:pt x="639" y="2634"/>
                  </a:lnTo>
                  <a:lnTo>
                    <a:pt x="652" y="2634"/>
                  </a:lnTo>
                  <a:lnTo>
                    <a:pt x="652" y="2626"/>
                  </a:lnTo>
                  <a:lnTo>
                    <a:pt x="664" y="2626"/>
                  </a:lnTo>
                  <a:lnTo>
                    <a:pt x="664" y="2611"/>
                  </a:lnTo>
                  <a:lnTo>
                    <a:pt x="689" y="2611"/>
                  </a:lnTo>
                  <a:lnTo>
                    <a:pt x="689" y="2603"/>
                  </a:lnTo>
                  <a:lnTo>
                    <a:pt x="708" y="2603"/>
                  </a:lnTo>
                  <a:lnTo>
                    <a:pt x="708" y="2596"/>
                  </a:lnTo>
                  <a:lnTo>
                    <a:pt x="714" y="2596"/>
                  </a:lnTo>
                  <a:lnTo>
                    <a:pt x="714" y="2588"/>
                  </a:lnTo>
                  <a:lnTo>
                    <a:pt x="720" y="2588"/>
                  </a:lnTo>
                  <a:lnTo>
                    <a:pt x="720" y="2573"/>
                  </a:lnTo>
                  <a:lnTo>
                    <a:pt x="739" y="2573"/>
                  </a:lnTo>
                  <a:lnTo>
                    <a:pt x="739" y="2565"/>
                  </a:lnTo>
                  <a:lnTo>
                    <a:pt x="757" y="2565"/>
                  </a:lnTo>
                  <a:lnTo>
                    <a:pt x="757" y="2542"/>
                  </a:lnTo>
                  <a:lnTo>
                    <a:pt x="776" y="2542"/>
                  </a:lnTo>
                  <a:lnTo>
                    <a:pt x="776" y="2527"/>
                  </a:lnTo>
                  <a:lnTo>
                    <a:pt x="788" y="2527"/>
                  </a:lnTo>
                  <a:lnTo>
                    <a:pt x="788" y="2519"/>
                  </a:lnTo>
                  <a:lnTo>
                    <a:pt x="795" y="2519"/>
                  </a:lnTo>
                  <a:lnTo>
                    <a:pt x="795" y="2504"/>
                  </a:lnTo>
                  <a:lnTo>
                    <a:pt x="801" y="2504"/>
                  </a:lnTo>
                  <a:lnTo>
                    <a:pt x="813" y="2504"/>
                  </a:lnTo>
                  <a:lnTo>
                    <a:pt x="813" y="2489"/>
                  </a:lnTo>
                  <a:lnTo>
                    <a:pt x="826" y="2489"/>
                  </a:lnTo>
                  <a:lnTo>
                    <a:pt x="826" y="2481"/>
                  </a:lnTo>
                  <a:lnTo>
                    <a:pt x="850" y="2481"/>
                  </a:lnTo>
                  <a:lnTo>
                    <a:pt x="850" y="2473"/>
                  </a:lnTo>
                  <a:lnTo>
                    <a:pt x="875" y="2473"/>
                  </a:lnTo>
                  <a:lnTo>
                    <a:pt x="875" y="2466"/>
                  </a:lnTo>
                  <a:lnTo>
                    <a:pt x="882" y="2466"/>
                  </a:lnTo>
                  <a:lnTo>
                    <a:pt x="882" y="2458"/>
                  </a:lnTo>
                  <a:lnTo>
                    <a:pt x="888" y="2458"/>
                  </a:lnTo>
                  <a:lnTo>
                    <a:pt x="888" y="2450"/>
                  </a:lnTo>
                  <a:lnTo>
                    <a:pt x="894" y="2450"/>
                  </a:lnTo>
                  <a:lnTo>
                    <a:pt x="894" y="2443"/>
                  </a:lnTo>
                  <a:lnTo>
                    <a:pt x="900" y="2443"/>
                  </a:lnTo>
                  <a:lnTo>
                    <a:pt x="900" y="2435"/>
                  </a:lnTo>
                  <a:lnTo>
                    <a:pt x="913" y="2435"/>
                  </a:lnTo>
                  <a:lnTo>
                    <a:pt x="913" y="2427"/>
                  </a:lnTo>
                  <a:lnTo>
                    <a:pt x="937" y="2427"/>
                  </a:lnTo>
                  <a:lnTo>
                    <a:pt x="937" y="2420"/>
                  </a:lnTo>
                  <a:lnTo>
                    <a:pt x="956" y="2420"/>
                  </a:lnTo>
                  <a:lnTo>
                    <a:pt x="956" y="2412"/>
                  </a:lnTo>
                  <a:lnTo>
                    <a:pt x="962" y="2412"/>
                  </a:lnTo>
                  <a:lnTo>
                    <a:pt x="968" y="2412"/>
                  </a:lnTo>
                  <a:lnTo>
                    <a:pt x="968" y="2404"/>
                  </a:lnTo>
                  <a:lnTo>
                    <a:pt x="981" y="2404"/>
                  </a:lnTo>
                  <a:lnTo>
                    <a:pt x="1000" y="2404"/>
                  </a:lnTo>
                  <a:lnTo>
                    <a:pt x="1000" y="2389"/>
                  </a:lnTo>
                  <a:lnTo>
                    <a:pt x="1024" y="2389"/>
                  </a:lnTo>
                  <a:lnTo>
                    <a:pt x="1024" y="2381"/>
                  </a:lnTo>
                  <a:lnTo>
                    <a:pt x="1037" y="2381"/>
                  </a:lnTo>
                  <a:lnTo>
                    <a:pt x="1037" y="2366"/>
                  </a:lnTo>
                  <a:lnTo>
                    <a:pt x="1049" y="2366"/>
                  </a:lnTo>
                  <a:lnTo>
                    <a:pt x="1049" y="2350"/>
                  </a:lnTo>
                  <a:lnTo>
                    <a:pt x="1055" y="2350"/>
                  </a:lnTo>
                  <a:lnTo>
                    <a:pt x="1068" y="2350"/>
                  </a:lnTo>
                  <a:lnTo>
                    <a:pt x="1074" y="2350"/>
                  </a:lnTo>
                  <a:lnTo>
                    <a:pt x="1074" y="2343"/>
                  </a:lnTo>
                  <a:lnTo>
                    <a:pt x="1087" y="2343"/>
                  </a:lnTo>
                  <a:lnTo>
                    <a:pt x="1087" y="2335"/>
                  </a:lnTo>
                  <a:lnTo>
                    <a:pt x="1105" y="2335"/>
                  </a:lnTo>
                  <a:lnTo>
                    <a:pt x="1105" y="2320"/>
                  </a:lnTo>
                  <a:lnTo>
                    <a:pt x="1111" y="2320"/>
                  </a:lnTo>
                  <a:lnTo>
                    <a:pt x="1111" y="2312"/>
                  </a:lnTo>
                  <a:lnTo>
                    <a:pt x="1118" y="2312"/>
                  </a:lnTo>
                  <a:lnTo>
                    <a:pt x="1118" y="2304"/>
                  </a:lnTo>
                  <a:lnTo>
                    <a:pt x="1136" y="2304"/>
                  </a:lnTo>
                  <a:lnTo>
                    <a:pt x="1136" y="2296"/>
                  </a:lnTo>
                  <a:lnTo>
                    <a:pt x="1142" y="2296"/>
                  </a:lnTo>
                  <a:lnTo>
                    <a:pt x="1142" y="2289"/>
                  </a:lnTo>
                  <a:lnTo>
                    <a:pt x="1149" y="2289"/>
                  </a:lnTo>
                  <a:lnTo>
                    <a:pt x="1149" y="2281"/>
                  </a:lnTo>
                  <a:lnTo>
                    <a:pt x="1155" y="2281"/>
                  </a:lnTo>
                  <a:lnTo>
                    <a:pt x="1155" y="2273"/>
                  </a:lnTo>
                  <a:lnTo>
                    <a:pt x="1161" y="2273"/>
                  </a:lnTo>
                  <a:lnTo>
                    <a:pt x="1161" y="2265"/>
                  </a:lnTo>
                  <a:lnTo>
                    <a:pt x="1167" y="2265"/>
                  </a:lnTo>
                  <a:lnTo>
                    <a:pt x="1167" y="2250"/>
                  </a:lnTo>
                  <a:lnTo>
                    <a:pt x="1173" y="2250"/>
                  </a:lnTo>
                  <a:lnTo>
                    <a:pt x="1173" y="2227"/>
                  </a:lnTo>
                  <a:lnTo>
                    <a:pt x="1186" y="2227"/>
                  </a:lnTo>
                  <a:lnTo>
                    <a:pt x="1186" y="2219"/>
                  </a:lnTo>
                  <a:lnTo>
                    <a:pt x="1205" y="2219"/>
                  </a:lnTo>
                  <a:lnTo>
                    <a:pt x="1205" y="2211"/>
                  </a:lnTo>
                  <a:lnTo>
                    <a:pt x="1229" y="2211"/>
                  </a:lnTo>
                  <a:lnTo>
                    <a:pt x="1242" y="2211"/>
                  </a:lnTo>
                  <a:lnTo>
                    <a:pt x="1242" y="2196"/>
                  </a:lnTo>
                  <a:lnTo>
                    <a:pt x="1248" y="2196"/>
                  </a:lnTo>
                  <a:lnTo>
                    <a:pt x="1248" y="2188"/>
                  </a:lnTo>
                  <a:lnTo>
                    <a:pt x="1260" y="2188"/>
                  </a:lnTo>
                  <a:lnTo>
                    <a:pt x="1260" y="2180"/>
                  </a:lnTo>
                  <a:lnTo>
                    <a:pt x="1273" y="2180"/>
                  </a:lnTo>
                  <a:lnTo>
                    <a:pt x="1273" y="2172"/>
                  </a:lnTo>
                  <a:lnTo>
                    <a:pt x="1285" y="2172"/>
                  </a:lnTo>
                  <a:lnTo>
                    <a:pt x="1285" y="2165"/>
                  </a:lnTo>
                  <a:lnTo>
                    <a:pt x="1304" y="2165"/>
                  </a:lnTo>
                  <a:lnTo>
                    <a:pt x="1304" y="2157"/>
                  </a:lnTo>
                  <a:lnTo>
                    <a:pt x="1310" y="2157"/>
                  </a:lnTo>
                  <a:lnTo>
                    <a:pt x="1310" y="2141"/>
                  </a:lnTo>
                  <a:lnTo>
                    <a:pt x="1316" y="2141"/>
                  </a:lnTo>
                  <a:lnTo>
                    <a:pt x="1329" y="2141"/>
                  </a:lnTo>
                  <a:lnTo>
                    <a:pt x="1329" y="2133"/>
                  </a:lnTo>
                  <a:lnTo>
                    <a:pt x="1341" y="2133"/>
                  </a:lnTo>
                  <a:lnTo>
                    <a:pt x="1341" y="2126"/>
                  </a:lnTo>
                  <a:lnTo>
                    <a:pt x="1347" y="2126"/>
                  </a:lnTo>
                  <a:lnTo>
                    <a:pt x="1347" y="2118"/>
                  </a:lnTo>
                  <a:lnTo>
                    <a:pt x="1366" y="2118"/>
                  </a:lnTo>
                  <a:lnTo>
                    <a:pt x="1366" y="2110"/>
                  </a:lnTo>
                  <a:lnTo>
                    <a:pt x="1378" y="2110"/>
                  </a:lnTo>
                  <a:lnTo>
                    <a:pt x="1378" y="2102"/>
                  </a:lnTo>
                  <a:lnTo>
                    <a:pt x="1397" y="2102"/>
                  </a:lnTo>
                  <a:lnTo>
                    <a:pt x="1397" y="2094"/>
                  </a:lnTo>
                  <a:lnTo>
                    <a:pt x="1403" y="2094"/>
                  </a:lnTo>
                  <a:lnTo>
                    <a:pt x="1403" y="2086"/>
                  </a:lnTo>
                  <a:lnTo>
                    <a:pt x="1410" y="2086"/>
                  </a:lnTo>
                  <a:lnTo>
                    <a:pt x="1410" y="2079"/>
                  </a:lnTo>
                  <a:lnTo>
                    <a:pt x="1416" y="2079"/>
                  </a:lnTo>
                  <a:lnTo>
                    <a:pt x="1416" y="2071"/>
                  </a:lnTo>
                  <a:lnTo>
                    <a:pt x="1422" y="2071"/>
                  </a:lnTo>
                  <a:lnTo>
                    <a:pt x="1428" y="2071"/>
                  </a:lnTo>
                  <a:lnTo>
                    <a:pt x="1428" y="2063"/>
                  </a:lnTo>
                  <a:lnTo>
                    <a:pt x="1434" y="2063"/>
                  </a:lnTo>
                  <a:lnTo>
                    <a:pt x="1434" y="2055"/>
                  </a:lnTo>
                  <a:lnTo>
                    <a:pt x="1441" y="2055"/>
                  </a:lnTo>
                  <a:lnTo>
                    <a:pt x="1441" y="2047"/>
                  </a:lnTo>
                  <a:lnTo>
                    <a:pt x="1447" y="2047"/>
                  </a:lnTo>
                  <a:lnTo>
                    <a:pt x="1447" y="2039"/>
                  </a:lnTo>
                  <a:lnTo>
                    <a:pt x="1459" y="2039"/>
                  </a:lnTo>
                  <a:lnTo>
                    <a:pt x="1459" y="2031"/>
                  </a:lnTo>
                  <a:lnTo>
                    <a:pt x="1472" y="2031"/>
                  </a:lnTo>
                  <a:lnTo>
                    <a:pt x="1472" y="2016"/>
                  </a:lnTo>
                  <a:lnTo>
                    <a:pt x="1496" y="2016"/>
                  </a:lnTo>
                  <a:lnTo>
                    <a:pt x="1496" y="2008"/>
                  </a:lnTo>
                  <a:lnTo>
                    <a:pt x="1509" y="2008"/>
                  </a:lnTo>
                  <a:lnTo>
                    <a:pt x="1509" y="2000"/>
                  </a:lnTo>
                  <a:lnTo>
                    <a:pt x="1515" y="2000"/>
                  </a:lnTo>
                  <a:lnTo>
                    <a:pt x="1515" y="1992"/>
                  </a:lnTo>
                  <a:lnTo>
                    <a:pt x="1521" y="1992"/>
                  </a:lnTo>
                  <a:lnTo>
                    <a:pt x="1521" y="1984"/>
                  </a:lnTo>
                  <a:lnTo>
                    <a:pt x="1552" y="1984"/>
                  </a:lnTo>
                  <a:lnTo>
                    <a:pt x="1552" y="1976"/>
                  </a:lnTo>
                  <a:lnTo>
                    <a:pt x="1565" y="1976"/>
                  </a:lnTo>
                  <a:lnTo>
                    <a:pt x="1583" y="1976"/>
                  </a:lnTo>
                  <a:lnTo>
                    <a:pt x="1583" y="1969"/>
                  </a:lnTo>
                  <a:lnTo>
                    <a:pt x="1596" y="1969"/>
                  </a:lnTo>
                  <a:lnTo>
                    <a:pt x="1596" y="1953"/>
                  </a:lnTo>
                  <a:lnTo>
                    <a:pt x="1621" y="1953"/>
                  </a:lnTo>
                  <a:lnTo>
                    <a:pt x="1621" y="1945"/>
                  </a:lnTo>
                  <a:lnTo>
                    <a:pt x="1627" y="1945"/>
                  </a:lnTo>
                  <a:lnTo>
                    <a:pt x="1627" y="1929"/>
                  </a:lnTo>
                  <a:lnTo>
                    <a:pt x="1633" y="1929"/>
                  </a:lnTo>
                  <a:lnTo>
                    <a:pt x="1633" y="1921"/>
                  </a:lnTo>
                  <a:lnTo>
                    <a:pt x="1664" y="1921"/>
                  </a:lnTo>
                  <a:lnTo>
                    <a:pt x="1664" y="1913"/>
                  </a:lnTo>
                  <a:lnTo>
                    <a:pt x="1670" y="1913"/>
                  </a:lnTo>
                  <a:lnTo>
                    <a:pt x="1670" y="1905"/>
                  </a:lnTo>
                  <a:lnTo>
                    <a:pt x="1677" y="1905"/>
                  </a:lnTo>
                  <a:lnTo>
                    <a:pt x="1677" y="1897"/>
                  </a:lnTo>
                  <a:lnTo>
                    <a:pt x="1689" y="1897"/>
                  </a:lnTo>
                  <a:lnTo>
                    <a:pt x="1689" y="1889"/>
                  </a:lnTo>
                  <a:lnTo>
                    <a:pt x="1701" y="1889"/>
                  </a:lnTo>
                  <a:lnTo>
                    <a:pt x="1701" y="1881"/>
                  </a:lnTo>
                  <a:lnTo>
                    <a:pt x="1708" y="1881"/>
                  </a:lnTo>
                  <a:lnTo>
                    <a:pt x="1708" y="1873"/>
                  </a:lnTo>
                  <a:lnTo>
                    <a:pt x="1714" y="1873"/>
                  </a:lnTo>
                  <a:lnTo>
                    <a:pt x="1714" y="1865"/>
                  </a:lnTo>
                  <a:lnTo>
                    <a:pt x="1720" y="1865"/>
                  </a:lnTo>
                  <a:lnTo>
                    <a:pt x="1720" y="1857"/>
                  </a:lnTo>
                  <a:lnTo>
                    <a:pt x="1745" y="1857"/>
                  </a:lnTo>
                  <a:lnTo>
                    <a:pt x="1745" y="1849"/>
                  </a:lnTo>
                  <a:lnTo>
                    <a:pt x="1751" y="1849"/>
                  </a:lnTo>
                  <a:lnTo>
                    <a:pt x="1751" y="1842"/>
                  </a:lnTo>
                  <a:lnTo>
                    <a:pt x="1757" y="1842"/>
                  </a:lnTo>
                  <a:lnTo>
                    <a:pt x="1757" y="1826"/>
                  </a:lnTo>
                  <a:lnTo>
                    <a:pt x="1782" y="1826"/>
                  </a:lnTo>
                  <a:lnTo>
                    <a:pt x="1782" y="1818"/>
                  </a:lnTo>
                  <a:lnTo>
                    <a:pt x="1795" y="1818"/>
                  </a:lnTo>
                  <a:lnTo>
                    <a:pt x="1795" y="1810"/>
                  </a:lnTo>
                  <a:lnTo>
                    <a:pt x="1801" y="1810"/>
                  </a:lnTo>
                  <a:lnTo>
                    <a:pt x="1801" y="1786"/>
                  </a:lnTo>
                  <a:lnTo>
                    <a:pt x="1807" y="1786"/>
                  </a:lnTo>
                  <a:lnTo>
                    <a:pt x="1807" y="1778"/>
                  </a:lnTo>
                  <a:lnTo>
                    <a:pt x="1819" y="1778"/>
                  </a:lnTo>
                  <a:lnTo>
                    <a:pt x="1819" y="1762"/>
                  </a:lnTo>
                  <a:lnTo>
                    <a:pt x="1838" y="1762"/>
                  </a:lnTo>
                  <a:lnTo>
                    <a:pt x="1838" y="1746"/>
                  </a:lnTo>
                  <a:lnTo>
                    <a:pt x="1844" y="1746"/>
                  </a:lnTo>
                  <a:lnTo>
                    <a:pt x="1844" y="1738"/>
                  </a:lnTo>
                  <a:lnTo>
                    <a:pt x="1857" y="1738"/>
                  </a:lnTo>
                  <a:lnTo>
                    <a:pt x="1857" y="1730"/>
                  </a:lnTo>
                  <a:lnTo>
                    <a:pt x="1863" y="1730"/>
                  </a:lnTo>
                  <a:lnTo>
                    <a:pt x="1863" y="1722"/>
                  </a:lnTo>
                  <a:lnTo>
                    <a:pt x="1906" y="1722"/>
                  </a:lnTo>
                  <a:lnTo>
                    <a:pt x="1906" y="1714"/>
                  </a:lnTo>
                  <a:lnTo>
                    <a:pt x="1913" y="1714"/>
                  </a:lnTo>
                  <a:lnTo>
                    <a:pt x="1913" y="1707"/>
                  </a:lnTo>
                  <a:lnTo>
                    <a:pt x="1925" y="1707"/>
                  </a:lnTo>
                  <a:lnTo>
                    <a:pt x="1925" y="1699"/>
                  </a:lnTo>
                  <a:lnTo>
                    <a:pt x="1931" y="1699"/>
                  </a:lnTo>
                  <a:lnTo>
                    <a:pt x="1931" y="1691"/>
                  </a:lnTo>
                  <a:lnTo>
                    <a:pt x="1962" y="1691"/>
                  </a:lnTo>
                  <a:lnTo>
                    <a:pt x="1962" y="1683"/>
                  </a:lnTo>
                  <a:lnTo>
                    <a:pt x="1975" y="1683"/>
                  </a:lnTo>
                  <a:lnTo>
                    <a:pt x="1975" y="1675"/>
                  </a:lnTo>
                  <a:lnTo>
                    <a:pt x="2006" y="1675"/>
                  </a:lnTo>
                  <a:lnTo>
                    <a:pt x="2006" y="1667"/>
                  </a:lnTo>
                  <a:lnTo>
                    <a:pt x="2018" y="1667"/>
                  </a:lnTo>
                  <a:lnTo>
                    <a:pt x="2018" y="1659"/>
                  </a:lnTo>
                  <a:lnTo>
                    <a:pt x="2031" y="1659"/>
                  </a:lnTo>
                  <a:lnTo>
                    <a:pt x="2031" y="1651"/>
                  </a:lnTo>
                  <a:lnTo>
                    <a:pt x="2043" y="1651"/>
                  </a:lnTo>
                  <a:lnTo>
                    <a:pt x="2043" y="1643"/>
                  </a:lnTo>
                  <a:lnTo>
                    <a:pt x="2055" y="1643"/>
                  </a:lnTo>
                  <a:lnTo>
                    <a:pt x="2055" y="1635"/>
                  </a:lnTo>
                  <a:lnTo>
                    <a:pt x="2062" y="1635"/>
                  </a:lnTo>
                  <a:lnTo>
                    <a:pt x="2062" y="1619"/>
                  </a:lnTo>
                  <a:lnTo>
                    <a:pt x="2074" y="1619"/>
                  </a:lnTo>
                  <a:lnTo>
                    <a:pt x="2074" y="1611"/>
                  </a:lnTo>
                  <a:lnTo>
                    <a:pt x="2080" y="1611"/>
                  </a:lnTo>
                  <a:lnTo>
                    <a:pt x="2080" y="1603"/>
                  </a:lnTo>
                  <a:lnTo>
                    <a:pt x="2087" y="1603"/>
                  </a:lnTo>
                  <a:lnTo>
                    <a:pt x="2087" y="1595"/>
                  </a:lnTo>
                  <a:lnTo>
                    <a:pt x="2111" y="1595"/>
                  </a:lnTo>
                  <a:lnTo>
                    <a:pt x="2111" y="1587"/>
                  </a:lnTo>
                  <a:lnTo>
                    <a:pt x="2118" y="1587"/>
                  </a:lnTo>
                  <a:lnTo>
                    <a:pt x="2118" y="1579"/>
                  </a:lnTo>
                  <a:lnTo>
                    <a:pt x="2124" y="1579"/>
                  </a:lnTo>
                  <a:lnTo>
                    <a:pt x="2124" y="1563"/>
                  </a:lnTo>
                  <a:lnTo>
                    <a:pt x="2130" y="1563"/>
                  </a:lnTo>
                  <a:lnTo>
                    <a:pt x="2130" y="1547"/>
                  </a:lnTo>
                  <a:lnTo>
                    <a:pt x="2142" y="1547"/>
                  </a:lnTo>
                  <a:lnTo>
                    <a:pt x="2142" y="1539"/>
                  </a:lnTo>
                  <a:lnTo>
                    <a:pt x="2149" y="1539"/>
                  </a:lnTo>
                  <a:lnTo>
                    <a:pt x="2149" y="1531"/>
                  </a:lnTo>
                  <a:lnTo>
                    <a:pt x="2167" y="1531"/>
                  </a:lnTo>
                  <a:lnTo>
                    <a:pt x="2167" y="1523"/>
                  </a:lnTo>
                  <a:lnTo>
                    <a:pt x="2186" y="1523"/>
                  </a:lnTo>
                  <a:lnTo>
                    <a:pt x="2205" y="1523"/>
                  </a:lnTo>
                  <a:lnTo>
                    <a:pt x="2205" y="1515"/>
                  </a:lnTo>
                  <a:lnTo>
                    <a:pt x="2211" y="1515"/>
                  </a:lnTo>
                  <a:lnTo>
                    <a:pt x="2211" y="1507"/>
                  </a:lnTo>
                  <a:lnTo>
                    <a:pt x="2217" y="1507"/>
                  </a:lnTo>
                  <a:lnTo>
                    <a:pt x="2223" y="1507"/>
                  </a:lnTo>
                  <a:lnTo>
                    <a:pt x="2223" y="1499"/>
                  </a:lnTo>
                  <a:lnTo>
                    <a:pt x="2229" y="1499"/>
                  </a:lnTo>
                  <a:lnTo>
                    <a:pt x="2229" y="1491"/>
                  </a:lnTo>
                  <a:lnTo>
                    <a:pt x="2236" y="1491"/>
                  </a:lnTo>
                  <a:lnTo>
                    <a:pt x="2236" y="1483"/>
                  </a:lnTo>
                  <a:lnTo>
                    <a:pt x="2242" y="1483"/>
                  </a:lnTo>
                  <a:lnTo>
                    <a:pt x="2242" y="1467"/>
                  </a:lnTo>
                  <a:lnTo>
                    <a:pt x="2254" y="1467"/>
                  </a:lnTo>
                  <a:lnTo>
                    <a:pt x="2254" y="1459"/>
                  </a:lnTo>
                  <a:lnTo>
                    <a:pt x="2260" y="1459"/>
                  </a:lnTo>
                  <a:lnTo>
                    <a:pt x="2260" y="1451"/>
                  </a:lnTo>
                  <a:lnTo>
                    <a:pt x="2292" y="1451"/>
                  </a:lnTo>
                  <a:lnTo>
                    <a:pt x="2292" y="1435"/>
                  </a:lnTo>
                  <a:lnTo>
                    <a:pt x="2298" y="1435"/>
                  </a:lnTo>
                  <a:lnTo>
                    <a:pt x="2298" y="1427"/>
                  </a:lnTo>
                  <a:lnTo>
                    <a:pt x="2310" y="1427"/>
                  </a:lnTo>
                  <a:lnTo>
                    <a:pt x="2323" y="1427"/>
                  </a:lnTo>
                  <a:lnTo>
                    <a:pt x="2323" y="1419"/>
                  </a:lnTo>
                  <a:lnTo>
                    <a:pt x="2335" y="1419"/>
                  </a:lnTo>
                  <a:lnTo>
                    <a:pt x="2335" y="1411"/>
                  </a:lnTo>
                  <a:lnTo>
                    <a:pt x="2347" y="1411"/>
                  </a:lnTo>
                  <a:lnTo>
                    <a:pt x="2347" y="1386"/>
                  </a:lnTo>
                  <a:lnTo>
                    <a:pt x="2391" y="1386"/>
                  </a:lnTo>
                  <a:lnTo>
                    <a:pt x="2391" y="1378"/>
                  </a:lnTo>
                  <a:lnTo>
                    <a:pt x="2416" y="1378"/>
                  </a:lnTo>
                  <a:lnTo>
                    <a:pt x="2416" y="1370"/>
                  </a:lnTo>
                  <a:lnTo>
                    <a:pt x="2434" y="1370"/>
                  </a:lnTo>
                  <a:lnTo>
                    <a:pt x="2434" y="1362"/>
                  </a:lnTo>
                  <a:lnTo>
                    <a:pt x="2472" y="1362"/>
                  </a:lnTo>
                  <a:lnTo>
                    <a:pt x="2472" y="1354"/>
                  </a:lnTo>
                  <a:lnTo>
                    <a:pt x="2478" y="1354"/>
                  </a:lnTo>
                  <a:lnTo>
                    <a:pt x="2478" y="1346"/>
                  </a:lnTo>
                  <a:lnTo>
                    <a:pt x="2484" y="1346"/>
                  </a:lnTo>
                  <a:lnTo>
                    <a:pt x="2484" y="1338"/>
                  </a:lnTo>
                  <a:lnTo>
                    <a:pt x="2528" y="1338"/>
                  </a:lnTo>
                  <a:lnTo>
                    <a:pt x="2528" y="1321"/>
                  </a:lnTo>
                  <a:lnTo>
                    <a:pt x="2534" y="1321"/>
                  </a:lnTo>
                  <a:lnTo>
                    <a:pt x="2534" y="1305"/>
                  </a:lnTo>
                  <a:lnTo>
                    <a:pt x="2559" y="1305"/>
                  </a:lnTo>
                  <a:lnTo>
                    <a:pt x="2577" y="1305"/>
                  </a:lnTo>
                  <a:lnTo>
                    <a:pt x="2577" y="1297"/>
                  </a:lnTo>
                  <a:lnTo>
                    <a:pt x="2583" y="1297"/>
                  </a:lnTo>
                  <a:lnTo>
                    <a:pt x="2583" y="1289"/>
                  </a:lnTo>
                  <a:lnTo>
                    <a:pt x="2602" y="1289"/>
                  </a:lnTo>
                  <a:lnTo>
                    <a:pt x="2602" y="1281"/>
                  </a:lnTo>
                  <a:lnTo>
                    <a:pt x="2608" y="1281"/>
                  </a:lnTo>
                  <a:lnTo>
                    <a:pt x="2608" y="1273"/>
                  </a:lnTo>
                  <a:lnTo>
                    <a:pt x="2621" y="1273"/>
                  </a:lnTo>
                  <a:lnTo>
                    <a:pt x="2621" y="1264"/>
                  </a:lnTo>
                  <a:lnTo>
                    <a:pt x="2633" y="1264"/>
                  </a:lnTo>
                  <a:lnTo>
                    <a:pt x="2633" y="1256"/>
                  </a:lnTo>
                  <a:lnTo>
                    <a:pt x="2646" y="1256"/>
                  </a:lnTo>
                  <a:lnTo>
                    <a:pt x="2646" y="1240"/>
                  </a:lnTo>
                  <a:lnTo>
                    <a:pt x="2664" y="1240"/>
                  </a:lnTo>
                  <a:lnTo>
                    <a:pt x="2683" y="1240"/>
                  </a:lnTo>
                  <a:lnTo>
                    <a:pt x="2683" y="1232"/>
                  </a:lnTo>
                  <a:lnTo>
                    <a:pt x="2695" y="1232"/>
                  </a:lnTo>
                  <a:lnTo>
                    <a:pt x="2695" y="1224"/>
                  </a:lnTo>
                  <a:lnTo>
                    <a:pt x="2701" y="1224"/>
                  </a:lnTo>
                  <a:lnTo>
                    <a:pt x="2701" y="1215"/>
                  </a:lnTo>
                  <a:lnTo>
                    <a:pt x="2708" y="1215"/>
                  </a:lnTo>
                  <a:lnTo>
                    <a:pt x="2708" y="1207"/>
                  </a:lnTo>
                  <a:lnTo>
                    <a:pt x="2720" y="1207"/>
                  </a:lnTo>
                  <a:lnTo>
                    <a:pt x="2720" y="1191"/>
                  </a:lnTo>
                  <a:lnTo>
                    <a:pt x="2726" y="1191"/>
                  </a:lnTo>
                  <a:lnTo>
                    <a:pt x="2726" y="1183"/>
                  </a:lnTo>
                  <a:lnTo>
                    <a:pt x="2745" y="1183"/>
                  </a:lnTo>
                  <a:lnTo>
                    <a:pt x="2745" y="1174"/>
                  </a:lnTo>
                  <a:lnTo>
                    <a:pt x="2764" y="1174"/>
                  </a:lnTo>
                  <a:lnTo>
                    <a:pt x="2764" y="1166"/>
                  </a:lnTo>
                  <a:lnTo>
                    <a:pt x="2776" y="1166"/>
                  </a:lnTo>
                  <a:lnTo>
                    <a:pt x="2776" y="1150"/>
                  </a:lnTo>
                  <a:lnTo>
                    <a:pt x="2820" y="1150"/>
                  </a:lnTo>
                  <a:lnTo>
                    <a:pt x="2820" y="1134"/>
                  </a:lnTo>
                  <a:lnTo>
                    <a:pt x="2838" y="1134"/>
                  </a:lnTo>
                  <a:lnTo>
                    <a:pt x="2838" y="1109"/>
                  </a:lnTo>
                  <a:lnTo>
                    <a:pt x="2844" y="1109"/>
                  </a:lnTo>
                  <a:lnTo>
                    <a:pt x="2844" y="1101"/>
                  </a:lnTo>
                  <a:lnTo>
                    <a:pt x="2851" y="1101"/>
                  </a:lnTo>
                  <a:lnTo>
                    <a:pt x="2851" y="1084"/>
                  </a:lnTo>
                  <a:lnTo>
                    <a:pt x="2875" y="1084"/>
                  </a:lnTo>
                  <a:lnTo>
                    <a:pt x="2875" y="1068"/>
                  </a:lnTo>
                  <a:lnTo>
                    <a:pt x="2888" y="1068"/>
                  </a:lnTo>
                  <a:lnTo>
                    <a:pt x="2888" y="1060"/>
                  </a:lnTo>
                  <a:lnTo>
                    <a:pt x="2900" y="1060"/>
                  </a:lnTo>
                  <a:lnTo>
                    <a:pt x="2900" y="1052"/>
                  </a:lnTo>
                  <a:lnTo>
                    <a:pt x="2906" y="1052"/>
                  </a:lnTo>
                  <a:lnTo>
                    <a:pt x="2906" y="1043"/>
                  </a:lnTo>
                  <a:lnTo>
                    <a:pt x="2919" y="1043"/>
                  </a:lnTo>
                  <a:lnTo>
                    <a:pt x="2919" y="1035"/>
                  </a:lnTo>
                  <a:lnTo>
                    <a:pt x="2931" y="1035"/>
                  </a:lnTo>
                  <a:lnTo>
                    <a:pt x="2931" y="1019"/>
                  </a:lnTo>
                  <a:lnTo>
                    <a:pt x="2938" y="1019"/>
                  </a:lnTo>
                  <a:lnTo>
                    <a:pt x="2938" y="1002"/>
                  </a:lnTo>
                  <a:lnTo>
                    <a:pt x="2950" y="1002"/>
                  </a:lnTo>
                  <a:lnTo>
                    <a:pt x="2950" y="994"/>
                  </a:lnTo>
                  <a:lnTo>
                    <a:pt x="2962" y="994"/>
                  </a:lnTo>
                  <a:lnTo>
                    <a:pt x="2962" y="986"/>
                  </a:lnTo>
                  <a:lnTo>
                    <a:pt x="2969" y="986"/>
                  </a:lnTo>
                  <a:lnTo>
                    <a:pt x="2969" y="978"/>
                  </a:lnTo>
                  <a:lnTo>
                    <a:pt x="2975" y="978"/>
                  </a:lnTo>
                  <a:lnTo>
                    <a:pt x="2975" y="970"/>
                  </a:lnTo>
                  <a:lnTo>
                    <a:pt x="3000" y="970"/>
                  </a:lnTo>
                  <a:lnTo>
                    <a:pt x="3000" y="962"/>
                  </a:lnTo>
                  <a:lnTo>
                    <a:pt x="3006" y="962"/>
                  </a:lnTo>
                  <a:lnTo>
                    <a:pt x="3006" y="953"/>
                  </a:lnTo>
                  <a:lnTo>
                    <a:pt x="3018" y="953"/>
                  </a:lnTo>
                  <a:lnTo>
                    <a:pt x="3018" y="945"/>
                  </a:lnTo>
                  <a:lnTo>
                    <a:pt x="3031" y="945"/>
                  </a:lnTo>
                  <a:lnTo>
                    <a:pt x="3031" y="937"/>
                  </a:lnTo>
                  <a:lnTo>
                    <a:pt x="3049" y="937"/>
                  </a:lnTo>
                  <a:lnTo>
                    <a:pt x="3049" y="921"/>
                  </a:lnTo>
                  <a:lnTo>
                    <a:pt x="3080" y="921"/>
                  </a:lnTo>
                  <a:lnTo>
                    <a:pt x="3080" y="912"/>
                  </a:lnTo>
                  <a:lnTo>
                    <a:pt x="3087" y="912"/>
                  </a:lnTo>
                  <a:lnTo>
                    <a:pt x="3087" y="888"/>
                  </a:lnTo>
                  <a:lnTo>
                    <a:pt x="3111" y="888"/>
                  </a:lnTo>
                  <a:lnTo>
                    <a:pt x="3111" y="880"/>
                  </a:lnTo>
                  <a:lnTo>
                    <a:pt x="3118" y="880"/>
                  </a:lnTo>
                  <a:lnTo>
                    <a:pt x="3118" y="871"/>
                  </a:lnTo>
                  <a:lnTo>
                    <a:pt x="3124" y="871"/>
                  </a:lnTo>
                  <a:lnTo>
                    <a:pt x="3124" y="863"/>
                  </a:lnTo>
                  <a:lnTo>
                    <a:pt x="3136" y="863"/>
                  </a:lnTo>
                  <a:lnTo>
                    <a:pt x="3205" y="863"/>
                  </a:lnTo>
                  <a:lnTo>
                    <a:pt x="3205" y="855"/>
                  </a:lnTo>
                  <a:lnTo>
                    <a:pt x="3217" y="855"/>
                  </a:lnTo>
                  <a:lnTo>
                    <a:pt x="3217" y="847"/>
                  </a:lnTo>
                  <a:lnTo>
                    <a:pt x="3223" y="847"/>
                  </a:lnTo>
                  <a:lnTo>
                    <a:pt x="3223" y="839"/>
                  </a:lnTo>
                  <a:lnTo>
                    <a:pt x="3229" y="839"/>
                  </a:lnTo>
                  <a:lnTo>
                    <a:pt x="3229" y="830"/>
                  </a:lnTo>
                  <a:lnTo>
                    <a:pt x="3236" y="830"/>
                  </a:lnTo>
                  <a:lnTo>
                    <a:pt x="3236" y="822"/>
                  </a:lnTo>
                  <a:lnTo>
                    <a:pt x="3242" y="822"/>
                  </a:lnTo>
                  <a:lnTo>
                    <a:pt x="3242" y="814"/>
                  </a:lnTo>
                  <a:lnTo>
                    <a:pt x="3254" y="814"/>
                  </a:lnTo>
                  <a:lnTo>
                    <a:pt x="3254" y="806"/>
                  </a:lnTo>
                  <a:lnTo>
                    <a:pt x="3335" y="806"/>
                  </a:lnTo>
                  <a:lnTo>
                    <a:pt x="3335" y="797"/>
                  </a:lnTo>
                  <a:lnTo>
                    <a:pt x="3341" y="797"/>
                  </a:lnTo>
                  <a:lnTo>
                    <a:pt x="3341" y="789"/>
                  </a:lnTo>
                  <a:lnTo>
                    <a:pt x="3347" y="789"/>
                  </a:lnTo>
                  <a:lnTo>
                    <a:pt x="3347" y="773"/>
                  </a:lnTo>
                  <a:lnTo>
                    <a:pt x="3360" y="773"/>
                  </a:lnTo>
                  <a:lnTo>
                    <a:pt x="3360" y="764"/>
                  </a:lnTo>
                  <a:lnTo>
                    <a:pt x="3366" y="764"/>
                  </a:lnTo>
                  <a:lnTo>
                    <a:pt x="3366" y="748"/>
                  </a:lnTo>
                  <a:lnTo>
                    <a:pt x="3372" y="748"/>
                  </a:lnTo>
                  <a:lnTo>
                    <a:pt x="3379" y="748"/>
                  </a:lnTo>
                  <a:lnTo>
                    <a:pt x="3379" y="739"/>
                  </a:lnTo>
                  <a:lnTo>
                    <a:pt x="3385" y="739"/>
                  </a:lnTo>
                  <a:lnTo>
                    <a:pt x="3385" y="731"/>
                  </a:lnTo>
                  <a:lnTo>
                    <a:pt x="3397" y="731"/>
                  </a:lnTo>
                  <a:lnTo>
                    <a:pt x="3397" y="722"/>
                  </a:lnTo>
                  <a:lnTo>
                    <a:pt x="3403" y="722"/>
                  </a:lnTo>
                  <a:lnTo>
                    <a:pt x="3416" y="722"/>
                  </a:lnTo>
                  <a:lnTo>
                    <a:pt x="3416" y="714"/>
                  </a:lnTo>
                  <a:lnTo>
                    <a:pt x="3434" y="714"/>
                  </a:lnTo>
                  <a:lnTo>
                    <a:pt x="3434" y="705"/>
                  </a:lnTo>
                  <a:lnTo>
                    <a:pt x="3472" y="705"/>
                  </a:lnTo>
                  <a:lnTo>
                    <a:pt x="3490" y="705"/>
                  </a:lnTo>
                  <a:lnTo>
                    <a:pt x="3497" y="705"/>
                  </a:lnTo>
                  <a:lnTo>
                    <a:pt x="3497" y="696"/>
                  </a:lnTo>
                  <a:lnTo>
                    <a:pt x="3509" y="696"/>
                  </a:lnTo>
                  <a:lnTo>
                    <a:pt x="3528" y="696"/>
                  </a:lnTo>
                  <a:lnTo>
                    <a:pt x="3528" y="688"/>
                  </a:lnTo>
                  <a:lnTo>
                    <a:pt x="3571" y="688"/>
                  </a:lnTo>
                  <a:lnTo>
                    <a:pt x="3571" y="679"/>
                  </a:lnTo>
                  <a:lnTo>
                    <a:pt x="3577" y="679"/>
                  </a:lnTo>
                  <a:lnTo>
                    <a:pt x="3584" y="679"/>
                  </a:lnTo>
                  <a:lnTo>
                    <a:pt x="3602" y="679"/>
                  </a:lnTo>
                  <a:lnTo>
                    <a:pt x="3615" y="679"/>
                  </a:lnTo>
                  <a:lnTo>
                    <a:pt x="3633" y="679"/>
                  </a:lnTo>
                  <a:lnTo>
                    <a:pt x="3633" y="669"/>
                  </a:lnTo>
                  <a:lnTo>
                    <a:pt x="3658" y="669"/>
                  </a:lnTo>
                  <a:lnTo>
                    <a:pt x="3670" y="669"/>
                  </a:lnTo>
                  <a:lnTo>
                    <a:pt x="3683" y="669"/>
                  </a:lnTo>
                  <a:lnTo>
                    <a:pt x="3683" y="660"/>
                  </a:lnTo>
                  <a:lnTo>
                    <a:pt x="3689" y="660"/>
                  </a:lnTo>
                  <a:lnTo>
                    <a:pt x="3689" y="651"/>
                  </a:lnTo>
                  <a:lnTo>
                    <a:pt x="3702" y="651"/>
                  </a:lnTo>
                  <a:lnTo>
                    <a:pt x="3702" y="641"/>
                  </a:lnTo>
                  <a:lnTo>
                    <a:pt x="3708" y="641"/>
                  </a:lnTo>
                  <a:lnTo>
                    <a:pt x="3708" y="631"/>
                  </a:lnTo>
                  <a:lnTo>
                    <a:pt x="3726" y="631"/>
                  </a:lnTo>
                  <a:lnTo>
                    <a:pt x="3726" y="622"/>
                  </a:lnTo>
                  <a:lnTo>
                    <a:pt x="3745" y="622"/>
                  </a:lnTo>
                  <a:lnTo>
                    <a:pt x="3751" y="622"/>
                  </a:lnTo>
                  <a:lnTo>
                    <a:pt x="3751" y="612"/>
                  </a:lnTo>
                  <a:lnTo>
                    <a:pt x="3770" y="612"/>
                  </a:lnTo>
                  <a:lnTo>
                    <a:pt x="3770" y="602"/>
                  </a:lnTo>
                  <a:lnTo>
                    <a:pt x="3795" y="602"/>
                  </a:lnTo>
                  <a:lnTo>
                    <a:pt x="3795" y="593"/>
                  </a:lnTo>
                  <a:lnTo>
                    <a:pt x="3807" y="593"/>
                  </a:lnTo>
                  <a:lnTo>
                    <a:pt x="3807" y="583"/>
                  </a:lnTo>
                  <a:lnTo>
                    <a:pt x="3832" y="583"/>
                  </a:lnTo>
                  <a:lnTo>
                    <a:pt x="3832" y="573"/>
                  </a:lnTo>
                  <a:lnTo>
                    <a:pt x="3888" y="573"/>
                  </a:lnTo>
                  <a:lnTo>
                    <a:pt x="3888" y="554"/>
                  </a:lnTo>
                  <a:lnTo>
                    <a:pt x="3900" y="554"/>
                  </a:lnTo>
                  <a:lnTo>
                    <a:pt x="3900" y="544"/>
                  </a:lnTo>
                  <a:lnTo>
                    <a:pt x="3907" y="544"/>
                  </a:lnTo>
                  <a:lnTo>
                    <a:pt x="3907" y="534"/>
                  </a:lnTo>
                  <a:lnTo>
                    <a:pt x="3913" y="534"/>
                  </a:lnTo>
                  <a:lnTo>
                    <a:pt x="3925" y="534"/>
                  </a:lnTo>
                  <a:lnTo>
                    <a:pt x="3931" y="534"/>
                  </a:lnTo>
                  <a:lnTo>
                    <a:pt x="3931" y="524"/>
                  </a:lnTo>
                  <a:lnTo>
                    <a:pt x="3962" y="524"/>
                  </a:lnTo>
                  <a:lnTo>
                    <a:pt x="3975" y="524"/>
                  </a:lnTo>
                  <a:lnTo>
                    <a:pt x="3975" y="513"/>
                  </a:lnTo>
                  <a:lnTo>
                    <a:pt x="3987" y="513"/>
                  </a:lnTo>
                  <a:lnTo>
                    <a:pt x="3987" y="503"/>
                  </a:lnTo>
                  <a:lnTo>
                    <a:pt x="4018" y="503"/>
                  </a:lnTo>
                  <a:lnTo>
                    <a:pt x="4018" y="493"/>
                  </a:lnTo>
                  <a:lnTo>
                    <a:pt x="4056" y="493"/>
                  </a:lnTo>
                  <a:lnTo>
                    <a:pt x="4056" y="482"/>
                  </a:lnTo>
                  <a:lnTo>
                    <a:pt x="4062" y="482"/>
                  </a:lnTo>
                  <a:lnTo>
                    <a:pt x="4062" y="472"/>
                  </a:lnTo>
                  <a:lnTo>
                    <a:pt x="4068" y="472"/>
                  </a:lnTo>
                  <a:lnTo>
                    <a:pt x="4105" y="472"/>
                  </a:lnTo>
                  <a:lnTo>
                    <a:pt x="4105" y="461"/>
                  </a:lnTo>
                  <a:lnTo>
                    <a:pt x="4143" y="461"/>
                  </a:lnTo>
                  <a:lnTo>
                    <a:pt x="4161" y="461"/>
                  </a:lnTo>
                  <a:lnTo>
                    <a:pt x="4161" y="450"/>
                  </a:lnTo>
                  <a:lnTo>
                    <a:pt x="4174" y="450"/>
                  </a:lnTo>
                  <a:lnTo>
                    <a:pt x="4174" y="439"/>
                  </a:lnTo>
                  <a:lnTo>
                    <a:pt x="4198" y="439"/>
                  </a:lnTo>
                  <a:lnTo>
                    <a:pt x="4217" y="439"/>
                  </a:lnTo>
                  <a:lnTo>
                    <a:pt x="4217" y="405"/>
                  </a:lnTo>
                  <a:lnTo>
                    <a:pt x="4254" y="405"/>
                  </a:lnTo>
                  <a:lnTo>
                    <a:pt x="4254" y="394"/>
                  </a:lnTo>
                  <a:lnTo>
                    <a:pt x="4267" y="394"/>
                  </a:lnTo>
                  <a:lnTo>
                    <a:pt x="4267" y="383"/>
                  </a:lnTo>
                  <a:lnTo>
                    <a:pt x="4292" y="383"/>
                  </a:lnTo>
                  <a:lnTo>
                    <a:pt x="4298" y="383"/>
                  </a:lnTo>
                  <a:lnTo>
                    <a:pt x="4310" y="383"/>
                  </a:lnTo>
                  <a:lnTo>
                    <a:pt x="4310" y="371"/>
                  </a:lnTo>
                  <a:lnTo>
                    <a:pt x="4329" y="371"/>
                  </a:lnTo>
                  <a:lnTo>
                    <a:pt x="4329" y="359"/>
                  </a:lnTo>
                  <a:lnTo>
                    <a:pt x="4348" y="359"/>
                  </a:lnTo>
                  <a:lnTo>
                    <a:pt x="4422" y="359"/>
                  </a:lnTo>
                  <a:lnTo>
                    <a:pt x="4441" y="359"/>
                  </a:lnTo>
                  <a:lnTo>
                    <a:pt x="4459" y="359"/>
                  </a:lnTo>
                  <a:lnTo>
                    <a:pt x="4478" y="359"/>
                  </a:lnTo>
                  <a:lnTo>
                    <a:pt x="4478" y="347"/>
                  </a:lnTo>
                  <a:lnTo>
                    <a:pt x="4484" y="347"/>
                  </a:lnTo>
                  <a:lnTo>
                    <a:pt x="4484" y="335"/>
                  </a:lnTo>
                  <a:lnTo>
                    <a:pt x="4515" y="335"/>
                  </a:lnTo>
                  <a:lnTo>
                    <a:pt x="4515" y="322"/>
                  </a:lnTo>
                  <a:lnTo>
                    <a:pt x="4540" y="322"/>
                  </a:lnTo>
                  <a:lnTo>
                    <a:pt x="4553" y="322"/>
                  </a:lnTo>
                  <a:lnTo>
                    <a:pt x="4577" y="322"/>
                  </a:lnTo>
                  <a:lnTo>
                    <a:pt x="4584" y="322"/>
                  </a:lnTo>
                  <a:lnTo>
                    <a:pt x="4590" y="322"/>
                  </a:lnTo>
                  <a:lnTo>
                    <a:pt x="4608" y="322"/>
                  </a:lnTo>
                  <a:lnTo>
                    <a:pt x="4627" y="322"/>
                  </a:lnTo>
                  <a:lnTo>
                    <a:pt x="4627" y="309"/>
                  </a:lnTo>
                  <a:lnTo>
                    <a:pt x="4652" y="309"/>
                  </a:lnTo>
                  <a:lnTo>
                    <a:pt x="4664" y="309"/>
                  </a:lnTo>
                  <a:lnTo>
                    <a:pt x="4677" y="309"/>
                  </a:lnTo>
                  <a:lnTo>
                    <a:pt x="4708" y="309"/>
                  </a:lnTo>
                  <a:lnTo>
                    <a:pt x="4726" y="309"/>
                  </a:lnTo>
                  <a:lnTo>
                    <a:pt x="4745" y="309"/>
                  </a:lnTo>
                  <a:lnTo>
                    <a:pt x="4813" y="309"/>
                  </a:lnTo>
                  <a:lnTo>
                    <a:pt x="4813" y="293"/>
                  </a:lnTo>
                  <a:lnTo>
                    <a:pt x="4826" y="293"/>
                  </a:lnTo>
                  <a:lnTo>
                    <a:pt x="4863" y="293"/>
                  </a:lnTo>
                  <a:lnTo>
                    <a:pt x="4875" y="293"/>
                  </a:lnTo>
                  <a:lnTo>
                    <a:pt x="4919" y="293"/>
                  </a:lnTo>
                  <a:lnTo>
                    <a:pt x="4919" y="276"/>
                  </a:lnTo>
                  <a:lnTo>
                    <a:pt x="4925" y="276"/>
                  </a:lnTo>
                  <a:lnTo>
                    <a:pt x="4950" y="276"/>
                  </a:lnTo>
                  <a:lnTo>
                    <a:pt x="4950" y="259"/>
                  </a:lnTo>
                  <a:lnTo>
                    <a:pt x="5018" y="259"/>
                  </a:lnTo>
                  <a:lnTo>
                    <a:pt x="5037" y="259"/>
                  </a:lnTo>
                  <a:lnTo>
                    <a:pt x="5043" y="259"/>
                  </a:lnTo>
                  <a:lnTo>
                    <a:pt x="5099" y="259"/>
                  </a:lnTo>
                  <a:lnTo>
                    <a:pt x="5124" y="259"/>
                  </a:lnTo>
                  <a:lnTo>
                    <a:pt x="5136" y="259"/>
                  </a:lnTo>
                  <a:lnTo>
                    <a:pt x="5161" y="259"/>
                  </a:lnTo>
                  <a:lnTo>
                    <a:pt x="5186" y="259"/>
                  </a:lnTo>
                  <a:lnTo>
                    <a:pt x="5230" y="259"/>
                  </a:lnTo>
                  <a:lnTo>
                    <a:pt x="5248" y="259"/>
                  </a:lnTo>
                  <a:lnTo>
                    <a:pt x="5248" y="237"/>
                  </a:lnTo>
                  <a:lnTo>
                    <a:pt x="5254" y="237"/>
                  </a:lnTo>
                  <a:lnTo>
                    <a:pt x="5261" y="237"/>
                  </a:lnTo>
                  <a:lnTo>
                    <a:pt x="5273" y="237"/>
                  </a:lnTo>
                  <a:lnTo>
                    <a:pt x="5279" y="237"/>
                  </a:lnTo>
                  <a:lnTo>
                    <a:pt x="5285" y="237"/>
                  </a:lnTo>
                  <a:lnTo>
                    <a:pt x="5304" y="237"/>
                  </a:lnTo>
                  <a:lnTo>
                    <a:pt x="5304" y="209"/>
                  </a:lnTo>
                  <a:lnTo>
                    <a:pt x="5323" y="209"/>
                  </a:lnTo>
                  <a:lnTo>
                    <a:pt x="5379" y="209"/>
                  </a:lnTo>
                  <a:lnTo>
                    <a:pt x="5422" y="209"/>
                  </a:lnTo>
                  <a:lnTo>
                    <a:pt x="5497" y="209"/>
                  </a:lnTo>
                  <a:lnTo>
                    <a:pt x="5540" y="209"/>
                  </a:lnTo>
                  <a:lnTo>
                    <a:pt x="5689" y="209"/>
                  </a:lnTo>
                  <a:lnTo>
                    <a:pt x="5726" y="209"/>
                  </a:lnTo>
                  <a:lnTo>
                    <a:pt x="5764" y="209"/>
                  </a:lnTo>
                  <a:lnTo>
                    <a:pt x="5838" y="209"/>
                  </a:lnTo>
                  <a:lnTo>
                    <a:pt x="5975" y="209"/>
                  </a:lnTo>
                  <a:lnTo>
                    <a:pt x="5975" y="158"/>
                  </a:lnTo>
                  <a:lnTo>
                    <a:pt x="5987" y="158"/>
                  </a:lnTo>
                  <a:lnTo>
                    <a:pt x="6105" y="158"/>
                  </a:lnTo>
                  <a:lnTo>
                    <a:pt x="6105" y="102"/>
                  </a:lnTo>
                  <a:lnTo>
                    <a:pt x="6112" y="102"/>
                  </a:lnTo>
                  <a:lnTo>
                    <a:pt x="6180" y="102"/>
                  </a:lnTo>
                  <a:lnTo>
                    <a:pt x="6192" y="102"/>
                  </a:lnTo>
                  <a:lnTo>
                    <a:pt x="6205" y="102"/>
                  </a:lnTo>
                  <a:lnTo>
                    <a:pt x="6273" y="102"/>
                  </a:lnTo>
                  <a:lnTo>
                    <a:pt x="6273" y="0"/>
                  </a:lnTo>
                  <a:lnTo>
                    <a:pt x="6385" y="0"/>
                  </a:lnTo>
                  <a:lnTo>
                    <a:pt x="6478" y="0"/>
                  </a:lnTo>
                  <a:lnTo>
                    <a:pt x="6509" y="0"/>
                  </a:lnTo>
                  <a:lnTo>
                    <a:pt x="6702" y="0"/>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56" name="Rectangle 193"/>
            <p:cNvSpPr/>
            <p:nvPr/>
          </p:nvSpPr>
          <p:spPr>
            <a:xfrm>
              <a:off x="3771360" y="5974200"/>
              <a:ext cx="25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from Induction (Months)</a:t>
              </a:r>
              <a:endParaRPr b="0" lang="en-US" sz="1400" spc="-1" strike="noStrike">
                <a:solidFill>
                  <a:srgbClr val="000000"/>
                </a:solidFill>
                <a:latin typeface="Arial"/>
              </a:endParaRPr>
            </a:p>
          </p:txBody>
        </p:sp>
        <p:sp>
          <p:nvSpPr>
            <p:cNvPr id="2457" name="Rectangle 194"/>
            <p:cNvSpPr/>
            <p:nvPr/>
          </p:nvSpPr>
          <p:spPr>
            <a:xfrm rot="16200000">
              <a:off x="-445680" y="3564720"/>
              <a:ext cx="166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vival Probability</a:t>
              </a:r>
              <a:endParaRPr b="0" lang="en-US" sz="14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Break Prespecified Analysis: PFS From Randomization (Maintenance Group)</a:t>
            </a:r>
            <a:endParaRPr b="0" lang="en-US" sz="3200" spc="-1" strike="noStrike">
              <a:solidFill>
                <a:srgbClr val="000000"/>
              </a:solidFill>
              <a:latin typeface="Arial"/>
            </a:endParaRPr>
          </a:p>
        </p:txBody>
      </p:sp>
      <p:sp>
        <p:nvSpPr>
          <p:cNvPr id="2459" name="Text Box 15"/>
          <p:cNvSpPr/>
          <p:nvPr/>
        </p:nvSpPr>
        <p:spPr>
          <a:xfrm>
            <a:off x="2133720" y="6232320"/>
            <a:ext cx="5708520" cy="611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respecified exploratory noncomparative subgroup analy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ensoring rate for Pem + Cb + Bev was 24.7; for Pac + Cb + Bev was 14.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With permission from Patel, et al. Presented at IASLC. 2012 (abstr LBPL1).</a:t>
            </a:r>
            <a:endParaRPr b="0" lang="en-US" sz="1000" spc="-1" strike="noStrike">
              <a:solidFill>
                <a:srgbClr val="000000"/>
              </a:solidFill>
              <a:latin typeface="Arial"/>
            </a:endParaRPr>
          </a:p>
        </p:txBody>
      </p:sp>
      <p:graphicFrame>
        <p:nvGraphicFramePr>
          <p:cNvPr id="2460" name=""/>
          <p:cNvGraphicFramePr/>
          <p:nvPr/>
        </p:nvGraphicFramePr>
        <p:xfrm>
          <a:off x="4343400" y="1717560"/>
          <a:ext cx="4251240" cy="1067040"/>
        </p:xfrm>
        <a:graphic>
          <a:graphicData uri="http://schemas.openxmlformats.org/drawingml/2006/table">
            <a:tbl>
              <a:tblPr/>
              <a:tblGrid>
                <a:gridCol w="1528920"/>
                <a:gridCol w="1511280"/>
                <a:gridCol w="1211040"/>
              </a:tblGrid>
              <a:tr h="63972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Unicode MS"/>
                        </a:rPr>
                        <a:t> </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0000"/>
                          </a:solidFill>
                          <a:latin typeface="Arial"/>
                          <a:ea typeface="Arial Unicode MS"/>
                        </a:rPr>
                        <a:t>Pem + Cb + Be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0000"/>
                          </a:solidFill>
                          <a:latin typeface="Arial"/>
                          <a:ea typeface="Arial Unicode MS"/>
                        </a:rPr>
                        <a:t>(n=292)</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6666ff"/>
                          </a:solidFill>
                          <a:latin typeface="Arial"/>
                          <a:ea typeface="Arial Unicode MS"/>
                        </a:rPr>
                        <a:t>Pac + Cb + Be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6666ff"/>
                          </a:solidFill>
                          <a:latin typeface="Arial"/>
                          <a:ea typeface="Arial Unicode MS"/>
                        </a:rPr>
                        <a:t>(n=298)</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13680">
                      <a:solidFill>
                        <a:srgbClr val="000000"/>
                      </a:solidFill>
                    </a:lnB>
                    <a:noFill/>
                  </a:tcPr>
                </a:tc>
              </a:tr>
              <a:tr h="42732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PFS median, months</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8.6</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6.9</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bl>
          </a:graphicData>
        </a:graphic>
      </p:graphicFrame>
      <p:grpSp>
        <p:nvGrpSpPr>
          <p:cNvPr id="2461" name="Group 135234"/>
          <p:cNvGrpSpPr/>
          <p:nvPr/>
        </p:nvGrpSpPr>
        <p:grpSpPr>
          <a:xfrm>
            <a:off x="270000" y="638280"/>
            <a:ext cx="8673840" cy="7567560"/>
            <a:chOff x="270000" y="638280"/>
            <a:chExt cx="8673840" cy="7567560"/>
          </a:xfrm>
        </p:grpSpPr>
        <p:sp>
          <p:nvSpPr>
            <p:cNvPr id="2462" name="AutoShape 4"/>
            <p:cNvSpPr/>
            <p:nvPr/>
          </p:nvSpPr>
          <p:spPr>
            <a:xfrm>
              <a:off x="293760" y="1543680"/>
              <a:ext cx="8650080" cy="666216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63" name="Rectangle 6"/>
            <p:cNvSpPr/>
            <p:nvPr/>
          </p:nvSpPr>
          <p:spPr>
            <a:xfrm>
              <a:off x="270000" y="638280"/>
              <a:ext cx="8650080" cy="66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4" name="Rectangle 7"/>
            <p:cNvSpPr/>
            <p:nvPr/>
          </p:nvSpPr>
          <p:spPr>
            <a:xfrm>
              <a:off x="946080" y="1742760"/>
              <a:ext cx="7692840" cy="364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5" name="Line 8"/>
            <p:cNvSpPr/>
            <p:nvPr/>
          </p:nvSpPr>
          <p:spPr>
            <a:xfrm>
              <a:off x="946080" y="5384520"/>
              <a:ext cx="769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66" name="Line 9"/>
            <p:cNvSpPr/>
            <p:nvPr/>
          </p:nvSpPr>
          <p:spPr>
            <a:xfrm flipV="1">
              <a:off x="94608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67" name="Line 10"/>
            <p:cNvSpPr/>
            <p:nvPr/>
          </p:nvSpPr>
          <p:spPr>
            <a:xfrm flipV="1">
              <a:off x="158760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68" name="Line 11"/>
            <p:cNvSpPr/>
            <p:nvPr/>
          </p:nvSpPr>
          <p:spPr>
            <a:xfrm flipV="1">
              <a:off x="222876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69" name="Line 12"/>
            <p:cNvSpPr/>
            <p:nvPr/>
          </p:nvSpPr>
          <p:spPr>
            <a:xfrm flipV="1">
              <a:off x="286848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0" name="Line 13"/>
            <p:cNvSpPr/>
            <p:nvPr/>
          </p:nvSpPr>
          <p:spPr>
            <a:xfrm flipV="1">
              <a:off x="351144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1" name="Line 14"/>
            <p:cNvSpPr/>
            <p:nvPr/>
          </p:nvSpPr>
          <p:spPr>
            <a:xfrm flipV="1">
              <a:off x="415116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2" name="Line 15"/>
            <p:cNvSpPr/>
            <p:nvPr/>
          </p:nvSpPr>
          <p:spPr>
            <a:xfrm flipV="1">
              <a:off x="479268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3" name="Line 16"/>
            <p:cNvSpPr/>
            <p:nvPr/>
          </p:nvSpPr>
          <p:spPr>
            <a:xfrm flipV="1">
              <a:off x="543384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4" name="Line 17"/>
            <p:cNvSpPr/>
            <p:nvPr/>
          </p:nvSpPr>
          <p:spPr>
            <a:xfrm flipV="1">
              <a:off x="607536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5" name="Line 18"/>
            <p:cNvSpPr/>
            <p:nvPr/>
          </p:nvSpPr>
          <p:spPr>
            <a:xfrm flipV="1">
              <a:off x="671508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6" name="Line 19"/>
            <p:cNvSpPr/>
            <p:nvPr/>
          </p:nvSpPr>
          <p:spPr>
            <a:xfrm flipV="1">
              <a:off x="735660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7" name="Line 20"/>
            <p:cNvSpPr/>
            <p:nvPr/>
          </p:nvSpPr>
          <p:spPr>
            <a:xfrm flipV="1">
              <a:off x="799776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8" name="Line 21"/>
            <p:cNvSpPr/>
            <p:nvPr/>
          </p:nvSpPr>
          <p:spPr>
            <a:xfrm flipV="1">
              <a:off x="863928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9" name="Line 22"/>
            <p:cNvSpPr/>
            <p:nvPr/>
          </p:nvSpPr>
          <p:spPr>
            <a:xfrm flipV="1">
              <a:off x="11588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0" name="Line 23"/>
            <p:cNvSpPr/>
            <p:nvPr/>
          </p:nvSpPr>
          <p:spPr>
            <a:xfrm flipV="1">
              <a:off x="13730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1" name="Line 24"/>
            <p:cNvSpPr/>
            <p:nvPr/>
          </p:nvSpPr>
          <p:spPr>
            <a:xfrm flipV="1">
              <a:off x="180180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2" name="Line 25"/>
            <p:cNvSpPr/>
            <p:nvPr/>
          </p:nvSpPr>
          <p:spPr>
            <a:xfrm flipV="1">
              <a:off x="201456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3" name="Line 26"/>
            <p:cNvSpPr/>
            <p:nvPr/>
          </p:nvSpPr>
          <p:spPr>
            <a:xfrm flipV="1">
              <a:off x="244152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4" name="Line 27"/>
            <p:cNvSpPr/>
            <p:nvPr/>
          </p:nvSpPr>
          <p:spPr>
            <a:xfrm flipV="1">
              <a:off x="265572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5" name="Line 28"/>
            <p:cNvSpPr/>
            <p:nvPr/>
          </p:nvSpPr>
          <p:spPr>
            <a:xfrm flipV="1">
              <a:off x="30830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6" name="Line 29"/>
            <p:cNvSpPr/>
            <p:nvPr/>
          </p:nvSpPr>
          <p:spPr>
            <a:xfrm flipV="1">
              <a:off x="32972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7" name="Line 30"/>
            <p:cNvSpPr/>
            <p:nvPr/>
          </p:nvSpPr>
          <p:spPr>
            <a:xfrm flipV="1">
              <a:off x="372420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8" name="Line 31"/>
            <p:cNvSpPr/>
            <p:nvPr/>
          </p:nvSpPr>
          <p:spPr>
            <a:xfrm flipV="1">
              <a:off x="393696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9" name="Line 32"/>
            <p:cNvSpPr/>
            <p:nvPr/>
          </p:nvSpPr>
          <p:spPr>
            <a:xfrm flipV="1">
              <a:off x="436572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0" name="Line 33"/>
            <p:cNvSpPr/>
            <p:nvPr/>
          </p:nvSpPr>
          <p:spPr>
            <a:xfrm flipV="1">
              <a:off x="457848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1" name="Line 34"/>
            <p:cNvSpPr/>
            <p:nvPr/>
          </p:nvSpPr>
          <p:spPr>
            <a:xfrm flipV="1">
              <a:off x="50054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2" name="Line 35"/>
            <p:cNvSpPr/>
            <p:nvPr/>
          </p:nvSpPr>
          <p:spPr>
            <a:xfrm flipV="1">
              <a:off x="52196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3" name="Line 36"/>
            <p:cNvSpPr/>
            <p:nvPr/>
          </p:nvSpPr>
          <p:spPr>
            <a:xfrm flipV="1">
              <a:off x="564660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4" name="Line 37"/>
            <p:cNvSpPr/>
            <p:nvPr/>
          </p:nvSpPr>
          <p:spPr>
            <a:xfrm flipV="1">
              <a:off x="586116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5" name="Line 38"/>
            <p:cNvSpPr/>
            <p:nvPr/>
          </p:nvSpPr>
          <p:spPr>
            <a:xfrm flipV="1">
              <a:off x="628812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6" name="Line 39"/>
            <p:cNvSpPr/>
            <p:nvPr/>
          </p:nvSpPr>
          <p:spPr>
            <a:xfrm flipV="1">
              <a:off x="650088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7" name="Line 40"/>
            <p:cNvSpPr/>
            <p:nvPr/>
          </p:nvSpPr>
          <p:spPr>
            <a:xfrm flipV="1">
              <a:off x="692928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8" name="Line 41"/>
            <p:cNvSpPr/>
            <p:nvPr/>
          </p:nvSpPr>
          <p:spPr>
            <a:xfrm flipV="1">
              <a:off x="71438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9" name="Line 42"/>
            <p:cNvSpPr/>
            <p:nvPr/>
          </p:nvSpPr>
          <p:spPr>
            <a:xfrm flipV="1">
              <a:off x="756900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500" name="Line 43"/>
            <p:cNvSpPr/>
            <p:nvPr/>
          </p:nvSpPr>
          <p:spPr>
            <a:xfrm flipV="1">
              <a:off x="778356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501" name="Line 44"/>
            <p:cNvSpPr/>
            <p:nvPr/>
          </p:nvSpPr>
          <p:spPr>
            <a:xfrm flipV="1">
              <a:off x="821052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502" name="Line 45"/>
            <p:cNvSpPr/>
            <p:nvPr/>
          </p:nvSpPr>
          <p:spPr>
            <a:xfrm flipV="1">
              <a:off x="842472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503" name="Rectangle 46"/>
            <p:cNvSpPr/>
            <p:nvPr/>
          </p:nvSpPr>
          <p:spPr>
            <a:xfrm>
              <a:off x="906120" y="55098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504" name="Rectangle 47"/>
            <p:cNvSpPr/>
            <p:nvPr/>
          </p:nvSpPr>
          <p:spPr>
            <a:xfrm>
              <a:off x="1547280" y="55098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2505" name="Rectangle 48"/>
            <p:cNvSpPr/>
            <p:nvPr/>
          </p:nvSpPr>
          <p:spPr>
            <a:xfrm>
              <a:off x="2188800" y="55098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2506" name="Rectangle 49"/>
            <p:cNvSpPr/>
            <p:nvPr/>
          </p:nvSpPr>
          <p:spPr>
            <a:xfrm>
              <a:off x="2828520" y="55098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2507" name="Rectangle 50"/>
            <p:cNvSpPr/>
            <p:nvPr/>
          </p:nvSpPr>
          <p:spPr>
            <a:xfrm>
              <a:off x="343080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2</a:t>
              </a:r>
              <a:endParaRPr b="0" lang="en-US" sz="1100" spc="-1" strike="noStrike">
                <a:solidFill>
                  <a:srgbClr val="000000"/>
                </a:solidFill>
                <a:latin typeface="Arial"/>
              </a:endParaRPr>
            </a:p>
          </p:txBody>
        </p:sp>
        <p:sp>
          <p:nvSpPr>
            <p:cNvPr id="2508" name="Rectangle 51"/>
            <p:cNvSpPr/>
            <p:nvPr/>
          </p:nvSpPr>
          <p:spPr>
            <a:xfrm>
              <a:off x="407052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5</a:t>
              </a:r>
              <a:endParaRPr b="0" lang="en-US" sz="1100" spc="-1" strike="noStrike">
                <a:solidFill>
                  <a:srgbClr val="000000"/>
                </a:solidFill>
                <a:latin typeface="Arial"/>
              </a:endParaRPr>
            </a:p>
          </p:txBody>
        </p:sp>
        <p:sp>
          <p:nvSpPr>
            <p:cNvPr id="2509" name="Rectangle 52"/>
            <p:cNvSpPr/>
            <p:nvPr/>
          </p:nvSpPr>
          <p:spPr>
            <a:xfrm>
              <a:off x="471348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8</a:t>
              </a:r>
              <a:endParaRPr b="0" lang="en-US" sz="1100" spc="-1" strike="noStrike">
                <a:solidFill>
                  <a:srgbClr val="000000"/>
                </a:solidFill>
                <a:latin typeface="Arial"/>
              </a:endParaRPr>
            </a:p>
          </p:txBody>
        </p:sp>
        <p:sp>
          <p:nvSpPr>
            <p:cNvPr id="2510" name="Rectangle 53"/>
            <p:cNvSpPr/>
            <p:nvPr/>
          </p:nvSpPr>
          <p:spPr>
            <a:xfrm>
              <a:off x="535320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1</a:t>
              </a:r>
              <a:endParaRPr b="0" lang="en-US" sz="1100" spc="-1" strike="noStrike">
                <a:solidFill>
                  <a:srgbClr val="000000"/>
                </a:solidFill>
                <a:latin typeface="Arial"/>
              </a:endParaRPr>
            </a:p>
          </p:txBody>
        </p:sp>
        <p:sp>
          <p:nvSpPr>
            <p:cNvPr id="2511" name="Rectangle 54"/>
            <p:cNvSpPr/>
            <p:nvPr/>
          </p:nvSpPr>
          <p:spPr>
            <a:xfrm>
              <a:off x="599472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4</a:t>
              </a:r>
              <a:endParaRPr b="0" lang="en-US" sz="1100" spc="-1" strike="noStrike">
                <a:solidFill>
                  <a:srgbClr val="000000"/>
                </a:solidFill>
                <a:latin typeface="Arial"/>
              </a:endParaRPr>
            </a:p>
          </p:txBody>
        </p:sp>
        <p:sp>
          <p:nvSpPr>
            <p:cNvPr id="2512" name="Rectangle 55"/>
            <p:cNvSpPr/>
            <p:nvPr/>
          </p:nvSpPr>
          <p:spPr>
            <a:xfrm>
              <a:off x="663624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7</a:t>
              </a:r>
              <a:endParaRPr b="0" lang="en-US" sz="1100" spc="-1" strike="noStrike">
                <a:solidFill>
                  <a:srgbClr val="000000"/>
                </a:solidFill>
                <a:latin typeface="Arial"/>
              </a:endParaRPr>
            </a:p>
          </p:txBody>
        </p:sp>
        <p:sp>
          <p:nvSpPr>
            <p:cNvPr id="2513" name="Rectangle 56"/>
            <p:cNvSpPr/>
            <p:nvPr/>
          </p:nvSpPr>
          <p:spPr>
            <a:xfrm>
              <a:off x="727740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a:t>
              </a:r>
              <a:endParaRPr b="0" lang="en-US" sz="1100" spc="-1" strike="noStrike">
                <a:solidFill>
                  <a:srgbClr val="000000"/>
                </a:solidFill>
                <a:latin typeface="Arial"/>
              </a:endParaRPr>
            </a:p>
          </p:txBody>
        </p:sp>
        <p:sp>
          <p:nvSpPr>
            <p:cNvPr id="2514" name="Rectangle 57"/>
            <p:cNvSpPr/>
            <p:nvPr/>
          </p:nvSpPr>
          <p:spPr>
            <a:xfrm>
              <a:off x="791712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3</a:t>
              </a:r>
              <a:endParaRPr b="0" lang="en-US" sz="1100" spc="-1" strike="noStrike">
                <a:solidFill>
                  <a:srgbClr val="000000"/>
                </a:solidFill>
                <a:latin typeface="Arial"/>
              </a:endParaRPr>
            </a:p>
          </p:txBody>
        </p:sp>
        <p:sp>
          <p:nvSpPr>
            <p:cNvPr id="2515" name="Rectangle 58"/>
            <p:cNvSpPr/>
            <p:nvPr/>
          </p:nvSpPr>
          <p:spPr>
            <a:xfrm>
              <a:off x="855864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6</a:t>
              </a:r>
              <a:endParaRPr b="0" lang="en-US" sz="1100" spc="-1" strike="noStrike">
                <a:solidFill>
                  <a:srgbClr val="000000"/>
                </a:solidFill>
                <a:latin typeface="Arial"/>
              </a:endParaRPr>
            </a:p>
          </p:txBody>
        </p:sp>
        <p:sp>
          <p:nvSpPr>
            <p:cNvPr id="2516" name="Line 59"/>
            <p:cNvSpPr/>
            <p:nvPr/>
          </p:nvSpPr>
          <p:spPr>
            <a:xfrm flipV="1">
              <a:off x="946080" y="1742400"/>
              <a:ext cx="0" cy="364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17" name="Line 60"/>
            <p:cNvSpPr/>
            <p:nvPr/>
          </p:nvSpPr>
          <p:spPr>
            <a:xfrm>
              <a:off x="895320" y="531144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18" name="Line 61"/>
            <p:cNvSpPr/>
            <p:nvPr/>
          </p:nvSpPr>
          <p:spPr>
            <a:xfrm>
              <a:off x="895320" y="495576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19" name="Line 62"/>
            <p:cNvSpPr/>
            <p:nvPr/>
          </p:nvSpPr>
          <p:spPr>
            <a:xfrm>
              <a:off x="895320" y="459864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0" name="Line 63"/>
            <p:cNvSpPr/>
            <p:nvPr/>
          </p:nvSpPr>
          <p:spPr>
            <a:xfrm>
              <a:off x="895320" y="424008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1" name="Line 64"/>
            <p:cNvSpPr/>
            <p:nvPr/>
          </p:nvSpPr>
          <p:spPr>
            <a:xfrm>
              <a:off x="895320" y="388440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2" name="Line 65"/>
            <p:cNvSpPr/>
            <p:nvPr/>
          </p:nvSpPr>
          <p:spPr>
            <a:xfrm>
              <a:off x="895320" y="352728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3" name="Line 66"/>
            <p:cNvSpPr/>
            <p:nvPr/>
          </p:nvSpPr>
          <p:spPr>
            <a:xfrm>
              <a:off x="895320" y="317016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4" name="Line 67"/>
            <p:cNvSpPr/>
            <p:nvPr/>
          </p:nvSpPr>
          <p:spPr>
            <a:xfrm>
              <a:off x="895320" y="281268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5" name="Line 68"/>
            <p:cNvSpPr/>
            <p:nvPr/>
          </p:nvSpPr>
          <p:spPr>
            <a:xfrm>
              <a:off x="895320" y="245736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6" name="Line 69"/>
            <p:cNvSpPr/>
            <p:nvPr/>
          </p:nvSpPr>
          <p:spPr>
            <a:xfrm>
              <a:off x="895320" y="210024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7" name="Line 70"/>
            <p:cNvSpPr/>
            <p:nvPr/>
          </p:nvSpPr>
          <p:spPr>
            <a:xfrm>
              <a:off x="895320" y="174276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8" name="Line 71"/>
            <p:cNvSpPr/>
            <p:nvPr/>
          </p:nvSpPr>
          <p:spPr>
            <a:xfrm>
              <a:off x="915840" y="513360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9" name="Line 72"/>
            <p:cNvSpPr/>
            <p:nvPr/>
          </p:nvSpPr>
          <p:spPr>
            <a:xfrm>
              <a:off x="915840" y="4776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0" name="Line 73"/>
            <p:cNvSpPr/>
            <p:nvPr/>
          </p:nvSpPr>
          <p:spPr>
            <a:xfrm>
              <a:off x="915840" y="441936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1" name="Line 74"/>
            <p:cNvSpPr/>
            <p:nvPr/>
          </p:nvSpPr>
          <p:spPr>
            <a:xfrm>
              <a:off x="915840" y="406224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2" name="Line 75"/>
            <p:cNvSpPr/>
            <p:nvPr/>
          </p:nvSpPr>
          <p:spPr>
            <a:xfrm>
              <a:off x="915840" y="370656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3" name="Line 76"/>
            <p:cNvSpPr/>
            <p:nvPr/>
          </p:nvSpPr>
          <p:spPr>
            <a:xfrm>
              <a:off x="915840" y="334944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4" name="Line 77"/>
            <p:cNvSpPr/>
            <p:nvPr/>
          </p:nvSpPr>
          <p:spPr>
            <a:xfrm>
              <a:off x="915840" y="2990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5" name="Line 78"/>
            <p:cNvSpPr/>
            <p:nvPr/>
          </p:nvSpPr>
          <p:spPr>
            <a:xfrm>
              <a:off x="915840" y="263520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6" name="Line 79"/>
            <p:cNvSpPr/>
            <p:nvPr/>
          </p:nvSpPr>
          <p:spPr>
            <a:xfrm>
              <a:off x="915840" y="22777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7" name="Line 80"/>
            <p:cNvSpPr/>
            <p:nvPr/>
          </p:nvSpPr>
          <p:spPr>
            <a:xfrm>
              <a:off x="915840" y="192060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8" name="Rectangle 81"/>
            <p:cNvSpPr/>
            <p:nvPr/>
          </p:nvSpPr>
          <p:spPr>
            <a:xfrm>
              <a:off x="621720" y="52318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0</a:t>
              </a:r>
              <a:endParaRPr b="0" lang="en-US" sz="1100" spc="-1" strike="noStrike">
                <a:solidFill>
                  <a:srgbClr val="000000"/>
                </a:solidFill>
                <a:latin typeface="Arial"/>
              </a:endParaRPr>
            </a:p>
          </p:txBody>
        </p:sp>
        <p:sp>
          <p:nvSpPr>
            <p:cNvPr id="2539" name="Rectangle 82"/>
            <p:cNvSpPr/>
            <p:nvPr/>
          </p:nvSpPr>
          <p:spPr>
            <a:xfrm>
              <a:off x="621720" y="487476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1</a:t>
              </a:r>
              <a:endParaRPr b="0" lang="en-US" sz="1100" spc="-1" strike="noStrike">
                <a:solidFill>
                  <a:srgbClr val="000000"/>
                </a:solidFill>
                <a:latin typeface="Arial"/>
              </a:endParaRPr>
            </a:p>
          </p:txBody>
        </p:sp>
        <p:sp>
          <p:nvSpPr>
            <p:cNvPr id="2540" name="Rectangle 83"/>
            <p:cNvSpPr/>
            <p:nvPr/>
          </p:nvSpPr>
          <p:spPr>
            <a:xfrm>
              <a:off x="621720" y="451764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2</a:t>
              </a:r>
              <a:endParaRPr b="0" lang="en-US" sz="1100" spc="-1" strike="noStrike">
                <a:solidFill>
                  <a:srgbClr val="000000"/>
                </a:solidFill>
                <a:latin typeface="Arial"/>
              </a:endParaRPr>
            </a:p>
          </p:txBody>
        </p:sp>
        <p:sp>
          <p:nvSpPr>
            <p:cNvPr id="2541" name="Rectangle 84"/>
            <p:cNvSpPr/>
            <p:nvPr/>
          </p:nvSpPr>
          <p:spPr>
            <a:xfrm>
              <a:off x="621720" y="416052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3</a:t>
              </a:r>
              <a:endParaRPr b="0" lang="en-US" sz="1100" spc="-1" strike="noStrike">
                <a:solidFill>
                  <a:srgbClr val="000000"/>
                </a:solidFill>
                <a:latin typeface="Arial"/>
              </a:endParaRPr>
            </a:p>
          </p:txBody>
        </p:sp>
        <p:sp>
          <p:nvSpPr>
            <p:cNvPr id="2542" name="Rectangle 85"/>
            <p:cNvSpPr/>
            <p:nvPr/>
          </p:nvSpPr>
          <p:spPr>
            <a:xfrm>
              <a:off x="621720" y="380340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4</a:t>
              </a:r>
              <a:endParaRPr b="0" lang="en-US" sz="1100" spc="-1" strike="noStrike">
                <a:solidFill>
                  <a:srgbClr val="000000"/>
                </a:solidFill>
                <a:latin typeface="Arial"/>
              </a:endParaRPr>
            </a:p>
          </p:txBody>
        </p:sp>
        <p:sp>
          <p:nvSpPr>
            <p:cNvPr id="2543" name="Rectangle 86"/>
            <p:cNvSpPr/>
            <p:nvPr/>
          </p:nvSpPr>
          <p:spPr>
            <a:xfrm>
              <a:off x="621720" y="3446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5</a:t>
              </a:r>
              <a:endParaRPr b="0" lang="en-US" sz="1100" spc="-1" strike="noStrike">
                <a:solidFill>
                  <a:srgbClr val="000000"/>
                </a:solidFill>
                <a:latin typeface="Arial"/>
              </a:endParaRPr>
            </a:p>
          </p:txBody>
        </p:sp>
        <p:sp>
          <p:nvSpPr>
            <p:cNvPr id="2544" name="Rectangle 87"/>
            <p:cNvSpPr/>
            <p:nvPr/>
          </p:nvSpPr>
          <p:spPr>
            <a:xfrm>
              <a:off x="621720" y="309060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6</a:t>
              </a:r>
              <a:endParaRPr b="0" lang="en-US" sz="1100" spc="-1" strike="noStrike">
                <a:solidFill>
                  <a:srgbClr val="000000"/>
                </a:solidFill>
                <a:latin typeface="Arial"/>
              </a:endParaRPr>
            </a:p>
          </p:txBody>
        </p:sp>
        <p:sp>
          <p:nvSpPr>
            <p:cNvPr id="2545" name="Rectangle 88"/>
            <p:cNvSpPr/>
            <p:nvPr/>
          </p:nvSpPr>
          <p:spPr>
            <a:xfrm>
              <a:off x="621720" y="27334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7</a:t>
              </a:r>
              <a:endParaRPr b="0" lang="en-US" sz="1100" spc="-1" strike="noStrike">
                <a:solidFill>
                  <a:srgbClr val="000000"/>
                </a:solidFill>
                <a:latin typeface="Arial"/>
              </a:endParaRPr>
            </a:p>
          </p:txBody>
        </p:sp>
        <p:sp>
          <p:nvSpPr>
            <p:cNvPr id="2546" name="Rectangle 89"/>
            <p:cNvSpPr/>
            <p:nvPr/>
          </p:nvSpPr>
          <p:spPr>
            <a:xfrm>
              <a:off x="621720" y="237636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8</a:t>
              </a:r>
              <a:endParaRPr b="0" lang="en-US" sz="1100" spc="-1" strike="noStrike">
                <a:solidFill>
                  <a:srgbClr val="000000"/>
                </a:solidFill>
                <a:latin typeface="Arial"/>
              </a:endParaRPr>
            </a:p>
          </p:txBody>
        </p:sp>
        <p:sp>
          <p:nvSpPr>
            <p:cNvPr id="2547" name="Rectangle 90"/>
            <p:cNvSpPr/>
            <p:nvPr/>
          </p:nvSpPr>
          <p:spPr>
            <a:xfrm>
              <a:off x="621720" y="201924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9</a:t>
              </a:r>
              <a:endParaRPr b="0" lang="en-US" sz="1100" spc="-1" strike="noStrike">
                <a:solidFill>
                  <a:srgbClr val="000000"/>
                </a:solidFill>
                <a:latin typeface="Arial"/>
              </a:endParaRPr>
            </a:p>
          </p:txBody>
        </p:sp>
        <p:sp>
          <p:nvSpPr>
            <p:cNvPr id="2548" name="Rectangle 91"/>
            <p:cNvSpPr/>
            <p:nvPr/>
          </p:nvSpPr>
          <p:spPr>
            <a:xfrm>
              <a:off x="621720" y="166212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a:t>
              </a:r>
              <a:endParaRPr b="0" lang="en-US" sz="1100" spc="-1" strike="noStrike">
                <a:solidFill>
                  <a:srgbClr val="000000"/>
                </a:solidFill>
                <a:latin typeface="Arial"/>
              </a:endParaRPr>
            </a:p>
          </p:txBody>
        </p:sp>
        <p:sp>
          <p:nvSpPr>
            <p:cNvPr id="2549" name="Freeform 92"/>
            <p:cNvSpPr/>
            <p:nvPr/>
          </p:nvSpPr>
          <p:spPr>
            <a:xfrm flipV="1">
              <a:off x="946080" y="1742400"/>
              <a:ext cx="7167240" cy="3420720"/>
            </a:xfrm>
            <a:custGeom>
              <a:avLst/>
              <a:gdLst/>
              <a:ahLst/>
              <a:rect l="l" t="t" r="r" b="b"/>
              <a:pathLst>
                <a:path w="6870" h="3289">
                  <a:moveTo>
                    <a:pt x="0" y="3289"/>
                  </a:moveTo>
                  <a:lnTo>
                    <a:pt x="6" y="3289"/>
                  </a:lnTo>
                  <a:lnTo>
                    <a:pt x="262" y="3289"/>
                  </a:lnTo>
                  <a:lnTo>
                    <a:pt x="282" y="3289"/>
                  </a:lnTo>
                  <a:lnTo>
                    <a:pt x="551" y="3289"/>
                  </a:lnTo>
                  <a:lnTo>
                    <a:pt x="551" y="3278"/>
                  </a:lnTo>
                  <a:lnTo>
                    <a:pt x="558" y="3278"/>
                  </a:lnTo>
                  <a:lnTo>
                    <a:pt x="558" y="3266"/>
                  </a:lnTo>
                  <a:lnTo>
                    <a:pt x="565" y="3266"/>
                  </a:lnTo>
                  <a:lnTo>
                    <a:pt x="565" y="3254"/>
                  </a:lnTo>
                  <a:lnTo>
                    <a:pt x="578" y="3254"/>
                  </a:lnTo>
                  <a:lnTo>
                    <a:pt x="585" y="3254"/>
                  </a:lnTo>
                  <a:lnTo>
                    <a:pt x="619" y="3254"/>
                  </a:lnTo>
                  <a:lnTo>
                    <a:pt x="619" y="3242"/>
                  </a:lnTo>
                  <a:lnTo>
                    <a:pt x="672" y="3242"/>
                  </a:lnTo>
                  <a:lnTo>
                    <a:pt x="672" y="3230"/>
                  </a:lnTo>
                  <a:lnTo>
                    <a:pt x="686" y="3230"/>
                  </a:lnTo>
                  <a:lnTo>
                    <a:pt x="686" y="3194"/>
                  </a:lnTo>
                  <a:lnTo>
                    <a:pt x="767" y="3194"/>
                  </a:lnTo>
                  <a:lnTo>
                    <a:pt x="767" y="3182"/>
                  </a:lnTo>
                  <a:lnTo>
                    <a:pt x="773" y="3182"/>
                  </a:lnTo>
                  <a:lnTo>
                    <a:pt x="773" y="3170"/>
                  </a:lnTo>
                  <a:lnTo>
                    <a:pt x="794" y="3170"/>
                  </a:lnTo>
                  <a:lnTo>
                    <a:pt x="794" y="3158"/>
                  </a:lnTo>
                  <a:lnTo>
                    <a:pt x="800" y="3158"/>
                  </a:lnTo>
                  <a:lnTo>
                    <a:pt x="800" y="3134"/>
                  </a:lnTo>
                  <a:lnTo>
                    <a:pt x="820" y="3134"/>
                  </a:lnTo>
                  <a:lnTo>
                    <a:pt x="820" y="3098"/>
                  </a:lnTo>
                  <a:lnTo>
                    <a:pt x="834" y="3098"/>
                  </a:lnTo>
                  <a:lnTo>
                    <a:pt x="834" y="3075"/>
                  </a:lnTo>
                  <a:lnTo>
                    <a:pt x="841" y="3075"/>
                  </a:lnTo>
                  <a:lnTo>
                    <a:pt x="841" y="3051"/>
                  </a:lnTo>
                  <a:lnTo>
                    <a:pt x="847" y="3051"/>
                  </a:lnTo>
                  <a:lnTo>
                    <a:pt x="847" y="3003"/>
                  </a:lnTo>
                  <a:lnTo>
                    <a:pt x="854" y="3003"/>
                  </a:lnTo>
                  <a:lnTo>
                    <a:pt x="854" y="2942"/>
                  </a:lnTo>
                  <a:lnTo>
                    <a:pt x="861" y="2942"/>
                  </a:lnTo>
                  <a:lnTo>
                    <a:pt x="861" y="2930"/>
                  </a:lnTo>
                  <a:lnTo>
                    <a:pt x="868" y="2930"/>
                  </a:lnTo>
                  <a:lnTo>
                    <a:pt x="868" y="2918"/>
                  </a:lnTo>
                  <a:lnTo>
                    <a:pt x="874" y="2918"/>
                  </a:lnTo>
                  <a:lnTo>
                    <a:pt x="874" y="2906"/>
                  </a:lnTo>
                  <a:lnTo>
                    <a:pt x="881" y="2906"/>
                  </a:lnTo>
                  <a:lnTo>
                    <a:pt x="881" y="2894"/>
                  </a:lnTo>
                  <a:lnTo>
                    <a:pt x="888" y="2894"/>
                  </a:lnTo>
                  <a:lnTo>
                    <a:pt x="888" y="2881"/>
                  </a:lnTo>
                  <a:lnTo>
                    <a:pt x="894" y="2881"/>
                  </a:lnTo>
                  <a:lnTo>
                    <a:pt x="894" y="2857"/>
                  </a:lnTo>
                  <a:lnTo>
                    <a:pt x="901" y="2857"/>
                  </a:lnTo>
                  <a:lnTo>
                    <a:pt x="901" y="2820"/>
                  </a:lnTo>
                  <a:lnTo>
                    <a:pt x="908" y="2820"/>
                  </a:lnTo>
                  <a:lnTo>
                    <a:pt x="908" y="2808"/>
                  </a:lnTo>
                  <a:lnTo>
                    <a:pt x="921" y="2808"/>
                  </a:lnTo>
                  <a:lnTo>
                    <a:pt x="921" y="2796"/>
                  </a:lnTo>
                  <a:lnTo>
                    <a:pt x="935" y="2796"/>
                  </a:lnTo>
                  <a:lnTo>
                    <a:pt x="935" y="2783"/>
                  </a:lnTo>
                  <a:lnTo>
                    <a:pt x="942" y="2783"/>
                  </a:lnTo>
                  <a:lnTo>
                    <a:pt x="942" y="2746"/>
                  </a:lnTo>
                  <a:lnTo>
                    <a:pt x="948" y="2746"/>
                  </a:lnTo>
                  <a:lnTo>
                    <a:pt x="948" y="2734"/>
                  </a:lnTo>
                  <a:lnTo>
                    <a:pt x="955" y="2734"/>
                  </a:lnTo>
                  <a:lnTo>
                    <a:pt x="955" y="2709"/>
                  </a:lnTo>
                  <a:lnTo>
                    <a:pt x="968" y="2709"/>
                  </a:lnTo>
                  <a:lnTo>
                    <a:pt x="968" y="2660"/>
                  </a:lnTo>
                  <a:lnTo>
                    <a:pt x="975" y="2660"/>
                  </a:lnTo>
                  <a:lnTo>
                    <a:pt x="982" y="2660"/>
                  </a:lnTo>
                  <a:lnTo>
                    <a:pt x="982" y="2647"/>
                  </a:lnTo>
                  <a:lnTo>
                    <a:pt x="1002" y="2647"/>
                  </a:lnTo>
                  <a:lnTo>
                    <a:pt x="1029" y="2647"/>
                  </a:lnTo>
                  <a:lnTo>
                    <a:pt x="1029" y="2635"/>
                  </a:lnTo>
                  <a:lnTo>
                    <a:pt x="1043" y="2635"/>
                  </a:lnTo>
                  <a:lnTo>
                    <a:pt x="1049" y="2635"/>
                  </a:lnTo>
                  <a:lnTo>
                    <a:pt x="1049" y="2622"/>
                  </a:lnTo>
                  <a:lnTo>
                    <a:pt x="1076" y="2622"/>
                  </a:lnTo>
                  <a:lnTo>
                    <a:pt x="1076" y="2610"/>
                  </a:lnTo>
                  <a:lnTo>
                    <a:pt x="1096" y="2610"/>
                  </a:lnTo>
                  <a:lnTo>
                    <a:pt x="1096" y="2597"/>
                  </a:lnTo>
                  <a:lnTo>
                    <a:pt x="1103" y="2597"/>
                  </a:lnTo>
                  <a:lnTo>
                    <a:pt x="1103" y="2585"/>
                  </a:lnTo>
                  <a:lnTo>
                    <a:pt x="1110" y="2585"/>
                  </a:lnTo>
                  <a:lnTo>
                    <a:pt x="1110" y="2572"/>
                  </a:lnTo>
                  <a:lnTo>
                    <a:pt x="1117" y="2572"/>
                  </a:lnTo>
                  <a:lnTo>
                    <a:pt x="1117" y="2547"/>
                  </a:lnTo>
                  <a:lnTo>
                    <a:pt x="1123" y="2547"/>
                  </a:lnTo>
                  <a:lnTo>
                    <a:pt x="1123" y="2521"/>
                  </a:lnTo>
                  <a:lnTo>
                    <a:pt x="1130" y="2521"/>
                  </a:lnTo>
                  <a:lnTo>
                    <a:pt x="1130" y="2484"/>
                  </a:lnTo>
                  <a:lnTo>
                    <a:pt x="1137" y="2484"/>
                  </a:lnTo>
                  <a:lnTo>
                    <a:pt x="1137" y="2446"/>
                  </a:lnTo>
                  <a:lnTo>
                    <a:pt x="1143" y="2446"/>
                  </a:lnTo>
                  <a:lnTo>
                    <a:pt x="1143" y="2420"/>
                  </a:lnTo>
                  <a:lnTo>
                    <a:pt x="1150" y="2420"/>
                  </a:lnTo>
                  <a:lnTo>
                    <a:pt x="1157" y="2420"/>
                  </a:lnTo>
                  <a:lnTo>
                    <a:pt x="1157" y="2369"/>
                  </a:lnTo>
                  <a:lnTo>
                    <a:pt x="1170" y="2369"/>
                  </a:lnTo>
                  <a:lnTo>
                    <a:pt x="1170" y="2330"/>
                  </a:lnTo>
                  <a:lnTo>
                    <a:pt x="1177" y="2330"/>
                  </a:lnTo>
                  <a:lnTo>
                    <a:pt x="1177" y="2318"/>
                  </a:lnTo>
                  <a:lnTo>
                    <a:pt x="1184" y="2318"/>
                  </a:lnTo>
                  <a:lnTo>
                    <a:pt x="1184" y="2292"/>
                  </a:lnTo>
                  <a:lnTo>
                    <a:pt x="1191" y="2292"/>
                  </a:lnTo>
                  <a:lnTo>
                    <a:pt x="1191" y="2253"/>
                  </a:lnTo>
                  <a:lnTo>
                    <a:pt x="1211" y="2253"/>
                  </a:lnTo>
                  <a:lnTo>
                    <a:pt x="1211" y="2240"/>
                  </a:lnTo>
                  <a:lnTo>
                    <a:pt x="1217" y="2240"/>
                  </a:lnTo>
                  <a:lnTo>
                    <a:pt x="1224" y="2240"/>
                  </a:lnTo>
                  <a:lnTo>
                    <a:pt x="1224" y="2228"/>
                  </a:lnTo>
                  <a:lnTo>
                    <a:pt x="1238" y="2228"/>
                  </a:lnTo>
                  <a:lnTo>
                    <a:pt x="1238" y="2202"/>
                  </a:lnTo>
                  <a:lnTo>
                    <a:pt x="1251" y="2202"/>
                  </a:lnTo>
                  <a:lnTo>
                    <a:pt x="1251" y="2189"/>
                  </a:lnTo>
                  <a:lnTo>
                    <a:pt x="1265" y="2189"/>
                  </a:lnTo>
                  <a:lnTo>
                    <a:pt x="1271" y="2189"/>
                  </a:lnTo>
                  <a:lnTo>
                    <a:pt x="1271" y="2176"/>
                  </a:lnTo>
                  <a:lnTo>
                    <a:pt x="1278" y="2176"/>
                  </a:lnTo>
                  <a:lnTo>
                    <a:pt x="1278" y="2163"/>
                  </a:lnTo>
                  <a:lnTo>
                    <a:pt x="1291" y="2163"/>
                  </a:lnTo>
                  <a:lnTo>
                    <a:pt x="1291" y="2149"/>
                  </a:lnTo>
                  <a:lnTo>
                    <a:pt x="1298" y="2149"/>
                  </a:lnTo>
                  <a:lnTo>
                    <a:pt x="1298" y="2136"/>
                  </a:lnTo>
                  <a:lnTo>
                    <a:pt x="1305" y="2136"/>
                  </a:lnTo>
                  <a:lnTo>
                    <a:pt x="1305" y="2123"/>
                  </a:lnTo>
                  <a:lnTo>
                    <a:pt x="1312" y="2123"/>
                  </a:lnTo>
                  <a:lnTo>
                    <a:pt x="1312" y="2110"/>
                  </a:lnTo>
                  <a:lnTo>
                    <a:pt x="1325" y="2110"/>
                  </a:lnTo>
                  <a:lnTo>
                    <a:pt x="1325" y="2084"/>
                  </a:lnTo>
                  <a:lnTo>
                    <a:pt x="1372" y="2084"/>
                  </a:lnTo>
                  <a:lnTo>
                    <a:pt x="1372" y="2057"/>
                  </a:lnTo>
                  <a:lnTo>
                    <a:pt x="1379" y="2057"/>
                  </a:lnTo>
                  <a:lnTo>
                    <a:pt x="1379" y="2044"/>
                  </a:lnTo>
                  <a:lnTo>
                    <a:pt x="1386" y="2044"/>
                  </a:lnTo>
                  <a:lnTo>
                    <a:pt x="1386" y="2004"/>
                  </a:lnTo>
                  <a:lnTo>
                    <a:pt x="1392" y="2004"/>
                  </a:lnTo>
                  <a:lnTo>
                    <a:pt x="1392" y="1991"/>
                  </a:lnTo>
                  <a:lnTo>
                    <a:pt x="1406" y="1991"/>
                  </a:lnTo>
                  <a:lnTo>
                    <a:pt x="1406" y="1977"/>
                  </a:lnTo>
                  <a:lnTo>
                    <a:pt x="1413" y="1977"/>
                  </a:lnTo>
                  <a:lnTo>
                    <a:pt x="1413" y="1964"/>
                  </a:lnTo>
                  <a:lnTo>
                    <a:pt x="1419" y="1964"/>
                  </a:lnTo>
                  <a:lnTo>
                    <a:pt x="1419" y="1924"/>
                  </a:lnTo>
                  <a:lnTo>
                    <a:pt x="1426" y="1924"/>
                  </a:lnTo>
                  <a:lnTo>
                    <a:pt x="1426" y="1910"/>
                  </a:lnTo>
                  <a:lnTo>
                    <a:pt x="1440" y="1910"/>
                  </a:lnTo>
                  <a:lnTo>
                    <a:pt x="1440" y="1883"/>
                  </a:lnTo>
                  <a:lnTo>
                    <a:pt x="1446" y="1883"/>
                  </a:lnTo>
                  <a:lnTo>
                    <a:pt x="1446" y="1870"/>
                  </a:lnTo>
                  <a:lnTo>
                    <a:pt x="1453" y="1870"/>
                  </a:lnTo>
                  <a:lnTo>
                    <a:pt x="1453" y="1856"/>
                  </a:lnTo>
                  <a:lnTo>
                    <a:pt x="1460" y="1856"/>
                  </a:lnTo>
                  <a:lnTo>
                    <a:pt x="1460" y="1843"/>
                  </a:lnTo>
                  <a:lnTo>
                    <a:pt x="1466" y="1843"/>
                  </a:lnTo>
                  <a:lnTo>
                    <a:pt x="1466" y="1829"/>
                  </a:lnTo>
                  <a:lnTo>
                    <a:pt x="1480" y="1829"/>
                  </a:lnTo>
                  <a:lnTo>
                    <a:pt x="1480" y="1816"/>
                  </a:lnTo>
                  <a:lnTo>
                    <a:pt x="1487" y="1816"/>
                  </a:lnTo>
                  <a:lnTo>
                    <a:pt x="1487" y="1802"/>
                  </a:lnTo>
                  <a:lnTo>
                    <a:pt x="1514" y="1802"/>
                  </a:lnTo>
                  <a:lnTo>
                    <a:pt x="1514" y="1788"/>
                  </a:lnTo>
                  <a:lnTo>
                    <a:pt x="1520" y="1788"/>
                  </a:lnTo>
                  <a:lnTo>
                    <a:pt x="1520" y="1775"/>
                  </a:lnTo>
                  <a:lnTo>
                    <a:pt x="1527" y="1775"/>
                  </a:lnTo>
                  <a:lnTo>
                    <a:pt x="1527" y="1761"/>
                  </a:lnTo>
                  <a:lnTo>
                    <a:pt x="1534" y="1761"/>
                  </a:lnTo>
                  <a:lnTo>
                    <a:pt x="1534" y="1748"/>
                  </a:lnTo>
                  <a:lnTo>
                    <a:pt x="1561" y="1748"/>
                  </a:lnTo>
                  <a:lnTo>
                    <a:pt x="1561" y="1734"/>
                  </a:lnTo>
                  <a:lnTo>
                    <a:pt x="1581" y="1734"/>
                  </a:lnTo>
                  <a:lnTo>
                    <a:pt x="1641" y="1734"/>
                  </a:lnTo>
                  <a:lnTo>
                    <a:pt x="1641" y="1720"/>
                  </a:lnTo>
                  <a:lnTo>
                    <a:pt x="1648" y="1720"/>
                  </a:lnTo>
                  <a:lnTo>
                    <a:pt x="1648" y="1706"/>
                  </a:lnTo>
                  <a:lnTo>
                    <a:pt x="1655" y="1706"/>
                  </a:lnTo>
                  <a:lnTo>
                    <a:pt x="1662" y="1706"/>
                  </a:lnTo>
                  <a:lnTo>
                    <a:pt x="1662" y="1693"/>
                  </a:lnTo>
                  <a:lnTo>
                    <a:pt x="1682" y="1693"/>
                  </a:lnTo>
                  <a:lnTo>
                    <a:pt x="1682" y="1665"/>
                  </a:lnTo>
                  <a:lnTo>
                    <a:pt x="1695" y="1665"/>
                  </a:lnTo>
                  <a:lnTo>
                    <a:pt x="1695" y="1651"/>
                  </a:lnTo>
                  <a:lnTo>
                    <a:pt x="1702" y="1651"/>
                  </a:lnTo>
                  <a:lnTo>
                    <a:pt x="1702" y="1637"/>
                  </a:lnTo>
                  <a:lnTo>
                    <a:pt x="1709" y="1637"/>
                  </a:lnTo>
                  <a:lnTo>
                    <a:pt x="1709" y="1623"/>
                  </a:lnTo>
                  <a:lnTo>
                    <a:pt x="1722" y="1623"/>
                  </a:lnTo>
                  <a:lnTo>
                    <a:pt x="1742" y="1623"/>
                  </a:lnTo>
                  <a:lnTo>
                    <a:pt x="1742" y="1595"/>
                  </a:lnTo>
                  <a:lnTo>
                    <a:pt x="1749" y="1595"/>
                  </a:lnTo>
                  <a:lnTo>
                    <a:pt x="1756" y="1595"/>
                  </a:lnTo>
                  <a:lnTo>
                    <a:pt x="1756" y="1580"/>
                  </a:lnTo>
                  <a:lnTo>
                    <a:pt x="1763" y="1580"/>
                  </a:lnTo>
                  <a:lnTo>
                    <a:pt x="1763" y="1566"/>
                  </a:lnTo>
                  <a:lnTo>
                    <a:pt x="1769" y="1566"/>
                  </a:lnTo>
                  <a:lnTo>
                    <a:pt x="1769" y="1552"/>
                  </a:lnTo>
                  <a:lnTo>
                    <a:pt x="1803" y="1552"/>
                  </a:lnTo>
                  <a:lnTo>
                    <a:pt x="1803" y="1509"/>
                  </a:lnTo>
                  <a:lnTo>
                    <a:pt x="1810" y="1509"/>
                  </a:lnTo>
                  <a:lnTo>
                    <a:pt x="1810" y="1495"/>
                  </a:lnTo>
                  <a:lnTo>
                    <a:pt x="1816" y="1495"/>
                  </a:lnTo>
                  <a:lnTo>
                    <a:pt x="1816" y="1467"/>
                  </a:lnTo>
                  <a:lnTo>
                    <a:pt x="1823" y="1467"/>
                  </a:lnTo>
                  <a:lnTo>
                    <a:pt x="1823" y="1452"/>
                  </a:lnTo>
                  <a:lnTo>
                    <a:pt x="1843" y="1452"/>
                  </a:lnTo>
                  <a:lnTo>
                    <a:pt x="1870" y="1452"/>
                  </a:lnTo>
                  <a:lnTo>
                    <a:pt x="1884" y="1452"/>
                  </a:lnTo>
                  <a:lnTo>
                    <a:pt x="1884" y="1438"/>
                  </a:lnTo>
                  <a:lnTo>
                    <a:pt x="1917" y="1438"/>
                  </a:lnTo>
                  <a:lnTo>
                    <a:pt x="1917" y="1423"/>
                  </a:lnTo>
                  <a:lnTo>
                    <a:pt x="1931" y="1423"/>
                  </a:lnTo>
                  <a:lnTo>
                    <a:pt x="1931" y="1408"/>
                  </a:lnTo>
                  <a:lnTo>
                    <a:pt x="1937" y="1408"/>
                  </a:lnTo>
                  <a:lnTo>
                    <a:pt x="1937" y="1394"/>
                  </a:lnTo>
                  <a:lnTo>
                    <a:pt x="1944" y="1394"/>
                  </a:lnTo>
                  <a:lnTo>
                    <a:pt x="1944" y="1379"/>
                  </a:lnTo>
                  <a:lnTo>
                    <a:pt x="1951" y="1379"/>
                  </a:lnTo>
                  <a:lnTo>
                    <a:pt x="1951" y="1364"/>
                  </a:lnTo>
                  <a:lnTo>
                    <a:pt x="1964" y="1364"/>
                  </a:lnTo>
                  <a:lnTo>
                    <a:pt x="1964" y="1350"/>
                  </a:lnTo>
                  <a:lnTo>
                    <a:pt x="1985" y="1350"/>
                  </a:lnTo>
                  <a:lnTo>
                    <a:pt x="1985" y="1335"/>
                  </a:lnTo>
                  <a:lnTo>
                    <a:pt x="2018" y="1335"/>
                  </a:lnTo>
                  <a:lnTo>
                    <a:pt x="2018" y="1320"/>
                  </a:lnTo>
                  <a:lnTo>
                    <a:pt x="2032" y="1320"/>
                  </a:lnTo>
                  <a:lnTo>
                    <a:pt x="2032" y="1290"/>
                  </a:lnTo>
                  <a:lnTo>
                    <a:pt x="2038" y="1290"/>
                  </a:lnTo>
                  <a:lnTo>
                    <a:pt x="2038" y="1276"/>
                  </a:lnTo>
                  <a:lnTo>
                    <a:pt x="2092" y="1276"/>
                  </a:lnTo>
                  <a:lnTo>
                    <a:pt x="2092" y="1261"/>
                  </a:lnTo>
                  <a:lnTo>
                    <a:pt x="2106" y="1261"/>
                  </a:lnTo>
                  <a:lnTo>
                    <a:pt x="2106" y="1246"/>
                  </a:lnTo>
                  <a:lnTo>
                    <a:pt x="2133" y="1246"/>
                  </a:lnTo>
                  <a:lnTo>
                    <a:pt x="2133" y="1231"/>
                  </a:lnTo>
                  <a:lnTo>
                    <a:pt x="2180" y="1231"/>
                  </a:lnTo>
                  <a:lnTo>
                    <a:pt x="2180" y="1217"/>
                  </a:lnTo>
                  <a:lnTo>
                    <a:pt x="2200" y="1217"/>
                  </a:lnTo>
                  <a:lnTo>
                    <a:pt x="2200" y="1202"/>
                  </a:lnTo>
                  <a:lnTo>
                    <a:pt x="2234" y="1202"/>
                  </a:lnTo>
                  <a:lnTo>
                    <a:pt x="2234" y="1187"/>
                  </a:lnTo>
                  <a:lnTo>
                    <a:pt x="2240" y="1187"/>
                  </a:lnTo>
                  <a:lnTo>
                    <a:pt x="2240" y="1172"/>
                  </a:lnTo>
                  <a:lnTo>
                    <a:pt x="2247" y="1172"/>
                  </a:lnTo>
                  <a:lnTo>
                    <a:pt x="2247" y="1143"/>
                  </a:lnTo>
                  <a:lnTo>
                    <a:pt x="2267" y="1143"/>
                  </a:lnTo>
                  <a:lnTo>
                    <a:pt x="2281" y="1143"/>
                  </a:lnTo>
                  <a:lnTo>
                    <a:pt x="2314" y="1143"/>
                  </a:lnTo>
                  <a:lnTo>
                    <a:pt x="2314" y="1128"/>
                  </a:lnTo>
                  <a:lnTo>
                    <a:pt x="2334" y="1128"/>
                  </a:lnTo>
                  <a:lnTo>
                    <a:pt x="2334" y="1097"/>
                  </a:lnTo>
                  <a:lnTo>
                    <a:pt x="2382" y="1097"/>
                  </a:lnTo>
                  <a:lnTo>
                    <a:pt x="2382" y="1082"/>
                  </a:lnTo>
                  <a:lnTo>
                    <a:pt x="2388" y="1082"/>
                  </a:lnTo>
                  <a:lnTo>
                    <a:pt x="2388" y="1067"/>
                  </a:lnTo>
                  <a:lnTo>
                    <a:pt x="2395" y="1067"/>
                  </a:lnTo>
                  <a:lnTo>
                    <a:pt x="2395" y="1052"/>
                  </a:lnTo>
                  <a:lnTo>
                    <a:pt x="2402" y="1052"/>
                  </a:lnTo>
                  <a:lnTo>
                    <a:pt x="2402" y="1036"/>
                  </a:lnTo>
                  <a:lnTo>
                    <a:pt x="2409" y="1036"/>
                  </a:lnTo>
                  <a:lnTo>
                    <a:pt x="2409" y="1021"/>
                  </a:lnTo>
                  <a:lnTo>
                    <a:pt x="2456" y="1021"/>
                  </a:lnTo>
                  <a:lnTo>
                    <a:pt x="2456" y="1005"/>
                  </a:lnTo>
                  <a:lnTo>
                    <a:pt x="2483" y="1005"/>
                  </a:lnTo>
                  <a:lnTo>
                    <a:pt x="2483" y="990"/>
                  </a:lnTo>
                  <a:lnTo>
                    <a:pt x="2509" y="990"/>
                  </a:lnTo>
                  <a:lnTo>
                    <a:pt x="2509" y="959"/>
                  </a:lnTo>
                  <a:lnTo>
                    <a:pt x="2550" y="959"/>
                  </a:lnTo>
                  <a:lnTo>
                    <a:pt x="2550" y="928"/>
                  </a:lnTo>
                  <a:lnTo>
                    <a:pt x="2563" y="928"/>
                  </a:lnTo>
                  <a:lnTo>
                    <a:pt x="2563" y="912"/>
                  </a:lnTo>
                  <a:lnTo>
                    <a:pt x="2583" y="912"/>
                  </a:lnTo>
                  <a:lnTo>
                    <a:pt x="2583" y="897"/>
                  </a:lnTo>
                  <a:lnTo>
                    <a:pt x="2590" y="897"/>
                  </a:lnTo>
                  <a:lnTo>
                    <a:pt x="2590" y="881"/>
                  </a:lnTo>
                  <a:lnTo>
                    <a:pt x="2597" y="881"/>
                  </a:lnTo>
                  <a:lnTo>
                    <a:pt x="2597" y="866"/>
                  </a:lnTo>
                  <a:lnTo>
                    <a:pt x="2644" y="866"/>
                  </a:lnTo>
                  <a:lnTo>
                    <a:pt x="2664" y="866"/>
                  </a:lnTo>
                  <a:lnTo>
                    <a:pt x="2664" y="850"/>
                  </a:lnTo>
                  <a:lnTo>
                    <a:pt x="2684" y="850"/>
                  </a:lnTo>
                  <a:lnTo>
                    <a:pt x="2738" y="850"/>
                  </a:lnTo>
                  <a:lnTo>
                    <a:pt x="2738" y="834"/>
                  </a:lnTo>
                  <a:lnTo>
                    <a:pt x="2745" y="834"/>
                  </a:lnTo>
                  <a:lnTo>
                    <a:pt x="2745" y="818"/>
                  </a:lnTo>
                  <a:lnTo>
                    <a:pt x="2785" y="818"/>
                  </a:lnTo>
                  <a:lnTo>
                    <a:pt x="2792" y="818"/>
                  </a:lnTo>
                  <a:lnTo>
                    <a:pt x="2826" y="818"/>
                  </a:lnTo>
                  <a:lnTo>
                    <a:pt x="2826" y="801"/>
                  </a:lnTo>
                  <a:lnTo>
                    <a:pt x="2832" y="801"/>
                  </a:lnTo>
                  <a:lnTo>
                    <a:pt x="2832" y="785"/>
                  </a:lnTo>
                  <a:lnTo>
                    <a:pt x="2839" y="785"/>
                  </a:lnTo>
                  <a:lnTo>
                    <a:pt x="2839" y="768"/>
                  </a:lnTo>
                  <a:lnTo>
                    <a:pt x="2846" y="768"/>
                  </a:lnTo>
                  <a:lnTo>
                    <a:pt x="2846" y="752"/>
                  </a:lnTo>
                  <a:lnTo>
                    <a:pt x="2853" y="752"/>
                  </a:lnTo>
                  <a:lnTo>
                    <a:pt x="2853" y="735"/>
                  </a:lnTo>
                  <a:lnTo>
                    <a:pt x="2880" y="735"/>
                  </a:lnTo>
                  <a:lnTo>
                    <a:pt x="2880" y="719"/>
                  </a:lnTo>
                  <a:lnTo>
                    <a:pt x="2906" y="719"/>
                  </a:lnTo>
                  <a:lnTo>
                    <a:pt x="2906" y="702"/>
                  </a:lnTo>
                  <a:lnTo>
                    <a:pt x="2947" y="702"/>
                  </a:lnTo>
                  <a:lnTo>
                    <a:pt x="2947" y="686"/>
                  </a:lnTo>
                  <a:lnTo>
                    <a:pt x="2974" y="686"/>
                  </a:lnTo>
                  <a:lnTo>
                    <a:pt x="2974" y="669"/>
                  </a:lnTo>
                  <a:lnTo>
                    <a:pt x="3068" y="669"/>
                  </a:lnTo>
                  <a:lnTo>
                    <a:pt x="3068" y="653"/>
                  </a:lnTo>
                  <a:lnTo>
                    <a:pt x="3081" y="653"/>
                  </a:lnTo>
                  <a:lnTo>
                    <a:pt x="3135" y="653"/>
                  </a:lnTo>
                  <a:lnTo>
                    <a:pt x="3135" y="636"/>
                  </a:lnTo>
                  <a:lnTo>
                    <a:pt x="3189" y="636"/>
                  </a:lnTo>
                  <a:lnTo>
                    <a:pt x="3189" y="619"/>
                  </a:lnTo>
                  <a:lnTo>
                    <a:pt x="3256" y="619"/>
                  </a:lnTo>
                  <a:lnTo>
                    <a:pt x="3256" y="602"/>
                  </a:lnTo>
                  <a:lnTo>
                    <a:pt x="3297" y="602"/>
                  </a:lnTo>
                  <a:lnTo>
                    <a:pt x="3297" y="585"/>
                  </a:lnTo>
                  <a:lnTo>
                    <a:pt x="3357" y="585"/>
                  </a:lnTo>
                  <a:lnTo>
                    <a:pt x="3357" y="568"/>
                  </a:lnTo>
                  <a:lnTo>
                    <a:pt x="3378" y="568"/>
                  </a:lnTo>
                  <a:lnTo>
                    <a:pt x="3378" y="534"/>
                  </a:lnTo>
                  <a:lnTo>
                    <a:pt x="3398" y="534"/>
                  </a:lnTo>
                  <a:lnTo>
                    <a:pt x="3398" y="517"/>
                  </a:lnTo>
                  <a:lnTo>
                    <a:pt x="3411" y="517"/>
                  </a:lnTo>
                  <a:lnTo>
                    <a:pt x="3411" y="500"/>
                  </a:lnTo>
                  <a:lnTo>
                    <a:pt x="3438" y="500"/>
                  </a:lnTo>
                  <a:lnTo>
                    <a:pt x="3505" y="500"/>
                  </a:lnTo>
                  <a:lnTo>
                    <a:pt x="3505" y="483"/>
                  </a:lnTo>
                  <a:lnTo>
                    <a:pt x="3519" y="483"/>
                  </a:lnTo>
                  <a:lnTo>
                    <a:pt x="3600" y="483"/>
                  </a:lnTo>
                  <a:lnTo>
                    <a:pt x="3613" y="483"/>
                  </a:lnTo>
                  <a:lnTo>
                    <a:pt x="3613" y="465"/>
                  </a:lnTo>
                  <a:lnTo>
                    <a:pt x="3620" y="465"/>
                  </a:lnTo>
                  <a:lnTo>
                    <a:pt x="3680" y="465"/>
                  </a:lnTo>
                  <a:lnTo>
                    <a:pt x="3714" y="465"/>
                  </a:lnTo>
                  <a:lnTo>
                    <a:pt x="3714" y="445"/>
                  </a:lnTo>
                  <a:lnTo>
                    <a:pt x="3761" y="445"/>
                  </a:lnTo>
                  <a:lnTo>
                    <a:pt x="3761" y="406"/>
                  </a:lnTo>
                  <a:lnTo>
                    <a:pt x="3808" y="406"/>
                  </a:lnTo>
                  <a:lnTo>
                    <a:pt x="3808" y="364"/>
                  </a:lnTo>
                  <a:lnTo>
                    <a:pt x="3835" y="364"/>
                  </a:lnTo>
                  <a:lnTo>
                    <a:pt x="3923" y="364"/>
                  </a:lnTo>
                  <a:lnTo>
                    <a:pt x="3956" y="364"/>
                  </a:lnTo>
                  <a:lnTo>
                    <a:pt x="4084" y="364"/>
                  </a:lnTo>
                  <a:lnTo>
                    <a:pt x="4252" y="364"/>
                  </a:lnTo>
                  <a:lnTo>
                    <a:pt x="4340" y="364"/>
                  </a:lnTo>
                  <a:lnTo>
                    <a:pt x="4340" y="337"/>
                  </a:lnTo>
                  <a:lnTo>
                    <a:pt x="4360" y="337"/>
                  </a:lnTo>
                  <a:lnTo>
                    <a:pt x="4360" y="311"/>
                  </a:lnTo>
                  <a:lnTo>
                    <a:pt x="4407" y="311"/>
                  </a:lnTo>
                  <a:lnTo>
                    <a:pt x="4488" y="311"/>
                  </a:lnTo>
                  <a:lnTo>
                    <a:pt x="4488" y="282"/>
                  </a:lnTo>
                  <a:lnTo>
                    <a:pt x="4508" y="282"/>
                  </a:lnTo>
                  <a:lnTo>
                    <a:pt x="4508" y="254"/>
                  </a:lnTo>
                  <a:lnTo>
                    <a:pt x="4521" y="254"/>
                  </a:lnTo>
                  <a:lnTo>
                    <a:pt x="4521" y="226"/>
                  </a:lnTo>
                  <a:lnTo>
                    <a:pt x="4548" y="226"/>
                  </a:lnTo>
                  <a:lnTo>
                    <a:pt x="4548" y="197"/>
                  </a:lnTo>
                  <a:lnTo>
                    <a:pt x="4717" y="197"/>
                  </a:lnTo>
                  <a:lnTo>
                    <a:pt x="4717" y="169"/>
                  </a:lnTo>
                  <a:lnTo>
                    <a:pt x="4777" y="169"/>
                  </a:lnTo>
                  <a:lnTo>
                    <a:pt x="4777" y="141"/>
                  </a:lnTo>
                  <a:lnTo>
                    <a:pt x="4811" y="141"/>
                  </a:lnTo>
                  <a:lnTo>
                    <a:pt x="4912" y="141"/>
                  </a:lnTo>
                  <a:lnTo>
                    <a:pt x="5060" y="141"/>
                  </a:lnTo>
                  <a:lnTo>
                    <a:pt x="5134" y="141"/>
                  </a:lnTo>
                  <a:lnTo>
                    <a:pt x="5167" y="141"/>
                  </a:lnTo>
                  <a:lnTo>
                    <a:pt x="5450" y="141"/>
                  </a:lnTo>
                  <a:lnTo>
                    <a:pt x="5612" y="141"/>
                  </a:lnTo>
                  <a:lnTo>
                    <a:pt x="5847" y="141"/>
                  </a:lnTo>
                  <a:lnTo>
                    <a:pt x="6224" y="141"/>
                  </a:lnTo>
                  <a:lnTo>
                    <a:pt x="6224" y="0"/>
                  </a:lnTo>
                  <a:lnTo>
                    <a:pt x="6870"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50" name="Freeform 93"/>
            <p:cNvSpPr/>
            <p:nvPr/>
          </p:nvSpPr>
          <p:spPr>
            <a:xfrm flipV="1">
              <a:off x="946080" y="1742400"/>
              <a:ext cx="6211800" cy="3568320"/>
            </a:xfrm>
            <a:custGeom>
              <a:avLst/>
              <a:gdLst/>
              <a:ahLst/>
              <a:rect l="l" t="t" r="r" b="b"/>
              <a:pathLst>
                <a:path w="5955" h="3431">
                  <a:moveTo>
                    <a:pt x="0" y="3431"/>
                  </a:moveTo>
                  <a:lnTo>
                    <a:pt x="6" y="3431"/>
                  </a:lnTo>
                  <a:lnTo>
                    <a:pt x="565" y="3431"/>
                  </a:lnTo>
                  <a:lnTo>
                    <a:pt x="565" y="3420"/>
                  </a:lnTo>
                  <a:lnTo>
                    <a:pt x="585" y="3420"/>
                  </a:lnTo>
                  <a:lnTo>
                    <a:pt x="592" y="3420"/>
                  </a:lnTo>
                  <a:lnTo>
                    <a:pt x="605" y="3420"/>
                  </a:lnTo>
                  <a:lnTo>
                    <a:pt x="605" y="3408"/>
                  </a:lnTo>
                  <a:lnTo>
                    <a:pt x="619" y="3408"/>
                  </a:lnTo>
                  <a:lnTo>
                    <a:pt x="632" y="3408"/>
                  </a:lnTo>
                  <a:lnTo>
                    <a:pt x="666" y="3408"/>
                  </a:lnTo>
                  <a:lnTo>
                    <a:pt x="666" y="3396"/>
                  </a:lnTo>
                  <a:lnTo>
                    <a:pt x="672" y="3396"/>
                  </a:lnTo>
                  <a:lnTo>
                    <a:pt x="672" y="3385"/>
                  </a:lnTo>
                  <a:lnTo>
                    <a:pt x="679" y="3385"/>
                  </a:lnTo>
                  <a:lnTo>
                    <a:pt x="679" y="3373"/>
                  </a:lnTo>
                  <a:lnTo>
                    <a:pt x="693" y="3373"/>
                  </a:lnTo>
                  <a:lnTo>
                    <a:pt x="693" y="3361"/>
                  </a:lnTo>
                  <a:lnTo>
                    <a:pt x="713" y="3361"/>
                  </a:lnTo>
                  <a:lnTo>
                    <a:pt x="713" y="3349"/>
                  </a:lnTo>
                  <a:lnTo>
                    <a:pt x="726" y="3349"/>
                  </a:lnTo>
                  <a:lnTo>
                    <a:pt x="726" y="3337"/>
                  </a:lnTo>
                  <a:lnTo>
                    <a:pt x="740" y="3337"/>
                  </a:lnTo>
                  <a:lnTo>
                    <a:pt x="740" y="3314"/>
                  </a:lnTo>
                  <a:lnTo>
                    <a:pt x="746" y="3314"/>
                  </a:lnTo>
                  <a:lnTo>
                    <a:pt x="746" y="3290"/>
                  </a:lnTo>
                  <a:lnTo>
                    <a:pt x="753" y="3290"/>
                  </a:lnTo>
                  <a:lnTo>
                    <a:pt x="753" y="3278"/>
                  </a:lnTo>
                  <a:lnTo>
                    <a:pt x="767" y="3278"/>
                  </a:lnTo>
                  <a:lnTo>
                    <a:pt x="767" y="3267"/>
                  </a:lnTo>
                  <a:lnTo>
                    <a:pt x="773" y="3267"/>
                  </a:lnTo>
                  <a:lnTo>
                    <a:pt x="773" y="3255"/>
                  </a:lnTo>
                  <a:lnTo>
                    <a:pt x="787" y="3255"/>
                  </a:lnTo>
                  <a:lnTo>
                    <a:pt x="794" y="3255"/>
                  </a:lnTo>
                  <a:lnTo>
                    <a:pt x="794" y="3243"/>
                  </a:lnTo>
                  <a:lnTo>
                    <a:pt x="800" y="3243"/>
                  </a:lnTo>
                  <a:lnTo>
                    <a:pt x="800" y="3231"/>
                  </a:lnTo>
                  <a:lnTo>
                    <a:pt x="807" y="3231"/>
                  </a:lnTo>
                  <a:lnTo>
                    <a:pt x="807" y="3207"/>
                  </a:lnTo>
                  <a:lnTo>
                    <a:pt x="814" y="3207"/>
                  </a:lnTo>
                  <a:lnTo>
                    <a:pt x="814" y="3172"/>
                  </a:lnTo>
                  <a:lnTo>
                    <a:pt x="820" y="3172"/>
                  </a:lnTo>
                  <a:lnTo>
                    <a:pt x="820" y="3124"/>
                  </a:lnTo>
                  <a:lnTo>
                    <a:pt x="827" y="3124"/>
                  </a:lnTo>
                  <a:lnTo>
                    <a:pt x="827" y="3089"/>
                  </a:lnTo>
                  <a:lnTo>
                    <a:pt x="841" y="3089"/>
                  </a:lnTo>
                  <a:lnTo>
                    <a:pt x="841" y="3029"/>
                  </a:lnTo>
                  <a:lnTo>
                    <a:pt x="847" y="3029"/>
                  </a:lnTo>
                  <a:lnTo>
                    <a:pt x="847" y="3005"/>
                  </a:lnTo>
                  <a:lnTo>
                    <a:pt x="854" y="3005"/>
                  </a:lnTo>
                  <a:lnTo>
                    <a:pt x="854" y="2945"/>
                  </a:lnTo>
                  <a:lnTo>
                    <a:pt x="861" y="2945"/>
                  </a:lnTo>
                  <a:lnTo>
                    <a:pt x="861" y="2874"/>
                  </a:lnTo>
                  <a:lnTo>
                    <a:pt x="874" y="2874"/>
                  </a:lnTo>
                  <a:lnTo>
                    <a:pt x="874" y="2837"/>
                  </a:lnTo>
                  <a:lnTo>
                    <a:pt x="888" y="2837"/>
                  </a:lnTo>
                  <a:lnTo>
                    <a:pt x="888" y="2813"/>
                  </a:lnTo>
                  <a:lnTo>
                    <a:pt x="894" y="2813"/>
                  </a:lnTo>
                  <a:lnTo>
                    <a:pt x="894" y="2777"/>
                  </a:lnTo>
                  <a:lnTo>
                    <a:pt x="901" y="2777"/>
                  </a:lnTo>
                  <a:lnTo>
                    <a:pt x="901" y="2753"/>
                  </a:lnTo>
                  <a:lnTo>
                    <a:pt x="908" y="2753"/>
                  </a:lnTo>
                  <a:lnTo>
                    <a:pt x="908" y="2716"/>
                  </a:lnTo>
                  <a:lnTo>
                    <a:pt x="915" y="2716"/>
                  </a:lnTo>
                  <a:lnTo>
                    <a:pt x="915" y="2704"/>
                  </a:lnTo>
                  <a:lnTo>
                    <a:pt x="921" y="2704"/>
                  </a:lnTo>
                  <a:lnTo>
                    <a:pt x="921" y="2655"/>
                  </a:lnTo>
                  <a:lnTo>
                    <a:pt x="928" y="2655"/>
                  </a:lnTo>
                  <a:lnTo>
                    <a:pt x="928" y="2631"/>
                  </a:lnTo>
                  <a:lnTo>
                    <a:pt x="935" y="2631"/>
                  </a:lnTo>
                  <a:lnTo>
                    <a:pt x="935" y="2619"/>
                  </a:lnTo>
                  <a:lnTo>
                    <a:pt x="942" y="2619"/>
                  </a:lnTo>
                  <a:lnTo>
                    <a:pt x="942" y="2594"/>
                  </a:lnTo>
                  <a:lnTo>
                    <a:pt x="948" y="2594"/>
                  </a:lnTo>
                  <a:lnTo>
                    <a:pt x="948" y="2582"/>
                  </a:lnTo>
                  <a:lnTo>
                    <a:pt x="955" y="2582"/>
                  </a:lnTo>
                  <a:lnTo>
                    <a:pt x="968" y="2582"/>
                  </a:lnTo>
                  <a:lnTo>
                    <a:pt x="968" y="2570"/>
                  </a:lnTo>
                  <a:lnTo>
                    <a:pt x="995" y="2570"/>
                  </a:lnTo>
                  <a:lnTo>
                    <a:pt x="995" y="2558"/>
                  </a:lnTo>
                  <a:lnTo>
                    <a:pt x="1009" y="2558"/>
                  </a:lnTo>
                  <a:lnTo>
                    <a:pt x="1009" y="2546"/>
                  </a:lnTo>
                  <a:lnTo>
                    <a:pt x="1029" y="2546"/>
                  </a:lnTo>
                  <a:lnTo>
                    <a:pt x="1029" y="2533"/>
                  </a:lnTo>
                  <a:lnTo>
                    <a:pt x="1036" y="2533"/>
                  </a:lnTo>
                  <a:lnTo>
                    <a:pt x="1036" y="2521"/>
                  </a:lnTo>
                  <a:lnTo>
                    <a:pt x="1043" y="2521"/>
                  </a:lnTo>
                  <a:lnTo>
                    <a:pt x="1043" y="2509"/>
                  </a:lnTo>
                  <a:lnTo>
                    <a:pt x="1069" y="2509"/>
                  </a:lnTo>
                  <a:lnTo>
                    <a:pt x="1069" y="2497"/>
                  </a:lnTo>
                  <a:lnTo>
                    <a:pt x="1083" y="2497"/>
                  </a:lnTo>
                  <a:lnTo>
                    <a:pt x="1083" y="2472"/>
                  </a:lnTo>
                  <a:lnTo>
                    <a:pt x="1096" y="2472"/>
                  </a:lnTo>
                  <a:lnTo>
                    <a:pt x="1096" y="2435"/>
                  </a:lnTo>
                  <a:lnTo>
                    <a:pt x="1103" y="2435"/>
                  </a:lnTo>
                  <a:lnTo>
                    <a:pt x="1103" y="2374"/>
                  </a:lnTo>
                  <a:lnTo>
                    <a:pt x="1110" y="2374"/>
                  </a:lnTo>
                  <a:lnTo>
                    <a:pt x="1110" y="2349"/>
                  </a:lnTo>
                  <a:lnTo>
                    <a:pt x="1117" y="2349"/>
                  </a:lnTo>
                  <a:lnTo>
                    <a:pt x="1117" y="2324"/>
                  </a:lnTo>
                  <a:lnTo>
                    <a:pt x="1123" y="2324"/>
                  </a:lnTo>
                  <a:lnTo>
                    <a:pt x="1123" y="2287"/>
                  </a:lnTo>
                  <a:lnTo>
                    <a:pt x="1130" y="2287"/>
                  </a:lnTo>
                  <a:lnTo>
                    <a:pt x="1130" y="2225"/>
                  </a:lnTo>
                  <a:lnTo>
                    <a:pt x="1137" y="2225"/>
                  </a:lnTo>
                  <a:lnTo>
                    <a:pt x="1137" y="2151"/>
                  </a:lnTo>
                  <a:lnTo>
                    <a:pt x="1143" y="2151"/>
                  </a:lnTo>
                  <a:lnTo>
                    <a:pt x="1143" y="2114"/>
                  </a:lnTo>
                  <a:lnTo>
                    <a:pt x="1157" y="2114"/>
                  </a:lnTo>
                  <a:lnTo>
                    <a:pt x="1157" y="2089"/>
                  </a:lnTo>
                  <a:lnTo>
                    <a:pt x="1164" y="2089"/>
                  </a:lnTo>
                  <a:lnTo>
                    <a:pt x="1164" y="2076"/>
                  </a:lnTo>
                  <a:lnTo>
                    <a:pt x="1184" y="2076"/>
                  </a:lnTo>
                  <a:lnTo>
                    <a:pt x="1184" y="2064"/>
                  </a:lnTo>
                  <a:lnTo>
                    <a:pt x="1191" y="2064"/>
                  </a:lnTo>
                  <a:lnTo>
                    <a:pt x="1191" y="2026"/>
                  </a:lnTo>
                  <a:lnTo>
                    <a:pt x="1197" y="2026"/>
                  </a:lnTo>
                  <a:lnTo>
                    <a:pt x="1197" y="2013"/>
                  </a:lnTo>
                  <a:lnTo>
                    <a:pt x="1217" y="2013"/>
                  </a:lnTo>
                  <a:lnTo>
                    <a:pt x="1217" y="2001"/>
                  </a:lnTo>
                  <a:lnTo>
                    <a:pt x="1224" y="2001"/>
                  </a:lnTo>
                  <a:lnTo>
                    <a:pt x="1224" y="1976"/>
                  </a:lnTo>
                  <a:lnTo>
                    <a:pt x="1231" y="1976"/>
                  </a:lnTo>
                  <a:lnTo>
                    <a:pt x="1231" y="1963"/>
                  </a:lnTo>
                  <a:lnTo>
                    <a:pt x="1238" y="1963"/>
                  </a:lnTo>
                  <a:lnTo>
                    <a:pt x="1238" y="1938"/>
                  </a:lnTo>
                  <a:lnTo>
                    <a:pt x="1244" y="1938"/>
                  </a:lnTo>
                  <a:lnTo>
                    <a:pt x="1244" y="1925"/>
                  </a:lnTo>
                  <a:lnTo>
                    <a:pt x="1265" y="1925"/>
                  </a:lnTo>
                  <a:lnTo>
                    <a:pt x="1265" y="1913"/>
                  </a:lnTo>
                  <a:lnTo>
                    <a:pt x="1278" y="1913"/>
                  </a:lnTo>
                  <a:lnTo>
                    <a:pt x="1278" y="1888"/>
                  </a:lnTo>
                  <a:lnTo>
                    <a:pt x="1285" y="1888"/>
                  </a:lnTo>
                  <a:lnTo>
                    <a:pt x="1285" y="1875"/>
                  </a:lnTo>
                  <a:lnTo>
                    <a:pt x="1291" y="1875"/>
                  </a:lnTo>
                  <a:lnTo>
                    <a:pt x="1291" y="1862"/>
                  </a:lnTo>
                  <a:lnTo>
                    <a:pt x="1312" y="1862"/>
                  </a:lnTo>
                  <a:lnTo>
                    <a:pt x="1312" y="1850"/>
                  </a:lnTo>
                  <a:lnTo>
                    <a:pt x="1325" y="1850"/>
                  </a:lnTo>
                  <a:lnTo>
                    <a:pt x="1325" y="1824"/>
                  </a:lnTo>
                  <a:lnTo>
                    <a:pt x="1372" y="1824"/>
                  </a:lnTo>
                  <a:lnTo>
                    <a:pt x="1372" y="1812"/>
                  </a:lnTo>
                  <a:lnTo>
                    <a:pt x="1386" y="1812"/>
                  </a:lnTo>
                  <a:lnTo>
                    <a:pt x="1386" y="1799"/>
                  </a:lnTo>
                  <a:lnTo>
                    <a:pt x="1392" y="1799"/>
                  </a:lnTo>
                  <a:lnTo>
                    <a:pt x="1392" y="1786"/>
                  </a:lnTo>
                  <a:lnTo>
                    <a:pt x="1406" y="1786"/>
                  </a:lnTo>
                  <a:lnTo>
                    <a:pt x="1406" y="1761"/>
                  </a:lnTo>
                  <a:lnTo>
                    <a:pt x="1413" y="1761"/>
                  </a:lnTo>
                  <a:lnTo>
                    <a:pt x="1413" y="1723"/>
                  </a:lnTo>
                  <a:lnTo>
                    <a:pt x="1419" y="1723"/>
                  </a:lnTo>
                  <a:lnTo>
                    <a:pt x="1419" y="1684"/>
                  </a:lnTo>
                  <a:lnTo>
                    <a:pt x="1426" y="1684"/>
                  </a:lnTo>
                  <a:lnTo>
                    <a:pt x="1426" y="1659"/>
                  </a:lnTo>
                  <a:lnTo>
                    <a:pt x="1433" y="1659"/>
                  </a:lnTo>
                  <a:lnTo>
                    <a:pt x="1433" y="1646"/>
                  </a:lnTo>
                  <a:lnTo>
                    <a:pt x="1440" y="1646"/>
                  </a:lnTo>
                  <a:lnTo>
                    <a:pt x="1440" y="1621"/>
                  </a:lnTo>
                  <a:lnTo>
                    <a:pt x="1446" y="1621"/>
                  </a:lnTo>
                  <a:lnTo>
                    <a:pt x="1446" y="1595"/>
                  </a:lnTo>
                  <a:lnTo>
                    <a:pt x="1453" y="1595"/>
                  </a:lnTo>
                  <a:lnTo>
                    <a:pt x="1453" y="1570"/>
                  </a:lnTo>
                  <a:lnTo>
                    <a:pt x="1460" y="1570"/>
                  </a:lnTo>
                  <a:lnTo>
                    <a:pt x="1460" y="1557"/>
                  </a:lnTo>
                  <a:lnTo>
                    <a:pt x="1466" y="1557"/>
                  </a:lnTo>
                  <a:lnTo>
                    <a:pt x="1466" y="1531"/>
                  </a:lnTo>
                  <a:lnTo>
                    <a:pt x="1487" y="1531"/>
                  </a:lnTo>
                  <a:lnTo>
                    <a:pt x="1487" y="1493"/>
                  </a:lnTo>
                  <a:lnTo>
                    <a:pt x="1500" y="1493"/>
                  </a:lnTo>
                  <a:lnTo>
                    <a:pt x="1500" y="1480"/>
                  </a:lnTo>
                  <a:lnTo>
                    <a:pt x="1507" y="1480"/>
                  </a:lnTo>
                  <a:lnTo>
                    <a:pt x="1507" y="1442"/>
                  </a:lnTo>
                  <a:lnTo>
                    <a:pt x="1514" y="1442"/>
                  </a:lnTo>
                  <a:lnTo>
                    <a:pt x="1514" y="1429"/>
                  </a:lnTo>
                  <a:lnTo>
                    <a:pt x="1527" y="1429"/>
                  </a:lnTo>
                  <a:lnTo>
                    <a:pt x="1534" y="1429"/>
                  </a:lnTo>
                  <a:lnTo>
                    <a:pt x="1534" y="1416"/>
                  </a:lnTo>
                  <a:lnTo>
                    <a:pt x="1540" y="1416"/>
                  </a:lnTo>
                  <a:lnTo>
                    <a:pt x="1540" y="1403"/>
                  </a:lnTo>
                  <a:lnTo>
                    <a:pt x="1547" y="1403"/>
                  </a:lnTo>
                  <a:lnTo>
                    <a:pt x="1547" y="1390"/>
                  </a:lnTo>
                  <a:lnTo>
                    <a:pt x="1554" y="1390"/>
                  </a:lnTo>
                  <a:lnTo>
                    <a:pt x="1554" y="1377"/>
                  </a:lnTo>
                  <a:lnTo>
                    <a:pt x="1581" y="1377"/>
                  </a:lnTo>
                  <a:lnTo>
                    <a:pt x="1581" y="1364"/>
                  </a:lnTo>
                  <a:lnTo>
                    <a:pt x="1608" y="1364"/>
                  </a:lnTo>
                  <a:lnTo>
                    <a:pt x="1608" y="1351"/>
                  </a:lnTo>
                  <a:lnTo>
                    <a:pt x="1621" y="1351"/>
                  </a:lnTo>
                  <a:lnTo>
                    <a:pt x="1621" y="1338"/>
                  </a:lnTo>
                  <a:lnTo>
                    <a:pt x="1655" y="1338"/>
                  </a:lnTo>
                  <a:lnTo>
                    <a:pt x="1655" y="1325"/>
                  </a:lnTo>
                  <a:lnTo>
                    <a:pt x="1662" y="1325"/>
                  </a:lnTo>
                  <a:lnTo>
                    <a:pt x="1662" y="1298"/>
                  </a:lnTo>
                  <a:lnTo>
                    <a:pt x="1682" y="1298"/>
                  </a:lnTo>
                  <a:lnTo>
                    <a:pt x="1682" y="1285"/>
                  </a:lnTo>
                  <a:lnTo>
                    <a:pt x="1689" y="1285"/>
                  </a:lnTo>
                  <a:lnTo>
                    <a:pt x="1689" y="1272"/>
                  </a:lnTo>
                  <a:lnTo>
                    <a:pt x="1695" y="1272"/>
                  </a:lnTo>
                  <a:lnTo>
                    <a:pt x="1695" y="1259"/>
                  </a:lnTo>
                  <a:lnTo>
                    <a:pt x="1709" y="1259"/>
                  </a:lnTo>
                  <a:lnTo>
                    <a:pt x="1709" y="1245"/>
                  </a:lnTo>
                  <a:lnTo>
                    <a:pt x="1715" y="1245"/>
                  </a:lnTo>
                  <a:lnTo>
                    <a:pt x="1715" y="1219"/>
                  </a:lnTo>
                  <a:lnTo>
                    <a:pt x="1742" y="1219"/>
                  </a:lnTo>
                  <a:lnTo>
                    <a:pt x="1742" y="1165"/>
                  </a:lnTo>
                  <a:lnTo>
                    <a:pt x="1756" y="1165"/>
                  </a:lnTo>
                  <a:lnTo>
                    <a:pt x="1756" y="1138"/>
                  </a:lnTo>
                  <a:lnTo>
                    <a:pt x="1763" y="1138"/>
                  </a:lnTo>
                  <a:lnTo>
                    <a:pt x="1763" y="1124"/>
                  </a:lnTo>
                  <a:lnTo>
                    <a:pt x="1796" y="1124"/>
                  </a:lnTo>
                  <a:lnTo>
                    <a:pt x="1796" y="1097"/>
                  </a:lnTo>
                  <a:lnTo>
                    <a:pt x="1803" y="1097"/>
                  </a:lnTo>
                  <a:lnTo>
                    <a:pt x="1803" y="1084"/>
                  </a:lnTo>
                  <a:lnTo>
                    <a:pt x="1823" y="1084"/>
                  </a:lnTo>
                  <a:lnTo>
                    <a:pt x="1823" y="1070"/>
                  </a:lnTo>
                  <a:lnTo>
                    <a:pt x="1837" y="1070"/>
                  </a:lnTo>
                  <a:lnTo>
                    <a:pt x="1837" y="1057"/>
                  </a:lnTo>
                  <a:lnTo>
                    <a:pt x="1850" y="1057"/>
                  </a:lnTo>
                  <a:lnTo>
                    <a:pt x="1850" y="1043"/>
                  </a:lnTo>
                  <a:lnTo>
                    <a:pt x="1870" y="1043"/>
                  </a:lnTo>
                  <a:lnTo>
                    <a:pt x="1870" y="1030"/>
                  </a:lnTo>
                  <a:lnTo>
                    <a:pt x="1877" y="1030"/>
                  </a:lnTo>
                  <a:lnTo>
                    <a:pt x="1877" y="1016"/>
                  </a:lnTo>
                  <a:lnTo>
                    <a:pt x="1917" y="1016"/>
                  </a:lnTo>
                  <a:lnTo>
                    <a:pt x="1917" y="1002"/>
                  </a:lnTo>
                  <a:lnTo>
                    <a:pt x="1924" y="1002"/>
                  </a:lnTo>
                  <a:lnTo>
                    <a:pt x="1924" y="989"/>
                  </a:lnTo>
                  <a:lnTo>
                    <a:pt x="1944" y="989"/>
                  </a:lnTo>
                  <a:lnTo>
                    <a:pt x="1944" y="975"/>
                  </a:lnTo>
                  <a:lnTo>
                    <a:pt x="1951" y="975"/>
                  </a:lnTo>
                  <a:lnTo>
                    <a:pt x="1951" y="948"/>
                  </a:lnTo>
                  <a:lnTo>
                    <a:pt x="1971" y="948"/>
                  </a:lnTo>
                  <a:lnTo>
                    <a:pt x="1971" y="935"/>
                  </a:lnTo>
                  <a:lnTo>
                    <a:pt x="1978" y="935"/>
                  </a:lnTo>
                  <a:lnTo>
                    <a:pt x="1978" y="921"/>
                  </a:lnTo>
                  <a:lnTo>
                    <a:pt x="2005" y="921"/>
                  </a:lnTo>
                  <a:lnTo>
                    <a:pt x="2005" y="908"/>
                  </a:lnTo>
                  <a:lnTo>
                    <a:pt x="2018" y="908"/>
                  </a:lnTo>
                  <a:lnTo>
                    <a:pt x="2018" y="894"/>
                  </a:lnTo>
                  <a:lnTo>
                    <a:pt x="2059" y="894"/>
                  </a:lnTo>
                  <a:lnTo>
                    <a:pt x="2059" y="881"/>
                  </a:lnTo>
                  <a:lnTo>
                    <a:pt x="2072" y="881"/>
                  </a:lnTo>
                  <a:lnTo>
                    <a:pt x="2072" y="867"/>
                  </a:lnTo>
                  <a:lnTo>
                    <a:pt x="2086" y="867"/>
                  </a:lnTo>
                  <a:lnTo>
                    <a:pt x="2086" y="853"/>
                  </a:lnTo>
                  <a:lnTo>
                    <a:pt x="2133" y="853"/>
                  </a:lnTo>
                  <a:lnTo>
                    <a:pt x="2133" y="840"/>
                  </a:lnTo>
                  <a:lnTo>
                    <a:pt x="2213" y="840"/>
                  </a:lnTo>
                  <a:lnTo>
                    <a:pt x="2213" y="826"/>
                  </a:lnTo>
                  <a:lnTo>
                    <a:pt x="2247" y="826"/>
                  </a:lnTo>
                  <a:lnTo>
                    <a:pt x="2247" y="813"/>
                  </a:lnTo>
                  <a:lnTo>
                    <a:pt x="2260" y="813"/>
                  </a:lnTo>
                  <a:lnTo>
                    <a:pt x="2260" y="799"/>
                  </a:lnTo>
                  <a:lnTo>
                    <a:pt x="2267" y="799"/>
                  </a:lnTo>
                  <a:lnTo>
                    <a:pt x="2267" y="772"/>
                  </a:lnTo>
                  <a:lnTo>
                    <a:pt x="2274" y="772"/>
                  </a:lnTo>
                  <a:lnTo>
                    <a:pt x="2274" y="745"/>
                  </a:lnTo>
                  <a:lnTo>
                    <a:pt x="2308" y="745"/>
                  </a:lnTo>
                  <a:lnTo>
                    <a:pt x="2375" y="745"/>
                  </a:lnTo>
                  <a:lnTo>
                    <a:pt x="2375" y="718"/>
                  </a:lnTo>
                  <a:lnTo>
                    <a:pt x="2382" y="718"/>
                  </a:lnTo>
                  <a:lnTo>
                    <a:pt x="2382" y="704"/>
                  </a:lnTo>
                  <a:lnTo>
                    <a:pt x="2388" y="704"/>
                  </a:lnTo>
                  <a:lnTo>
                    <a:pt x="2388" y="690"/>
                  </a:lnTo>
                  <a:lnTo>
                    <a:pt x="2409" y="690"/>
                  </a:lnTo>
                  <a:lnTo>
                    <a:pt x="2409" y="676"/>
                  </a:lnTo>
                  <a:lnTo>
                    <a:pt x="2516" y="676"/>
                  </a:lnTo>
                  <a:lnTo>
                    <a:pt x="2516" y="649"/>
                  </a:lnTo>
                  <a:lnTo>
                    <a:pt x="2530" y="649"/>
                  </a:lnTo>
                  <a:lnTo>
                    <a:pt x="2536" y="649"/>
                  </a:lnTo>
                  <a:lnTo>
                    <a:pt x="2536" y="634"/>
                  </a:lnTo>
                  <a:lnTo>
                    <a:pt x="2563" y="634"/>
                  </a:lnTo>
                  <a:lnTo>
                    <a:pt x="2563" y="620"/>
                  </a:lnTo>
                  <a:lnTo>
                    <a:pt x="2577" y="620"/>
                  </a:lnTo>
                  <a:lnTo>
                    <a:pt x="2577" y="606"/>
                  </a:lnTo>
                  <a:lnTo>
                    <a:pt x="2583" y="606"/>
                  </a:lnTo>
                  <a:lnTo>
                    <a:pt x="2583" y="592"/>
                  </a:lnTo>
                  <a:lnTo>
                    <a:pt x="2590" y="592"/>
                  </a:lnTo>
                  <a:lnTo>
                    <a:pt x="2590" y="564"/>
                  </a:lnTo>
                  <a:lnTo>
                    <a:pt x="2678" y="564"/>
                  </a:lnTo>
                  <a:lnTo>
                    <a:pt x="2678" y="550"/>
                  </a:lnTo>
                  <a:lnTo>
                    <a:pt x="2691" y="550"/>
                  </a:lnTo>
                  <a:lnTo>
                    <a:pt x="2691" y="522"/>
                  </a:lnTo>
                  <a:lnTo>
                    <a:pt x="2846" y="522"/>
                  </a:lnTo>
                  <a:lnTo>
                    <a:pt x="2866" y="522"/>
                  </a:lnTo>
                  <a:lnTo>
                    <a:pt x="2866" y="507"/>
                  </a:lnTo>
                  <a:lnTo>
                    <a:pt x="2947" y="507"/>
                  </a:lnTo>
                  <a:lnTo>
                    <a:pt x="2947" y="492"/>
                  </a:lnTo>
                  <a:lnTo>
                    <a:pt x="3014" y="492"/>
                  </a:lnTo>
                  <a:lnTo>
                    <a:pt x="3021" y="492"/>
                  </a:lnTo>
                  <a:lnTo>
                    <a:pt x="3021" y="477"/>
                  </a:lnTo>
                  <a:lnTo>
                    <a:pt x="3061" y="477"/>
                  </a:lnTo>
                  <a:lnTo>
                    <a:pt x="3061" y="461"/>
                  </a:lnTo>
                  <a:lnTo>
                    <a:pt x="3075" y="461"/>
                  </a:lnTo>
                  <a:lnTo>
                    <a:pt x="3075" y="446"/>
                  </a:lnTo>
                  <a:lnTo>
                    <a:pt x="3081" y="446"/>
                  </a:lnTo>
                  <a:lnTo>
                    <a:pt x="3081" y="430"/>
                  </a:lnTo>
                  <a:lnTo>
                    <a:pt x="3129" y="430"/>
                  </a:lnTo>
                  <a:lnTo>
                    <a:pt x="3169" y="430"/>
                  </a:lnTo>
                  <a:lnTo>
                    <a:pt x="3169" y="399"/>
                  </a:lnTo>
                  <a:lnTo>
                    <a:pt x="3263" y="399"/>
                  </a:lnTo>
                  <a:lnTo>
                    <a:pt x="3263" y="383"/>
                  </a:lnTo>
                  <a:lnTo>
                    <a:pt x="3324" y="383"/>
                  </a:lnTo>
                  <a:lnTo>
                    <a:pt x="3324" y="367"/>
                  </a:lnTo>
                  <a:lnTo>
                    <a:pt x="3344" y="367"/>
                  </a:lnTo>
                  <a:lnTo>
                    <a:pt x="3344" y="351"/>
                  </a:lnTo>
                  <a:lnTo>
                    <a:pt x="3364" y="351"/>
                  </a:lnTo>
                  <a:lnTo>
                    <a:pt x="3364" y="335"/>
                  </a:lnTo>
                  <a:lnTo>
                    <a:pt x="3512" y="335"/>
                  </a:lnTo>
                  <a:lnTo>
                    <a:pt x="3512" y="319"/>
                  </a:lnTo>
                  <a:lnTo>
                    <a:pt x="3606" y="319"/>
                  </a:lnTo>
                  <a:lnTo>
                    <a:pt x="3606" y="303"/>
                  </a:lnTo>
                  <a:lnTo>
                    <a:pt x="3667" y="303"/>
                  </a:lnTo>
                  <a:lnTo>
                    <a:pt x="3667" y="287"/>
                  </a:lnTo>
                  <a:lnTo>
                    <a:pt x="3680" y="287"/>
                  </a:lnTo>
                  <a:lnTo>
                    <a:pt x="3680" y="255"/>
                  </a:lnTo>
                  <a:lnTo>
                    <a:pt x="3721" y="255"/>
                  </a:lnTo>
                  <a:lnTo>
                    <a:pt x="3721" y="239"/>
                  </a:lnTo>
                  <a:lnTo>
                    <a:pt x="3761" y="239"/>
                  </a:lnTo>
                  <a:lnTo>
                    <a:pt x="3761" y="223"/>
                  </a:lnTo>
                  <a:lnTo>
                    <a:pt x="3855" y="223"/>
                  </a:lnTo>
                  <a:lnTo>
                    <a:pt x="3875" y="223"/>
                  </a:lnTo>
                  <a:lnTo>
                    <a:pt x="3875" y="206"/>
                  </a:lnTo>
                  <a:lnTo>
                    <a:pt x="4091" y="206"/>
                  </a:lnTo>
                  <a:lnTo>
                    <a:pt x="4091" y="189"/>
                  </a:lnTo>
                  <a:lnTo>
                    <a:pt x="4259" y="189"/>
                  </a:lnTo>
                  <a:lnTo>
                    <a:pt x="4447" y="189"/>
                  </a:lnTo>
                  <a:lnTo>
                    <a:pt x="4447" y="170"/>
                  </a:lnTo>
                  <a:lnTo>
                    <a:pt x="4582" y="170"/>
                  </a:lnTo>
                  <a:lnTo>
                    <a:pt x="4582" y="151"/>
                  </a:lnTo>
                  <a:lnTo>
                    <a:pt x="4609" y="151"/>
                  </a:lnTo>
                  <a:lnTo>
                    <a:pt x="4730" y="151"/>
                  </a:lnTo>
                  <a:lnTo>
                    <a:pt x="4730" y="130"/>
                  </a:lnTo>
                  <a:lnTo>
                    <a:pt x="4737" y="130"/>
                  </a:lnTo>
                  <a:lnTo>
                    <a:pt x="4737" y="108"/>
                  </a:lnTo>
                  <a:lnTo>
                    <a:pt x="4797" y="108"/>
                  </a:lnTo>
                  <a:lnTo>
                    <a:pt x="4804" y="108"/>
                  </a:lnTo>
                  <a:lnTo>
                    <a:pt x="5551" y="108"/>
                  </a:lnTo>
                  <a:lnTo>
                    <a:pt x="5847" y="108"/>
                  </a:lnTo>
                  <a:lnTo>
                    <a:pt x="5955" y="108"/>
                  </a:lnTo>
                  <a:lnTo>
                    <a:pt x="5955" y="0"/>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51" name="Rectangle 94"/>
            <p:cNvSpPr/>
            <p:nvPr/>
          </p:nvSpPr>
          <p:spPr>
            <a:xfrm>
              <a:off x="3853800" y="5863680"/>
              <a:ext cx="25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from Induction (Months)</a:t>
              </a:r>
              <a:endParaRPr b="0" lang="en-US" sz="1400" spc="-1" strike="noStrike">
                <a:solidFill>
                  <a:srgbClr val="000000"/>
                </a:solidFill>
                <a:latin typeface="Arial"/>
              </a:endParaRPr>
            </a:p>
          </p:txBody>
        </p:sp>
        <p:sp>
          <p:nvSpPr>
            <p:cNvPr id="2552" name="Rectangle 95"/>
            <p:cNvSpPr/>
            <p:nvPr/>
          </p:nvSpPr>
          <p:spPr>
            <a:xfrm rot="16200000">
              <a:off x="-456120" y="3628080"/>
              <a:ext cx="166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vival Probability</a:t>
              </a:r>
              <a:endParaRPr b="0" lang="en-US" sz="14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intBreak Prespecified Analysis: OS From Randomization (Maintenance Group)</a:t>
            </a:r>
            <a:endParaRPr b="0" lang="en-US" sz="3600" spc="-1" strike="noStrike">
              <a:solidFill>
                <a:srgbClr val="000000"/>
              </a:solidFill>
              <a:latin typeface="Arial"/>
            </a:endParaRPr>
          </a:p>
        </p:txBody>
      </p:sp>
      <p:sp>
        <p:nvSpPr>
          <p:cNvPr id="2554" name="Text Box 15"/>
          <p:cNvSpPr/>
          <p:nvPr/>
        </p:nvSpPr>
        <p:spPr>
          <a:xfrm>
            <a:off x="2590920" y="6203880"/>
            <a:ext cx="5632200" cy="611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respecified exploratory noncomparative subgroup analy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ensoring rate for Pem + Cb + Bev was 36.0; for Pac+  Cb + Bev was 30.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With permission from Patel, et al. Presented at IASLC. 2012 (abstr LBPL1).</a:t>
            </a:r>
            <a:endParaRPr b="0" lang="en-US" sz="1000" spc="-1" strike="noStrike">
              <a:solidFill>
                <a:srgbClr val="000000"/>
              </a:solidFill>
              <a:latin typeface="Arial"/>
            </a:endParaRPr>
          </a:p>
        </p:txBody>
      </p:sp>
      <p:graphicFrame>
        <p:nvGraphicFramePr>
          <p:cNvPr id="2555" name=""/>
          <p:cNvGraphicFramePr/>
          <p:nvPr/>
        </p:nvGraphicFramePr>
        <p:xfrm>
          <a:off x="4343400" y="1981080"/>
          <a:ext cx="4529160" cy="901800"/>
        </p:xfrm>
        <a:graphic>
          <a:graphicData uri="http://schemas.openxmlformats.org/drawingml/2006/table">
            <a:tbl>
              <a:tblPr/>
              <a:tblGrid>
                <a:gridCol w="1727280"/>
                <a:gridCol w="1430280"/>
                <a:gridCol w="1371600"/>
              </a:tblGrid>
              <a:tr h="57636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Unicode MS"/>
                        </a:rPr>
                        <a:t> </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0000"/>
                          </a:solidFill>
                          <a:latin typeface="Arial"/>
                          <a:ea typeface="Arial Unicode MS"/>
                        </a:rPr>
                        <a:t>Pem + Cb + Be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0000"/>
                          </a:solidFill>
                          <a:latin typeface="Arial"/>
                          <a:ea typeface="Arial Unicode MS"/>
                        </a:rPr>
                        <a:t>(n=292)</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6666ff"/>
                          </a:solidFill>
                          <a:latin typeface="Arial"/>
                          <a:ea typeface="Arial Unicode MS"/>
                        </a:rPr>
                        <a:t>Pac + Cb + Be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6666ff"/>
                          </a:solidFill>
                          <a:latin typeface="Arial"/>
                          <a:ea typeface="Arial Unicode MS"/>
                        </a:rPr>
                        <a:t>(n=298)</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13680">
                      <a:solidFill>
                        <a:srgbClr val="000000"/>
                      </a:solidFill>
                    </a:lnB>
                    <a:noFill/>
                  </a:tcPr>
                </a:tc>
              </a:tr>
              <a:tr h="32544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OS median, months</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17.7</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15.7</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bl>
          </a:graphicData>
        </a:graphic>
      </p:graphicFrame>
      <p:grpSp>
        <p:nvGrpSpPr>
          <p:cNvPr id="2556" name="Group 136263"/>
          <p:cNvGrpSpPr/>
          <p:nvPr/>
        </p:nvGrpSpPr>
        <p:grpSpPr>
          <a:xfrm>
            <a:off x="-206280" y="2298600"/>
            <a:ext cx="9069480" cy="7504200"/>
            <a:chOff x="-206280" y="2298600"/>
            <a:chExt cx="9069480" cy="7504200"/>
          </a:xfrm>
        </p:grpSpPr>
        <p:sp>
          <p:nvSpPr>
            <p:cNvPr id="2557" name="AutoShape 4"/>
            <p:cNvSpPr/>
            <p:nvPr/>
          </p:nvSpPr>
          <p:spPr>
            <a:xfrm>
              <a:off x="-135360" y="2868480"/>
              <a:ext cx="8998560" cy="693432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58" name="Rectangle 6"/>
            <p:cNvSpPr/>
            <p:nvPr/>
          </p:nvSpPr>
          <p:spPr>
            <a:xfrm>
              <a:off x="-206280" y="2298600"/>
              <a:ext cx="8997120" cy="693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2559" name="Group 136262"/>
          <p:cNvGrpSpPr/>
          <p:nvPr/>
        </p:nvGrpSpPr>
        <p:grpSpPr>
          <a:xfrm>
            <a:off x="169920" y="1603440"/>
            <a:ext cx="8770320" cy="4587120"/>
            <a:chOff x="169920" y="1603440"/>
            <a:chExt cx="8770320" cy="4587120"/>
          </a:xfrm>
        </p:grpSpPr>
        <p:sp>
          <p:nvSpPr>
            <p:cNvPr id="2560" name="Rectangle 7"/>
            <p:cNvSpPr/>
            <p:nvPr/>
          </p:nvSpPr>
          <p:spPr>
            <a:xfrm>
              <a:off x="851760" y="1687320"/>
              <a:ext cx="8001720" cy="378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1" name="Line 8"/>
            <p:cNvSpPr/>
            <p:nvPr/>
          </p:nvSpPr>
          <p:spPr>
            <a:xfrm>
              <a:off x="851760" y="5477040"/>
              <a:ext cx="8001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62" name="Line 9"/>
            <p:cNvSpPr/>
            <p:nvPr/>
          </p:nvSpPr>
          <p:spPr>
            <a:xfrm flipV="1">
              <a:off x="85176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3" name="Line 10"/>
            <p:cNvSpPr/>
            <p:nvPr/>
          </p:nvSpPr>
          <p:spPr>
            <a:xfrm flipV="1">
              <a:off x="146772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4" name="Line 11"/>
            <p:cNvSpPr/>
            <p:nvPr/>
          </p:nvSpPr>
          <p:spPr>
            <a:xfrm flipV="1">
              <a:off x="208224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5" name="Line 12"/>
            <p:cNvSpPr/>
            <p:nvPr/>
          </p:nvSpPr>
          <p:spPr>
            <a:xfrm flipV="1">
              <a:off x="269820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6" name="Line 13"/>
            <p:cNvSpPr/>
            <p:nvPr/>
          </p:nvSpPr>
          <p:spPr>
            <a:xfrm flipV="1">
              <a:off x="331272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7" name="Line 14"/>
            <p:cNvSpPr/>
            <p:nvPr/>
          </p:nvSpPr>
          <p:spPr>
            <a:xfrm flipV="1">
              <a:off x="393012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8" name="Line 15"/>
            <p:cNvSpPr/>
            <p:nvPr/>
          </p:nvSpPr>
          <p:spPr>
            <a:xfrm flipV="1">
              <a:off x="454464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9" name="Line 16"/>
            <p:cNvSpPr/>
            <p:nvPr/>
          </p:nvSpPr>
          <p:spPr>
            <a:xfrm flipV="1">
              <a:off x="515916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0" name="Line 17"/>
            <p:cNvSpPr/>
            <p:nvPr/>
          </p:nvSpPr>
          <p:spPr>
            <a:xfrm flipV="1">
              <a:off x="577512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1" name="Line 18"/>
            <p:cNvSpPr/>
            <p:nvPr/>
          </p:nvSpPr>
          <p:spPr>
            <a:xfrm flipV="1">
              <a:off x="639108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2" name="Line 19"/>
            <p:cNvSpPr/>
            <p:nvPr/>
          </p:nvSpPr>
          <p:spPr>
            <a:xfrm flipV="1">
              <a:off x="700704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3" name="Line 20"/>
            <p:cNvSpPr/>
            <p:nvPr/>
          </p:nvSpPr>
          <p:spPr>
            <a:xfrm flipV="1">
              <a:off x="762156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4" name="Line 21"/>
            <p:cNvSpPr/>
            <p:nvPr/>
          </p:nvSpPr>
          <p:spPr>
            <a:xfrm flipV="1">
              <a:off x="823752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5" name="Line 22"/>
            <p:cNvSpPr/>
            <p:nvPr/>
          </p:nvSpPr>
          <p:spPr>
            <a:xfrm flipV="1">
              <a:off x="885348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6" name="Line 23"/>
            <p:cNvSpPr/>
            <p:nvPr/>
          </p:nvSpPr>
          <p:spPr>
            <a:xfrm flipV="1">
              <a:off x="105804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77" name="Line 24"/>
            <p:cNvSpPr/>
            <p:nvPr/>
          </p:nvSpPr>
          <p:spPr>
            <a:xfrm flipV="1">
              <a:off x="126288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78" name="Line 25"/>
            <p:cNvSpPr/>
            <p:nvPr/>
          </p:nvSpPr>
          <p:spPr>
            <a:xfrm flipV="1">
              <a:off x="167256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79" name="Line 26"/>
            <p:cNvSpPr/>
            <p:nvPr/>
          </p:nvSpPr>
          <p:spPr>
            <a:xfrm flipV="1">
              <a:off x="187740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0" name="Line 27"/>
            <p:cNvSpPr/>
            <p:nvPr/>
          </p:nvSpPr>
          <p:spPr>
            <a:xfrm flipV="1">
              <a:off x="228852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1" name="Line 28"/>
            <p:cNvSpPr/>
            <p:nvPr/>
          </p:nvSpPr>
          <p:spPr>
            <a:xfrm flipV="1">
              <a:off x="249336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2" name="Line 29"/>
            <p:cNvSpPr/>
            <p:nvPr/>
          </p:nvSpPr>
          <p:spPr>
            <a:xfrm flipV="1">
              <a:off x="290304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3" name="Line 30"/>
            <p:cNvSpPr/>
            <p:nvPr/>
          </p:nvSpPr>
          <p:spPr>
            <a:xfrm flipV="1">
              <a:off x="310788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4" name="Line 31"/>
            <p:cNvSpPr/>
            <p:nvPr/>
          </p:nvSpPr>
          <p:spPr>
            <a:xfrm flipV="1">
              <a:off x="351900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5" name="Line 32"/>
            <p:cNvSpPr/>
            <p:nvPr/>
          </p:nvSpPr>
          <p:spPr>
            <a:xfrm flipV="1">
              <a:off x="372384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6" name="Line 33"/>
            <p:cNvSpPr/>
            <p:nvPr/>
          </p:nvSpPr>
          <p:spPr>
            <a:xfrm flipV="1">
              <a:off x="413496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7" name="Line 34"/>
            <p:cNvSpPr/>
            <p:nvPr/>
          </p:nvSpPr>
          <p:spPr>
            <a:xfrm flipV="1">
              <a:off x="433980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8" name="Line 35"/>
            <p:cNvSpPr/>
            <p:nvPr/>
          </p:nvSpPr>
          <p:spPr>
            <a:xfrm flipV="1">
              <a:off x="474948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9" name="Line 36"/>
            <p:cNvSpPr/>
            <p:nvPr/>
          </p:nvSpPr>
          <p:spPr>
            <a:xfrm flipV="1">
              <a:off x="495432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0" name="Line 37"/>
            <p:cNvSpPr/>
            <p:nvPr/>
          </p:nvSpPr>
          <p:spPr>
            <a:xfrm flipV="1">
              <a:off x="536544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1" name="Line 38"/>
            <p:cNvSpPr/>
            <p:nvPr/>
          </p:nvSpPr>
          <p:spPr>
            <a:xfrm flipV="1">
              <a:off x="557028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2" name="Line 39"/>
            <p:cNvSpPr/>
            <p:nvPr/>
          </p:nvSpPr>
          <p:spPr>
            <a:xfrm flipV="1">
              <a:off x="597996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3" name="Line 40"/>
            <p:cNvSpPr/>
            <p:nvPr/>
          </p:nvSpPr>
          <p:spPr>
            <a:xfrm flipV="1">
              <a:off x="618624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4" name="Line 41"/>
            <p:cNvSpPr/>
            <p:nvPr/>
          </p:nvSpPr>
          <p:spPr>
            <a:xfrm flipV="1">
              <a:off x="659592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5" name="Line 42"/>
            <p:cNvSpPr/>
            <p:nvPr/>
          </p:nvSpPr>
          <p:spPr>
            <a:xfrm flipV="1">
              <a:off x="680076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6" name="Line 43"/>
            <p:cNvSpPr/>
            <p:nvPr/>
          </p:nvSpPr>
          <p:spPr>
            <a:xfrm flipV="1">
              <a:off x="721188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7" name="Line 44"/>
            <p:cNvSpPr/>
            <p:nvPr/>
          </p:nvSpPr>
          <p:spPr>
            <a:xfrm flipV="1">
              <a:off x="741672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8" name="Line 45"/>
            <p:cNvSpPr/>
            <p:nvPr/>
          </p:nvSpPr>
          <p:spPr>
            <a:xfrm flipV="1">
              <a:off x="782640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9" name="Line 46"/>
            <p:cNvSpPr/>
            <p:nvPr/>
          </p:nvSpPr>
          <p:spPr>
            <a:xfrm flipV="1">
              <a:off x="803124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600" name="Line 47"/>
            <p:cNvSpPr/>
            <p:nvPr/>
          </p:nvSpPr>
          <p:spPr>
            <a:xfrm flipV="1">
              <a:off x="844236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601" name="Line 48"/>
            <p:cNvSpPr/>
            <p:nvPr/>
          </p:nvSpPr>
          <p:spPr>
            <a:xfrm flipV="1">
              <a:off x="864720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602" name="Rectangle 49"/>
            <p:cNvSpPr/>
            <p:nvPr/>
          </p:nvSpPr>
          <p:spPr>
            <a:xfrm>
              <a:off x="810360" y="56070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2603" name="Rectangle 50"/>
            <p:cNvSpPr/>
            <p:nvPr/>
          </p:nvSpPr>
          <p:spPr>
            <a:xfrm>
              <a:off x="1426320" y="56070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604" name="Rectangle 51"/>
            <p:cNvSpPr/>
            <p:nvPr/>
          </p:nvSpPr>
          <p:spPr>
            <a:xfrm>
              <a:off x="2040840" y="56070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2605" name="Rectangle 52"/>
            <p:cNvSpPr/>
            <p:nvPr/>
          </p:nvSpPr>
          <p:spPr>
            <a:xfrm>
              <a:off x="2656800" y="56070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606" name="Rectangle 53"/>
            <p:cNvSpPr/>
            <p:nvPr/>
          </p:nvSpPr>
          <p:spPr>
            <a:xfrm>
              <a:off x="322920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2607" name="Rectangle 54"/>
            <p:cNvSpPr/>
            <p:nvPr/>
          </p:nvSpPr>
          <p:spPr>
            <a:xfrm>
              <a:off x="384516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Arial"/>
              </a:endParaRPr>
            </a:p>
          </p:txBody>
        </p:sp>
        <p:sp>
          <p:nvSpPr>
            <p:cNvPr id="2608" name="Rectangle 55"/>
            <p:cNvSpPr/>
            <p:nvPr/>
          </p:nvSpPr>
          <p:spPr>
            <a:xfrm>
              <a:off x="445968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a:t>
              </a:r>
              <a:endParaRPr b="0" lang="en-US" sz="1200" spc="-1" strike="noStrike">
                <a:solidFill>
                  <a:srgbClr val="000000"/>
                </a:solidFill>
                <a:latin typeface="Arial"/>
              </a:endParaRPr>
            </a:p>
          </p:txBody>
        </p:sp>
        <p:sp>
          <p:nvSpPr>
            <p:cNvPr id="2609" name="Rectangle 56"/>
            <p:cNvSpPr/>
            <p:nvPr/>
          </p:nvSpPr>
          <p:spPr>
            <a:xfrm>
              <a:off x="507564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a:t>
              </a:r>
              <a:endParaRPr b="0" lang="en-US" sz="1200" spc="-1" strike="noStrike">
                <a:solidFill>
                  <a:srgbClr val="000000"/>
                </a:solidFill>
                <a:latin typeface="Arial"/>
              </a:endParaRPr>
            </a:p>
          </p:txBody>
        </p:sp>
        <p:sp>
          <p:nvSpPr>
            <p:cNvPr id="2610" name="Rectangle 57"/>
            <p:cNvSpPr/>
            <p:nvPr/>
          </p:nvSpPr>
          <p:spPr>
            <a:xfrm>
              <a:off x="569016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a:t>
              </a:r>
              <a:endParaRPr b="0" lang="en-US" sz="1200" spc="-1" strike="noStrike">
                <a:solidFill>
                  <a:srgbClr val="000000"/>
                </a:solidFill>
                <a:latin typeface="Arial"/>
              </a:endParaRPr>
            </a:p>
          </p:txBody>
        </p:sp>
        <p:sp>
          <p:nvSpPr>
            <p:cNvPr id="2611" name="Rectangle 58"/>
            <p:cNvSpPr/>
            <p:nvPr/>
          </p:nvSpPr>
          <p:spPr>
            <a:xfrm>
              <a:off x="630792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Arial"/>
              </a:endParaRPr>
            </a:p>
          </p:txBody>
        </p:sp>
        <p:sp>
          <p:nvSpPr>
            <p:cNvPr id="2612" name="Rectangle 59"/>
            <p:cNvSpPr/>
            <p:nvPr/>
          </p:nvSpPr>
          <p:spPr>
            <a:xfrm>
              <a:off x="692208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a:t>
              </a:r>
              <a:endParaRPr b="0" lang="en-US" sz="1200" spc="-1" strike="noStrike">
                <a:solidFill>
                  <a:srgbClr val="000000"/>
                </a:solidFill>
                <a:latin typeface="Arial"/>
              </a:endParaRPr>
            </a:p>
          </p:txBody>
        </p:sp>
        <p:sp>
          <p:nvSpPr>
            <p:cNvPr id="2613" name="Rectangle 60"/>
            <p:cNvSpPr/>
            <p:nvPr/>
          </p:nvSpPr>
          <p:spPr>
            <a:xfrm>
              <a:off x="753660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a:t>
              </a:r>
              <a:endParaRPr b="0" lang="en-US" sz="1200" spc="-1" strike="noStrike">
                <a:solidFill>
                  <a:srgbClr val="000000"/>
                </a:solidFill>
                <a:latin typeface="Arial"/>
              </a:endParaRPr>
            </a:p>
          </p:txBody>
        </p:sp>
        <p:sp>
          <p:nvSpPr>
            <p:cNvPr id="2614" name="Rectangle 61"/>
            <p:cNvSpPr/>
            <p:nvPr/>
          </p:nvSpPr>
          <p:spPr>
            <a:xfrm>
              <a:off x="815256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000000"/>
                </a:solidFill>
                <a:latin typeface="Arial"/>
              </a:endParaRPr>
            </a:p>
          </p:txBody>
        </p:sp>
        <p:sp>
          <p:nvSpPr>
            <p:cNvPr id="2615" name="Rectangle 62"/>
            <p:cNvSpPr/>
            <p:nvPr/>
          </p:nvSpPr>
          <p:spPr>
            <a:xfrm>
              <a:off x="876888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000000"/>
                </a:solidFill>
                <a:latin typeface="Arial"/>
              </a:endParaRPr>
            </a:p>
          </p:txBody>
        </p:sp>
        <p:sp>
          <p:nvSpPr>
            <p:cNvPr id="2616" name="Line 63"/>
            <p:cNvSpPr/>
            <p:nvPr/>
          </p:nvSpPr>
          <p:spPr>
            <a:xfrm flipV="1">
              <a:off x="851760" y="1687320"/>
              <a:ext cx="0" cy="3789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17" name="Line 64"/>
            <p:cNvSpPr/>
            <p:nvPr/>
          </p:nvSpPr>
          <p:spPr>
            <a:xfrm>
              <a:off x="797760" y="54021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18" name="Line 65"/>
            <p:cNvSpPr/>
            <p:nvPr/>
          </p:nvSpPr>
          <p:spPr>
            <a:xfrm>
              <a:off x="797760" y="50306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19" name="Line 66"/>
            <p:cNvSpPr/>
            <p:nvPr/>
          </p:nvSpPr>
          <p:spPr>
            <a:xfrm>
              <a:off x="797760" y="46594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0" name="Line 67"/>
            <p:cNvSpPr/>
            <p:nvPr/>
          </p:nvSpPr>
          <p:spPr>
            <a:xfrm>
              <a:off x="797760" y="42861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1" name="Line 68"/>
            <p:cNvSpPr/>
            <p:nvPr/>
          </p:nvSpPr>
          <p:spPr>
            <a:xfrm>
              <a:off x="797760" y="39146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2" name="Line 69"/>
            <p:cNvSpPr/>
            <p:nvPr/>
          </p:nvSpPr>
          <p:spPr>
            <a:xfrm>
              <a:off x="797760" y="354312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3" name="Line 70"/>
            <p:cNvSpPr/>
            <p:nvPr/>
          </p:nvSpPr>
          <p:spPr>
            <a:xfrm>
              <a:off x="797760" y="317340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4" name="Line 71"/>
            <p:cNvSpPr/>
            <p:nvPr/>
          </p:nvSpPr>
          <p:spPr>
            <a:xfrm>
              <a:off x="797760" y="28018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5" name="Line 72"/>
            <p:cNvSpPr/>
            <p:nvPr/>
          </p:nvSpPr>
          <p:spPr>
            <a:xfrm>
              <a:off x="797760" y="24303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6" name="Line 73"/>
            <p:cNvSpPr/>
            <p:nvPr/>
          </p:nvSpPr>
          <p:spPr>
            <a:xfrm>
              <a:off x="797760" y="20588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7" name="Line 74"/>
            <p:cNvSpPr/>
            <p:nvPr/>
          </p:nvSpPr>
          <p:spPr>
            <a:xfrm>
              <a:off x="797760" y="168732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8" name="Line 75"/>
            <p:cNvSpPr/>
            <p:nvPr/>
          </p:nvSpPr>
          <p:spPr>
            <a:xfrm>
              <a:off x="819720" y="521496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9" name="Line 76"/>
            <p:cNvSpPr/>
            <p:nvPr/>
          </p:nvSpPr>
          <p:spPr>
            <a:xfrm>
              <a:off x="819720" y="484344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0" name="Line 77"/>
            <p:cNvSpPr/>
            <p:nvPr/>
          </p:nvSpPr>
          <p:spPr>
            <a:xfrm>
              <a:off x="819720" y="447372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1" name="Line 78"/>
            <p:cNvSpPr/>
            <p:nvPr/>
          </p:nvSpPr>
          <p:spPr>
            <a:xfrm>
              <a:off x="819720" y="410220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2" name="Line 79"/>
            <p:cNvSpPr/>
            <p:nvPr/>
          </p:nvSpPr>
          <p:spPr>
            <a:xfrm>
              <a:off x="819720" y="373068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3" name="Line 80"/>
            <p:cNvSpPr/>
            <p:nvPr/>
          </p:nvSpPr>
          <p:spPr>
            <a:xfrm>
              <a:off x="819720" y="335916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4" name="Line 81"/>
            <p:cNvSpPr/>
            <p:nvPr/>
          </p:nvSpPr>
          <p:spPr>
            <a:xfrm>
              <a:off x="819720" y="298620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5" name="Line 82"/>
            <p:cNvSpPr/>
            <p:nvPr/>
          </p:nvSpPr>
          <p:spPr>
            <a:xfrm>
              <a:off x="819720" y="261468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6" name="Line 83"/>
            <p:cNvSpPr/>
            <p:nvPr/>
          </p:nvSpPr>
          <p:spPr>
            <a:xfrm>
              <a:off x="819720" y="224460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7" name="Line 84"/>
            <p:cNvSpPr/>
            <p:nvPr/>
          </p:nvSpPr>
          <p:spPr>
            <a:xfrm>
              <a:off x="819720" y="187308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8" name="Rectangle 85"/>
            <p:cNvSpPr/>
            <p:nvPr/>
          </p:nvSpPr>
          <p:spPr>
            <a:xfrm>
              <a:off x="514440" y="531648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a:t>
              </a:r>
              <a:endParaRPr b="0" lang="en-US" sz="1200" spc="-1" strike="noStrike">
                <a:solidFill>
                  <a:srgbClr val="000000"/>
                </a:solidFill>
                <a:latin typeface="Arial"/>
              </a:endParaRPr>
            </a:p>
          </p:txBody>
        </p:sp>
        <p:sp>
          <p:nvSpPr>
            <p:cNvPr id="2639" name="Rectangle 86"/>
            <p:cNvSpPr/>
            <p:nvPr/>
          </p:nvSpPr>
          <p:spPr>
            <a:xfrm>
              <a:off x="514440" y="494496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a:t>
              </a:r>
              <a:endParaRPr b="0" lang="en-US" sz="1200" spc="-1" strike="noStrike">
                <a:solidFill>
                  <a:srgbClr val="000000"/>
                </a:solidFill>
                <a:latin typeface="Arial"/>
              </a:endParaRPr>
            </a:p>
          </p:txBody>
        </p:sp>
        <p:sp>
          <p:nvSpPr>
            <p:cNvPr id="2640" name="Rectangle 87"/>
            <p:cNvSpPr/>
            <p:nvPr/>
          </p:nvSpPr>
          <p:spPr>
            <a:xfrm>
              <a:off x="514440" y="45752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2</a:t>
              </a:r>
              <a:endParaRPr b="0" lang="en-US" sz="1200" spc="-1" strike="noStrike">
                <a:solidFill>
                  <a:srgbClr val="000000"/>
                </a:solidFill>
                <a:latin typeface="Arial"/>
              </a:endParaRPr>
            </a:p>
          </p:txBody>
        </p:sp>
        <p:sp>
          <p:nvSpPr>
            <p:cNvPr id="2641" name="Rectangle 88"/>
            <p:cNvSpPr/>
            <p:nvPr/>
          </p:nvSpPr>
          <p:spPr>
            <a:xfrm>
              <a:off x="514440" y="42019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a:t>
              </a:r>
              <a:endParaRPr b="0" lang="en-US" sz="1200" spc="-1" strike="noStrike">
                <a:solidFill>
                  <a:srgbClr val="000000"/>
                </a:solidFill>
                <a:latin typeface="Arial"/>
              </a:endParaRPr>
            </a:p>
          </p:txBody>
        </p:sp>
        <p:sp>
          <p:nvSpPr>
            <p:cNvPr id="2642" name="Rectangle 89"/>
            <p:cNvSpPr/>
            <p:nvPr/>
          </p:nvSpPr>
          <p:spPr>
            <a:xfrm>
              <a:off x="514440" y="383076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Arial"/>
              </a:endParaRPr>
            </a:p>
          </p:txBody>
        </p:sp>
        <p:sp>
          <p:nvSpPr>
            <p:cNvPr id="2643" name="Rectangle 90"/>
            <p:cNvSpPr/>
            <p:nvPr/>
          </p:nvSpPr>
          <p:spPr>
            <a:xfrm>
              <a:off x="514440" y="34592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5</a:t>
              </a:r>
              <a:endParaRPr b="0" lang="en-US" sz="1200" spc="-1" strike="noStrike">
                <a:solidFill>
                  <a:srgbClr val="000000"/>
                </a:solidFill>
                <a:latin typeface="Arial"/>
              </a:endParaRPr>
            </a:p>
          </p:txBody>
        </p:sp>
        <p:sp>
          <p:nvSpPr>
            <p:cNvPr id="2644" name="Rectangle 91"/>
            <p:cNvSpPr/>
            <p:nvPr/>
          </p:nvSpPr>
          <p:spPr>
            <a:xfrm>
              <a:off x="514440" y="30877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6</a:t>
              </a:r>
              <a:endParaRPr b="0" lang="en-US" sz="1200" spc="-1" strike="noStrike">
                <a:solidFill>
                  <a:srgbClr val="000000"/>
                </a:solidFill>
                <a:latin typeface="Arial"/>
              </a:endParaRPr>
            </a:p>
          </p:txBody>
        </p:sp>
        <p:sp>
          <p:nvSpPr>
            <p:cNvPr id="2645" name="Rectangle 92"/>
            <p:cNvSpPr/>
            <p:nvPr/>
          </p:nvSpPr>
          <p:spPr>
            <a:xfrm>
              <a:off x="514440" y="271620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7</a:t>
              </a:r>
              <a:endParaRPr b="0" lang="en-US" sz="1200" spc="-1" strike="noStrike">
                <a:solidFill>
                  <a:srgbClr val="000000"/>
                </a:solidFill>
                <a:latin typeface="Arial"/>
              </a:endParaRPr>
            </a:p>
          </p:txBody>
        </p:sp>
        <p:sp>
          <p:nvSpPr>
            <p:cNvPr id="2646" name="Rectangle 93"/>
            <p:cNvSpPr/>
            <p:nvPr/>
          </p:nvSpPr>
          <p:spPr>
            <a:xfrm>
              <a:off x="514440" y="23461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8</a:t>
              </a:r>
              <a:endParaRPr b="0" lang="en-US" sz="1200" spc="-1" strike="noStrike">
                <a:solidFill>
                  <a:srgbClr val="000000"/>
                </a:solidFill>
                <a:latin typeface="Arial"/>
              </a:endParaRPr>
            </a:p>
          </p:txBody>
        </p:sp>
        <p:sp>
          <p:nvSpPr>
            <p:cNvPr id="2647" name="Rectangle 94"/>
            <p:cNvSpPr/>
            <p:nvPr/>
          </p:nvSpPr>
          <p:spPr>
            <a:xfrm>
              <a:off x="514440" y="197460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9</a:t>
              </a:r>
              <a:endParaRPr b="0" lang="en-US" sz="1200" spc="-1" strike="noStrike">
                <a:solidFill>
                  <a:srgbClr val="000000"/>
                </a:solidFill>
                <a:latin typeface="Arial"/>
              </a:endParaRPr>
            </a:p>
          </p:txBody>
        </p:sp>
        <p:sp>
          <p:nvSpPr>
            <p:cNvPr id="2648" name="Rectangle 95"/>
            <p:cNvSpPr/>
            <p:nvPr/>
          </p:nvSpPr>
          <p:spPr>
            <a:xfrm>
              <a:off x="514440" y="16034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2649" name="Freeform 96"/>
            <p:cNvSpPr/>
            <p:nvPr/>
          </p:nvSpPr>
          <p:spPr>
            <a:xfrm flipV="1">
              <a:off x="851760" y="1686960"/>
              <a:ext cx="7601760" cy="3155760"/>
            </a:xfrm>
            <a:custGeom>
              <a:avLst/>
              <a:gdLst/>
              <a:ahLst/>
              <a:rect l="l" t="t" r="r" b="b"/>
              <a:pathLst>
                <a:path w="7006" h="2915">
                  <a:moveTo>
                    <a:pt x="0" y="2915"/>
                  </a:moveTo>
                  <a:lnTo>
                    <a:pt x="633" y="2915"/>
                  </a:lnTo>
                  <a:lnTo>
                    <a:pt x="633" y="2904"/>
                  </a:lnTo>
                  <a:lnTo>
                    <a:pt x="677" y="2904"/>
                  </a:lnTo>
                  <a:lnTo>
                    <a:pt x="745" y="2904"/>
                  </a:lnTo>
                  <a:lnTo>
                    <a:pt x="745" y="2892"/>
                  </a:lnTo>
                  <a:lnTo>
                    <a:pt x="782" y="2892"/>
                  </a:lnTo>
                  <a:lnTo>
                    <a:pt x="782" y="2880"/>
                  </a:lnTo>
                  <a:lnTo>
                    <a:pt x="788" y="2880"/>
                  </a:lnTo>
                  <a:lnTo>
                    <a:pt x="788" y="2868"/>
                  </a:lnTo>
                  <a:lnTo>
                    <a:pt x="869" y="2868"/>
                  </a:lnTo>
                  <a:lnTo>
                    <a:pt x="906" y="2868"/>
                  </a:lnTo>
                  <a:lnTo>
                    <a:pt x="906" y="2857"/>
                  </a:lnTo>
                  <a:lnTo>
                    <a:pt x="919" y="2857"/>
                  </a:lnTo>
                  <a:lnTo>
                    <a:pt x="919" y="2845"/>
                  </a:lnTo>
                  <a:lnTo>
                    <a:pt x="931" y="2845"/>
                  </a:lnTo>
                  <a:lnTo>
                    <a:pt x="937" y="2845"/>
                  </a:lnTo>
                  <a:lnTo>
                    <a:pt x="937" y="2833"/>
                  </a:lnTo>
                  <a:lnTo>
                    <a:pt x="987" y="2833"/>
                  </a:lnTo>
                  <a:lnTo>
                    <a:pt x="987" y="2821"/>
                  </a:lnTo>
                  <a:lnTo>
                    <a:pt x="993" y="2821"/>
                  </a:lnTo>
                  <a:lnTo>
                    <a:pt x="993" y="2809"/>
                  </a:lnTo>
                  <a:lnTo>
                    <a:pt x="1018" y="2809"/>
                  </a:lnTo>
                  <a:lnTo>
                    <a:pt x="1018" y="2797"/>
                  </a:lnTo>
                  <a:lnTo>
                    <a:pt x="1037" y="2797"/>
                  </a:lnTo>
                  <a:lnTo>
                    <a:pt x="1037" y="2785"/>
                  </a:lnTo>
                  <a:lnTo>
                    <a:pt x="1080" y="2785"/>
                  </a:lnTo>
                  <a:lnTo>
                    <a:pt x="1080" y="2773"/>
                  </a:lnTo>
                  <a:lnTo>
                    <a:pt x="1099" y="2773"/>
                  </a:lnTo>
                  <a:lnTo>
                    <a:pt x="1118" y="2773"/>
                  </a:lnTo>
                  <a:lnTo>
                    <a:pt x="1118" y="2762"/>
                  </a:lnTo>
                  <a:lnTo>
                    <a:pt x="1124" y="2762"/>
                  </a:lnTo>
                  <a:lnTo>
                    <a:pt x="1124" y="2738"/>
                  </a:lnTo>
                  <a:lnTo>
                    <a:pt x="1142" y="2738"/>
                  </a:lnTo>
                  <a:lnTo>
                    <a:pt x="1142" y="2726"/>
                  </a:lnTo>
                  <a:lnTo>
                    <a:pt x="1192" y="2726"/>
                  </a:lnTo>
                  <a:lnTo>
                    <a:pt x="1192" y="2714"/>
                  </a:lnTo>
                  <a:lnTo>
                    <a:pt x="1205" y="2714"/>
                  </a:lnTo>
                  <a:lnTo>
                    <a:pt x="1205" y="2702"/>
                  </a:lnTo>
                  <a:lnTo>
                    <a:pt x="1229" y="2702"/>
                  </a:lnTo>
                  <a:lnTo>
                    <a:pt x="1229" y="2690"/>
                  </a:lnTo>
                  <a:lnTo>
                    <a:pt x="1248" y="2690"/>
                  </a:lnTo>
                  <a:lnTo>
                    <a:pt x="1267" y="2690"/>
                  </a:lnTo>
                  <a:lnTo>
                    <a:pt x="1316" y="2690"/>
                  </a:lnTo>
                  <a:lnTo>
                    <a:pt x="1316" y="2666"/>
                  </a:lnTo>
                  <a:lnTo>
                    <a:pt x="1341" y="2666"/>
                  </a:lnTo>
                  <a:lnTo>
                    <a:pt x="1341" y="2654"/>
                  </a:lnTo>
                  <a:lnTo>
                    <a:pt x="1354" y="2654"/>
                  </a:lnTo>
                  <a:lnTo>
                    <a:pt x="1354" y="2642"/>
                  </a:lnTo>
                  <a:lnTo>
                    <a:pt x="1378" y="2642"/>
                  </a:lnTo>
                  <a:lnTo>
                    <a:pt x="1378" y="2630"/>
                  </a:lnTo>
                  <a:lnTo>
                    <a:pt x="1422" y="2630"/>
                  </a:lnTo>
                  <a:lnTo>
                    <a:pt x="1422" y="2618"/>
                  </a:lnTo>
                  <a:lnTo>
                    <a:pt x="1434" y="2618"/>
                  </a:lnTo>
                  <a:lnTo>
                    <a:pt x="1434" y="2606"/>
                  </a:lnTo>
                  <a:lnTo>
                    <a:pt x="1459" y="2606"/>
                  </a:lnTo>
                  <a:lnTo>
                    <a:pt x="1459" y="2594"/>
                  </a:lnTo>
                  <a:lnTo>
                    <a:pt x="1515" y="2594"/>
                  </a:lnTo>
                  <a:lnTo>
                    <a:pt x="1515" y="2582"/>
                  </a:lnTo>
                  <a:lnTo>
                    <a:pt x="1540" y="2582"/>
                  </a:lnTo>
                  <a:lnTo>
                    <a:pt x="1540" y="2570"/>
                  </a:lnTo>
                  <a:lnTo>
                    <a:pt x="1546" y="2570"/>
                  </a:lnTo>
                  <a:lnTo>
                    <a:pt x="1546" y="2558"/>
                  </a:lnTo>
                  <a:lnTo>
                    <a:pt x="1571" y="2558"/>
                  </a:lnTo>
                  <a:lnTo>
                    <a:pt x="1571" y="2545"/>
                  </a:lnTo>
                  <a:lnTo>
                    <a:pt x="1590" y="2545"/>
                  </a:lnTo>
                  <a:lnTo>
                    <a:pt x="1590" y="2521"/>
                  </a:lnTo>
                  <a:lnTo>
                    <a:pt x="1621" y="2521"/>
                  </a:lnTo>
                  <a:lnTo>
                    <a:pt x="1621" y="2509"/>
                  </a:lnTo>
                  <a:lnTo>
                    <a:pt x="1646" y="2509"/>
                  </a:lnTo>
                  <a:lnTo>
                    <a:pt x="1658" y="2509"/>
                  </a:lnTo>
                  <a:lnTo>
                    <a:pt x="1664" y="2509"/>
                  </a:lnTo>
                  <a:lnTo>
                    <a:pt x="1664" y="2497"/>
                  </a:lnTo>
                  <a:lnTo>
                    <a:pt x="1670" y="2497"/>
                  </a:lnTo>
                  <a:lnTo>
                    <a:pt x="1670" y="2485"/>
                  </a:lnTo>
                  <a:lnTo>
                    <a:pt x="1677" y="2485"/>
                  </a:lnTo>
                  <a:lnTo>
                    <a:pt x="1677" y="2460"/>
                  </a:lnTo>
                  <a:lnTo>
                    <a:pt x="1683" y="2460"/>
                  </a:lnTo>
                  <a:lnTo>
                    <a:pt x="1683" y="2424"/>
                  </a:lnTo>
                  <a:lnTo>
                    <a:pt x="1720" y="2424"/>
                  </a:lnTo>
                  <a:lnTo>
                    <a:pt x="1720" y="2412"/>
                  </a:lnTo>
                  <a:lnTo>
                    <a:pt x="1739" y="2412"/>
                  </a:lnTo>
                  <a:lnTo>
                    <a:pt x="1739" y="2399"/>
                  </a:lnTo>
                  <a:lnTo>
                    <a:pt x="1745" y="2399"/>
                  </a:lnTo>
                  <a:lnTo>
                    <a:pt x="1745" y="2375"/>
                  </a:lnTo>
                  <a:lnTo>
                    <a:pt x="1770" y="2375"/>
                  </a:lnTo>
                  <a:lnTo>
                    <a:pt x="1770" y="2363"/>
                  </a:lnTo>
                  <a:lnTo>
                    <a:pt x="1776" y="2363"/>
                  </a:lnTo>
                  <a:lnTo>
                    <a:pt x="1776" y="2350"/>
                  </a:lnTo>
                  <a:lnTo>
                    <a:pt x="1788" y="2350"/>
                  </a:lnTo>
                  <a:lnTo>
                    <a:pt x="1788" y="2338"/>
                  </a:lnTo>
                  <a:lnTo>
                    <a:pt x="1795" y="2338"/>
                  </a:lnTo>
                  <a:lnTo>
                    <a:pt x="1795" y="2301"/>
                  </a:lnTo>
                  <a:lnTo>
                    <a:pt x="1807" y="2301"/>
                  </a:lnTo>
                  <a:lnTo>
                    <a:pt x="1807" y="2289"/>
                  </a:lnTo>
                  <a:lnTo>
                    <a:pt x="1813" y="2289"/>
                  </a:lnTo>
                  <a:lnTo>
                    <a:pt x="1813" y="2277"/>
                  </a:lnTo>
                  <a:lnTo>
                    <a:pt x="1826" y="2277"/>
                  </a:lnTo>
                  <a:lnTo>
                    <a:pt x="1826" y="2265"/>
                  </a:lnTo>
                  <a:lnTo>
                    <a:pt x="1838" y="2265"/>
                  </a:lnTo>
                  <a:lnTo>
                    <a:pt x="1838" y="2252"/>
                  </a:lnTo>
                  <a:lnTo>
                    <a:pt x="1869" y="2252"/>
                  </a:lnTo>
                  <a:lnTo>
                    <a:pt x="1869" y="2240"/>
                  </a:lnTo>
                  <a:lnTo>
                    <a:pt x="1882" y="2240"/>
                  </a:lnTo>
                  <a:lnTo>
                    <a:pt x="1882" y="2216"/>
                  </a:lnTo>
                  <a:lnTo>
                    <a:pt x="1913" y="2216"/>
                  </a:lnTo>
                  <a:lnTo>
                    <a:pt x="1913" y="2203"/>
                  </a:lnTo>
                  <a:lnTo>
                    <a:pt x="1925" y="2203"/>
                  </a:lnTo>
                  <a:lnTo>
                    <a:pt x="1925" y="2179"/>
                  </a:lnTo>
                  <a:lnTo>
                    <a:pt x="1931" y="2179"/>
                  </a:lnTo>
                  <a:lnTo>
                    <a:pt x="1931" y="2167"/>
                  </a:lnTo>
                  <a:lnTo>
                    <a:pt x="1975" y="2167"/>
                  </a:lnTo>
                  <a:lnTo>
                    <a:pt x="1975" y="2154"/>
                  </a:lnTo>
                  <a:lnTo>
                    <a:pt x="1987" y="2154"/>
                  </a:lnTo>
                  <a:lnTo>
                    <a:pt x="1987" y="2118"/>
                  </a:lnTo>
                  <a:lnTo>
                    <a:pt x="2012" y="2118"/>
                  </a:lnTo>
                  <a:lnTo>
                    <a:pt x="2012" y="2105"/>
                  </a:lnTo>
                  <a:lnTo>
                    <a:pt x="2024" y="2105"/>
                  </a:lnTo>
                  <a:lnTo>
                    <a:pt x="2037" y="2105"/>
                  </a:lnTo>
                  <a:lnTo>
                    <a:pt x="2037" y="2093"/>
                  </a:lnTo>
                  <a:lnTo>
                    <a:pt x="2080" y="2093"/>
                  </a:lnTo>
                  <a:lnTo>
                    <a:pt x="2080" y="2081"/>
                  </a:lnTo>
                  <a:lnTo>
                    <a:pt x="2093" y="2081"/>
                  </a:lnTo>
                  <a:lnTo>
                    <a:pt x="2093" y="2068"/>
                  </a:lnTo>
                  <a:lnTo>
                    <a:pt x="2099" y="2068"/>
                  </a:lnTo>
                  <a:lnTo>
                    <a:pt x="2099" y="2056"/>
                  </a:lnTo>
                  <a:lnTo>
                    <a:pt x="2130" y="2056"/>
                  </a:lnTo>
                  <a:lnTo>
                    <a:pt x="2130" y="2031"/>
                  </a:lnTo>
                  <a:lnTo>
                    <a:pt x="2136" y="2031"/>
                  </a:lnTo>
                  <a:lnTo>
                    <a:pt x="2136" y="2019"/>
                  </a:lnTo>
                  <a:lnTo>
                    <a:pt x="2205" y="2019"/>
                  </a:lnTo>
                  <a:lnTo>
                    <a:pt x="2205" y="2007"/>
                  </a:lnTo>
                  <a:lnTo>
                    <a:pt x="2211" y="2007"/>
                  </a:lnTo>
                  <a:lnTo>
                    <a:pt x="2211" y="1982"/>
                  </a:lnTo>
                  <a:lnTo>
                    <a:pt x="2223" y="1982"/>
                  </a:lnTo>
                  <a:lnTo>
                    <a:pt x="2236" y="1982"/>
                  </a:lnTo>
                  <a:lnTo>
                    <a:pt x="2236" y="1970"/>
                  </a:lnTo>
                  <a:lnTo>
                    <a:pt x="2242" y="1970"/>
                  </a:lnTo>
                  <a:lnTo>
                    <a:pt x="2242" y="1958"/>
                  </a:lnTo>
                  <a:lnTo>
                    <a:pt x="2267" y="1958"/>
                  </a:lnTo>
                  <a:lnTo>
                    <a:pt x="2267" y="1945"/>
                  </a:lnTo>
                  <a:lnTo>
                    <a:pt x="2273" y="1945"/>
                  </a:lnTo>
                  <a:lnTo>
                    <a:pt x="2273" y="1933"/>
                  </a:lnTo>
                  <a:lnTo>
                    <a:pt x="2279" y="1933"/>
                  </a:lnTo>
                  <a:lnTo>
                    <a:pt x="2279" y="1920"/>
                  </a:lnTo>
                  <a:lnTo>
                    <a:pt x="2285" y="1920"/>
                  </a:lnTo>
                  <a:lnTo>
                    <a:pt x="2285" y="1896"/>
                  </a:lnTo>
                  <a:lnTo>
                    <a:pt x="2310" y="1896"/>
                  </a:lnTo>
                  <a:lnTo>
                    <a:pt x="2310" y="1883"/>
                  </a:lnTo>
                  <a:lnTo>
                    <a:pt x="2323" y="1883"/>
                  </a:lnTo>
                  <a:lnTo>
                    <a:pt x="2323" y="1871"/>
                  </a:lnTo>
                  <a:lnTo>
                    <a:pt x="2329" y="1871"/>
                  </a:lnTo>
                  <a:lnTo>
                    <a:pt x="2354" y="1871"/>
                  </a:lnTo>
                  <a:lnTo>
                    <a:pt x="2354" y="1859"/>
                  </a:lnTo>
                  <a:lnTo>
                    <a:pt x="2360" y="1859"/>
                  </a:lnTo>
                  <a:lnTo>
                    <a:pt x="2360" y="1846"/>
                  </a:lnTo>
                  <a:lnTo>
                    <a:pt x="2391" y="1846"/>
                  </a:lnTo>
                  <a:lnTo>
                    <a:pt x="2391" y="1834"/>
                  </a:lnTo>
                  <a:lnTo>
                    <a:pt x="2403" y="1834"/>
                  </a:lnTo>
                  <a:lnTo>
                    <a:pt x="2403" y="1821"/>
                  </a:lnTo>
                  <a:lnTo>
                    <a:pt x="2416" y="1821"/>
                  </a:lnTo>
                  <a:lnTo>
                    <a:pt x="2416" y="1796"/>
                  </a:lnTo>
                  <a:lnTo>
                    <a:pt x="2428" y="1796"/>
                  </a:lnTo>
                  <a:lnTo>
                    <a:pt x="2428" y="1784"/>
                  </a:lnTo>
                  <a:lnTo>
                    <a:pt x="2447" y="1784"/>
                  </a:lnTo>
                  <a:lnTo>
                    <a:pt x="2447" y="1771"/>
                  </a:lnTo>
                  <a:lnTo>
                    <a:pt x="2465" y="1771"/>
                  </a:lnTo>
                  <a:lnTo>
                    <a:pt x="2465" y="1759"/>
                  </a:lnTo>
                  <a:lnTo>
                    <a:pt x="2478" y="1759"/>
                  </a:lnTo>
                  <a:lnTo>
                    <a:pt x="2478" y="1747"/>
                  </a:lnTo>
                  <a:lnTo>
                    <a:pt x="2490" y="1747"/>
                  </a:lnTo>
                  <a:lnTo>
                    <a:pt x="2490" y="1734"/>
                  </a:lnTo>
                  <a:lnTo>
                    <a:pt x="2503" y="1734"/>
                  </a:lnTo>
                  <a:lnTo>
                    <a:pt x="2503" y="1722"/>
                  </a:lnTo>
                  <a:lnTo>
                    <a:pt x="2509" y="1722"/>
                  </a:lnTo>
                  <a:lnTo>
                    <a:pt x="2509" y="1709"/>
                  </a:lnTo>
                  <a:lnTo>
                    <a:pt x="2521" y="1709"/>
                  </a:lnTo>
                  <a:lnTo>
                    <a:pt x="2521" y="1697"/>
                  </a:lnTo>
                  <a:lnTo>
                    <a:pt x="2534" y="1697"/>
                  </a:lnTo>
                  <a:lnTo>
                    <a:pt x="2534" y="1684"/>
                  </a:lnTo>
                  <a:lnTo>
                    <a:pt x="2552" y="1684"/>
                  </a:lnTo>
                  <a:lnTo>
                    <a:pt x="2552" y="1672"/>
                  </a:lnTo>
                  <a:lnTo>
                    <a:pt x="2627" y="1672"/>
                  </a:lnTo>
                  <a:lnTo>
                    <a:pt x="2627" y="1659"/>
                  </a:lnTo>
                  <a:lnTo>
                    <a:pt x="2652" y="1659"/>
                  </a:lnTo>
                  <a:lnTo>
                    <a:pt x="2652" y="1634"/>
                  </a:lnTo>
                  <a:lnTo>
                    <a:pt x="2664" y="1634"/>
                  </a:lnTo>
                  <a:lnTo>
                    <a:pt x="2683" y="1634"/>
                  </a:lnTo>
                  <a:lnTo>
                    <a:pt x="2683" y="1622"/>
                  </a:lnTo>
                  <a:lnTo>
                    <a:pt x="2695" y="1622"/>
                  </a:lnTo>
                  <a:lnTo>
                    <a:pt x="2714" y="1622"/>
                  </a:lnTo>
                  <a:lnTo>
                    <a:pt x="2714" y="1609"/>
                  </a:lnTo>
                  <a:lnTo>
                    <a:pt x="2733" y="1609"/>
                  </a:lnTo>
                  <a:lnTo>
                    <a:pt x="2733" y="1596"/>
                  </a:lnTo>
                  <a:lnTo>
                    <a:pt x="2751" y="1596"/>
                  </a:lnTo>
                  <a:lnTo>
                    <a:pt x="2751" y="1583"/>
                  </a:lnTo>
                  <a:lnTo>
                    <a:pt x="2807" y="1583"/>
                  </a:lnTo>
                  <a:lnTo>
                    <a:pt x="2807" y="1571"/>
                  </a:lnTo>
                  <a:lnTo>
                    <a:pt x="2813" y="1571"/>
                  </a:lnTo>
                  <a:lnTo>
                    <a:pt x="2813" y="1558"/>
                  </a:lnTo>
                  <a:lnTo>
                    <a:pt x="2826" y="1558"/>
                  </a:lnTo>
                  <a:lnTo>
                    <a:pt x="2826" y="1545"/>
                  </a:lnTo>
                  <a:lnTo>
                    <a:pt x="2832" y="1545"/>
                  </a:lnTo>
                  <a:lnTo>
                    <a:pt x="2844" y="1545"/>
                  </a:lnTo>
                  <a:lnTo>
                    <a:pt x="2844" y="1532"/>
                  </a:lnTo>
                  <a:lnTo>
                    <a:pt x="2857" y="1532"/>
                  </a:lnTo>
                  <a:lnTo>
                    <a:pt x="2857" y="1520"/>
                  </a:lnTo>
                  <a:lnTo>
                    <a:pt x="2863" y="1520"/>
                  </a:lnTo>
                  <a:lnTo>
                    <a:pt x="2863" y="1507"/>
                  </a:lnTo>
                  <a:lnTo>
                    <a:pt x="2888" y="1507"/>
                  </a:lnTo>
                  <a:lnTo>
                    <a:pt x="2888" y="1494"/>
                  </a:lnTo>
                  <a:lnTo>
                    <a:pt x="2906" y="1494"/>
                  </a:lnTo>
                  <a:lnTo>
                    <a:pt x="2906" y="1481"/>
                  </a:lnTo>
                  <a:lnTo>
                    <a:pt x="2919" y="1481"/>
                  </a:lnTo>
                  <a:lnTo>
                    <a:pt x="2919" y="1468"/>
                  </a:lnTo>
                  <a:lnTo>
                    <a:pt x="2944" y="1468"/>
                  </a:lnTo>
                  <a:lnTo>
                    <a:pt x="2944" y="1456"/>
                  </a:lnTo>
                  <a:lnTo>
                    <a:pt x="2950" y="1456"/>
                  </a:lnTo>
                  <a:lnTo>
                    <a:pt x="2950" y="1443"/>
                  </a:lnTo>
                  <a:lnTo>
                    <a:pt x="3012" y="1443"/>
                  </a:lnTo>
                  <a:lnTo>
                    <a:pt x="3012" y="1430"/>
                  </a:lnTo>
                  <a:lnTo>
                    <a:pt x="3043" y="1430"/>
                  </a:lnTo>
                  <a:lnTo>
                    <a:pt x="3043" y="1417"/>
                  </a:lnTo>
                  <a:lnTo>
                    <a:pt x="3093" y="1417"/>
                  </a:lnTo>
                  <a:lnTo>
                    <a:pt x="3093" y="1404"/>
                  </a:lnTo>
                  <a:lnTo>
                    <a:pt x="3136" y="1404"/>
                  </a:lnTo>
                  <a:lnTo>
                    <a:pt x="3136" y="1392"/>
                  </a:lnTo>
                  <a:lnTo>
                    <a:pt x="3143" y="1392"/>
                  </a:lnTo>
                  <a:lnTo>
                    <a:pt x="3143" y="1379"/>
                  </a:lnTo>
                  <a:lnTo>
                    <a:pt x="3149" y="1379"/>
                  </a:lnTo>
                  <a:lnTo>
                    <a:pt x="3149" y="1366"/>
                  </a:lnTo>
                  <a:lnTo>
                    <a:pt x="3155" y="1366"/>
                  </a:lnTo>
                  <a:lnTo>
                    <a:pt x="3155" y="1353"/>
                  </a:lnTo>
                  <a:lnTo>
                    <a:pt x="3161" y="1353"/>
                  </a:lnTo>
                  <a:lnTo>
                    <a:pt x="3161" y="1328"/>
                  </a:lnTo>
                  <a:lnTo>
                    <a:pt x="3186" y="1328"/>
                  </a:lnTo>
                  <a:lnTo>
                    <a:pt x="3186" y="1315"/>
                  </a:lnTo>
                  <a:lnTo>
                    <a:pt x="3205" y="1315"/>
                  </a:lnTo>
                  <a:lnTo>
                    <a:pt x="3205" y="1302"/>
                  </a:lnTo>
                  <a:lnTo>
                    <a:pt x="3211" y="1302"/>
                  </a:lnTo>
                  <a:lnTo>
                    <a:pt x="3211" y="1289"/>
                  </a:lnTo>
                  <a:lnTo>
                    <a:pt x="3261" y="1289"/>
                  </a:lnTo>
                  <a:lnTo>
                    <a:pt x="3261" y="1276"/>
                  </a:lnTo>
                  <a:lnTo>
                    <a:pt x="3273" y="1276"/>
                  </a:lnTo>
                  <a:lnTo>
                    <a:pt x="3273" y="1251"/>
                  </a:lnTo>
                  <a:lnTo>
                    <a:pt x="3335" y="1251"/>
                  </a:lnTo>
                  <a:lnTo>
                    <a:pt x="3335" y="1225"/>
                  </a:lnTo>
                  <a:lnTo>
                    <a:pt x="3354" y="1225"/>
                  </a:lnTo>
                  <a:lnTo>
                    <a:pt x="3354" y="1200"/>
                  </a:lnTo>
                  <a:lnTo>
                    <a:pt x="3385" y="1200"/>
                  </a:lnTo>
                  <a:lnTo>
                    <a:pt x="3385" y="1187"/>
                  </a:lnTo>
                  <a:lnTo>
                    <a:pt x="3403" y="1187"/>
                  </a:lnTo>
                  <a:lnTo>
                    <a:pt x="3422" y="1187"/>
                  </a:lnTo>
                  <a:lnTo>
                    <a:pt x="3441" y="1187"/>
                  </a:lnTo>
                  <a:lnTo>
                    <a:pt x="3447" y="1187"/>
                  </a:lnTo>
                  <a:lnTo>
                    <a:pt x="3453" y="1187"/>
                  </a:lnTo>
                  <a:lnTo>
                    <a:pt x="3453" y="1173"/>
                  </a:lnTo>
                  <a:lnTo>
                    <a:pt x="3472" y="1173"/>
                  </a:lnTo>
                  <a:lnTo>
                    <a:pt x="3472" y="1160"/>
                  </a:lnTo>
                  <a:lnTo>
                    <a:pt x="3484" y="1160"/>
                  </a:lnTo>
                  <a:lnTo>
                    <a:pt x="3509" y="1160"/>
                  </a:lnTo>
                  <a:lnTo>
                    <a:pt x="3540" y="1160"/>
                  </a:lnTo>
                  <a:lnTo>
                    <a:pt x="3565" y="1160"/>
                  </a:lnTo>
                  <a:lnTo>
                    <a:pt x="3565" y="1147"/>
                  </a:lnTo>
                  <a:lnTo>
                    <a:pt x="3571" y="1147"/>
                  </a:lnTo>
                  <a:lnTo>
                    <a:pt x="3584" y="1147"/>
                  </a:lnTo>
                  <a:lnTo>
                    <a:pt x="3584" y="1133"/>
                  </a:lnTo>
                  <a:lnTo>
                    <a:pt x="3596" y="1133"/>
                  </a:lnTo>
                  <a:lnTo>
                    <a:pt x="3608" y="1133"/>
                  </a:lnTo>
                  <a:lnTo>
                    <a:pt x="3621" y="1133"/>
                  </a:lnTo>
                  <a:lnTo>
                    <a:pt x="3621" y="1119"/>
                  </a:lnTo>
                  <a:lnTo>
                    <a:pt x="3627" y="1119"/>
                  </a:lnTo>
                  <a:lnTo>
                    <a:pt x="3627" y="1104"/>
                  </a:lnTo>
                  <a:lnTo>
                    <a:pt x="3639" y="1104"/>
                  </a:lnTo>
                  <a:lnTo>
                    <a:pt x="3664" y="1104"/>
                  </a:lnTo>
                  <a:lnTo>
                    <a:pt x="3670" y="1104"/>
                  </a:lnTo>
                  <a:lnTo>
                    <a:pt x="3670" y="1090"/>
                  </a:lnTo>
                  <a:lnTo>
                    <a:pt x="3702" y="1090"/>
                  </a:lnTo>
                  <a:lnTo>
                    <a:pt x="3702" y="1076"/>
                  </a:lnTo>
                  <a:lnTo>
                    <a:pt x="3720" y="1076"/>
                  </a:lnTo>
                  <a:lnTo>
                    <a:pt x="3720" y="1061"/>
                  </a:lnTo>
                  <a:lnTo>
                    <a:pt x="3733" y="1061"/>
                  </a:lnTo>
                  <a:lnTo>
                    <a:pt x="3733" y="1047"/>
                  </a:lnTo>
                  <a:lnTo>
                    <a:pt x="3739" y="1047"/>
                  </a:lnTo>
                  <a:lnTo>
                    <a:pt x="3745" y="1047"/>
                  </a:lnTo>
                  <a:lnTo>
                    <a:pt x="3757" y="1047"/>
                  </a:lnTo>
                  <a:lnTo>
                    <a:pt x="3776" y="1047"/>
                  </a:lnTo>
                  <a:lnTo>
                    <a:pt x="3788" y="1047"/>
                  </a:lnTo>
                  <a:lnTo>
                    <a:pt x="3795" y="1047"/>
                  </a:lnTo>
                  <a:lnTo>
                    <a:pt x="3795" y="1031"/>
                  </a:lnTo>
                  <a:lnTo>
                    <a:pt x="3813" y="1031"/>
                  </a:lnTo>
                  <a:lnTo>
                    <a:pt x="3813" y="1016"/>
                  </a:lnTo>
                  <a:lnTo>
                    <a:pt x="3820" y="1016"/>
                  </a:lnTo>
                  <a:lnTo>
                    <a:pt x="3826" y="1016"/>
                  </a:lnTo>
                  <a:lnTo>
                    <a:pt x="3826" y="1001"/>
                  </a:lnTo>
                  <a:lnTo>
                    <a:pt x="3844" y="1001"/>
                  </a:lnTo>
                  <a:lnTo>
                    <a:pt x="3869" y="1001"/>
                  </a:lnTo>
                  <a:lnTo>
                    <a:pt x="3869" y="985"/>
                  </a:lnTo>
                  <a:lnTo>
                    <a:pt x="3875" y="985"/>
                  </a:lnTo>
                  <a:lnTo>
                    <a:pt x="3875" y="969"/>
                  </a:lnTo>
                  <a:lnTo>
                    <a:pt x="3900" y="969"/>
                  </a:lnTo>
                  <a:lnTo>
                    <a:pt x="3925" y="969"/>
                  </a:lnTo>
                  <a:lnTo>
                    <a:pt x="3944" y="969"/>
                  </a:lnTo>
                  <a:lnTo>
                    <a:pt x="3956" y="969"/>
                  </a:lnTo>
                  <a:lnTo>
                    <a:pt x="3956" y="952"/>
                  </a:lnTo>
                  <a:lnTo>
                    <a:pt x="3969" y="952"/>
                  </a:lnTo>
                  <a:lnTo>
                    <a:pt x="3969" y="919"/>
                  </a:lnTo>
                  <a:lnTo>
                    <a:pt x="3975" y="919"/>
                  </a:lnTo>
                  <a:lnTo>
                    <a:pt x="3975" y="903"/>
                  </a:lnTo>
                  <a:lnTo>
                    <a:pt x="3981" y="903"/>
                  </a:lnTo>
                  <a:lnTo>
                    <a:pt x="3981" y="886"/>
                  </a:lnTo>
                  <a:lnTo>
                    <a:pt x="3987" y="886"/>
                  </a:lnTo>
                  <a:lnTo>
                    <a:pt x="3987" y="870"/>
                  </a:lnTo>
                  <a:lnTo>
                    <a:pt x="4006" y="870"/>
                  </a:lnTo>
                  <a:lnTo>
                    <a:pt x="4105" y="870"/>
                  </a:lnTo>
                  <a:lnTo>
                    <a:pt x="4111" y="870"/>
                  </a:lnTo>
                  <a:lnTo>
                    <a:pt x="4130" y="870"/>
                  </a:lnTo>
                  <a:lnTo>
                    <a:pt x="4136" y="870"/>
                  </a:lnTo>
                  <a:lnTo>
                    <a:pt x="4143" y="870"/>
                  </a:lnTo>
                  <a:lnTo>
                    <a:pt x="4143" y="852"/>
                  </a:lnTo>
                  <a:lnTo>
                    <a:pt x="4155" y="852"/>
                  </a:lnTo>
                  <a:lnTo>
                    <a:pt x="4161" y="852"/>
                  </a:lnTo>
                  <a:lnTo>
                    <a:pt x="4161" y="834"/>
                  </a:lnTo>
                  <a:lnTo>
                    <a:pt x="4174" y="834"/>
                  </a:lnTo>
                  <a:lnTo>
                    <a:pt x="4174" y="816"/>
                  </a:lnTo>
                  <a:lnTo>
                    <a:pt x="4180" y="816"/>
                  </a:lnTo>
                  <a:lnTo>
                    <a:pt x="4192" y="816"/>
                  </a:lnTo>
                  <a:lnTo>
                    <a:pt x="4198" y="816"/>
                  </a:lnTo>
                  <a:lnTo>
                    <a:pt x="4198" y="798"/>
                  </a:lnTo>
                  <a:lnTo>
                    <a:pt x="4217" y="798"/>
                  </a:lnTo>
                  <a:lnTo>
                    <a:pt x="4217" y="779"/>
                  </a:lnTo>
                  <a:lnTo>
                    <a:pt x="4230" y="779"/>
                  </a:lnTo>
                  <a:lnTo>
                    <a:pt x="4230" y="761"/>
                  </a:lnTo>
                  <a:lnTo>
                    <a:pt x="4236" y="761"/>
                  </a:lnTo>
                  <a:lnTo>
                    <a:pt x="4236" y="742"/>
                  </a:lnTo>
                  <a:lnTo>
                    <a:pt x="4242" y="742"/>
                  </a:lnTo>
                  <a:lnTo>
                    <a:pt x="4242" y="724"/>
                  </a:lnTo>
                  <a:lnTo>
                    <a:pt x="4292" y="724"/>
                  </a:lnTo>
                  <a:lnTo>
                    <a:pt x="4335" y="724"/>
                  </a:lnTo>
                  <a:lnTo>
                    <a:pt x="4335" y="705"/>
                  </a:lnTo>
                  <a:lnTo>
                    <a:pt x="4341" y="705"/>
                  </a:lnTo>
                  <a:lnTo>
                    <a:pt x="4341" y="686"/>
                  </a:lnTo>
                  <a:lnTo>
                    <a:pt x="4354" y="686"/>
                  </a:lnTo>
                  <a:lnTo>
                    <a:pt x="4391" y="686"/>
                  </a:lnTo>
                  <a:lnTo>
                    <a:pt x="4391" y="667"/>
                  </a:lnTo>
                  <a:lnTo>
                    <a:pt x="4416" y="667"/>
                  </a:lnTo>
                  <a:lnTo>
                    <a:pt x="4577" y="667"/>
                  </a:lnTo>
                  <a:lnTo>
                    <a:pt x="4602" y="667"/>
                  </a:lnTo>
                  <a:lnTo>
                    <a:pt x="4621" y="667"/>
                  </a:lnTo>
                  <a:lnTo>
                    <a:pt x="4646" y="667"/>
                  </a:lnTo>
                  <a:lnTo>
                    <a:pt x="4658" y="667"/>
                  </a:lnTo>
                  <a:lnTo>
                    <a:pt x="4658" y="646"/>
                  </a:lnTo>
                  <a:lnTo>
                    <a:pt x="4677" y="646"/>
                  </a:lnTo>
                  <a:lnTo>
                    <a:pt x="4689" y="646"/>
                  </a:lnTo>
                  <a:lnTo>
                    <a:pt x="4689" y="625"/>
                  </a:lnTo>
                  <a:lnTo>
                    <a:pt x="4695" y="625"/>
                  </a:lnTo>
                  <a:lnTo>
                    <a:pt x="4695" y="603"/>
                  </a:lnTo>
                  <a:lnTo>
                    <a:pt x="4726" y="603"/>
                  </a:lnTo>
                  <a:lnTo>
                    <a:pt x="4739" y="603"/>
                  </a:lnTo>
                  <a:lnTo>
                    <a:pt x="4751" y="603"/>
                  </a:lnTo>
                  <a:lnTo>
                    <a:pt x="4757" y="603"/>
                  </a:lnTo>
                  <a:lnTo>
                    <a:pt x="4776" y="603"/>
                  </a:lnTo>
                  <a:lnTo>
                    <a:pt x="4801" y="603"/>
                  </a:lnTo>
                  <a:lnTo>
                    <a:pt x="4838" y="603"/>
                  </a:lnTo>
                  <a:lnTo>
                    <a:pt x="4851" y="603"/>
                  </a:lnTo>
                  <a:lnTo>
                    <a:pt x="4851" y="577"/>
                  </a:lnTo>
                  <a:lnTo>
                    <a:pt x="4882" y="577"/>
                  </a:lnTo>
                  <a:lnTo>
                    <a:pt x="4900" y="577"/>
                  </a:lnTo>
                  <a:lnTo>
                    <a:pt x="4913" y="577"/>
                  </a:lnTo>
                  <a:lnTo>
                    <a:pt x="4925" y="577"/>
                  </a:lnTo>
                  <a:lnTo>
                    <a:pt x="4931" y="577"/>
                  </a:lnTo>
                  <a:lnTo>
                    <a:pt x="4956" y="577"/>
                  </a:lnTo>
                  <a:lnTo>
                    <a:pt x="4956" y="518"/>
                  </a:lnTo>
                  <a:lnTo>
                    <a:pt x="4962" y="518"/>
                  </a:lnTo>
                  <a:lnTo>
                    <a:pt x="4962" y="489"/>
                  </a:lnTo>
                  <a:lnTo>
                    <a:pt x="5062" y="489"/>
                  </a:lnTo>
                  <a:lnTo>
                    <a:pt x="5062" y="459"/>
                  </a:lnTo>
                  <a:lnTo>
                    <a:pt x="5093" y="459"/>
                  </a:lnTo>
                  <a:lnTo>
                    <a:pt x="5174" y="459"/>
                  </a:lnTo>
                  <a:lnTo>
                    <a:pt x="5242" y="459"/>
                  </a:lnTo>
                  <a:lnTo>
                    <a:pt x="5273" y="459"/>
                  </a:lnTo>
                  <a:lnTo>
                    <a:pt x="5317" y="459"/>
                  </a:lnTo>
                  <a:lnTo>
                    <a:pt x="5335" y="459"/>
                  </a:lnTo>
                  <a:lnTo>
                    <a:pt x="5435" y="459"/>
                  </a:lnTo>
                  <a:lnTo>
                    <a:pt x="5435" y="423"/>
                  </a:lnTo>
                  <a:lnTo>
                    <a:pt x="5490" y="423"/>
                  </a:lnTo>
                  <a:lnTo>
                    <a:pt x="5503" y="423"/>
                  </a:lnTo>
                  <a:lnTo>
                    <a:pt x="5509" y="423"/>
                  </a:lnTo>
                  <a:lnTo>
                    <a:pt x="5540" y="423"/>
                  </a:lnTo>
                  <a:lnTo>
                    <a:pt x="5584" y="423"/>
                  </a:lnTo>
                  <a:lnTo>
                    <a:pt x="5584" y="380"/>
                  </a:lnTo>
                  <a:lnTo>
                    <a:pt x="5627" y="380"/>
                  </a:lnTo>
                  <a:lnTo>
                    <a:pt x="5671" y="380"/>
                  </a:lnTo>
                  <a:lnTo>
                    <a:pt x="5671" y="336"/>
                  </a:lnTo>
                  <a:lnTo>
                    <a:pt x="5714" y="336"/>
                  </a:lnTo>
                  <a:lnTo>
                    <a:pt x="5714" y="291"/>
                  </a:lnTo>
                  <a:lnTo>
                    <a:pt x="5745" y="291"/>
                  </a:lnTo>
                  <a:lnTo>
                    <a:pt x="5776" y="291"/>
                  </a:lnTo>
                  <a:lnTo>
                    <a:pt x="5782" y="291"/>
                  </a:lnTo>
                  <a:lnTo>
                    <a:pt x="5826" y="291"/>
                  </a:lnTo>
                  <a:lnTo>
                    <a:pt x="5826" y="237"/>
                  </a:lnTo>
                  <a:lnTo>
                    <a:pt x="5863" y="237"/>
                  </a:lnTo>
                  <a:lnTo>
                    <a:pt x="5969" y="237"/>
                  </a:lnTo>
                  <a:lnTo>
                    <a:pt x="5994" y="237"/>
                  </a:lnTo>
                  <a:lnTo>
                    <a:pt x="6012" y="237"/>
                  </a:lnTo>
                  <a:lnTo>
                    <a:pt x="6049" y="237"/>
                  </a:lnTo>
                  <a:lnTo>
                    <a:pt x="6136" y="237"/>
                  </a:lnTo>
                  <a:lnTo>
                    <a:pt x="6391" y="237"/>
                  </a:lnTo>
                  <a:lnTo>
                    <a:pt x="6466" y="237"/>
                  </a:lnTo>
                  <a:lnTo>
                    <a:pt x="6466" y="129"/>
                  </a:lnTo>
                  <a:lnTo>
                    <a:pt x="6490" y="129"/>
                  </a:lnTo>
                  <a:lnTo>
                    <a:pt x="6559" y="129"/>
                  </a:lnTo>
                  <a:lnTo>
                    <a:pt x="6559" y="0"/>
                  </a:lnTo>
                  <a:lnTo>
                    <a:pt x="6664" y="0"/>
                  </a:lnTo>
                  <a:lnTo>
                    <a:pt x="6683" y="0"/>
                  </a:lnTo>
                  <a:lnTo>
                    <a:pt x="6714" y="0"/>
                  </a:lnTo>
                  <a:lnTo>
                    <a:pt x="70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50" name="Freeform 97"/>
            <p:cNvSpPr/>
            <p:nvPr/>
          </p:nvSpPr>
          <p:spPr>
            <a:xfrm flipV="1">
              <a:off x="851760" y="1686960"/>
              <a:ext cx="7273080" cy="3098880"/>
            </a:xfrm>
            <a:custGeom>
              <a:avLst/>
              <a:gdLst/>
              <a:ahLst/>
              <a:rect l="l" t="t" r="r" b="b"/>
              <a:pathLst>
                <a:path w="6702" h="2863">
                  <a:moveTo>
                    <a:pt x="0" y="2863"/>
                  </a:moveTo>
                  <a:lnTo>
                    <a:pt x="708" y="2863"/>
                  </a:lnTo>
                  <a:lnTo>
                    <a:pt x="708" y="2852"/>
                  </a:lnTo>
                  <a:lnTo>
                    <a:pt x="757" y="2852"/>
                  </a:lnTo>
                  <a:lnTo>
                    <a:pt x="757" y="2829"/>
                  </a:lnTo>
                  <a:lnTo>
                    <a:pt x="776" y="2829"/>
                  </a:lnTo>
                  <a:lnTo>
                    <a:pt x="776" y="2806"/>
                  </a:lnTo>
                  <a:lnTo>
                    <a:pt x="795" y="2806"/>
                  </a:lnTo>
                  <a:lnTo>
                    <a:pt x="795" y="2794"/>
                  </a:lnTo>
                  <a:lnTo>
                    <a:pt x="801" y="2794"/>
                  </a:lnTo>
                  <a:lnTo>
                    <a:pt x="826" y="2794"/>
                  </a:lnTo>
                  <a:lnTo>
                    <a:pt x="826" y="2783"/>
                  </a:lnTo>
                  <a:lnTo>
                    <a:pt x="850" y="2783"/>
                  </a:lnTo>
                  <a:lnTo>
                    <a:pt x="850" y="2771"/>
                  </a:lnTo>
                  <a:lnTo>
                    <a:pt x="882" y="2771"/>
                  </a:lnTo>
                  <a:lnTo>
                    <a:pt x="882" y="2760"/>
                  </a:lnTo>
                  <a:lnTo>
                    <a:pt x="888" y="2760"/>
                  </a:lnTo>
                  <a:lnTo>
                    <a:pt x="888" y="2748"/>
                  </a:lnTo>
                  <a:lnTo>
                    <a:pt x="894" y="2748"/>
                  </a:lnTo>
                  <a:lnTo>
                    <a:pt x="894" y="2737"/>
                  </a:lnTo>
                  <a:lnTo>
                    <a:pt x="913" y="2737"/>
                  </a:lnTo>
                  <a:lnTo>
                    <a:pt x="913" y="2725"/>
                  </a:lnTo>
                  <a:lnTo>
                    <a:pt x="956" y="2725"/>
                  </a:lnTo>
                  <a:lnTo>
                    <a:pt x="956" y="2714"/>
                  </a:lnTo>
                  <a:lnTo>
                    <a:pt x="968" y="2714"/>
                  </a:lnTo>
                  <a:lnTo>
                    <a:pt x="968" y="2702"/>
                  </a:lnTo>
                  <a:lnTo>
                    <a:pt x="981" y="2702"/>
                  </a:lnTo>
                  <a:lnTo>
                    <a:pt x="1037" y="2702"/>
                  </a:lnTo>
                  <a:lnTo>
                    <a:pt x="1037" y="2690"/>
                  </a:lnTo>
                  <a:lnTo>
                    <a:pt x="1049" y="2690"/>
                  </a:lnTo>
                  <a:lnTo>
                    <a:pt x="1049" y="2679"/>
                  </a:lnTo>
                  <a:lnTo>
                    <a:pt x="1055" y="2679"/>
                  </a:lnTo>
                  <a:lnTo>
                    <a:pt x="1068" y="2679"/>
                  </a:lnTo>
                  <a:lnTo>
                    <a:pt x="1087" y="2679"/>
                  </a:lnTo>
                  <a:lnTo>
                    <a:pt x="1087" y="2667"/>
                  </a:lnTo>
                  <a:lnTo>
                    <a:pt x="1105" y="2667"/>
                  </a:lnTo>
                  <a:lnTo>
                    <a:pt x="1105" y="2655"/>
                  </a:lnTo>
                  <a:lnTo>
                    <a:pt x="1111" y="2655"/>
                  </a:lnTo>
                  <a:lnTo>
                    <a:pt x="1111" y="2644"/>
                  </a:lnTo>
                  <a:lnTo>
                    <a:pt x="1118" y="2644"/>
                  </a:lnTo>
                  <a:lnTo>
                    <a:pt x="1118" y="2632"/>
                  </a:lnTo>
                  <a:lnTo>
                    <a:pt x="1155" y="2632"/>
                  </a:lnTo>
                  <a:lnTo>
                    <a:pt x="1155" y="2620"/>
                  </a:lnTo>
                  <a:lnTo>
                    <a:pt x="1173" y="2620"/>
                  </a:lnTo>
                  <a:lnTo>
                    <a:pt x="1173" y="2597"/>
                  </a:lnTo>
                  <a:lnTo>
                    <a:pt x="1186" y="2597"/>
                  </a:lnTo>
                  <a:lnTo>
                    <a:pt x="1186" y="2585"/>
                  </a:lnTo>
                  <a:lnTo>
                    <a:pt x="1205" y="2585"/>
                  </a:lnTo>
                  <a:lnTo>
                    <a:pt x="1205" y="2574"/>
                  </a:lnTo>
                  <a:lnTo>
                    <a:pt x="1242" y="2574"/>
                  </a:lnTo>
                  <a:lnTo>
                    <a:pt x="1242" y="2550"/>
                  </a:lnTo>
                  <a:lnTo>
                    <a:pt x="1273" y="2550"/>
                  </a:lnTo>
                  <a:lnTo>
                    <a:pt x="1273" y="2539"/>
                  </a:lnTo>
                  <a:lnTo>
                    <a:pt x="1310" y="2539"/>
                  </a:lnTo>
                  <a:lnTo>
                    <a:pt x="1310" y="2515"/>
                  </a:lnTo>
                  <a:lnTo>
                    <a:pt x="1316" y="2515"/>
                  </a:lnTo>
                  <a:lnTo>
                    <a:pt x="1329" y="2515"/>
                  </a:lnTo>
                  <a:lnTo>
                    <a:pt x="1329" y="2504"/>
                  </a:lnTo>
                  <a:lnTo>
                    <a:pt x="1341" y="2504"/>
                  </a:lnTo>
                  <a:lnTo>
                    <a:pt x="1341" y="2492"/>
                  </a:lnTo>
                  <a:lnTo>
                    <a:pt x="1347" y="2492"/>
                  </a:lnTo>
                  <a:lnTo>
                    <a:pt x="1347" y="2480"/>
                  </a:lnTo>
                  <a:lnTo>
                    <a:pt x="1366" y="2480"/>
                  </a:lnTo>
                  <a:lnTo>
                    <a:pt x="1366" y="2468"/>
                  </a:lnTo>
                  <a:lnTo>
                    <a:pt x="1378" y="2468"/>
                  </a:lnTo>
                  <a:lnTo>
                    <a:pt x="1378" y="2457"/>
                  </a:lnTo>
                  <a:lnTo>
                    <a:pt x="1397" y="2457"/>
                  </a:lnTo>
                  <a:lnTo>
                    <a:pt x="1397" y="2445"/>
                  </a:lnTo>
                  <a:lnTo>
                    <a:pt x="1403" y="2445"/>
                  </a:lnTo>
                  <a:lnTo>
                    <a:pt x="1403" y="2433"/>
                  </a:lnTo>
                  <a:lnTo>
                    <a:pt x="1410" y="2433"/>
                  </a:lnTo>
                  <a:lnTo>
                    <a:pt x="1410" y="2421"/>
                  </a:lnTo>
                  <a:lnTo>
                    <a:pt x="1416" y="2421"/>
                  </a:lnTo>
                  <a:lnTo>
                    <a:pt x="1416" y="2409"/>
                  </a:lnTo>
                  <a:lnTo>
                    <a:pt x="1422" y="2409"/>
                  </a:lnTo>
                  <a:lnTo>
                    <a:pt x="1428" y="2409"/>
                  </a:lnTo>
                  <a:lnTo>
                    <a:pt x="1428" y="2398"/>
                  </a:lnTo>
                  <a:lnTo>
                    <a:pt x="1434" y="2398"/>
                  </a:lnTo>
                  <a:lnTo>
                    <a:pt x="1434" y="2386"/>
                  </a:lnTo>
                  <a:lnTo>
                    <a:pt x="1441" y="2386"/>
                  </a:lnTo>
                  <a:lnTo>
                    <a:pt x="1441" y="2374"/>
                  </a:lnTo>
                  <a:lnTo>
                    <a:pt x="1447" y="2374"/>
                  </a:lnTo>
                  <a:lnTo>
                    <a:pt x="1447" y="2362"/>
                  </a:lnTo>
                  <a:lnTo>
                    <a:pt x="1459" y="2362"/>
                  </a:lnTo>
                  <a:lnTo>
                    <a:pt x="1459" y="2350"/>
                  </a:lnTo>
                  <a:lnTo>
                    <a:pt x="1472" y="2350"/>
                  </a:lnTo>
                  <a:lnTo>
                    <a:pt x="1472" y="2327"/>
                  </a:lnTo>
                  <a:lnTo>
                    <a:pt x="1496" y="2327"/>
                  </a:lnTo>
                  <a:lnTo>
                    <a:pt x="1496" y="2315"/>
                  </a:lnTo>
                  <a:lnTo>
                    <a:pt x="1521" y="2315"/>
                  </a:lnTo>
                  <a:lnTo>
                    <a:pt x="1521" y="2303"/>
                  </a:lnTo>
                  <a:lnTo>
                    <a:pt x="1565" y="2303"/>
                  </a:lnTo>
                  <a:lnTo>
                    <a:pt x="1583" y="2303"/>
                  </a:lnTo>
                  <a:lnTo>
                    <a:pt x="1583" y="2291"/>
                  </a:lnTo>
                  <a:lnTo>
                    <a:pt x="1596" y="2291"/>
                  </a:lnTo>
                  <a:lnTo>
                    <a:pt x="1596" y="2267"/>
                  </a:lnTo>
                  <a:lnTo>
                    <a:pt x="1664" y="2267"/>
                  </a:lnTo>
                  <a:lnTo>
                    <a:pt x="1664" y="2255"/>
                  </a:lnTo>
                  <a:lnTo>
                    <a:pt x="1670" y="2255"/>
                  </a:lnTo>
                  <a:lnTo>
                    <a:pt x="1670" y="2244"/>
                  </a:lnTo>
                  <a:lnTo>
                    <a:pt x="1677" y="2244"/>
                  </a:lnTo>
                  <a:lnTo>
                    <a:pt x="1677" y="2232"/>
                  </a:lnTo>
                  <a:lnTo>
                    <a:pt x="1708" y="2232"/>
                  </a:lnTo>
                  <a:lnTo>
                    <a:pt x="1708" y="2220"/>
                  </a:lnTo>
                  <a:lnTo>
                    <a:pt x="1714" y="2220"/>
                  </a:lnTo>
                  <a:lnTo>
                    <a:pt x="1714" y="2208"/>
                  </a:lnTo>
                  <a:lnTo>
                    <a:pt x="1745" y="2208"/>
                  </a:lnTo>
                  <a:lnTo>
                    <a:pt x="1745" y="2196"/>
                  </a:lnTo>
                  <a:lnTo>
                    <a:pt x="1751" y="2196"/>
                  </a:lnTo>
                  <a:lnTo>
                    <a:pt x="1751" y="2184"/>
                  </a:lnTo>
                  <a:lnTo>
                    <a:pt x="1757" y="2184"/>
                  </a:lnTo>
                  <a:lnTo>
                    <a:pt x="1757" y="2160"/>
                  </a:lnTo>
                  <a:lnTo>
                    <a:pt x="1795" y="2160"/>
                  </a:lnTo>
                  <a:lnTo>
                    <a:pt x="1795" y="2148"/>
                  </a:lnTo>
                  <a:lnTo>
                    <a:pt x="1801" y="2148"/>
                  </a:lnTo>
                  <a:lnTo>
                    <a:pt x="1801" y="2112"/>
                  </a:lnTo>
                  <a:lnTo>
                    <a:pt x="1807" y="2112"/>
                  </a:lnTo>
                  <a:lnTo>
                    <a:pt x="1807" y="2100"/>
                  </a:lnTo>
                  <a:lnTo>
                    <a:pt x="1838" y="2100"/>
                  </a:lnTo>
                  <a:lnTo>
                    <a:pt x="1838" y="2088"/>
                  </a:lnTo>
                  <a:lnTo>
                    <a:pt x="1844" y="2088"/>
                  </a:lnTo>
                  <a:lnTo>
                    <a:pt x="1844" y="2076"/>
                  </a:lnTo>
                  <a:lnTo>
                    <a:pt x="1863" y="2076"/>
                  </a:lnTo>
                  <a:lnTo>
                    <a:pt x="1863" y="2064"/>
                  </a:lnTo>
                  <a:lnTo>
                    <a:pt x="1906" y="2064"/>
                  </a:lnTo>
                  <a:lnTo>
                    <a:pt x="1913" y="2064"/>
                  </a:lnTo>
                  <a:lnTo>
                    <a:pt x="1913" y="2052"/>
                  </a:lnTo>
                  <a:lnTo>
                    <a:pt x="1925" y="2052"/>
                  </a:lnTo>
                  <a:lnTo>
                    <a:pt x="1925" y="2040"/>
                  </a:lnTo>
                  <a:lnTo>
                    <a:pt x="1931" y="2040"/>
                  </a:lnTo>
                  <a:lnTo>
                    <a:pt x="1931" y="2028"/>
                  </a:lnTo>
                  <a:lnTo>
                    <a:pt x="1975" y="2028"/>
                  </a:lnTo>
                  <a:lnTo>
                    <a:pt x="1975" y="2016"/>
                  </a:lnTo>
                  <a:lnTo>
                    <a:pt x="2006" y="2016"/>
                  </a:lnTo>
                  <a:lnTo>
                    <a:pt x="2006" y="2004"/>
                  </a:lnTo>
                  <a:lnTo>
                    <a:pt x="2018" y="2004"/>
                  </a:lnTo>
                  <a:lnTo>
                    <a:pt x="2018" y="1992"/>
                  </a:lnTo>
                  <a:lnTo>
                    <a:pt x="2031" y="1992"/>
                  </a:lnTo>
                  <a:lnTo>
                    <a:pt x="2031" y="1980"/>
                  </a:lnTo>
                  <a:lnTo>
                    <a:pt x="2043" y="1980"/>
                  </a:lnTo>
                  <a:lnTo>
                    <a:pt x="2043" y="1968"/>
                  </a:lnTo>
                  <a:lnTo>
                    <a:pt x="2055" y="1968"/>
                  </a:lnTo>
                  <a:lnTo>
                    <a:pt x="2055" y="1956"/>
                  </a:lnTo>
                  <a:lnTo>
                    <a:pt x="2062" y="1956"/>
                  </a:lnTo>
                  <a:lnTo>
                    <a:pt x="2062" y="1944"/>
                  </a:lnTo>
                  <a:lnTo>
                    <a:pt x="2074" y="1944"/>
                  </a:lnTo>
                  <a:lnTo>
                    <a:pt x="2074" y="1932"/>
                  </a:lnTo>
                  <a:lnTo>
                    <a:pt x="2080" y="1932"/>
                  </a:lnTo>
                  <a:lnTo>
                    <a:pt x="2080" y="1920"/>
                  </a:lnTo>
                  <a:lnTo>
                    <a:pt x="2087" y="1920"/>
                  </a:lnTo>
                  <a:lnTo>
                    <a:pt x="2087" y="1908"/>
                  </a:lnTo>
                  <a:lnTo>
                    <a:pt x="2111" y="1908"/>
                  </a:lnTo>
                  <a:lnTo>
                    <a:pt x="2111" y="1896"/>
                  </a:lnTo>
                  <a:lnTo>
                    <a:pt x="2118" y="1896"/>
                  </a:lnTo>
                  <a:lnTo>
                    <a:pt x="2118" y="1884"/>
                  </a:lnTo>
                  <a:lnTo>
                    <a:pt x="2124" y="1884"/>
                  </a:lnTo>
                  <a:lnTo>
                    <a:pt x="2124" y="1872"/>
                  </a:lnTo>
                  <a:lnTo>
                    <a:pt x="2130" y="1872"/>
                  </a:lnTo>
                  <a:lnTo>
                    <a:pt x="2130" y="1848"/>
                  </a:lnTo>
                  <a:lnTo>
                    <a:pt x="2142" y="1848"/>
                  </a:lnTo>
                  <a:lnTo>
                    <a:pt x="2142" y="1836"/>
                  </a:lnTo>
                  <a:lnTo>
                    <a:pt x="2149" y="1836"/>
                  </a:lnTo>
                  <a:lnTo>
                    <a:pt x="2149" y="1824"/>
                  </a:lnTo>
                  <a:lnTo>
                    <a:pt x="2167" y="1824"/>
                  </a:lnTo>
                  <a:lnTo>
                    <a:pt x="2167" y="1812"/>
                  </a:lnTo>
                  <a:lnTo>
                    <a:pt x="2205" y="1812"/>
                  </a:lnTo>
                  <a:lnTo>
                    <a:pt x="2205" y="1800"/>
                  </a:lnTo>
                  <a:lnTo>
                    <a:pt x="2211" y="1800"/>
                  </a:lnTo>
                  <a:lnTo>
                    <a:pt x="2211" y="1788"/>
                  </a:lnTo>
                  <a:lnTo>
                    <a:pt x="2223" y="1788"/>
                  </a:lnTo>
                  <a:lnTo>
                    <a:pt x="2223" y="1776"/>
                  </a:lnTo>
                  <a:lnTo>
                    <a:pt x="2236" y="1776"/>
                  </a:lnTo>
                  <a:lnTo>
                    <a:pt x="2236" y="1764"/>
                  </a:lnTo>
                  <a:lnTo>
                    <a:pt x="2242" y="1764"/>
                  </a:lnTo>
                  <a:lnTo>
                    <a:pt x="2242" y="1740"/>
                  </a:lnTo>
                  <a:lnTo>
                    <a:pt x="2254" y="1740"/>
                  </a:lnTo>
                  <a:lnTo>
                    <a:pt x="2254" y="1728"/>
                  </a:lnTo>
                  <a:lnTo>
                    <a:pt x="2260" y="1728"/>
                  </a:lnTo>
                  <a:lnTo>
                    <a:pt x="2260" y="1716"/>
                  </a:lnTo>
                  <a:lnTo>
                    <a:pt x="2292" y="1716"/>
                  </a:lnTo>
                  <a:lnTo>
                    <a:pt x="2292" y="1704"/>
                  </a:lnTo>
                  <a:lnTo>
                    <a:pt x="2298" y="1704"/>
                  </a:lnTo>
                  <a:lnTo>
                    <a:pt x="2298" y="1692"/>
                  </a:lnTo>
                  <a:lnTo>
                    <a:pt x="2310" y="1692"/>
                  </a:lnTo>
                  <a:lnTo>
                    <a:pt x="2335" y="1692"/>
                  </a:lnTo>
                  <a:lnTo>
                    <a:pt x="2335" y="1679"/>
                  </a:lnTo>
                  <a:lnTo>
                    <a:pt x="2347" y="1679"/>
                  </a:lnTo>
                  <a:lnTo>
                    <a:pt x="2347" y="1643"/>
                  </a:lnTo>
                  <a:lnTo>
                    <a:pt x="2416" y="1643"/>
                  </a:lnTo>
                  <a:lnTo>
                    <a:pt x="2416" y="1631"/>
                  </a:lnTo>
                  <a:lnTo>
                    <a:pt x="2434" y="1631"/>
                  </a:lnTo>
                  <a:lnTo>
                    <a:pt x="2434" y="1619"/>
                  </a:lnTo>
                  <a:lnTo>
                    <a:pt x="2472" y="1619"/>
                  </a:lnTo>
                  <a:lnTo>
                    <a:pt x="2472" y="1606"/>
                  </a:lnTo>
                  <a:lnTo>
                    <a:pt x="2478" y="1606"/>
                  </a:lnTo>
                  <a:lnTo>
                    <a:pt x="2478" y="1594"/>
                  </a:lnTo>
                  <a:lnTo>
                    <a:pt x="2484" y="1594"/>
                  </a:lnTo>
                  <a:lnTo>
                    <a:pt x="2484" y="1582"/>
                  </a:lnTo>
                  <a:lnTo>
                    <a:pt x="2528" y="1582"/>
                  </a:lnTo>
                  <a:lnTo>
                    <a:pt x="2528" y="1558"/>
                  </a:lnTo>
                  <a:lnTo>
                    <a:pt x="2534" y="1558"/>
                  </a:lnTo>
                  <a:lnTo>
                    <a:pt x="2534" y="1534"/>
                  </a:lnTo>
                  <a:lnTo>
                    <a:pt x="2577" y="1534"/>
                  </a:lnTo>
                  <a:lnTo>
                    <a:pt x="2577" y="1521"/>
                  </a:lnTo>
                  <a:lnTo>
                    <a:pt x="2583" y="1521"/>
                  </a:lnTo>
                  <a:lnTo>
                    <a:pt x="2583" y="1509"/>
                  </a:lnTo>
                  <a:lnTo>
                    <a:pt x="2602" y="1509"/>
                  </a:lnTo>
                  <a:lnTo>
                    <a:pt x="2602" y="1497"/>
                  </a:lnTo>
                  <a:lnTo>
                    <a:pt x="2621" y="1497"/>
                  </a:lnTo>
                  <a:lnTo>
                    <a:pt x="2621" y="1485"/>
                  </a:lnTo>
                  <a:lnTo>
                    <a:pt x="2646" y="1485"/>
                  </a:lnTo>
                  <a:lnTo>
                    <a:pt x="2646" y="1461"/>
                  </a:lnTo>
                  <a:lnTo>
                    <a:pt x="2664" y="1461"/>
                  </a:lnTo>
                  <a:lnTo>
                    <a:pt x="2683" y="1461"/>
                  </a:lnTo>
                  <a:lnTo>
                    <a:pt x="2683" y="1448"/>
                  </a:lnTo>
                  <a:lnTo>
                    <a:pt x="2695" y="1448"/>
                  </a:lnTo>
                  <a:lnTo>
                    <a:pt x="2695" y="1436"/>
                  </a:lnTo>
                  <a:lnTo>
                    <a:pt x="2701" y="1436"/>
                  </a:lnTo>
                  <a:lnTo>
                    <a:pt x="2701" y="1424"/>
                  </a:lnTo>
                  <a:lnTo>
                    <a:pt x="2708" y="1424"/>
                  </a:lnTo>
                  <a:lnTo>
                    <a:pt x="2708" y="1412"/>
                  </a:lnTo>
                  <a:lnTo>
                    <a:pt x="2720" y="1412"/>
                  </a:lnTo>
                  <a:lnTo>
                    <a:pt x="2720" y="1400"/>
                  </a:lnTo>
                  <a:lnTo>
                    <a:pt x="2726" y="1400"/>
                  </a:lnTo>
                  <a:lnTo>
                    <a:pt x="2726" y="1387"/>
                  </a:lnTo>
                  <a:lnTo>
                    <a:pt x="2745" y="1387"/>
                  </a:lnTo>
                  <a:lnTo>
                    <a:pt x="2745" y="1375"/>
                  </a:lnTo>
                  <a:lnTo>
                    <a:pt x="2776" y="1375"/>
                  </a:lnTo>
                  <a:lnTo>
                    <a:pt x="2776" y="1351"/>
                  </a:lnTo>
                  <a:lnTo>
                    <a:pt x="2820" y="1351"/>
                  </a:lnTo>
                  <a:lnTo>
                    <a:pt x="2820" y="1326"/>
                  </a:lnTo>
                  <a:lnTo>
                    <a:pt x="2838" y="1326"/>
                  </a:lnTo>
                  <a:lnTo>
                    <a:pt x="2838" y="1290"/>
                  </a:lnTo>
                  <a:lnTo>
                    <a:pt x="2851" y="1290"/>
                  </a:lnTo>
                  <a:lnTo>
                    <a:pt x="2851" y="1277"/>
                  </a:lnTo>
                  <a:lnTo>
                    <a:pt x="2875" y="1277"/>
                  </a:lnTo>
                  <a:lnTo>
                    <a:pt x="2875" y="1253"/>
                  </a:lnTo>
                  <a:lnTo>
                    <a:pt x="2888" y="1253"/>
                  </a:lnTo>
                  <a:lnTo>
                    <a:pt x="2888" y="1241"/>
                  </a:lnTo>
                  <a:lnTo>
                    <a:pt x="2906" y="1241"/>
                  </a:lnTo>
                  <a:lnTo>
                    <a:pt x="2906" y="1229"/>
                  </a:lnTo>
                  <a:lnTo>
                    <a:pt x="2919" y="1229"/>
                  </a:lnTo>
                  <a:lnTo>
                    <a:pt x="2919" y="1216"/>
                  </a:lnTo>
                  <a:lnTo>
                    <a:pt x="2931" y="1216"/>
                  </a:lnTo>
                  <a:lnTo>
                    <a:pt x="2931" y="1204"/>
                  </a:lnTo>
                  <a:lnTo>
                    <a:pt x="2938" y="1204"/>
                  </a:lnTo>
                  <a:lnTo>
                    <a:pt x="2938" y="1180"/>
                  </a:lnTo>
                  <a:lnTo>
                    <a:pt x="2962" y="1180"/>
                  </a:lnTo>
                  <a:lnTo>
                    <a:pt x="2962" y="1167"/>
                  </a:lnTo>
                  <a:lnTo>
                    <a:pt x="2969" y="1167"/>
                  </a:lnTo>
                  <a:lnTo>
                    <a:pt x="2969" y="1155"/>
                  </a:lnTo>
                  <a:lnTo>
                    <a:pt x="2975" y="1155"/>
                  </a:lnTo>
                  <a:lnTo>
                    <a:pt x="2975" y="1143"/>
                  </a:lnTo>
                  <a:lnTo>
                    <a:pt x="3000" y="1143"/>
                  </a:lnTo>
                  <a:lnTo>
                    <a:pt x="3000" y="1131"/>
                  </a:lnTo>
                  <a:lnTo>
                    <a:pt x="3031" y="1131"/>
                  </a:lnTo>
                  <a:lnTo>
                    <a:pt x="3031" y="1119"/>
                  </a:lnTo>
                  <a:lnTo>
                    <a:pt x="3049" y="1119"/>
                  </a:lnTo>
                  <a:lnTo>
                    <a:pt x="3049" y="1094"/>
                  </a:lnTo>
                  <a:lnTo>
                    <a:pt x="3080" y="1094"/>
                  </a:lnTo>
                  <a:lnTo>
                    <a:pt x="3080" y="1082"/>
                  </a:lnTo>
                  <a:lnTo>
                    <a:pt x="3087" y="1082"/>
                  </a:lnTo>
                  <a:lnTo>
                    <a:pt x="3087" y="1045"/>
                  </a:lnTo>
                  <a:lnTo>
                    <a:pt x="3111" y="1045"/>
                  </a:lnTo>
                  <a:lnTo>
                    <a:pt x="3111" y="1033"/>
                  </a:lnTo>
                  <a:lnTo>
                    <a:pt x="3205" y="1033"/>
                  </a:lnTo>
                  <a:lnTo>
                    <a:pt x="3205" y="1021"/>
                  </a:lnTo>
                  <a:lnTo>
                    <a:pt x="3223" y="1021"/>
                  </a:lnTo>
                  <a:lnTo>
                    <a:pt x="3223" y="1009"/>
                  </a:lnTo>
                  <a:lnTo>
                    <a:pt x="3236" y="1009"/>
                  </a:lnTo>
                  <a:lnTo>
                    <a:pt x="3236" y="996"/>
                  </a:lnTo>
                  <a:lnTo>
                    <a:pt x="3242" y="996"/>
                  </a:lnTo>
                  <a:lnTo>
                    <a:pt x="3242" y="984"/>
                  </a:lnTo>
                  <a:lnTo>
                    <a:pt x="3254" y="984"/>
                  </a:lnTo>
                  <a:lnTo>
                    <a:pt x="3254" y="972"/>
                  </a:lnTo>
                  <a:lnTo>
                    <a:pt x="3335" y="972"/>
                  </a:lnTo>
                  <a:lnTo>
                    <a:pt x="3335" y="960"/>
                  </a:lnTo>
                  <a:lnTo>
                    <a:pt x="3341" y="960"/>
                  </a:lnTo>
                  <a:lnTo>
                    <a:pt x="3341" y="947"/>
                  </a:lnTo>
                  <a:lnTo>
                    <a:pt x="3347" y="947"/>
                  </a:lnTo>
                  <a:lnTo>
                    <a:pt x="3347" y="923"/>
                  </a:lnTo>
                  <a:lnTo>
                    <a:pt x="3360" y="923"/>
                  </a:lnTo>
                  <a:lnTo>
                    <a:pt x="3360" y="911"/>
                  </a:lnTo>
                  <a:lnTo>
                    <a:pt x="3366" y="911"/>
                  </a:lnTo>
                  <a:lnTo>
                    <a:pt x="3366" y="886"/>
                  </a:lnTo>
                  <a:lnTo>
                    <a:pt x="3372" y="886"/>
                  </a:lnTo>
                  <a:lnTo>
                    <a:pt x="3385" y="886"/>
                  </a:lnTo>
                  <a:lnTo>
                    <a:pt x="3385" y="873"/>
                  </a:lnTo>
                  <a:lnTo>
                    <a:pt x="3397" y="873"/>
                  </a:lnTo>
                  <a:lnTo>
                    <a:pt x="3397" y="861"/>
                  </a:lnTo>
                  <a:lnTo>
                    <a:pt x="3403" y="861"/>
                  </a:lnTo>
                  <a:lnTo>
                    <a:pt x="3416" y="861"/>
                  </a:lnTo>
                  <a:lnTo>
                    <a:pt x="3416" y="848"/>
                  </a:lnTo>
                  <a:lnTo>
                    <a:pt x="3434" y="848"/>
                  </a:lnTo>
                  <a:lnTo>
                    <a:pt x="3434" y="835"/>
                  </a:lnTo>
                  <a:lnTo>
                    <a:pt x="3472" y="835"/>
                  </a:lnTo>
                  <a:lnTo>
                    <a:pt x="3490" y="835"/>
                  </a:lnTo>
                  <a:lnTo>
                    <a:pt x="3497" y="835"/>
                  </a:lnTo>
                  <a:lnTo>
                    <a:pt x="3497" y="822"/>
                  </a:lnTo>
                  <a:lnTo>
                    <a:pt x="3509" y="822"/>
                  </a:lnTo>
                  <a:lnTo>
                    <a:pt x="3528" y="822"/>
                  </a:lnTo>
                  <a:lnTo>
                    <a:pt x="3528" y="809"/>
                  </a:lnTo>
                  <a:lnTo>
                    <a:pt x="3571" y="809"/>
                  </a:lnTo>
                  <a:lnTo>
                    <a:pt x="3571" y="795"/>
                  </a:lnTo>
                  <a:lnTo>
                    <a:pt x="3584" y="795"/>
                  </a:lnTo>
                  <a:lnTo>
                    <a:pt x="3615" y="795"/>
                  </a:lnTo>
                  <a:lnTo>
                    <a:pt x="3633" y="795"/>
                  </a:lnTo>
                  <a:lnTo>
                    <a:pt x="3633" y="782"/>
                  </a:lnTo>
                  <a:lnTo>
                    <a:pt x="3658" y="782"/>
                  </a:lnTo>
                  <a:lnTo>
                    <a:pt x="3670" y="782"/>
                  </a:lnTo>
                  <a:lnTo>
                    <a:pt x="3683" y="782"/>
                  </a:lnTo>
                  <a:lnTo>
                    <a:pt x="3689" y="782"/>
                  </a:lnTo>
                  <a:lnTo>
                    <a:pt x="3702" y="782"/>
                  </a:lnTo>
                  <a:lnTo>
                    <a:pt x="3702" y="767"/>
                  </a:lnTo>
                  <a:lnTo>
                    <a:pt x="3726" y="767"/>
                  </a:lnTo>
                  <a:lnTo>
                    <a:pt x="3726" y="753"/>
                  </a:lnTo>
                  <a:lnTo>
                    <a:pt x="3745" y="753"/>
                  </a:lnTo>
                  <a:lnTo>
                    <a:pt x="3751" y="753"/>
                  </a:lnTo>
                  <a:lnTo>
                    <a:pt x="3751" y="738"/>
                  </a:lnTo>
                  <a:lnTo>
                    <a:pt x="3770" y="738"/>
                  </a:lnTo>
                  <a:lnTo>
                    <a:pt x="3770" y="724"/>
                  </a:lnTo>
                  <a:lnTo>
                    <a:pt x="3795" y="724"/>
                  </a:lnTo>
                  <a:lnTo>
                    <a:pt x="3795" y="709"/>
                  </a:lnTo>
                  <a:lnTo>
                    <a:pt x="3832" y="709"/>
                  </a:lnTo>
                  <a:lnTo>
                    <a:pt x="3832" y="695"/>
                  </a:lnTo>
                  <a:lnTo>
                    <a:pt x="3888" y="695"/>
                  </a:lnTo>
                  <a:lnTo>
                    <a:pt x="3888" y="666"/>
                  </a:lnTo>
                  <a:lnTo>
                    <a:pt x="3900" y="666"/>
                  </a:lnTo>
                  <a:lnTo>
                    <a:pt x="3900" y="651"/>
                  </a:lnTo>
                  <a:lnTo>
                    <a:pt x="3907" y="651"/>
                  </a:lnTo>
                  <a:lnTo>
                    <a:pt x="3907" y="636"/>
                  </a:lnTo>
                  <a:lnTo>
                    <a:pt x="3913" y="636"/>
                  </a:lnTo>
                  <a:lnTo>
                    <a:pt x="3925" y="636"/>
                  </a:lnTo>
                  <a:lnTo>
                    <a:pt x="3931" y="636"/>
                  </a:lnTo>
                  <a:lnTo>
                    <a:pt x="3931" y="621"/>
                  </a:lnTo>
                  <a:lnTo>
                    <a:pt x="3962" y="621"/>
                  </a:lnTo>
                  <a:lnTo>
                    <a:pt x="3975" y="621"/>
                  </a:lnTo>
                  <a:lnTo>
                    <a:pt x="3975" y="606"/>
                  </a:lnTo>
                  <a:lnTo>
                    <a:pt x="3987" y="606"/>
                  </a:lnTo>
                  <a:lnTo>
                    <a:pt x="3987" y="591"/>
                  </a:lnTo>
                  <a:lnTo>
                    <a:pt x="4018" y="591"/>
                  </a:lnTo>
                  <a:lnTo>
                    <a:pt x="4018" y="575"/>
                  </a:lnTo>
                  <a:lnTo>
                    <a:pt x="4056" y="575"/>
                  </a:lnTo>
                  <a:lnTo>
                    <a:pt x="4056" y="560"/>
                  </a:lnTo>
                  <a:lnTo>
                    <a:pt x="4062" y="560"/>
                  </a:lnTo>
                  <a:lnTo>
                    <a:pt x="4062" y="544"/>
                  </a:lnTo>
                  <a:lnTo>
                    <a:pt x="4068" y="544"/>
                  </a:lnTo>
                  <a:lnTo>
                    <a:pt x="4105" y="544"/>
                  </a:lnTo>
                  <a:lnTo>
                    <a:pt x="4105" y="528"/>
                  </a:lnTo>
                  <a:lnTo>
                    <a:pt x="4161" y="528"/>
                  </a:lnTo>
                  <a:lnTo>
                    <a:pt x="4161" y="512"/>
                  </a:lnTo>
                  <a:lnTo>
                    <a:pt x="4174" y="512"/>
                  </a:lnTo>
                  <a:lnTo>
                    <a:pt x="4174" y="496"/>
                  </a:lnTo>
                  <a:lnTo>
                    <a:pt x="4217" y="496"/>
                  </a:lnTo>
                  <a:lnTo>
                    <a:pt x="4217" y="447"/>
                  </a:lnTo>
                  <a:lnTo>
                    <a:pt x="4267" y="447"/>
                  </a:lnTo>
                  <a:lnTo>
                    <a:pt x="4267" y="431"/>
                  </a:lnTo>
                  <a:lnTo>
                    <a:pt x="4292" y="431"/>
                  </a:lnTo>
                  <a:lnTo>
                    <a:pt x="4298" y="431"/>
                  </a:lnTo>
                  <a:lnTo>
                    <a:pt x="4310" y="431"/>
                  </a:lnTo>
                  <a:lnTo>
                    <a:pt x="4310" y="414"/>
                  </a:lnTo>
                  <a:lnTo>
                    <a:pt x="4329" y="414"/>
                  </a:lnTo>
                  <a:lnTo>
                    <a:pt x="4329" y="397"/>
                  </a:lnTo>
                  <a:lnTo>
                    <a:pt x="4348" y="397"/>
                  </a:lnTo>
                  <a:lnTo>
                    <a:pt x="4422" y="397"/>
                  </a:lnTo>
                  <a:lnTo>
                    <a:pt x="4441" y="397"/>
                  </a:lnTo>
                  <a:lnTo>
                    <a:pt x="4459" y="397"/>
                  </a:lnTo>
                  <a:lnTo>
                    <a:pt x="4478" y="397"/>
                  </a:lnTo>
                  <a:lnTo>
                    <a:pt x="4478" y="379"/>
                  </a:lnTo>
                  <a:lnTo>
                    <a:pt x="4484" y="379"/>
                  </a:lnTo>
                  <a:lnTo>
                    <a:pt x="4484" y="360"/>
                  </a:lnTo>
                  <a:lnTo>
                    <a:pt x="4515" y="360"/>
                  </a:lnTo>
                  <a:lnTo>
                    <a:pt x="4515" y="342"/>
                  </a:lnTo>
                  <a:lnTo>
                    <a:pt x="4540" y="342"/>
                  </a:lnTo>
                  <a:lnTo>
                    <a:pt x="4553" y="342"/>
                  </a:lnTo>
                  <a:lnTo>
                    <a:pt x="4590" y="342"/>
                  </a:lnTo>
                  <a:lnTo>
                    <a:pt x="4608" y="342"/>
                  </a:lnTo>
                  <a:lnTo>
                    <a:pt x="4627" y="342"/>
                  </a:lnTo>
                  <a:lnTo>
                    <a:pt x="4627" y="322"/>
                  </a:lnTo>
                  <a:lnTo>
                    <a:pt x="4652" y="322"/>
                  </a:lnTo>
                  <a:lnTo>
                    <a:pt x="4664" y="322"/>
                  </a:lnTo>
                  <a:lnTo>
                    <a:pt x="4677" y="322"/>
                  </a:lnTo>
                  <a:lnTo>
                    <a:pt x="4708" y="322"/>
                  </a:lnTo>
                  <a:lnTo>
                    <a:pt x="4726" y="322"/>
                  </a:lnTo>
                  <a:lnTo>
                    <a:pt x="4745" y="322"/>
                  </a:lnTo>
                  <a:lnTo>
                    <a:pt x="4813" y="322"/>
                  </a:lnTo>
                  <a:lnTo>
                    <a:pt x="4813" y="300"/>
                  </a:lnTo>
                  <a:lnTo>
                    <a:pt x="4875" y="300"/>
                  </a:lnTo>
                  <a:lnTo>
                    <a:pt x="4919" y="300"/>
                  </a:lnTo>
                  <a:lnTo>
                    <a:pt x="4919" y="276"/>
                  </a:lnTo>
                  <a:lnTo>
                    <a:pt x="4925" y="276"/>
                  </a:lnTo>
                  <a:lnTo>
                    <a:pt x="4950" y="276"/>
                  </a:lnTo>
                  <a:lnTo>
                    <a:pt x="4950" y="252"/>
                  </a:lnTo>
                  <a:lnTo>
                    <a:pt x="5037" y="252"/>
                  </a:lnTo>
                  <a:lnTo>
                    <a:pt x="5043" y="252"/>
                  </a:lnTo>
                  <a:lnTo>
                    <a:pt x="5099" y="252"/>
                  </a:lnTo>
                  <a:lnTo>
                    <a:pt x="5124" y="252"/>
                  </a:lnTo>
                  <a:lnTo>
                    <a:pt x="5161" y="252"/>
                  </a:lnTo>
                  <a:lnTo>
                    <a:pt x="5186" y="252"/>
                  </a:lnTo>
                  <a:lnTo>
                    <a:pt x="5230" y="252"/>
                  </a:lnTo>
                  <a:lnTo>
                    <a:pt x="5254" y="252"/>
                  </a:lnTo>
                  <a:lnTo>
                    <a:pt x="5261" y="252"/>
                  </a:lnTo>
                  <a:lnTo>
                    <a:pt x="5273" y="252"/>
                  </a:lnTo>
                  <a:lnTo>
                    <a:pt x="5279" y="252"/>
                  </a:lnTo>
                  <a:lnTo>
                    <a:pt x="5285" y="252"/>
                  </a:lnTo>
                  <a:lnTo>
                    <a:pt x="5304" y="252"/>
                  </a:lnTo>
                  <a:lnTo>
                    <a:pt x="5304" y="213"/>
                  </a:lnTo>
                  <a:lnTo>
                    <a:pt x="5323" y="213"/>
                  </a:lnTo>
                  <a:lnTo>
                    <a:pt x="5379" y="213"/>
                  </a:lnTo>
                  <a:lnTo>
                    <a:pt x="5422" y="213"/>
                  </a:lnTo>
                  <a:lnTo>
                    <a:pt x="5497" y="213"/>
                  </a:lnTo>
                  <a:lnTo>
                    <a:pt x="5540" y="213"/>
                  </a:lnTo>
                  <a:lnTo>
                    <a:pt x="5689" y="213"/>
                  </a:lnTo>
                  <a:lnTo>
                    <a:pt x="5726" y="213"/>
                  </a:lnTo>
                  <a:lnTo>
                    <a:pt x="5764" y="213"/>
                  </a:lnTo>
                  <a:lnTo>
                    <a:pt x="5838" y="213"/>
                  </a:lnTo>
                  <a:lnTo>
                    <a:pt x="5975" y="213"/>
                  </a:lnTo>
                  <a:lnTo>
                    <a:pt x="5975" y="142"/>
                  </a:lnTo>
                  <a:lnTo>
                    <a:pt x="5987" y="142"/>
                  </a:lnTo>
                  <a:lnTo>
                    <a:pt x="6112" y="142"/>
                  </a:lnTo>
                  <a:lnTo>
                    <a:pt x="6180" y="142"/>
                  </a:lnTo>
                  <a:lnTo>
                    <a:pt x="6192" y="142"/>
                  </a:lnTo>
                  <a:lnTo>
                    <a:pt x="6205" y="142"/>
                  </a:lnTo>
                  <a:lnTo>
                    <a:pt x="6273" y="142"/>
                  </a:lnTo>
                  <a:lnTo>
                    <a:pt x="6273" y="0"/>
                  </a:lnTo>
                  <a:lnTo>
                    <a:pt x="6385" y="0"/>
                  </a:lnTo>
                  <a:lnTo>
                    <a:pt x="6478" y="0"/>
                  </a:lnTo>
                  <a:lnTo>
                    <a:pt x="6509" y="0"/>
                  </a:lnTo>
                  <a:lnTo>
                    <a:pt x="6702" y="0"/>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51" name="Rectangle 98"/>
            <p:cNvSpPr/>
            <p:nvPr/>
          </p:nvSpPr>
          <p:spPr>
            <a:xfrm>
              <a:off x="3877560" y="5977080"/>
              <a:ext cx="25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from Induction (Months)</a:t>
              </a:r>
              <a:endParaRPr b="0" lang="en-US" sz="1400" spc="-1" strike="noStrike">
                <a:solidFill>
                  <a:srgbClr val="000000"/>
                </a:solidFill>
                <a:latin typeface="Arial"/>
              </a:endParaRPr>
            </a:p>
          </p:txBody>
        </p:sp>
        <p:sp>
          <p:nvSpPr>
            <p:cNvPr id="2652" name="Rectangle 99"/>
            <p:cNvSpPr/>
            <p:nvPr/>
          </p:nvSpPr>
          <p:spPr>
            <a:xfrm rot="16200000">
              <a:off x="-556920" y="3918600"/>
              <a:ext cx="166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vival Probability</a:t>
              </a:r>
              <a:endParaRPr b="0" lang="en-US" sz="14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653" name="Straight Arrow Connector 17"/>
          <p:cNvCxnSpPr/>
          <p:nvPr/>
        </p:nvCxnSpPr>
        <p:spPr>
          <a:xfrm>
            <a:off x="4343400" y="3809520"/>
            <a:ext cx="534240" cy="2520"/>
          </a:xfrm>
          <a:prstGeom prst="straightConnector1">
            <a:avLst/>
          </a:prstGeom>
          <a:ln w="57240">
            <a:solidFill>
              <a:srgbClr val="002060"/>
            </a:solidFill>
            <a:miter/>
            <a:tailEnd len="med" type="triangle" w="med"/>
          </a:ln>
        </p:spPr>
      </p:cxnSp>
      <p:sp>
        <p:nvSpPr>
          <p:cNvPr id="265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COG-E5508: Phase </a:t>
            </a:r>
            <a:r>
              <a:rPr b="0" lang="en-US" sz="2800" spc="-1" strike="noStrike">
                <a:solidFill>
                  <a:srgbClr val="000000"/>
                </a:solidFill>
                <a:latin typeface="Arial"/>
              </a:rPr>
              <a:t>III trial of BV, Pem, or BV+Pem as maintenance therapy in advanced NSCLC</a:t>
            </a:r>
            <a:endParaRPr b="0" lang="en-US" sz="2800" spc="-1" strike="noStrike">
              <a:solidFill>
                <a:srgbClr val="000000"/>
              </a:solidFill>
              <a:latin typeface="Arial"/>
            </a:endParaRPr>
          </a:p>
        </p:txBody>
      </p:sp>
      <p:grpSp>
        <p:nvGrpSpPr>
          <p:cNvPr id="2655" name="TextBox 3"/>
          <p:cNvGrpSpPr/>
          <p:nvPr/>
        </p:nvGrpSpPr>
        <p:grpSpPr>
          <a:xfrm>
            <a:off x="2225520" y="3395520"/>
            <a:ext cx="2254320" cy="828720"/>
            <a:chOff x="2225520" y="3395520"/>
            <a:chExt cx="2254320" cy="828720"/>
          </a:xfrm>
        </p:grpSpPr>
        <p:pic>
          <p:nvPicPr>
            <p:cNvPr id="2656" name="TextBox 3" descr=""/>
            <p:cNvPicPr/>
            <p:nvPr/>
          </p:nvPicPr>
          <p:blipFill>
            <a:blip r:embed="rId1"/>
            <a:stretch/>
          </p:blipFill>
          <p:spPr>
            <a:xfrm>
              <a:off x="2225520" y="3395520"/>
              <a:ext cx="2254320" cy="828720"/>
            </a:xfrm>
            <a:prstGeom prst="rect">
              <a:avLst/>
            </a:prstGeom>
            <a:ln w="0">
              <a:noFill/>
            </a:ln>
          </p:spPr>
        </p:pic>
        <p:sp>
          <p:nvSpPr>
            <p:cNvPr id="2657" name=""/>
            <p:cNvSpPr/>
            <p:nvPr/>
          </p:nvSpPr>
          <p:spPr>
            <a:xfrm>
              <a:off x="2286000" y="3429000"/>
              <a:ext cx="2133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pac/BV</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3w x 4 cycles</a:t>
              </a:r>
              <a:endParaRPr b="0" lang="en-US" sz="2000" spc="-1" strike="noStrike">
                <a:solidFill>
                  <a:srgbClr val="000000"/>
                </a:solidFill>
                <a:latin typeface="Arial"/>
              </a:endParaRPr>
            </a:p>
          </p:txBody>
        </p:sp>
      </p:grpSp>
      <p:grpSp>
        <p:nvGrpSpPr>
          <p:cNvPr id="2658" name="TextBox 18"/>
          <p:cNvGrpSpPr/>
          <p:nvPr/>
        </p:nvGrpSpPr>
        <p:grpSpPr>
          <a:xfrm>
            <a:off x="171360" y="3017880"/>
            <a:ext cx="1790640" cy="1687320"/>
            <a:chOff x="171360" y="3017880"/>
            <a:chExt cx="1790640" cy="1687320"/>
          </a:xfrm>
        </p:grpSpPr>
        <p:pic>
          <p:nvPicPr>
            <p:cNvPr id="2659" name="TextBox 18" descr=""/>
            <p:cNvPicPr/>
            <p:nvPr/>
          </p:nvPicPr>
          <p:blipFill>
            <a:blip r:embed="rId2"/>
            <a:stretch/>
          </p:blipFill>
          <p:spPr>
            <a:xfrm>
              <a:off x="171360" y="3017880"/>
              <a:ext cx="1790640" cy="1687320"/>
            </a:xfrm>
            <a:prstGeom prst="rect">
              <a:avLst/>
            </a:prstGeom>
            <a:ln w="0">
              <a:noFill/>
            </a:ln>
          </p:spPr>
        </p:pic>
        <p:sp>
          <p:nvSpPr>
            <p:cNvPr id="2660" name=""/>
            <p:cNvSpPr/>
            <p:nvPr/>
          </p:nvSpPr>
          <p:spPr>
            <a:xfrm>
              <a:off x="228600" y="3048120"/>
              <a:ext cx="1676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ligibil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V elig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squ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ona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NS mets</a:t>
              </a:r>
              <a:endParaRPr b="0" lang="en-US" sz="1800" spc="-1" strike="noStrike">
                <a:solidFill>
                  <a:srgbClr val="000000"/>
                </a:solidFill>
                <a:latin typeface="Arial"/>
              </a:endParaRPr>
            </a:p>
          </p:txBody>
        </p:sp>
      </p:grpSp>
      <p:sp>
        <p:nvSpPr>
          <p:cNvPr id="2661" name="TextBox 10"/>
          <p:cNvSpPr/>
          <p:nvPr/>
        </p:nvSpPr>
        <p:spPr>
          <a:xfrm>
            <a:off x="3905280" y="6324480"/>
            <a:ext cx="521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I: S. Ramilingam; clinicaltrials.gov; trial </a:t>
            </a:r>
            <a:r>
              <a:rPr b="0" lang="en-US" sz="1600" spc="-1" strike="noStrike" u="sng">
                <a:solidFill>
                  <a:srgbClr val="6b9f25"/>
                </a:solidFill>
                <a:uFillTx/>
                <a:latin typeface="Arial"/>
                <a:hlinkClick r:id="rId3"/>
              </a:rPr>
              <a:t>NCT01107626</a:t>
            </a:r>
            <a:endParaRPr b="0" lang="en-US" sz="1600" spc="-1" strike="noStrike">
              <a:solidFill>
                <a:srgbClr val="000000"/>
              </a:solidFill>
              <a:latin typeface="Arial"/>
            </a:endParaRPr>
          </a:p>
        </p:txBody>
      </p:sp>
      <p:grpSp>
        <p:nvGrpSpPr>
          <p:cNvPr id="2662" name="TextBox 13"/>
          <p:cNvGrpSpPr/>
          <p:nvPr/>
        </p:nvGrpSpPr>
        <p:grpSpPr>
          <a:xfrm>
            <a:off x="4896000" y="3475080"/>
            <a:ext cx="723600" cy="682560"/>
            <a:chOff x="4896000" y="3475080"/>
            <a:chExt cx="723600" cy="682560"/>
          </a:xfrm>
        </p:grpSpPr>
        <p:pic>
          <p:nvPicPr>
            <p:cNvPr id="2663" name="TextBox 13" descr=""/>
            <p:cNvPicPr/>
            <p:nvPr/>
          </p:nvPicPr>
          <p:blipFill>
            <a:blip r:embed="rId4"/>
            <a:stretch/>
          </p:blipFill>
          <p:spPr>
            <a:xfrm>
              <a:off x="4896000" y="3475080"/>
              <a:ext cx="723600" cy="682560"/>
            </a:xfrm>
            <a:prstGeom prst="rect">
              <a:avLst/>
            </a:prstGeom>
            <a:ln w="0">
              <a:noFill/>
            </a:ln>
          </p:spPr>
        </p:pic>
        <p:sp>
          <p:nvSpPr>
            <p:cNvPr id="2664" name=""/>
            <p:cNvSpPr/>
            <p:nvPr/>
          </p:nvSpPr>
          <p:spPr>
            <a:xfrm>
              <a:off x="5041800" y="3587760"/>
              <a:ext cx="432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grpSp>
      <p:sp>
        <p:nvSpPr>
          <p:cNvPr id="2665" name="TextBox 20"/>
          <p:cNvSpPr/>
          <p:nvPr/>
        </p:nvSpPr>
        <p:spPr>
          <a:xfrm>
            <a:off x="4501440" y="320040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D</a:t>
            </a:r>
            <a:endParaRPr b="0" lang="en-US" sz="1600" spc="-1" strike="noStrike">
              <a:solidFill>
                <a:srgbClr val="000000"/>
              </a:solidFill>
              <a:latin typeface="Arial"/>
            </a:endParaRPr>
          </a:p>
        </p:txBody>
      </p:sp>
      <p:cxnSp>
        <p:nvCxnSpPr>
          <p:cNvPr id="2666" name="Straight Arrow Connector 21"/>
          <p:cNvCxnSpPr/>
          <p:nvPr/>
        </p:nvCxnSpPr>
        <p:spPr>
          <a:xfrm flipV="1">
            <a:off x="5638320" y="3200040"/>
            <a:ext cx="839160" cy="534240"/>
          </a:xfrm>
          <a:prstGeom prst="straightConnector1">
            <a:avLst/>
          </a:prstGeom>
          <a:ln w="57240">
            <a:solidFill>
              <a:srgbClr val="002060"/>
            </a:solidFill>
            <a:miter/>
            <a:tailEnd len="med" type="triangle" w="med"/>
          </a:ln>
        </p:spPr>
      </p:cxnSp>
      <p:cxnSp>
        <p:nvCxnSpPr>
          <p:cNvPr id="2667" name="Straight Arrow Connector 23"/>
          <p:cNvCxnSpPr/>
          <p:nvPr/>
        </p:nvCxnSpPr>
        <p:spPr>
          <a:xfrm>
            <a:off x="5638320" y="3886200"/>
            <a:ext cx="839160" cy="534240"/>
          </a:xfrm>
          <a:prstGeom prst="straightConnector1">
            <a:avLst/>
          </a:prstGeom>
          <a:ln w="57240">
            <a:solidFill>
              <a:srgbClr val="002060"/>
            </a:solidFill>
            <a:miter/>
            <a:tailEnd len="med" type="triangle" w="med"/>
          </a:ln>
        </p:spPr>
      </p:cxnSp>
      <p:cxnSp>
        <p:nvCxnSpPr>
          <p:cNvPr id="2668" name="Straight Arrow Connector 24"/>
          <p:cNvCxnSpPr/>
          <p:nvPr/>
        </p:nvCxnSpPr>
        <p:spPr>
          <a:xfrm>
            <a:off x="5715000" y="3808440"/>
            <a:ext cx="838800" cy="2160"/>
          </a:xfrm>
          <a:prstGeom prst="straightConnector1">
            <a:avLst/>
          </a:prstGeom>
          <a:ln w="57240">
            <a:solidFill>
              <a:srgbClr val="002060"/>
            </a:solidFill>
            <a:miter/>
            <a:tailEnd len="med" type="triangle" w="med"/>
          </a:ln>
        </p:spPr>
      </p:cxnSp>
      <p:grpSp>
        <p:nvGrpSpPr>
          <p:cNvPr id="2669" name="TextBox 26"/>
          <p:cNvGrpSpPr/>
          <p:nvPr/>
        </p:nvGrpSpPr>
        <p:grpSpPr>
          <a:xfrm>
            <a:off x="6572160" y="2846520"/>
            <a:ext cx="2247840" cy="519120"/>
            <a:chOff x="6572160" y="2846520"/>
            <a:chExt cx="2247840" cy="519120"/>
          </a:xfrm>
        </p:grpSpPr>
        <p:pic>
          <p:nvPicPr>
            <p:cNvPr id="2670" name="TextBox 26" descr=""/>
            <p:cNvPicPr/>
            <p:nvPr/>
          </p:nvPicPr>
          <p:blipFill>
            <a:blip r:embed="rId5"/>
            <a:stretch/>
          </p:blipFill>
          <p:spPr>
            <a:xfrm>
              <a:off x="6572160" y="2846520"/>
              <a:ext cx="2247840" cy="519120"/>
            </a:xfrm>
            <a:prstGeom prst="rect">
              <a:avLst/>
            </a:prstGeom>
            <a:ln w="0">
              <a:noFill/>
            </a:ln>
          </p:spPr>
        </p:pic>
        <p:sp>
          <p:nvSpPr>
            <p:cNvPr id="2671" name=""/>
            <p:cNvSpPr/>
            <p:nvPr/>
          </p:nvSpPr>
          <p:spPr>
            <a:xfrm>
              <a:off x="6629400" y="287640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V</a:t>
              </a:r>
              <a:endParaRPr b="0" lang="en-US" sz="2000" spc="-1" strike="noStrike">
                <a:solidFill>
                  <a:srgbClr val="000000"/>
                </a:solidFill>
                <a:latin typeface="Arial"/>
              </a:endParaRPr>
            </a:p>
          </p:txBody>
        </p:sp>
      </p:grpSp>
      <p:sp>
        <p:nvSpPr>
          <p:cNvPr id="2672" name="TextBox 27"/>
          <p:cNvSpPr/>
          <p:nvPr/>
        </p:nvSpPr>
        <p:spPr>
          <a:xfrm>
            <a:off x="2901240" y="2057400"/>
            <a:ext cx="1213920" cy="39888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ction</a:t>
            </a:r>
            <a:endParaRPr b="0" lang="en-US" sz="2000" spc="-1" strike="noStrike">
              <a:solidFill>
                <a:srgbClr val="000000"/>
              </a:solidFill>
              <a:latin typeface="Arial"/>
            </a:endParaRPr>
          </a:p>
        </p:txBody>
      </p:sp>
      <p:sp>
        <p:nvSpPr>
          <p:cNvPr id="2673" name="TextBox 28"/>
          <p:cNvSpPr/>
          <p:nvPr/>
        </p:nvSpPr>
        <p:spPr>
          <a:xfrm>
            <a:off x="6623280" y="2057400"/>
            <a:ext cx="1639080" cy="39888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a:t>
            </a:r>
            <a:endParaRPr b="0" lang="en-US" sz="2000" spc="-1" strike="noStrike">
              <a:solidFill>
                <a:srgbClr val="000000"/>
              </a:solidFill>
              <a:latin typeface="Arial"/>
            </a:endParaRPr>
          </a:p>
        </p:txBody>
      </p:sp>
      <p:grpSp>
        <p:nvGrpSpPr>
          <p:cNvPr id="2674" name="TextBox 29"/>
          <p:cNvGrpSpPr/>
          <p:nvPr/>
        </p:nvGrpSpPr>
        <p:grpSpPr>
          <a:xfrm>
            <a:off x="6572160" y="3529080"/>
            <a:ext cx="2247840" cy="519120"/>
            <a:chOff x="6572160" y="3529080"/>
            <a:chExt cx="2247840" cy="519120"/>
          </a:xfrm>
        </p:grpSpPr>
        <p:pic>
          <p:nvPicPr>
            <p:cNvPr id="2675" name="TextBox 29" descr=""/>
            <p:cNvPicPr/>
            <p:nvPr/>
          </p:nvPicPr>
          <p:blipFill>
            <a:blip r:embed="rId6"/>
            <a:stretch/>
          </p:blipFill>
          <p:spPr>
            <a:xfrm>
              <a:off x="6572160" y="3529080"/>
              <a:ext cx="2247840" cy="519120"/>
            </a:xfrm>
            <a:prstGeom prst="rect">
              <a:avLst/>
            </a:prstGeom>
            <a:ln w="0">
              <a:noFill/>
            </a:ln>
          </p:spPr>
        </p:pic>
        <p:sp>
          <p:nvSpPr>
            <p:cNvPr id="2676" name=""/>
            <p:cNvSpPr/>
            <p:nvPr/>
          </p:nvSpPr>
          <p:spPr>
            <a:xfrm>
              <a:off x="6629400" y="355932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m</a:t>
              </a:r>
              <a:endParaRPr b="0" lang="en-US" sz="2000" spc="-1" strike="noStrike">
                <a:solidFill>
                  <a:srgbClr val="000000"/>
                </a:solidFill>
                <a:latin typeface="Arial"/>
              </a:endParaRPr>
            </a:p>
          </p:txBody>
        </p:sp>
      </p:grpSp>
      <p:grpSp>
        <p:nvGrpSpPr>
          <p:cNvPr id="2677" name="TextBox 30"/>
          <p:cNvGrpSpPr/>
          <p:nvPr/>
        </p:nvGrpSpPr>
        <p:grpSpPr>
          <a:xfrm>
            <a:off x="6572160" y="4290840"/>
            <a:ext cx="2247840" cy="519120"/>
            <a:chOff x="6572160" y="4290840"/>
            <a:chExt cx="2247840" cy="519120"/>
          </a:xfrm>
        </p:grpSpPr>
        <p:pic>
          <p:nvPicPr>
            <p:cNvPr id="2678" name="TextBox 30" descr=""/>
            <p:cNvPicPr/>
            <p:nvPr/>
          </p:nvPicPr>
          <p:blipFill>
            <a:blip r:embed="rId7"/>
            <a:stretch/>
          </p:blipFill>
          <p:spPr>
            <a:xfrm>
              <a:off x="6572160" y="4290840"/>
              <a:ext cx="2247840" cy="519120"/>
            </a:xfrm>
            <a:prstGeom prst="rect">
              <a:avLst/>
            </a:prstGeom>
            <a:ln w="0">
              <a:noFill/>
            </a:ln>
          </p:spPr>
        </p:pic>
        <p:sp>
          <p:nvSpPr>
            <p:cNvPr id="2679" name=""/>
            <p:cNvSpPr/>
            <p:nvPr/>
          </p:nvSpPr>
          <p:spPr>
            <a:xfrm>
              <a:off x="6629400" y="432432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V+Pem</a:t>
              </a:r>
              <a:endParaRPr b="0" lang="en-US" sz="2000" spc="-1" strike="noStrike">
                <a:solidFill>
                  <a:srgbClr val="000000"/>
                </a:solidFill>
                <a:latin typeface="Arial"/>
              </a:endParaRPr>
            </a:p>
          </p:txBody>
        </p:sp>
      </p:grpSp>
      <p:sp>
        <p:nvSpPr>
          <p:cNvPr id="2680" name="TextBox 31"/>
          <p:cNvSpPr/>
          <p:nvPr/>
        </p:nvSpPr>
        <p:spPr>
          <a:xfrm>
            <a:off x="4237200" y="5410080"/>
            <a:ext cx="2612880" cy="70380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endpoint: 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ary: PFS </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intenance therapy for adenocarcinoma: my approach</a:t>
            </a:r>
            <a:endParaRPr b="0" lang="en-US" sz="4400" spc="-1" strike="noStrike">
              <a:solidFill>
                <a:srgbClr val="000000"/>
              </a:solidFill>
              <a:latin typeface="Arial"/>
            </a:endParaRPr>
          </a:p>
        </p:txBody>
      </p:sp>
      <p:sp>
        <p:nvSpPr>
          <p:cNvPr id="2682" name=""/>
          <p:cNvSpPr txBox="1"/>
          <p:nvPr/>
        </p:nvSpPr>
        <p:spPr>
          <a:xfrm>
            <a:off x="174240" y="1523880"/>
            <a:ext cx="899172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using BV with induction without pem:</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BV</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GFR M+ or suspicion high use BV/erlotinib</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em/platinum/BV induction</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BV (consider adding pem if progression)</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Pem/BV in good PS pts tolerating rx well</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GFR M+ or suspicion use BV/erlotinib</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 using BV with induction:</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m (cont. or switch) in good PS pts tolerating rx well</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GFR M+ or suspicion use erlotinib</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title"/>
          </p:nvPr>
        </p:nvSpPr>
        <p:spPr>
          <a:xfrm>
            <a:off x="685440" y="-360"/>
            <a:ext cx="8193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ase: Dr Morganstein (Dr Heymach)</a:t>
            </a:r>
            <a:endParaRPr b="1" lang="en-US" sz="2600" spc="-1" strike="noStrike">
              <a:solidFill>
                <a:srgbClr val="ecbb33"/>
              </a:solidFill>
              <a:latin typeface="Arial"/>
            </a:endParaRPr>
          </a:p>
        </p:txBody>
      </p:sp>
      <p:sp>
        <p:nvSpPr>
          <p:cNvPr id="2042" name=""/>
          <p:cNvSpPr txBox="1"/>
          <p:nvPr/>
        </p:nvSpPr>
        <p:spPr>
          <a:xfrm>
            <a:off x="685800" y="1525680"/>
            <a:ext cx="8352000" cy="4881600"/>
          </a:xfrm>
          <a:prstGeom prst="rect">
            <a:avLst/>
          </a:prstGeom>
          <a:noFill/>
          <a:ln w="0">
            <a:noFill/>
          </a:ln>
        </p:spPr>
        <p:txBody>
          <a:bodyPr anchor="t">
            <a:norm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57 yo woman, heavy smoker</a:t>
            </a:r>
            <a:endParaRPr b="0" lang="en-US" sz="2100" spc="-1" strike="noStrike">
              <a:solidFill>
                <a:srgbClr val="ffffff"/>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resented with cough unresponsive to antibiotics</a:t>
            </a:r>
            <a:endParaRPr b="0" lang="en-US" sz="2100" spc="-1" strike="noStrike">
              <a:solidFill>
                <a:srgbClr val="ffffff"/>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ung mass found, further workup revealed multiple masses in liver</a:t>
            </a:r>
            <a:endParaRPr b="0" lang="en-US" sz="2100" spc="-1" strike="noStrike">
              <a:solidFill>
                <a:srgbClr val="ffffff"/>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iopsy confirmed pan-WT adenocarcinoma </a:t>
            </a:r>
            <a:endParaRPr b="0" lang="en-US" sz="2100" spc="-1" strike="noStrike">
              <a:solidFill>
                <a:srgbClr val="ffffff"/>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arbo/pem/bev for 4 cycles resulting in a PR </a:t>
            </a:r>
            <a:endParaRPr b="0" lang="en-US" sz="2100" spc="-1" strike="noStrike">
              <a:solidFill>
                <a:srgbClr val="ffffff"/>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reatment was tolerated with some difficulty (fatigue, GI symptoms), and patient required 3 antihypertensives (hydrochlorothiazide, amlodipine, lisinopril)</a:t>
            </a:r>
            <a:endParaRPr b="0" lang="en-US" sz="21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41360" y="490680"/>
            <a:ext cx="8012160" cy="5827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A 57-year-old patient is diagnosed </a:t>
            </a:r>
            <a:br>
              <a:rPr sz="3200"/>
            </a:br>
            <a:r>
              <a:rPr b="1" lang="en-US" sz="3200" spc="-1" strike="noStrike">
                <a:solidFill>
                  <a:srgbClr val="ecbb33"/>
                </a:solidFill>
                <a:latin typeface="Arial"/>
              </a:rPr>
              <a:t>with PWT adenocarcinoma in the </a:t>
            </a:r>
            <a:br>
              <a:rPr sz="3200"/>
            </a:br>
            <a:r>
              <a:rPr b="1" lang="en-US" sz="3200" spc="-1" strike="noStrike">
                <a:solidFill>
                  <a:srgbClr val="ecbb33"/>
                </a:solidFill>
                <a:latin typeface="Arial"/>
              </a:rPr>
              <a:t>lung and corresponding liver mets. </a:t>
            </a:r>
            <a:br>
              <a:rPr sz="3200"/>
            </a:br>
            <a:r>
              <a:rPr b="1" lang="en-US" sz="3200" spc="-1" strike="noStrike">
                <a:solidFill>
                  <a:srgbClr val="ecbb33"/>
                </a:solidFill>
                <a:latin typeface="Arial"/>
              </a:rPr>
              <a:t>The patient is treated with 4 cycles of carboplatin/pemetrexed/bevacizumab and achieves a PR. What type of maintenance treatment, if any, </a:t>
            </a:r>
            <a:br>
              <a:rPr sz="3200"/>
            </a:br>
            <a:r>
              <a:rPr b="1" lang="en-US" sz="3200" spc="-1" strike="noStrike">
                <a:solidFill>
                  <a:srgbClr val="ecbb33"/>
                </a:solidFill>
                <a:latin typeface="Arial"/>
              </a:rPr>
              <a:t>would you recommend?</a:t>
            </a:r>
            <a:endParaRPr b="1" lang="en-US" sz="3200" spc="-1" strike="noStrike">
              <a:solidFill>
                <a:srgbClr val="ecbb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57-year-old patient is diagnosed with PWT adenocarcinoma in the lung and corresponding liver mets. The patient is treated with 4 cycles of carboplatin/pemetrexed/bevacizumab and achieves a PR. What type of maintenance treatment, if any,  would you recommend?</a:t>
            </a:r>
            <a:endParaRPr b="0" lang="en-US" sz="2400" spc="-1" strike="noStrike">
              <a:solidFill>
                <a:srgbClr val="000000"/>
              </a:solidFill>
              <a:latin typeface="Arial"/>
            </a:endParaRPr>
          </a:p>
        </p:txBody>
      </p:sp>
      <p:pic>
        <p:nvPicPr>
          <p:cNvPr id="2045" name="Chart 3" descr=""/>
          <p:cNvPicPr/>
          <p:nvPr/>
        </p:nvPicPr>
        <p:blipFill>
          <a:blip r:embed="rId1"/>
          <a:stretch/>
        </p:blipFill>
        <p:spPr>
          <a:xfrm>
            <a:off x="482760" y="2405160"/>
            <a:ext cx="8254800" cy="4222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46" name="Picture 3" descr="Prig7-12.jpg"/>
          <p:cNvPicPr/>
          <p:nvPr/>
        </p:nvPicPr>
        <p:blipFill>
          <a:blip r:embed="rId1"/>
          <a:stretch/>
        </p:blipFill>
        <p:spPr>
          <a:xfrm>
            <a:off x="1371600" y="355680"/>
            <a:ext cx="6502320" cy="6502320"/>
          </a:xfrm>
          <a:prstGeom prst="rect">
            <a:avLst/>
          </a:prstGeom>
          <a:ln w="0">
            <a:noFill/>
          </a:ln>
        </p:spPr>
      </p:pic>
      <p:sp>
        <p:nvSpPr>
          <p:cNvPr id="2047" name="Rectangle 1"/>
          <p:cNvSpPr/>
          <p:nvPr/>
        </p:nvSpPr>
        <p:spPr>
          <a:xfrm>
            <a:off x="5715000" y="0"/>
            <a:ext cx="2743200" cy="1447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48" name="Picture 1" descr="prig10-12.jpg"/>
          <p:cNvPicPr/>
          <p:nvPr/>
        </p:nvPicPr>
        <p:blipFill>
          <a:blip r:embed="rId1"/>
          <a:stretch/>
        </p:blipFill>
        <p:spPr>
          <a:xfrm>
            <a:off x="1320840" y="177840"/>
            <a:ext cx="6502320" cy="6502320"/>
          </a:xfrm>
          <a:prstGeom prst="rect">
            <a:avLst/>
          </a:prstGeom>
          <a:ln w="0">
            <a:noFill/>
          </a:ln>
        </p:spPr>
      </p:pic>
      <p:sp>
        <p:nvSpPr>
          <p:cNvPr id="2049" name="Rectangle 2"/>
          <p:cNvSpPr/>
          <p:nvPr/>
        </p:nvSpPr>
        <p:spPr>
          <a:xfrm>
            <a:off x="5867280" y="0"/>
            <a:ext cx="2590920" cy="1143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50" name="Picture 1" descr="prigliver7-12.jpg"/>
          <p:cNvPicPr/>
          <p:nvPr/>
        </p:nvPicPr>
        <p:blipFill>
          <a:blip r:embed="rId1"/>
          <a:stretch/>
        </p:blipFill>
        <p:spPr>
          <a:xfrm>
            <a:off x="1320840" y="177840"/>
            <a:ext cx="6502320" cy="6502320"/>
          </a:xfrm>
          <a:prstGeom prst="rect">
            <a:avLst/>
          </a:prstGeom>
          <a:ln w="0">
            <a:noFill/>
          </a:ln>
        </p:spPr>
      </p:pic>
      <p:sp>
        <p:nvSpPr>
          <p:cNvPr id="2051" name="Rectangle 2"/>
          <p:cNvSpPr/>
          <p:nvPr/>
        </p:nvSpPr>
        <p:spPr>
          <a:xfrm>
            <a:off x="5715000" y="0"/>
            <a:ext cx="2743200" cy="1143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52" name="Picture 1" descr="prigliver110-12.jpg"/>
          <p:cNvPicPr/>
          <p:nvPr/>
        </p:nvPicPr>
        <p:blipFill>
          <a:blip r:embed="rId1"/>
          <a:stretch/>
        </p:blipFill>
        <p:spPr>
          <a:xfrm>
            <a:off x="1320840" y="177840"/>
            <a:ext cx="6502320" cy="6502320"/>
          </a:xfrm>
          <a:prstGeom prst="rect">
            <a:avLst/>
          </a:prstGeom>
          <a:ln w="0">
            <a:noFill/>
          </a:ln>
        </p:spPr>
      </p:pic>
      <p:sp>
        <p:nvSpPr>
          <p:cNvPr id="2053" name="Rectangle 2"/>
          <p:cNvSpPr/>
          <p:nvPr/>
        </p:nvSpPr>
        <p:spPr>
          <a:xfrm>
            <a:off x="5715000" y="0"/>
            <a:ext cx="2743200" cy="1066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7T22:15:16Z</dcterms:created>
  <dc:creator>Research To Practice</dc:creator>
  <dc:description/>
  <cp:keywords/>
  <dc:language>en-US</dc:language>
  <cp:lastModifiedBy>Silvana Izquierdo</cp:lastModifiedBy>
  <cp:lastPrinted>2013-05-31T21:36:03Z</cp:lastPrinted>
  <dcterms:modified xsi:type="dcterms:W3CDTF">2013-08-13T17:37:48Z</dcterms:modified>
  <cp:revision>430</cp:revision>
  <dc:subject/>
  <dc:title>Research To Practice</dc:title>
</cp:coreProperties>
</file>