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63FFA-E527-4D09-AABF-E6AEF5AFC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56A3C-C78A-4449-B9E5-9126ECE43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2F3A7-BDF1-4974-B117-28B07DD38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BCF69-921D-4691-B30F-43708A3D8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D49B6-6343-4D99-B7DC-1A411E726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5F704-6F5C-42A9-924C-1D72B7EB7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A4EE2-BA6A-469E-9971-215D3D367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4E7B9-E0E0-49D5-A89A-24E144099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E2DB1-F654-4257-B942-A6808AFB9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FDEAC-A238-4BF0-9FDA-C72BE82C6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3F667-A911-4447-A0C7-11D0BFF43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47F5D-D3C4-4954-B55D-571BA3009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4160-D0CA-4774-90F1-0D7DEB60AD39}" type="datetime">
              <a:rPr b="0" lang="en-US" sz="1400" spc="-1" strike="noStrike">
                <a:solidFill>
                  <a:srgbClr val="000000"/>
                </a:solidFill>
                <a:latin typeface="Arial"/>
              </a:rPr>
              <a:t>07/31/26</a:t>
            </a:fld>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A1C5-DFDE-4CD2-AC46-7CAD73363F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Frank A Rodriguez, MD</a:t>
            </a:r>
            <a:endParaRPr b="0" lang="en-US" sz="2600" spc="-1" strike="noStrike">
              <a:solidFill>
                <a:srgbClr val="ffffff"/>
              </a:solidFill>
              <a:latin typeface="Arial Bold"/>
            </a:endParaRPr>
          </a:p>
        </p:txBody>
      </p:sp>
      <p:sp>
        <p:nvSpPr>
          <p:cNvPr id="82"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A 70-year-old woman with simultaneous diagnoses: </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3.0-cm, Grade II ER-positive, HER2-negative, clinically node-negative infiltrating ductal carcinoma (IDC) of the breast</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DLBCL at base of tongue and R cervical lymph node</a:t>
            </a:r>
            <a:endParaRPr b="0" lang="en-US" sz="2500" spc="-1" strike="noStrike">
              <a:solidFill>
                <a:srgbClr val="cde7f3"/>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7:52:05Z</dcterms:created>
  <dc:creator>Research To Practice</dc:creator>
  <dc:description/>
  <cp:keywords/>
  <dc:language>en-US</dc:language>
  <cp:lastModifiedBy>Mac Pro E703803Y4PC</cp:lastModifiedBy>
  <cp:lastPrinted>2011-12-05T19:27:00Z</cp:lastPrinted>
  <dcterms:modified xsi:type="dcterms:W3CDTF">2012-03-02T20:51:43Z</dcterms:modified>
  <cp:revision>176</cp:revision>
  <dc:subject/>
  <dc:title>Research To Practice</dc:title>
</cp:coreProperties>
</file>