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6225-94B0-4B6A-8A71-213D472F1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98D2-C8B2-4D29-B4AA-331DE0FD4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43E5-DA52-4A57-B91F-2423245C3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F3BB-00D8-4953-B9F8-5FDC0026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9BF-6A4D-47DB-A52B-E48E1EBF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607-D60B-4851-BCA1-55A42564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5C65-CD69-43AC-A67E-17847942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D03-17CA-4C25-B7D2-3397364C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B469-FBD9-4F21-9110-FEFDDA7A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D367-760C-4962-B79B-74817000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8438-5CF3-4E14-8072-C15454C2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EDE6-9644-483D-B2AD-B6E7844B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7A15-887E-4A81-B998-7972B23F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513B-C7BA-475E-9428-007C8F32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4159-3406-4F47-9288-0D91DD46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8F93-0461-4EFD-B49F-2CDD7C2B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7162-DB41-4A7D-BD2A-CEB301E5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E4E3-87AA-4EF3-B59C-7FD820E6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3A49-EFFA-446A-894E-D99F2562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3FA6-74F9-41DD-AD67-CD76AE58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984A-D9AC-4429-8A82-5B937D9C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13724-955C-4396-AB5E-E50B86FB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8E7F6-EC11-414E-AC1A-AF96DE4A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5AA6E-7657-4916-A1B2-F8C9C950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03EC-33EB-44A9-AA34-396F15D2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90CCF-C4F1-43C0-830B-AF91B7E9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F0CBE-E087-4001-AB20-D7E4E467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D4E9E-BE63-4A03-BC18-19B0AB34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A93DE-05F7-4D52-A6DD-02EE09EA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C3F26-9BED-410A-85CE-84D77F80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1CBC9-CC38-4A33-93D2-644A36FB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B4522-B69F-4B58-9A4D-603DF3DC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B3658-644B-413A-BC97-04EA9F6D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B2E3A-1255-4149-A800-15361ED6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9E5-EB26-4D19-AF1B-CA4AD4DA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2FAC-A6C6-4948-92F0-4BDCB213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7D5-69A3-4C86-BF45-42BE7DFA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2B2-A3F1-4E98-839D-DBC1818E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068-F90A-41F5-B2E6-3F16DE16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B471-8E3B-4986-8432-3AC4486EC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52600" y="134640"/>
            <a:ext cx="8030880" cy="871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0520" y="1320840"/>
            <a:ext cx="8022960" cy="480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9640" indent="-1764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22440" indent="-177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79560" indent="-177840">
              <a:spcBef>
                <a:spcPts val="601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79560" indent="-17784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79560" indent="-17784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3A2B-6635-4412-ADAE-35FB514D900C}" type="datetime">
              <a:rPr b="1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FB15-452D-494B-9E95-2F228AFE9A9E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2A91-6E67-404E-94A1-60734150F811}" type="datetime">
              <a:rPr b="1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1427-B925-4690-9F6B-8F8B576D84B1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quired Resistance to EGFR-TKIs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it and how do we tre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ncent A. Miller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Oncology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ial Sloan-Kettering Cancer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UX-Lung 1:  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imary Analysis — Overall Survival (O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609480" y="2133720"/>
          <a:ext cx="7772400" cy="1331640"/>
        </p:xfrm>
        <a:graphic>
          <a:graphicData uri="http://schemas.openxmlformats.org/drawingml/2006/table">
            <a:tbl>
              <a:tblPr/>
              <a:tblGrid>
                <a:gridCol w="1676520"/>
                <a:gridCol w="1981080"/>
                <a:gridCol w="1600200"/>
                <a:gridCol w="1295640"/>
                <a:gridCol w="12189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90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bo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95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i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93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7931760" indent="9711360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7931760" indent="9711360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th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7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9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7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42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383760" y="6292800"/>
            <a:ext cx="453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ler VA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 ES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;Abstract LBA1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mmary – HOPP Lab Animal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u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85800" y="1371600"/>
          <a:ext cx="7772400" cy="45496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ru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858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858R+T790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790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e do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(6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(9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(5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3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6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2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(12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6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5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etrex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4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litaxe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5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tuximab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(6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7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2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/cetu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4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W299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(4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sponse (6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W/cetu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! (8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Text Box 60"/>
          <p:cNvSpPr/>
          <p:nvPr/>
        </p:nvSpPr>
        <p:spPr>
          <a:xfrm>
            <a:off x="844560" y="6284880"/>
            <a:ext cx="74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number in parentheses = no. of mice treated and assess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1523880" y="1339920"/>
            <a:ext cx="5867640" cy="3155760"/>
          </a:xfrm>
          <a:prstGeom prst="rect">
            <a:avLst/>
          </a:prstGeom>
          <a:solidFill>
            <a:srgbClr val="dddddd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rollment Criteri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ge IIIB/IV lung adenocarcino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least Partial Response (RECI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rlotinib   OR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GF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Exon 19 or 21 mu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d erlotinib &gt;3 m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essive Disease (RECIST) on erlotini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psy of a site of progressive diseas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GFR and MET analysi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304920" y="4952880"/>
            <a:ext cx="4114800" cy="1105200"/>
          </a:xfrm>
          <a:prstGeom prst="rect">
            <a:avLst/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p erlotinib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 BIBW2992 40 mg dai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2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122400" y="217440"/>
            <a:ext cx="879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ase 1/2 BIBW2992+Cetuximab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 I Schem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4724280" y="4699440"/>
            <a:ext cx="4038840" cy="1618560"/>
          </a:xfrm>
          <a:prstGeom prst="rect">
            <a:avLst/>
          </a:prstGeom>
          <a:solidFill>
            <a:srgbClr val="e6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  BIBW299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dd cetuximab IV q 2wk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se level 1 – 250 mg/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se level 2 – 375 mg/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V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se level 3 – 500 mg/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Straight Arrow Connector 16"/>
          <p:cNvCxnSpPr>
            <a:stCxn id="340" idx="3"/>
          </p:cNvCxnSpPr>
          <p:nvPr/>
        </p:nvCxnSpPr>
        <p:spPr>
          <a:xfrm>
            <a:off x="4419720" y="5505120"/>
            <a:ext cx="305280" cy="1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causes non-T790M resist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 of 93 patients (51%) had tissue available for MET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 patient specimens failed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of 38 patients (11%) had MET:CEP7 ratio &gt;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pt with high level amplification + T79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of 3 pts with low level amplification had T79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FISH the optimal way to test for MET ampl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573120" y="351000"/>
            <a:ext cx="81532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Q 197-209: Study Design</a:t>
            </a:r>
            <a:br>
              <a:rPr sz="2800"/>
            </a:b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Randomized, placebo-controlled, double-blind clinical tr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568440" y="137628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464508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4295520" y="2977560"/>
            <a:ext cx="664200" cy="4471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"/>
          <p:cNvSpPr/>
          <p:nvPr/>
        </p:nvSpPr>
        <p:spPr>
          <a:xfrm flipV="1">
            <a:off x="4311000" y="2388240"/>
            <a:ext cx="674640" cy="381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772080" y="1665360"/>
            <a:ext cx="368280" cy="2284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 flipV="1">
            <a:off x="3155040" y="2824920"/>
            <a:ext cx="538560" cy="14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4"/>
          <p:cNvSpPr/>
          <p:nvPr/>
        </p:nvSpPr>
        <p:spPr>
          <a:xfrm>
            <a:off x="8201160" y="3465360"/>
            <a:ext cx="3236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6"/>
          <p:cNvSpPr/>
          <p:nvPr/>
        </p:nvSpPr>
        <p:spPr>
          <a:xfrm>
            <a:off x="8524800" y="2205000"/>
            <a:ext cx="0" cy="12906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7"/>
          <p:cNvSpPr/>
          <p:nvPr/>
        </p:nvSpPr>
        <p:spPr>
          <a:xfrm flipH="1">
            <a:off x="8200800" y="2205000"/>
            <a:ext cx="36036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5140440" y="2960640"/>
            <a:ext cx="2916000" cy="876600"/>
          </a:xfrm>
          <a:prstGeom prst="rect">
            <a:avLst/>
          </a:prstGeom>
          <a:solidFill>
            <a:srgbClr val="7dc3f1"/>
          </a:solidFill>
          <a:ln w="25560">
            <a:solidFill>
              <a:srgbClr val="0070c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4265"/>
                </a:solidFill>
                <a:latin typeface="Arial"/>
                <a:ea typeface="Arial"/>
              </a:rPr>
              <a:t>Erlotinib 150 mg PO Q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4265"/>
                </a:solidFill>
                <a:latin typeface="Arial"/>
                <a:ea typeface="Arial"/>
              </a:rPr>
              <a:t>+ Placeb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4265"/>
                </a:solidFill>
                <a:latin typeface="Arial"/>
                <a:ea typeface="Arial"/>
              </a:rPr>
              <a:t>28-day cyc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5140440" y="1808280"/>
            <a:ext cx="2919240" cy="901080"/>
          </a:xfrm>
          <a:prstGeom prst="rect">
            <a:avLst/>
          </a:prstGeom>
          <a:solidFill>
            <a:srgbClr val="7dc3f1"/>
          </a:solidFill>
          <a:ln w="28440">
            <a:solidFill>
              <a:srgbClr val="0070c0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4265"/>
                </a:solidFill>
                <a:latin typeface="Arial"/>
                <a:ea typeface="Arial"/>
              </a:rPr>
              <a:t>Erlotinib 150 mg PO Q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4265"/>
                </a:solidFill>
                <a:latin typeface="Arial"/>
                <a:ea typeface="Arial"/>
              </a:rPr>
              <a:t>+ ARQ 197 360 mg PO BI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4265"/>
                </a:solidFill>
                <a:latin typeface="Arial"/>
                <a:ea typeface="Arial"/>
              </a:rPr>
              <a:t>28-day cyc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758880" y="4316400"/>
            <a:ext cx="3101760" cy="131076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ndpoints           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° PF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° ORR, 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ubset analy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rossover: OR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747720" y="2133720"/>
            <a:ext cx="2322360" cy="1372320"/>
          </a:xfrm>
          <a:prstGeom prst="rect">
            <a:avLst/>
          </a:prstGeom>
          <a:noFill/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SCL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operable locally adv/ metastatic dz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92d050"/>
              </a:buClr>
              <a:buFont typeface="Arial"/>
              <a:buChar char="•"/>
              <a:tabLst>
                <a:tab algn="l" pos="11124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≥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 prior chemo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no prior EGFR TKI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5"/>
          <p:cNvSpPr/>
          <p:nvPr/>
        </p:nvSpPr>
        <p:spPr>
          <a:xfrm>
            <a:off x="4132440" y="4329000"/>
            <a:ext cx="4644720" cy="1798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3 sites in 6 countr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tudy accrual over 11 months (10/08-9/09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andomization stratified by prognostic factors incl. sex, age, smoking, histology, performance status, prior therapy and best response, and geography (U.S. vs. ex-U.S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8564760" y="2637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6400800"/>
            <a:ext cx="77724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iller JH et al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c AS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010;Abstract LBA7502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0880" y="6094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Q 197-209: Progression-Free Survival (PFS), Intent-to-Treat Pop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380880" y="2057400"/>
          <a:ext cx="8458200" cy="1576440"/>
        </p:xfrm>
        <a:graphic>
          <a:graphicData uri="http://schemas.openxmlformats.org/drawingml/2006/table">
            <a:tbl>
              <a:tblPr/>
              <a:tblGrid>
                <a:gridCol w="1981440"/>
                <a:gridCol w="1600200"/>
                <a:gridCol w="1447560"/>
                <a:gridCol w="1828800"/>
                <a:gridCol w="1600200"/>
              </a:tblGrid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otinib + ARQ 19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lotinib + Placeb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adjusted (Adjusted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adjusted (Adjusted)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600"/>
                      </a:b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77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S (n = 84, 83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1 w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7 w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1 (0.68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4 (&lt;0.05*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"/>
          <p:cNvSpPr/>
          <p:nvPr/>
        </p:nvSpPr>
        <p:spPr>
          <a:xfrm>
            <a:off x="380880" y="6172200"/>
            <a:ext cx="57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chiller JH et al.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Proc ASC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2010;Abstract LBA750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0880" y="3962520"/>
            <a:ext cx="24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Cox regression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09480" y="304920"/>
            <a:ext cx="81536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MAb Is an Anti-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ovalen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i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dy That Inhibits HGF-Mediated Activ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rcRect l="5983" t="0" r="5129" b="0"/>
          <a:stretch/>
        </p:blipFill>
        <p:spPr>
          <a:xfrm>
            <a:off x="609480" y="1371600"/>
            <a:ext cx="822960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09480" y="304920"/>
            <a:ext cx="81536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AM4558g Study Design: Global, Double-Blind, Placebo-Controlled, Phase II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rcRect l="6780" t="0" r="5084" b="0"/>
          <a:stretch/>
        </p:blipFill>
        <p:spPr>
          <a:xfrm>
            <a:off x="457200" y="1320840"/>
            <a:ext cx="8229600" cy="53848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80880" y="6400800"/>
            <a:ext cx="594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gel D et al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c ESM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010;Abstract LBA15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roach to Therapy of Acquired Resistance to EGFR-TK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biopsy 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790M prognostic and possibly predictive bio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re transformation to small cell phen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e an EGFR-T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generation” EGFR/ErbB2 TK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ional combina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BW2992 + cetuxim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SP-90 inhibitor + chemo or EGFR-T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MET inhibitor-best diagnostic un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atients with CML and GIST have a high rate of response to treatment with imatinib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se patients commonly acquire resistance after an initial respons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re are a small number of conserved changes in the BCR-ABL tyrosine kinase domain which confer resistance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in vivo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ther patients with acquired resistance have amplification of the BCR-ABL gen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Virtually all patients with response to gefitinib or erlotinib eventually have progression of diseas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6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nical Definition of Acquired Resistance to EGFR TKIs in Lung Adenocarcin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or  treatment with single agent TK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ithe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EGF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ex 19 del, L858R, G719X, L861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 or CR with TKI or SD lasting ≥ 6 month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D by RECIST or WHO in previous 30 day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o therapy after TKI before start of new ag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ashout” after stopping TKI not &gt; 5 half-lives of the TKI (14 days for gefitinib or erlotinib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btain baseline scan on day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3200400" y="632448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Jackman J Clin Oncol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biopsy”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ients with acquired resistance to TKI were consented to undergo biopsy of a growing l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ssue from clinically indicated procedures (VATS, metastectomy) also studied if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ssue studied for EGFR mutations and MET ampl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790M in acquired resi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cquired exon 20 mutation found in &gt;50% of pts with acquired resistance to TK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ncreases relative affinity of mutant EGFR for ATP, may also cause steric hindra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ess commonly detected in CNS, thought to be due to poor CNS penetrance of TKI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790M as a biomark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790M-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er survi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r metast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olent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sitivity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line EGFR inhibito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n-T790M-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orer survi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ier metast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aggressi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s mechanisms better elucidated and alternate therap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atinib (BIBW 2992) - Irreversible Dua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GFR /HER2 Inhib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051440" y="4933800"/>
            <a:ext cx="1557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760" rIns="122760" tIns="61560" bIns="61560" anchor="t">
            <a:spAutoFit/>
          </a:bodyPr>
          <a:p>
            <a:pPr algn="ctr">
              <a:tabLst>
                <a:tab algn="l" pos="0"/>
                <a:tab algn="l" pos="4176720"/>
                <a:tab algn="l" pos="8353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FR - Cys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77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76720"/>
                <a:tab algn="l" pos="8353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76720"/>
                <a:tab algn="l" pos="8353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2 - Cys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80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0" y="1463760"/>
            <a:ext cx="914400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6120" rIns="366120" tIns="183240" bIns="18324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3670200"/>
                <a:tab algn="l" pos="7340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ilino quinazoline derivativ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3670200"/>
                <a:tab algn="l" pos="7340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ivity versus T790M (100 n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3670200"/>
                <a:tab algn="l" pos="7340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nds covalently to Cy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7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the EGFR and  Cy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0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 HER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74600" y="6280200"/>
            <a:ext cx="865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ca F, et al., 17th EORTC-NCI-AACR Symposium on "Molecular Targets and Cancer Therapeutics” Philadelphia, PA, USA, November 14 – 18, 2005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2955960"/>
            <a:ext cx="711828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29000" y="37623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68600" y="3889440"/>
            <a:ext cx="1440" cy="14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06400" y="3889440"/>
            <a:ext cx="1800" cy="123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14760" y="40863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68600" y="4038480"/>
            <a:ext cx="123840" cy="69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911240" y="4036680"/>
            <a:ext cx="128520" cy="74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893960" y="4016520"/>
            <a:ext cx="106200" cy="61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1854000" y="3716280"/>
            <a:ext cx="185400" cy="106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855440" y="3760560"/>
            <a:ext cx="14436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730520" y="3716280"/>
            <a:ext cx="123840" cy="68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39760" y="3822840"/>
            <a:ext cx="373320" cy="322200"/>
          </a:xfrm>
          <a:custGeom>
            <a:avLst/>
            <a:gdLst/>
            <a:ahLst/>
            <a:rect l="l" t="t" r="r" b="b"/>
            <a:pathLst>
              <a:path w="235" h="203">
                <a:moveTo>
                  <a:pt x="0" y="0"/>
                </a:moveTo>
                <a:lnTo>
                  <a:pt x="0" y="135"/>
                </a:lnTo>
                <a:lnTo>
                  <a:pt x="118" y="203"/>
                </a:lnTo>
                <a:lnTo>
                  <a:pt x="235" y="135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228760" y="4016160"/>
            <a:ext cx="142920" cy="82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24080" y="3714840"/>
            <a:ext cx="189000" cy="322200"/>
          </a:xfrm>
          <a:custGeom>
            <a:avLst/>
            <a:gdLst/>
            <a:ahLst/>
            <a:rect l="l" t="t" r="r" b="b"/>
            <a:pathLst>
              <a:path w="119" h="203">
                <a:moveTo>
                  <a:pt x="119" y="203"/>
                </a:moveTo>
                <a:lnTo>
                  <a:pt x="119" y="67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228400" y="3760560"/>
            <a:ext cx="14292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039760" y="3714840"/>
            <a:ext cx="184320" cy="108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14760" y="34401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854360" y="3567240"/>
            <a:ext cx="1440" cy="14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68600" y="3179880"/>
            <a:ext cx="125280" cy="287280"/>
          </a:xfrm>
          <a:custGeom>
            <a:avLst/>
            <a:gdLst/>
            <a:ahLst/>
            <a:rect l="l" t="t" r="r" b="b"/>
            <a:pathLst>
              <a:path w="79" h="181">
                <a:moveTo>
                  <a:pt x="79" y="181"/>
                </a:move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630440" y="3204720"/>
            <a:ext cx="1440" cy="165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3073320"/>
            <a:ext cx="373320" cy="108000"/>
          </a:xfrm>
          <a:custGeom>
            <a:avLst/>
            <a:gdLst/>
            <a:ahLst/>
            <a:rect l="l" t="t" r="r" b="b"/>
            <a:pathLst>
              <a:path w="235" h="68">
                <a:moveTo>
                  <a:pt x="235" y="67"/>
                </a:moveTo>
                <a:lnTo>
                  <a:pt x="117" y="0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336320" y="3119400"/>
            <a:ext cx="14292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95280" y="3181320"/>
            <a:ext cx="189000" cy="322200"/>
          </a:xfrm>
          <a:custGeom>
            <a:avLst/>
            <a:gdLst/>
            <a:ahLst/>
            <a:rect l="l" t="t" r="r" b="b"/>
            <a:pathLst>
              <a:path w="119" h="203">
                <a:moveTo>
                  <a:pt x="0" y="0"/>
                </a:moveTo>
                <a:lnTo>
                  <a:pt x="0" y="136"/>
                </a:lnTo>
                <a:lnTo>
                  <a:pt x="119" y="20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36680" y="3375000"/>
            <a:ext cx="144360" cy="82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484280" y="3395520"/>
            <a:ext cx="184320" cy="108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77840" y="301464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1162080" y="3105000"/>
            <a:ext cx="133200" cy="76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06560" y="344484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99080" y="344484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46240" y="3397320"/>
            <a:ext cx="149040" cy="87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4920" y="408312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13080" y="4037040"/>
            <a:ext cx="120600" cy="68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92360" y="4341960"/>
            <a:ext cx="144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4308480"/>
            <a:ext cx="19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87680" y="4276800"/>
            <a:ext cx="223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84440" y="4243320"/>
            <a:ext cx="284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83000" y="4211640"/>
            <a:ext cx="31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426760" y="4357800"/>
            <a:ext cx="173160" cy="126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64360" y="46292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27120" y="4484520"/>
            <a:ext cx="217800" cy="204840"/>
          </a:xfrm>
          <a:custGeom>
            <a:avLst/>
            <a:gdLst/>
            <a:ahLst/>
            <a:rect l="l" t="t" r="r" b="b"/>
            <a:pathLst>
              <a:path w="137" h="129">
                <a:moveTo>
                  <a:pt x="0" y="0"/>
                </a:moveTo>
                <a:lnTo>
                  <a:pt x="42" y="129"/>
                </a:lnTo>
                <a:lnTo>
                  <a:pt x="137" y="12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00280" y="4357800"/>
            <a:ext cx="174600" cy="266760"/>
          </a:xfrm>
          <a:custGeom>
            <a:avLst/>
            <a:gdLst/>
            <a:ahLst/>
            <a:rect l="l" t="t" r="r" b="b"/>
            <a:pathLst>
              <a:path w="110" h="168">
                <a:moveTo>
                  <a:pt x="81" y="168"/>
                </a:moveTo>
                <a:lnTo>
                  <a:pt x="110" y="8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365292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413080" y="3746160"/>
            <a:ext cx="122040" cy="74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54280" y="3710160"/>
            <a:ext cx="314280" cy="107640"/>
          </a:xfrm>
          <a:custGeom>
            <a:avLst/>
            <a:gdLst/>
            <a:ahLst/>
            <a:rect l="l" t="t" r="r" b="b"/>
            <a:pathLst>
              <a:path w="198" h="68">
                <a:moveTo>
                  <a:pt x="0" y="22"/>
                </a:moveTo>
                <a:lnTo>
                  <a:pt x="81" y="68"/>
                </a:lnTo>
                <a:lnTo>
                  <a:pt x="198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38880" y="397368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63720" y="3814920"/>
            <a:ext cx="1800" cy="153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01880" y="3813120"/>
            <a:ext cx="1800" cy="155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68560" y="3710160"/>
            <a:ext cx="185760" cy="106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08160" y="3689280"/>
            <a:ext cx="14292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154320" y="3708360"/>
            <a:ext cx="185760" cy="108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86240" y="375444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340080" y="3708360"/>
            <a:ext cx="123840" cy="69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587760" y="3704760"/>
            <a:ext cx="123840" cy="71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25840" y="3879720"/>
            <a:ext cx="1440" cy="149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40360" y="4132440"/>
            <a:ext cx="7952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41720" y="4119480"/>
            <a:ext cx="81000" cy="3672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12"/>
                </a:moveTo>
                <a:lnTo>
                  <a:pt x="15" y="12"/>
                </a:lnTo>
                <a:lnTo>
                  <a:pt x="0" y="0"/>
                </a:lnTo>
                <a:lnTo>
                  <a:pt x="51" y="12"/>
                </a:lnTo>
                <a:lnTo>
                  <a:pt x="0" y="23"/>
                </a:lnTo>
                <a:lnTo>
                  <a:pt x="15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5600" y="4113360"/>
            <a:ext cx="81000" cy="36360"/>
          </a:xfrm>
          <a:custGeom>
            <a:avLst/>
            <a:gdLst/>
            <a:ahLst/>
            <a:rect l="l" t="t" r="r" b="b"/>
            <a:pathLst>
              <a:path w="51" h="23">
                <a:moveTo>
                  <a:pt x="0" y="12"/>
                </a:moveTo>
                <a:lnTo>
                  <a:pt x="15" y="12"/>
                </a:lnTo>
                <a:lnTo>
                  <a:pt x="0" y="0"/>
                </a:lnTo>
                <a:lnTo>
                  <a:pt x="51" y="12"/>
                </a:lnTo>
                <a:lnTo>
                  <a:pt x="0" y="23"/>
                </a:lnTo>
                <a:lnTo>
                  <a:pt x="15" y="12"/>
                </a:lnTo>
                <a:lnTo>
                  <a:pt x="0" y="12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53120" y="37083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54640" y="3660840"/>
            <a:ext cx="309600" cy="108000"/>
          </a:xfrm>
          <a:custGeom>
            <a:avLst/>
            <a:gdLst/>
            <a:ahLst/>
            <a:rect l="l" t="t" r="r" b="b"/>
            <a:pathLst>
              <a:path w="195" h="68">
                <a:moveTo>
                  <a:pt x="0" y="44"/>
                </a:moveTo>
                <a:lnTo>
                  <a:pt x="78" y="0"/>
                </a:lnTo>
                <a:lnTo>
                  <a:pt x="195" y="68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68760" y="3443400"/>
            <a:ext cx="31680" cy="225360"/>
          </a:xfrm>
          <a:custGeom>
            <a:avLst/>
            <a:gdLst/>
            <a:ahLst/>
            <a:rect l="l" t="t" r="r" b="b"/>
            <a:pathLst>
              <a:path w="20" h="142">
                <a:moveTo>
                  <a:pt x="6" y="142"/>
                </a:moveTo>
                <a:lnTo>
                  <a:pt x="14" y="142"/>
                </a:lnTo>
                <a:lnTo>
                  <a:pt x="20" y="13"/>
                </a:lnTo>
                <a:lnTo>
                  <a:pt x="10" y="6"/>
                </a:lnTo>
                <a:lnTo>
                  <a:pt x="0" y="0"/>
                </a:lnTo>
                <a:lnTo>
                  <a:pt x="6" y="1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68760" y="3443400"/>
            <a:ext cx="31680" cy="225360"/>
          </a:xfrm>
          <a:custGeom>
            <a:avLst/>
            <a:gdLst/>
            <a:ahLst/>
            <a:rect l="l" t="t" r="r" b="b"/>
            <a:pathLst>
              <a:path w="20" h="142">
                <a:moveTo>
                  <a:pt x="6" y="142"/>
                </a:moveTo>
                <a:lnTo>
                  <a:pt x="14" y="142"/>
                </a:lnTo>
                <a:lnTo>
                  <a:pt x="20" y="13"/>
                </a:lnTo>
                <a:lnTo>
                  <a:pt x="10" y="6"/>
                </a:lnTo>
                <a:lnTo>
                  <a:pt x="0" y="0"/>
                </a:lnTo>
                <a:lnTo>
                  <a:pt x="6" y="142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56000" y="327960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4449600" y="3371760"/>
            <a:ext cx="128880" cy="74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18520" y="392256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45160" y="3763800"/>
            <a:ext cx="1440" cy="154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82960" y="3763800"/>
            <a:ext cx="1800" cy="154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764240" y="3696840"/>
            <a:ext cx="123840" cy="71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4246560" y="3679560"/>
            <a:ext cx="85680" cy="52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220640" y="3635280"/>
            <a:ext cx="41400" cy="98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4875120" y="3650760"/>
            <a:ext cx="46080" cy="93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37600" y="43419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8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34440" y="4294080"/>
            <a:ext cx="314280" cy="108000"/>
          </a:xfrm>
          <a:custGeom>
            <a:avLst/>
            <a:gdLst/>
            <a:ahLst/>
            <a:rect l="l" t="t" r="r" b="b"/>
            <a:pathLst>
              <a:path w="198" h="68">
                <a:moveTo>
                  <a:pt x="0" y="46"/>
                </a:moveTo>
                <a:lnTo>
                  <a:pt x="81" y="0"/>
                </a:lnTo>
                <a:lnTo>
                  <a:pt x="198" y="68"/>
                </a:lnTo>
              </a:path>
            </a:pathLst>
          </a:custGeom>
          <a:noFill/>
          <a:ln w="1908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53240" y="4076640"/>
            <a:ext cx="33480" cy="223920"/>
          </a:xfrm>
          <a:custGeom>
            <a:avLst/>
            <a:gdLst/>
            <a:ahLst/>
            <a:rect l="l" t="t" r="r" b="b"/>
            <a:pathLst>
              <a:path w="21" h="141">
                <a:moveTo>
                  <a:pt x="6" y="141"/>
                </a:moveTo>
                <a:lnTo>
                  <a:pt x="15" y="141"/>
                </a:lnTo>
                <a:lnTo>
                  <a:pt x="21" y="12"/>
                </a:lnTo>
                <a:lnTo>
                  <a:pt x="11" y="6"/>
                </a:lnTo>
                <a:lnTo>
                  <a:pt x="0" y="0"/>
                </a:lnTo>
                <a:lnTo>
                  <a:pt x="6" y="141"/>
                </a:lnTo>
                <a:close/>
              </a:path>
            </a:pathLst>
          </a:custGeom>
          <a:solidFill>
            <a:srgbClr val="ff8000"/>
          </a:solidFill>
          <a:ln w="936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40480" y="391176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8000"/>
                </a:solidFill>
                <a:latin typeface="Arial"/>
              </a:rPr>
              <a:t>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534080" y="4005000"/>
            <a:ext cx="128520" cy="74520"/>
          </a:xfrm>
          <a:prstGeom prst="line">
            <a:avLst/>
          </a:prstGeom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04440" y="455616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8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831080" y="4397400"/>
            <a:ext cx="1800" cy="154080"/>
          </a:xfrm>
          <a:prstGeom prst="line">
            <a:avLst/>
          </a:prstGeom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867800" y="4397400"/>
            <a:ext cx="1440" cy="154080"/>
          </a:xfrm>
          <a:prstGeom prst="line">
            <a:avLst/>
          </a:prstGeom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848720" y="4330800"/>
            <a:ext cx="125280" cy="71280"/>
          </a:xfrm>
          <a:prstGeom prst="line">
            <a:avLst/>
          </a:prstGeom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7332840" y="4313160"/>
            <a:ext cx="85680" cy="52560"/>
          </a:xfrm>
          <a:prstGeom prst="line">
            <a:avLst/>
          </a:prstGeom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50080" y="370368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91120" y="3830760"/>
            <a:ext cx="1800" cy="14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27840" y="3830760"/>
            <a:ext cx="1440" cy="123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35840" y="402732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991120" y="3979800"/>
            <a:ext cx="122400" cy="71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232680" y="3978000"/>
            <a:ext cx="129960" cy="74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215040" y="3958920"/>
            <a:ext cx="106560" cy="60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6175440" y="3657240"/>
            <a:ext cx="187200" cy="106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6178320" y="3701880"/>
            <a:ext cx="142920" cy="82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051600" y="3657600"/>
            <a:ext cx="123840" cy="68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62640" y="3763800"/>
            <a:ext cx="371520" cy="322560"/>
          </a:xfrm>
          <a:custGeom>
            <a:avLst/>
            <a:gdLst/>
            <a:ahLst/>
            <a:rect l="l" t="t" r="r" b="b"/>
            <a:pathLst>
              <a:path w="234" h="203">
                <a:moveTo>
                  <a:pt x="0" y="0"/>
                </a:moveTo>
                <a:lnTo>
                  <a:pt x="0" y="135"/>
                </a:lnTo>
                <a:lnTo>
                  <a:pt x="117" y="203"/>
                </a:lnTo>
                <a:lnTo>
                  <a:pt x="234" y="135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550200" y="3958920"/>
            <a:ext cx="14256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546960" y="3656160"/>
            <a:ext cx="187200" cy="322200"/>
          </a:xfrm>
          <a:custGeom>
            <a:avLst/>
            <a:gdLst/>
            <a:ahLst/>
            <a:rect l="l" t="t" r="r" b="b"/>
            <a:pathLst>
              <a:path w="118" h="203">
                <a:moveTo>
                  <a:pt x="118" y="203"/>
                </a:moveTo>
                <a:lnTo>
                  <a:pt x="118" y="67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6549840" y="3701880"/>
            <a:ext cx="144360" cy="82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6362640" y="3656160"/>
            <a:ext cx="184320" cy="107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35840" y="338292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175440" y="3507840"/>
            <a:ext cx="1440" cy="149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989680" y="3121200"/>
            <a:ext cx="127080" cy="287280"/>
          </a:xfrm>
          <a:custGeom>
            <a:avLst/>
            <a:gdLst/>
            <a:ahLst/>
            <a:rect l="l" t="t" r="r" b="b"/>
            <a:pathLst>
              <a:path w="80" h="181">
                <a:moveTo>
                  <a:pt x="80" y="181"/>
                </a:move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951520" y="3146040"/>
            <a:ext cx="1440" cy="165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18160" y="3016080"/>
            <a:ext cx="371520" cy="106560"/>
          </a:xfrm>
          <a:custGeom>
            <a:avLst/>
            <a:gdLst/>
            <a:ahLst/>
            <a:rect l="l" t="t" r="r" b="b"/>
            <a:pathLst>
              <a:path w="234" h="67">
                <a:moveTo>
                  <a:pt x="234" y="66"/>
                </a:moveTo>
                <a:lnTo>
                  <a:pt x="116" y="0"/>
                </a:lnTo>
                <a:lnTo>
                  <a:pt x="0" y="67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659560" y="3060720"/>
            <a:ext cx="14112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18160" y="3122640"/>
            <a:ext cx="187200" cy="322200"/>
          </a:xfrm>
          <a:custGeom>
            <a:avLst/>
            <a:gdLst/>
            <a:ahLst/>
            <a:rect l="l" t="t" r="r" b="b"/>
            <a:pathLst>
              <a:path w="118" h="203">
                <a:moveTo>
                  <a:pt x="0" y="0"/>
                </a:moveTo>
                <a:lnTo>
                  <a:pt x="0" y="136"/>
                </a:lnTo>
                <a:lnTo>
                  <a:pt x="118" y="20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657760" y="3316320"/>
            <a:ext cx="144720" cy="82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805360" y="3336840"/>
            <a:ext cx="184320" cy="108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98920" y="295596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5482800" y="3046320"/>
            <a:ext cx="135000" cy="76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27640" y="33861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20160" y="3386160"/>
            <a:ext cx="40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466960" y="3338640"/>
            <a:ext cx="150840" cy="87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76000" y="40244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34160" y="3978360"/>
            <a:ext cx="120600" cy="69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913440" y="4282920"/>
            <a:ext cx="158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12000" y="4249800"/>
            <a:ext cx="19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908760" y="4218120"/>
            <a:ext cx="23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905520" y="4184640"/>
            <a:ext cx="288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904080" y="4152960"/>
            <a:ext cx="31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748560" y="4299120"/>
            <a:ext cx="172800" cy="126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985440" y="457056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48560" y="4425840"/>
            <a:ext cx="217440" cy="204840"/>
          </a:xfrm>
          <a:custGeom>
            <a:avLst/>
            <a:gdLst/>
            <a:ahLst/>
            <a:rect l="l" t="t" r="r" b="b"/>
            <a:pathLst>
              <a:path w="137" h="129">
                <a:moveTo>
                  <a:pt x="0" y="0"/>
                </a:moveTo>
                <a:lnTo>
                  <a:pt x="43" y="129"/>
                </a:lnTo>
                <a:lnTo>
                  <a:pt x="137" y="12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921360" y="4299120"/>
            <a:ext cx="174600" cy="266400"/>
          </a:xfrm>
          <a:custGeom>
            <a:avLst/>
            <a:gdLst/>
            <a:ahLst/>
            <a:rect l="l" t="t" r="r" b="b"/>
            <a:pathLst>
              <a:path w="110" h="168">
                <a:moveTo>
                  <a:pt x="81" y="168"/>
                </a:moveTo>
                <a:lnTo>
                  <a:pt x="110" y="8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77080" y="359424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734160" y="3688920"/>
            <a:ext cx="122400" cy="73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75360" y="3651120"/>
            <a:ext cx="314280" cy="109800"/>
          </a:xfrm>
          <a:custGeom>
            <a:avLst/>
            <a:gdLst/>
            <a:ahLst/>
            <a:rect l="l" t="t" r="r" b="b"/>
            <a:pathLst>
              <a:path w="198" h="69">
                <a:moveTo>
                  <a:pt x="0" y="22"/>
                </a:moveTo>
                <a:lnTo>
                  <a:pt x="81" y="69"/>
                </a:lnTo>
                <a:lnTo>
                  <a:pt x="198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59960" y="3914640"/>
            <a:ext cx="110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86600" y="3755880"/>
            <a:ext cx="1440" cy="154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124760" y="3754440"/>
            <a:ext cx="1440" cy="155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289640" y="3649680"/>
            <a:ext cx="371520" cy="108000"/>
          </a:xfrm>
          <a:custGeom>
            <a:avLst/>
            <a:gdLst/>
            <a:ahLst/>
            <a:rect l="l" t="t" r="r" b="b"/>
            <a:pathLst>
              <a:path w="234" h="68">
                <a:moveTo>
                  <a:pt x="0" y="1"/>
                </a:moveTo>
                <a:lnTo>
                  <a:pt x="118" y="68"/>
                </a:lnTo>
                <a:lnTo>
                  <a:pt x="234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07320" y="36957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661160" y="3649680"/>
            <a:ext cx="125640" cy="69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908840" y="3648240"/>
            <a:ext cx="123840" cy="69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46920" y="3821040"/>
            <a:ext cx="1800" cy="149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77200" y="3757680"/>
            <a:ext cx="1440" cy="14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7305840" y="4268880"/>
            <a:ext cx="41040" cy="98280"/>
          </a:xfrm>
          <a:prstGeom prst="line">
            <a:avLst/>
          </a:prstGeom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7959600" y="4284720"/>
            <a:ext cx="46080" cy="93600"/>
          </a:xfrm>
          <a:prstGeom prst="line">
            <a:avLst/>
          </a:prstGeom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52600" y="134640"/>
            <a:ext cx="8030880" cy="87156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UX-Lung 1: Trial Desig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21" name="AutoShape 30"/>
          <p:cNvCxnSpPr/>
          <p:nvPr/>
        </p:nvCxnSpPr>
        <p:spPr>
          <a:xfrm rot="5400000">
            <a:off x="3008880" y="2128680"/>
            <a:ext cx="921600" cy="2400840"/>
          </a:xfrm>
          <a:prstGeom prst="bentConnector3">
            <a:avLst>
              <a:gd name="adj1" fmla="val 49980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AutoShape 24"/>
          <p:cNvCxnSpPr/>
          <p:nvPr/>
        </p:nvCxnSpPr>
        <p:spPr>
          <a:xfrm flipH="1" rot="16200000">
            <a:off x="5371200" y="2167200"/>
            <a:ext cx="921600" cy="2323440"/>
          </a:xfrm>
          <a:prstGeom prst="bentConnector3">
            <a:avLst>
              <a:gd name="adj1" fmla="val 49980"/>
            </a:avLst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3" name="Rectangle 20"/>
          <p:cNvSpPr/>
          <p:nvPr/>
        </p:nvSpPr>
        <p:spPr>
          <a:xfrm>
            <a:off x="3419640" y="3141720"/>
            <a:ext cx="2450880" cy="512640"/>
          </a:xfrm>
          <a:prstGeom prst="rect">
            <a:avLst/>
          </a:prstGeom>
          <a:solidFill>
            <a:srgbClr val="00267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Randomization 2: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(Double Blin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2"/>
          <p:cNvSpPr/>
          <p:nvPr/>
        </p:nvSpPr>
        <p:spPr>
          <a:xfrm>
            <a:off x="469800" y="3789360"/>
            <a:ext cx="3598920" cy="539640"/>
          </a:xfrm>
          <a:prstGeom prst="rect">
            <a:avLst/>
          </a:prstGeom>
          <a:solidFill>
            <a:srgbClr val="00267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Oral afatinib 50 mg once dail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lus BS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3"/>
          <p:cNvSpPr/>
          <p:nvPr/>
        </p:nvSpPr>
        <p:spPr>
          <a:xfrm>
            <a:off x="5192640" y="3789360"/>
            <a:ext cx="3598920" cy="539640"/>
          </a:xfrm>
          <a:prstGeom prst="rect">
            <a:avLst/>
          </a:prstGeom>
          <a:solidFill>
            <a:srgbClr val="00267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Oral placebo once dail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lus BS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5"/>
          <p:cNvSpPr/>
          <p:nvPr/>
        </p:nvSpPr>
        <p:spPr>
          <a:xfrm>
            <a:off x="503280" y="4508640"/>
            <a:ext cx="8331120" cy="792000"/>
          </a:xfrm>
          <a:prstGeom prst="rect">
            <a:avLst/>
          </a:prstGeom>
          <a:solidFill>
            <a:srgbClr val="00267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imary endpoint: Overall survival (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econdary: PFS, RECIST response, QoL (LC13 &amp; C30), safe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468360" y="5373720"/>
            <a:ext cx="792144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Radiographic assessments at 4, 8, 12 wks and every 8 wks thereaf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Exploratory biomarker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rchival tissue testing for EGFR mutations (optional; central lab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Serum EGFR mutational analysis (all pati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4"/>
          <p:cNvSpPr/>
          <p:nvPr/>
        </p:nvSpPr>
        <p:spPr>
          <a:xfrm>
            <a:off x="468360" y="1132560"/>
            <a:ext cx="8366040" cy="1828440"/>
          </a:xfrm>
          <a:prstGeom prst="rect">
            <a:avLst/>
          </a:prstGeom>
          <a:solidFill>
            <a:srgbClr val="00267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atients with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denocarcinoma of the lu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Stage IIIB/IV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rogressed after one or two lines of chemotherapy (incl. one platinum-based regimen) and ≥12 weeks of  treatment with erlotinib or gefitini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ECOG 0–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=58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6477120"/>
            <a:ext cx="7543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er VA et al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c ESM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010;Abstract LBA1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UX-Lung 1:  Progression-Free Survival (PFS) by Independent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609480" y="2133720"/>
          <a:ext cx="7772400" cy="1331640"/>
        </p:xfrm>
        <a:graphic>
          <a:graphicData uri="http://schemas.openxmlformats.org/drawingml/2006/table">
            <a:tbl>
              <a:tblPr/>
              <a:tblGrid>
                <a:gridCol w="1676520"/>
                <a:gridCol w="1981080"/>
                <a:gridCol w="1600200"/>
                <a:gridCol w="1295640"/>
                <a:gridCol w="12189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atinib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390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bo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 = 195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i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93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7931760" indent="9711360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7931760" indent="9711360"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th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383760" y="6248520"/>
            <a:ext cx="453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ler VA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 ES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;Abstract LBA1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1:33:49Z</dcterms:created>
  <dc:creator>Research To Practice</dc:creator>
  <dc:description/>
  <cp:keywords/>
  <dc:language>en-US</dc:language>
  <cp:lastModifiedBy>Mac Pro E703803Y4PC</cp:lastModifiedBy>
  <cp:lastPrinted>2011-02-10T17:17:55Z</cp:lastPrinted>
  <dcterms:modified xsi:type="dcterms:W3CDTF">2011-05-20T11:42:19Z</dcterms:modified>
  <cp:revision>23</cp:revision>
  <dc:subject/>
  <dc:title>PowerPoint Presentation</dc:title>
</cp:coreProperties>
</file>