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A11F-ED18-4F4C-84C6-2008EBBDD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0DA1-B50A-47AC-A395-1F28FA486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58A7-CC86-4758-A053-4F306AFCF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816B-FE52-4B2F-893E-DBF65D171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7680" y="684360"/>
            <a:ext cx="4567320" cy="3427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9A31-E3C0-464B-AF53-8F845CB378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306440" y="685800"/>
            <a:ext cx="4248360" cy="3186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1100160" y="4016520"/>
            <a:ext cx="4657680" cy="4441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marL="22860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fld id="{C2F3A2AC-1348-4FB8-8130-86DC2BE8DC9F}" type="slidenum">
              <a:rPr b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51CB-DCBB-4BA0-BE22-AAF7B866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E1CA-940D-4F4C-BC61-B1E768C3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C4D4-8406-4EFF-865C-D681D704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B2A8-D07C-447B-9C4D-7396CD55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4E6B-1A57-42DE-8D41-C455E99F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F091-0C04-4E7D-B7C6-D4722E71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5489-39DD-4F04-BA7B-D80F7CDF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EA9C-4301-41AC-B955-59C3E350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4F5A-0512-4083-9903-E69B23F7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47E3-D527-4267-BE71-09DD3A39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E9B9-7DE3-42F4-BCD0-FF2DA2E2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A41B-814D-45FF-B937-7B30DA85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7386-E02C-4A01-BD55-5F0C2E66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E6B8-1F00-41EF-8171-92FBB2D3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C4DB-6E97-4759-8E3D-D99FC5CF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9B5B-0933-4AF0-97C2-86DED3A4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BEF7-F0D7-4887-B968-87EEB7D8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EC65-D1F8-45AC-A2E1-5006C33B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719BA-ED5E-4CC4-AAA5-84476FFF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8E461-6538-44A3-97F0-15A88F9A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5DB88-3250-4026-B8C6-4A64754F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1683-48A6-42A0-81A8-1FAF9909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068E6-0A96-42AA-93EF-43F409C6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3B7FF-9E77-4CFF-94BE-1FCC28BE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6EAF2-4204-4C2A-90CA-20CE8D8E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AC9AF-A51A-478C-8E68-6158F447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D5BF8-D5E7-45CB-BF78-2B4EED2A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6BB01-7595-4C67-869C-906F4FEC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6D93B-CCBB-421A-B875-5948AD63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73CB7-FD7A-4F5B-95F6-7CFC0869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0B7C5-FF4A-433F-9DDE-C3D09E62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1A75F-4EEF-46A8-BBE9-B008644F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CB8D-BAC8-425F-A9CE-3B15B57E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5DF2F-9F5C-4638-8582-6E0ADDB2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C8CA6-F860-4B23-A3BD-22EA4A19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601E8-9C0C-4E03-B077-50290D8A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65948-4EF8-4EEB-B515-9104FF9A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143C8-F16D-4A7C-9950-2ED4867B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5E3EF-79B5-476D-B897-4BEB132A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27C4E-2AAD-4088-AC21-3C104645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4EB22-9B4B-4820-9E21-B2D4EF46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4BF0A-BFF3-40A2-AB6C-EAC73A68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FB24F-D144-4936-90C4-9B2BC351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0287-7F74-47B3-8DE8-7408520E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EB8E9-6D9B-461A-89A2-AA31166A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FF778-3655-4A54-9251-44C99CE5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BE8DF-43C7-42E4-902C-826C0B35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772C9-695E-4517-9E93-1444B2DE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DC5ED-1793-4C57-B13B-60DDDAB6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3AF6D-8688-46C7-B7CA-2FB8DB1E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EF1B3-F525-46E5-84E2-06F04A32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A1069-C86E-42DC-B15E-D3FF89C9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B29B6-A394-4AF1-B8F4-E6139AFD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3F398-5653-4252-BAF7-504026D2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E1C-9432-4AEE-A3F6-4C29459F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F3F2F-6A0B-4DE8-92E7-F8441C8C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30900-2581-475B-B45B-1E10D844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7AE76-3975-42BC-9852-FC3F1B91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63CF2-EE5A-41B9-BE30-5F2DD57D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06D3F-8EAB-43B5-B654-57CCF423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962E2-A3FE-4803-A6F7-2901D5DB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25DA2-1A50-4791-8100-4A6AE7C1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1CAEA-AE05-4D88-88DD-0D262F34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DCFD8-4827-49D1-818B-D2697561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C85A0-8D49-4416-9670-CE387E17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928F-8948-4676-8671-2687CF67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138ED-CA3F-4AB9-9891-B841946A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17E32-B358-4F7F-96D1-292BAB17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D450C-5228-42C8-8536-28C44FC1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C9B1E-3945-4943-825A-EB6A9F21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2428A-A6FC-4194-AD07-AC88B677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CF8F1-F372-4C29-82CC-14F6AEA9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61B9D-31C5-49F2-8ED8-4CAEE1E9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D79CA-CA95-4433-A714-C9110D6B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1E640-3077-4597-803B-08773504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457A2-4CCE-426B-B648-0959345D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9057-CDC5-4B4C-ABBE-D1856785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5A966-EE3B-4CD7-BD12-669FD011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416DE-9136-4248-8407-CF3CD939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8B5A1-34D9-4AF1-BBBD-50CF251C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367B8-6DB7-4EB2-B844-3A0463B6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7B9F9-E979-4996-890B-E7C8853F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75F9A-6280-4042-B23B-7D947B0F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E4D1C-3CD4-474C-B378-C1ADFFEE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8140-8985-4435-BDD9-774A53A90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415E-59F2-4C89-8A86-F555644AA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291960" y="1309680"/>
            <a:ext cx="8529840" cy="537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89080" indent="-289080">
              <a:spcAft>
                <a:spcPts val="499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87280">
              <a:spcAft>
                <a:spcPts val="499"/>
              </a:spcAft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11400" indent="-351000"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91960" y="1890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613B-DBD1-49FE-9C50-929F5D7BDC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573F-5A7F-4535-B5F1-55F1FF9D13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26B7-E3F8-42B9-97BC-A84D262A3D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2E2F-3DFF-492E-95F6-EBD1DF2ECC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2A0F-F54C-417A-8B9C-FDD34A1FB9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Line 6"/>
          <p:cNvSpPr/>
          <p:nvPr/>
        </p:nvSpPr>
        <p:spPr>
          <a:xfrm>
            <a:off x="291960" y="3244680"/>
            <a:ext cx="8529840" cy="0"/>
          </a:xfrm>
          <a:prstGeom prst="line">
            <a:avLst/>
          </a:prstGeom>
          <a:ln w="28440">
            <a:solidFill>
              <a:srgbClr val="e9c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291960" y="1309680"/>
            <a:ext cx="8529840" cy="537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89080" indent="-289080">
              <a:spcAft>
                <a:spcPts val="499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87280">
              <a:spcAft>
                <a:spcPts val="499"/>
              </a:spcAft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11400" indent="-351000"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291960" y="1890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eating Advanced Lung Adenocarcinoma: 2011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Algorithmic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76176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ncent A. Miller, M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racic Oncology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ial Sloan Kettering Cancer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71604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ML-4 ALK Fusion in NSCLC: Clinical and Pathologic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tients may be younger and more commonly m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re common in adenocarcinoma and never or modest smo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like EGFR mutation may NOT be prognos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ike EGFR mutation largely exclusive from KRAS mut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re to occur with EGFR mu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ccurs in 25% of EGFR/KRAS WT never smo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K Fusions in Lung Can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anslocations resulting in fusion g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receptor tyrosine kinase (anaplastic lymphoma kinase [ALK] fuses to the echinoderm microtubule-associated protein-like 4 (EML-4) [Soda Nature 2007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ultiple chimeras f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cogen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ctivation enhances proliferation, survival, changes cell shape through KRAS-ERK, JAK3-STAT, PI3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1960" y="1271160"/>
            <a:ext cx="8529840" cy="190044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linical Activity of the Oral ALK Inhibitor, </a:t>
            </a:r>
            <a:br>
              <a:rPr sz="3000"/>
            </a:b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rizotinib (PF-02341066), in Patients with </a:t>
            </a:r>
            <a:r>
              <a:rPr b="1" i="1" lang="en-US" sz="3000" spc="-1" strike="noStrike">
                <a:solidFill>
                  <a:srgbClr val="e9c550"/>
                </a:solidFill>
                <a:latin typeface="Arial"/>
              </a:rPr>
              <a:t>ALK</a:t>
            </a: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-positive Non-small Cell Lung Cancer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291960" y="3319560"/>
            <a:ext cx="8529840" cy="1752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g Y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Kwak EL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haw A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Camidge DR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afrate AJ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Maki RG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omon B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u SI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algia R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Clark J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468360" y="3987720"/>
            <a:ext cx="81741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eoul National University, Seoul, Korea; </a:t>
            </a:r>
            <a:r>
              <a:rPr b="1" i="1" lang="en-US" sz="1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assachusetts General Hospital, Boston, MA, USA; </a:t>
            </a:r>
            <a:r>
              <a:rPr b="1" i="1" lang="en-US" sz="1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University of Colorado Cancer Center, Aurora, CO, USA; </a:t>
            </a:r>
            <a:r>
              <a:rPr b="1" i="1" lang="en-US" sz="1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emorial Sloan-Kettering Cancer Center, </a:t>
            </a:r>
            <a:r>
              <a:rPr b="1" i="1" lang="en-GB" sz="1400" spc="-1" strike="noStrike">
                <a:solidFill>
                  <a:srgbClr val="ffffff"/>
                </a:solidFill>
                <a:latin typeface="Arial"/>
              </a:rPr>
              <a:t>New York, NY, USA;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Peter MacCallum Cancer Centre, East Melbourne, Australia; </a:t>
            </a:r>
            <a:br>
              <a:rPr sz="1400"/>
            </a:br>
            <a:r>
              <a:rPr b="1" i="1" lang="en-US" sz="1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University of California at Irvine, Irvine, CA, USA; </a:t>
            </a:r>
            <a:r>
              <a:rPr b="1" i="1" lang="en-US" sz="1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University of Chicago Cancer Center, Chicago, IL, USA 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5"/>
          <p:cNvSpPr/>
          <p:nvPr/>
        </p:nvSpPr>
        <p:spPr>
          <a:xfrm>
            <a:off x="297000" y="6391440"/>
            <a:ext cx="85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stract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215640" y="6465960"/>
            <a:ext cx="21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CO Annual Meeting 20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Object 3" descr=""/>
          <p:cNvPicPr/>
          <p:nvPr/>
        </p:nvPicPr>
        <p:blipFill>
          <a:blip r:embed="rId1"/>
          <a:stretch/>
        </p:blipFill>
        <p:spPr>
          <a:xfrm>
            <a:off x="971640" y="1397160"/>
            <a:ext cx="7848360" cy="45799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4"/>
          <p:cNvSpPr/>
          <p:nvPr/>
        </p:nvSpPr>
        <p:spPr>
          <a:xfrm>
            <a:off x="487440" y="1371600"/>
            <a:ext cx="484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4987800" y="1625760"/>
            <a:ext cx="144720" cy="12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4987800" y="1925640"/>
            <a:ext cx="144720" cy="130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4987800" y="2217600"/>
            <a:ext cx="144720" cy="130320"/>
          </a:xfrm>
          <a:prstGeom prst="rect">
            <a:avLst/>
          </a:prstGeom>
          <a:solidFill>
            <a:srgbClr val="8c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8"/>
          <p:cNvSpPr/>
          <p:nvPr/>
        </p:nvSpPr>
        <p:spPr>
          <a:xfrm>
            <a:off x="4987800" y="2514600"/>
            <a:ext cx="144720" cy="130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9"/>
          <p:cNvSpPr/>
          <p:nvPr/>
        </p:nvSpPr>
        <p:spPr>
          <a:xfrm>
            <a:off x="5132520" y="1533600"/>
            <a:ext cx="352404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gressive dise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able dise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firmed partial respon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firmed complete respon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0"/>
          <p:cNvSpPr/>
          <p:nvPr/>
        </p:nvSpPr>
        <p:spPr>
          <a:xfrm rot="16200000">
            <a:off x="-1517760" y="347040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ximum change in tumor size (%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2"/>
          <p:cNvSpPr/>
          <p:nvPr/>
        </p:nvSpPr>
        <p:spPr>
          <a:xfrm>
            <a:off x="1103400" y="3944880"/>
            <a:ext cx="7718400" cy="0"/>
          </a:xfrm>
          <a:prstGeom prst="line">
            <a:avLst/>
          </a:prstGeom>
          <a:ln w="22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4"/>
          <p:cNvSpPr/>
          <p:nvPr/>
        </p:nvSpPr>
        <p:spPr>
          <a:xfrm>
            <a:off x="1282680" y="3740040"/>
            <a:ext cx="5968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91960" y="1890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Tumor Responses to Crizotinib for Patients with </a:t>
            </a:r>
            <a:r>
              <a:rPr b="1" i="1" lang="en-US" sz="3000" spc="-1" strike="noStrike">
                <a:solidFill>
                  <a:srgbClr val="e9c550"/>
                </a:solidFill>
                <a:latin typeface="Arial"/>
              </a:rPr>
              <a:t>ALK</a:t>
            </a: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-positive NSCLC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  <p:sp>
        <p:nvSpPr>
          <p:cNvPr id="499" name="Text Box 17"/>
          <p:cNvSpPr/>
          <p:nvPr/>
        </p:nvSpPr>
        <p:spPr>
          <a:xfrm>
            <a:off x="1278000" y="5450040"/>
            <a:ext cx="65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*Partial response patients with 100% change have non-target disease pres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8"/>
          <p:cNvSpPr/>
          <p:nvPr/>
        </p:nvSpPr>
        <p:spPr>
          <a:xfrm>
            <a:off x="8294760" y="584208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636912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wak E et al. NEJM 2010;363:1693-703 fig 2A. © Massachusetts Medical Society 201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91960" y="4176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Median PFS Has Not Been Reached</a:t>
            </a:r>
            <a:br>
              <a:rPr sz="3000"/>
            </a:b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e9c550"/>
                </a:solidFill>
                <a:latin typeface="Arial"/>
              </a:rPr>
              <a:t>70% of Patients in Follow-up for PFS</a:t>
            </a: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  <p:sp>
        <p:nvSpPr>
          <p:cNvPr id="503" name="Content Placeholder 2"/>
          <p:cNvSpPr/>
          <p:nvPr/>
        </p:nvSpPr>
        <p:spPr>
          <a:xfrm>
            <a:off x="762120" y="1828800"/>
            <a:ext cx="770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e9c5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 follow-up for PFS = 6.4 months (25-75% percentile: 3.5-10 month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e9c5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S probability at 6 months = 72% (95% CI: 61, 83%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80880" y="624852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wak E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ew Engl J M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10;363:1693-703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0" y="71280"/>
            <a:ext cx="91440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91960" y="220680"/>
            <a:ext cx="8529840" cy="7272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urrent Crizotinib Clinical Trials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193680" y="6324480"/>
            <a:ext cx="742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ILE 1007: NCT00932893; PROFILE 1005: NCT0093245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6"/>
          <p:cNvSpPr/>
          <p:nvPr/>
        </p:nvSpPr>
        <p:spPr>
          <a:xfrm>
            <a:off x="419040" y="1676520"/>
            <a:ext cx="3676680" cy="1711440"/>
          </a:xfrm>
          <a:prstGeom prst="roundRect">
            <a:avLst>
              <a:gd name="adj" fmla="val 11509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109800" anchor="t">
            <a:spAutoFit/>
          </a:bodyPr>
          <a:p>
            <a:pPr marL="204840" indent="-20484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 entry criter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ve for ALK by central laborat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ior chemotherap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latinum-base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8"/>
          <p:cNvSpPr/>
          <p:nvPr/>
        </p:nvSpPr>
        <p:spPr>
          <a:xfrm>
            <a:off x="4187160" y="366084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=31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AutoShape 42"/>
          <p:cNvCxnSpPr/>
          <p:nvPr/>
        </p:nvCxnSpPr>
        <p:spPr>
          <a:xfrm flipH="1" flipV="1" rot="5400000">
            <a:off x="4754160" y="2283120"/>
            <a:ext cx="743760" cy="237240"/>
          </a:xfrm>
          <a:prstGeom prst="bentConnector2">
            <a:avLst/>
          </a:prstGeom>
          <a:ln w="3492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511" name="AutoShape 43"/>
          <p:cNvCxnSpPr/>
          <p:nvPr/>
        </p:nvCxnSpPr>
        <p:spPr>
          <a:xfrm>
            <a:off x="4119120" y="2550600"/>
            <a:ext cx="1151640" cy="605880"/>
          </a:xfrm>
          <a:prstGeom prst="bentConnector3">
            <a:avLst>
              <a:gd name="adj1" fmla="val 77235"/>
            </a:avLst>
          </a:prstGeom>
          <a:ln w="316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12" name="Text Box 19"/>
          <p:cNvSpPr/>
          <p:nvPr/>
        </p:nvSpPr>
        <p:spPr>
          <a:xfrm>
            <a:off x="1351080" y="130500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PROFILE 1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AutoShape 6"/>
          <p:cNvCxnSpPr>
            <a:stCxn id="514" idx="3"/>
          </p:cNvCxnSpPr>
          <p:nvPr/>
        </p:nvCxnSpPr>
        <p:spPr>
          <a:xfrm>
            <a:off x="4154040" y="5125680"/>
            <a:ext cx="1151640" cy="39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</p:cxnSp>
      <p:sp>
        <p:nvSpPr>
          <p:cNvPr id="515" name="AutoShape 40"/>
          <p:cNvSpPr/>
          <p:nvPr/>
        </p:nvSpPr>
        <p:spPr>
          <a:xfrm>
            <a:off x="5305320" y="4616280"/>
            <a:ext cx="3516480" cy="935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8440">
            <a:solidFill>
              <a:srgbClr val="17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457c"/>
                </a:solidFill>
                <a:latin typeface="Arial"/>
                <a:ea typeface="Arial"/>
              </a:rPr>
              <a:t>Crizotinib </a:t>
            </a:r>
            <a:r>
              <a:rPr b="1" lang="en-GB" sz="1500" spc="-1" strike="noStrike">
                <a:solidFill>
                  <a:srgbClr val="00457c"/>
                </a:solidFill>
                <a:latin typeface="Arial"/>
                <a:ea typeface="Arial"/>
              </a:rPr>
              <a:t>250 mg BID (N=250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1141560" algn="ctr">
              <a:lnSpc>
                <a:spcPct val="100000"/>
              </a:lnSpc>
              <a:tabLst>
                <a:tab algn="l" pos="0"/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457c"/>
                </a:solidFill>
                <a:latin typeface="Arial"/>
                <a:ea typeface="Arial"/>
              </a:rPr>
              <a:t>administered on a continuou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1141560" algn="ctr">
              <a:lnSpc>
                <a:spcPct val="100000"/>
              </a:lnSpc>
              <a:tabLst>
                <a:tab algn="l" pos="0"/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457c"/>
                </a:solidFill>
                <a:latin typeface="Arial"/>
                <a:ea typeface="Arial"/>
              </a:rPr>
              <a:t>dosing schedu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36"/>
          <p:cNvSpPr/>
          <p:nvPr/>
        </p:nvSpPr>
        <p:spPr>
          <a:xfrm>
            <a:off x="411120" y="4038480"/>
            <a:ext cx="3729240" cy="2067480"/>
          </a:xfrm>
          <a:prstGeom prst="roundRect">
            <a:avLst>
              <a:gd name="adj" fmla="val 11509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109800" anchor="t">
            <a:spAutoFit/>
          </a:bodyPr>
          <a:p>
            <a:pPr marL="204840" indent="-20484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 entry criter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ve for ALK by central laborat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essive disease in Arm B of study A8081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1 prior chemotherap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5"/>
          <p:cNvSpPr/>
          <p:nvPr/>
        </p:nvSpPr>
        <p:spPr>
          <a:xfrm>
            <a:off x="1366920" y="365760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c63f"/>
                </a:solidFill>
                <a:latin typeface="Arial"/>
              </a:rPr>
              <a:t>PROFILE 1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37"/>
          <p:cNvSpPr/>
          <p:nvPr/>
        </p:nvSpPr>
        <p:spPr>
          <a:xfrm>
            <a:off x="4354560" y="1468440"/>
            <a:ext cx="417600" cy="2160000"/>
          </a:xfrm>
          <a:custGeom>
            <a:avLst/>
            <a:gdLst>
              <a:gd name="textAreaLeft" fmla="*/ 20160 w 417600"/>
              <a:gd name="textAreaRight" fmla="*/ 397440 w 417600"/>
              <a:gd name="textAreaTop" fmla="*/ 20160 h 2160000"/>
              <a:gd name="textAreaBottom" fmla="*/ 2139840 h 2160000"/>
            </a:gdLst>
            <a:ahLst/>
            <a:rect l="textAreaLeft" t="textAreaTop" r="textAreaRight" b="textAreaBottom"/>
            <a:pathLst>
              <a:path w="21600" h="111647">
                <a:moveTo>
                  <a:pt x="3600" y="0"/>
                </a:moveTo>
                <a:arcTo wR="3600" hR="3600" stAng="16200000" swAng="-5400000"/>
                <a:lnTo>
                  <a:pt x="0" y="108047"/>
                </a:lnTo>
                <a:arcTo wR="3600" hR="3600" stAng="10800000" swAng="-5400000"/>
                <a:lnTo>
                  <a:pt x="18000" y="1116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7373"/>
          </a:solidFill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109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R</a:t>
            </a:r>
            <a:br>
              <a:rPr sz="1400"/>
            </a:b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A</a:t>
            </a:r>
            <a:br>
              <a:rPr sz="1400"/>
            </a:b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N</a:t>
            </a:r>
            <a:br>
              <a:rPr sz="1400"/>
            </a:b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D</a:t>
            </a:r>
            <a:br>
              <a:rPr sz="1400"/>
            </a:b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O</a:t>
            </a:r>
            <a:br>
              <a:rPr sz="1400"/>
            </a:b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M</a:t>
            </a:r>
            <a:br>
              <a:rPr sz="1400"/>
            </a:b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I</a:t>
            </a:r>
            <a:br>
              <a:rPr sz="1400"/>
            </a:b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Z</a:t>
            </a:r>
            <a:br>
              <a:rPr sz="1400"/>
            </a:b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8"/>
          <p:cNvSpPr/>
          <p:nvPr/>
        </p:nvSpPr>
        <p:spPr>
          <a:xfrm>
            <a:off x="4210920" y="51642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=25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39"/>
          <p:cNvSpPr/>
          <p:nvPr/>
        </p:nvSpPr>
        <p:spPr>
          <a:xfrm>
            <a:off x="5275440" y="1332000"/>
            <a:ext cx="3546360" cy="1217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8440">
            <a:solidFill>
              <a:srgbClr val="17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457c"/>
                </a:solidFill>
                <a:latin typeface="Arial"/>
                <a:ea typeface="Arial"/>
              </a:rPr>
              <a:t>Crizotinib 250 mg BID (n=159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457c"/>
                </a:solidFill>
                <a:latin typeface="Arial"/>
                <a:ea typeface="Arial"/>
              </a:rPr>
              <a:t>administered on a continuou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457c"/>
                </a:solidFill>
                <a:latin typeface="Arial"/>
                <a:ea typeface="Arial"/>
              </a:rPr>
              <a:t>dosing schedu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40"/>
          <p:cNvSpPr/>
          <p:nvPr/>
        </p:nvSpPr>
        <p:spPr>
          <a:xfrm>
            <a:off x="5322960" y="2813040"/>
            <a:ext cx="3498840" cy="1203480"/>
          </a:xfrm>
          <a:prstGeom prst="roundRect">
            <a:avLst>
              <a:gd name="adj" fmla="val 16667"/>
            </a:avLst>
          </a:prstGeom>
          <a:solidFill>
            <a:srgbClr val="badd8c"/>
          </a:solidFill>
          <a:ln w="28440">
            <a:solidFill>
              <a:srgbClr val="699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457c"/>
                </a:solidFill>
                <a:latin typeface="Arial"/>
                <a:ea typeface="Arial"/>
              </a:rPr>
              <a:t>Pemetrexed </a:t>
            </a:r>
            <a:r>
              <a:rPr b="1" lang="en-GB" sz="1500" spc="-1" strike="noStrike">
                <a:solidFill>
                  <a:srgbClr val="00457c"/>
                </a:solidFill>
                <a:latin typeface="Arial"/>
                <a:ea typeface="Arial"/>
              </a:rPr>
              <a:t>500 mg/m</a:t>
            </a:r>
            <a:r>
              <a:rPr b="1" lang="en-GB" sz="1500" spc="-1" strike="noStrike" baseline="30000">
                <a:solidFill>
                  <a:srgbClr val="00457c"/>
                </a:solidFill>
                <a:latin typeface="Arial"/>
                <a:ea typeface="Arial"/>
              </a:rPr>
              <a:t>2</a:t>
            </a:r>
            <a:r>
              <a:rPr b="1" lang="en-GB" sz="1100" spc="-1" strike="noStrike">
                <a:solidFill>
                  <a:srgbClr val="00457c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457c"/>
                </a:solidFill>
                <a:latin typeface="Arial"/>
                <a:ea typeface="Arial"/>
              </a:rPr>
              <a:t>docetaxel 75 mg/m</a:t>
            </a:r>
            <a:r>
              <a:rPr b="1" lang="en-GB" sz="1500" spc="-1" strike="noStrike" baseline="30000">
                <a:solidFill>
                  <a:srgbClr val="00457c"/>
                </a:solidFill>
                <a:latin typeface="Arial"/>
                <a:ea typeface="Arial"/>
              </a:rPr>
              <a:t>2</a:t>
            </a:r>
            <a:r>
              <a:rPr b="0" lang="en-GB" sz="1500" spc="-1" strike="noStrike">
                <a:solidFill>
                  <a:srgbClr val="00457c"/>
                </a:solidFill>
                <a:latin typeface="Arial"/>
                <a:ea typeface="Arial"/>
              </a:rPr>
              <a:t> </a:t>
            </a:r>
            <a:r>
              <a:rPr b="1" lang="en-GB" sz="1500" spc="-1" strike="noStrike">
                <a:solidFill>
                  <a:srgbClr val="00457c"/>
                </a:solidFill>
                <a:latin typeface="Arial"/>
                <a:ea typeface="Arial"/>
              </a:rPr>
              <a:t>(n=159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457c"/>
                </a:solidFill>
                <a:latin typeface="Arial"/>
                <a:ea typeface="Arial"/>
              </a:rPr>
              <a:t>infused on day 1 of a 21-day cyc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eatment Algorithm for Lung      Adenocarcinom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3429000" y="2819520"/>
            <a:ext cx="186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biopsy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3"/>
          <p:cNvSpPr/>
          <p:nvPr/>
        </p:nvSpPr>
        <p:spPr>
          <a:xfrm>
            <a:off x="990720" y="4038480"/>
            <a:ext cx="23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YES!!!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21"/>
          <p:cNvSpPr/>
          <p:nvPr/>
        </p:nvSpPr>
        <p:spPr>
          <a:xfrm>
            <a:off x="5410080" y="396252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ev eligibl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20"/>
          <p:cNvSpPr/>
          <p:nvPr/>
        </p:nvSpPr>
        <p:spPr>
          <a:xfrm>
            <a:off x="1447920" y="129528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 slides avail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63"/>
          <p:cNvSpPr/>
          <p:nvPr/>
        </p:nvSpPr>
        <p:spPr>
          <a:xfrm>
            <a:off x="7238880" y="57913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74"/>
          <p:cNvSpPr/>
          <p:nvPr/>
        </p:nvSpPr>
        <p:spPr>
          <a:xfrm>
            <a:off x="533520" y="5241960"/>
            <a:ext cx="304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st f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GFR/KRAS and oth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u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81"/>
          <p:cNvSpPr/>
          <p:nvPr/>
        </p:nvSpPr>
        <p:spPr>
          <a:xfrm>
            <a:off x="4876920" y="57913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Straight Arrow Connector 23"/>
          <p:cNvCxnSpPr/>
          <p:nvPr/>
        </p:nvCxnSpPr>
        <p:spPr>
          <a:xfrm flipV="1">
            <a:off x="2055960" y="4496760"/>
            <a:ext cx="3600" cy="5338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30" name="Straight Arrow Connector 25"/>
          <p:cNvCxnSpPr>
            <a:stCxn id="523" idx="2"/>
          </p:cNvCxnSpPr>
          <p:nvPr/>
        </p:nvCxnSpPr>
        <p:spPr>
          <a:xfrm flipH="1">
            <a:off x="2058120" y="4557240"/>
            <a:ext cx="89640" cy="467640"/>
          </a:xfrm>
          <a:prstGeom prst="straightConnector1">
            <a:avLst/>
          </a:prstGeom>
          <a:ln w="0">
            <a:noFill/>
          </a:ln>
        </p:spPr>
      </p:cxnSp>
      <p:sp>
        <p:nvSpPr>
          <p:cNvPr id="531" name=""/>
          <p:cNvSpPr/>
          <p:nvPr/>
        </p:nvSpPr>
        <p:spPr>
          <a:xfrm flipH="1">
            <a:off x="2209680" y="3048120"/>
            <a:ext cx="1524240" cy="91440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257800" y="3048120"/>
            <a:ext cx="1295280" cy="91440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atment Algorithm for Lung Adenocarcinom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4" name="Straight Arrow Connector 12"/>
          <p:cNvCxnSpPr>
            <a:stCxn id="535" idx="2"/>
            <a:endCxn id="536" idx="0"/>
          </p:cNvCxnSpPr>
          <p:nvPr/>
        </p:nvCxnSpPr>
        <p:spPr>
          <a:xfrm flipH="1">
            <a:off x="3250440" y="1874880"/>
            <a:ext cx="1397880" cy="123408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536" name="TextBox 13"/>
          <p:cNvSpPr/>
          <p:nvPr/>
        </p:nvSpPr>
        <p:spPr>
          <a:xfrm>
            <a:off x="2464200" y="3108240"/>
            <a:ext cx="157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evacizumab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ligibl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21"/>
          <p:cNvSpPr/>
          <p:nvPr/>
        </p:nvSpPr>
        <p:spPr>
          <a:xfrm>
            <a:off x="4952880" y="312408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evacizum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eligibl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Straight Arrow Connector 14"/>
          <p:cNvCxnSpPr>
            <a:stCxn id="535" idx="2"/>
            <a:endCxn id="537" idx="0"/>
          </p:cNvCxnSpPr>
          <p:nvPr/>
        </p:nvCxnSpPr>
        <p:spPr>
          <a:xfrm>
            <a:off x="4648320" y="1874880"/>
            <a:ext cx="1296000" cy="12499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535" name="TextBox 20"/>
          <p:cNvSpPr/>
          <p:nvPr/>
        </p:nvSpPr>
        <p:spPr>
          <a:xfrm>
            <a:off x="2286000" y="1295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ytotoxic chemotherap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9" name="Straight Arrow Connector 64"/>
          <p:cNvCxnSpPr>
            <a:stCxn id="537" idx="2"/>
            <a:endCxn id="540" idx="0"/>
          </p:cNvCxnSpPr>
          <p:nvPr/>
        </p:nvCxnSpPr>
        <p:spPr>
          <a:xfrm>
            <a:off x="5943600" y="3825720"/>
            <a:ext cx="381600" cy="13561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541" name="TextBox 74"/>
          <p:cNvSpPr/>
          <p:nvPr/>
        </p:nvSpPr>
        <p:spPr>
          <a:xfrm>
            <a:off x="1773360" y="5013360"/>
            <a:ext cx="213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.g.-Cis or carb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th pemetrexed or taxa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d be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Straight Arrow Connector 75"/>
          <p:cNvCxnSpPr>
            <a:stCxn id="536" idx="2"/>
            <a:endCxn id="541" idx="0"/>
          </p:cNvCxnSpPr>
          <p:nvPr/>
        </p:nvCxnSpPr>
        <p:spPr>
          <a:xfrm flipH="1">
            <a:off x="2839680" y="3809520"/>
            <a:ext cx="411840" cy="12042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540" name="TextBox 26"/>
          <p:cNvSpPr/>
          <p:nvPr/>
        </p:nvSpPr>
        <p:spPr>
          <a:xfrm>
            <a:off x="5257800" y="518148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.g.-Cis or carb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th pemetrexed or taxa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eatment Algorithm for Lung Adenocarcinom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4" name="Straight Arrow Connector 6"/>
          <p:cNvCxnSpPr>
            <a:stCxn id="545" idx="3"/>
            <a:endCxn id="546" idx="0"/>
          </p:cNvCxnSpPr>
          <p:nvPr/>
        </p:nvCxnSpPr>
        <p:spPr>
          <a:xfrm>
            <a:off x="5866920" y="3017520"/>
            <a:ext cx="1791720" cy="67212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546" name="TextBox 7"/>
          <p:cNvSpPr/>
          <p:nvPr/>
        </p:nvSpPr>
        <p:spPr>
          <a:xfrm>
            <a:off x="6705720" y="36892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RAS mu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7" name="Straight Arrow Connector 9"/>
          <p:cNvCxnSpPr>
            <a:stCxn id="548" idx="2"/>
            <a:endCxn id="545" idx="0"/>
          </p:cNvCxnSpPr>
          <p:nvPr/>
        </p:nvCxnSpPr>
        <p:spPr>
          <a:xfrm>
            <a:off x="4647960" y="2362320"/>
            <a:ext cx="1080" cy="4579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5" name="TextBox 10"/>
          <p:cNvSpPr/>
          <p:nvPr/>
        </p:nvSpPr>
        <p:spPr>
          <a:xfrm>
            <a:off x="3429000" y="28195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GFR/KRAS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9" name="Straight Arrow Connector 12"/>
          <p:cNvCxnSpPr>
            <a:stCxn id="545" idx="1"/>
            <a:endCxn id="550" idx="0"/>
          </p:cNvCxnSpPr>
          <p:nvPr/>
        </p:nvCxnSpPr>
        <p:spPr>
          <a:xfrm flipH="1">
            <a:off x="1530000" y="3017520"/>
            <a:ext cx="1899360" cy="6404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0" name="TextBox 13"/>
          <p:cNvSpPr/>
          <p:nvPr/>
        </p:nvSpPr>
        <p:spPr>
          <a:xfrm>
            <a:off x="647640" y="3657600"/>
            <a:ext cx="17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GFR mu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Exon 19, 2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1"/>
          <p:cNvSpPr/>
          <p:nvPr/>
        </p:nvSpPr>
        <p:spPr>
          <a:xfrm>
            <a:off x="3087720" y="37339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 EGFR/KRAS mu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2" name="Straight Arrow Connector 23"/>
          <p:cNvCxnSpPr>
            <a:stCxn id="553" idx="2"/>
            <a:endCxn id="554" idx="0"/>
          </p:cNvCxnSpPr>
          <p:nvPr/>
        </p:nvCxnSpPr>
        <p:spPr>
          <a:xfrm>
            <a:off x="4646520" y="5054400"/>
            <a:ext cx="1183680" cy="9658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5" name="Straight Arrow Connector 25"/>
          <p:cNvCxnSpPr>
            <a:stCxn id="553" idx="2"/>
            <a:endCxn id="556" idx="0"/>
          </p:cNvCxnSpPr>
          <p:nvPr/>
        </p:nvCxnSpPr>
        <p:spPr>
          <a:xfrm flipH="1">
            <a:off x="3390480" y="5054400"/>
            <a:ext cx="1256400" cy="9658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4" name="TextBox 26"/>
          <p:cNvSpPr/>
          <p:nvPr/>
        </p:nvSpPr>
        <p:spPr>
          <a:xfrm>
            <a:off x="4876920" y="60199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emotherap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7"/>
          <p:cNvSpPr/>
          <p:nvPr/>
        </p:nvSpPr>
        <p:spPr>
          <a:xfrm>
            <a:off x="2590920" y="6019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inical tr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7" name="Straight Arrow Connector 14"/>
          <p:cNvCxnSpPr>
            <a:stCxn id="545" idx="2"/>
            <a:endCxn id="551" idx="0"/>
          </p:cNvCxnSpPr>
          <p:nvPr/>
        </p:nvCxnSpPr>
        <p:spPr>
          <a:xfrm>
            <a:off x="4648320" y="3216240"/>
            <a:ext cx="2160" cy="5184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8" name="TextBox 20"/>
          <p:cNvSpPr/>
          <p:nvPr/>
        </p:nvSpPr>
        <p:spPr>
          <a:xfrm>
            <a:off x="2286000" y="129528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stained slides avail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63"/>
          <p:cNvSpPr/>
          <p:nvPr/>
        </p:nvSpPr>
        <p:spPr>
          <a:xfrm>
            <a:off x="6934320" y="51055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ytotoxic chemotherap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9" name="Straight Arrow Connector 64"/>
          <p:cNvCxnSpPr>
            <a:stCxn id="546" idx="2"/>
            <a:endCxn id="558" idx="0"/>
          </p:cNvCxnSpPr>
          <p:nvPr/>
        </p:nvCxnSpPr>
        <p:spPr>
          <a:xfrm>
            <a:off x="7657920" y="4086000"/>
            <a:ext cx="191160" cy="10198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0" name="TextBox 74"/>
          <p:cNvSpPr/>
          <p:nvPr/>
        </p:nvSpPr>
        <p:spPr>
          <a:xfrm>
            <a:off x="228600" y="51814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GFR TK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/-  chemotherap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1" name="Straight Arrow Connector 75"/>
          <p:cNvCxnSpPr>
            <a:stCxn id="550" idx="2"/>
            <a:endCxn id="560" idx="0"/>
          </p:cNvCxnSpPr>
          <p:nvPr/>
        </p:nvCxnSpPr>
        <p:spPr>
          <a:xfrm flipH="1">
            <a:off x="1332720" y="4359240"/>
            <a:ext cx="197640" cy="8229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3" name="TextBox 81"/>
          <p:cNvSpPr/>
          <p:nvPr/>
        </p:nvSpPr>
        <p:spPr>
          <a:xfrm>
            <a:off x="3084480" y="46576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K FISH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88"/>
          <p:cNvSpPr/>
          <p:nvPr/>
        </p:nvSpPr>
        <p:spPr>
          <a:xfrm>
            <a:off x="2971800" y="51814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89"/>
          <p:cNvSpPr/>
          <p:nvPr/>
        </p:nvSpPr>
        <p:spPr>
          <a:xfrm>
            <a:off x="4800600" y="51814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e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4" name="Straight Arrow Connector 90"/>
          <p:cNvCxnSpPr>
            <a:stCxn id="551" idx="2"/>
            <a:endCxn id="553" idx="0"/>
          </p:cNvCxnSpPr>
          <p:nvPr/>
        </p:nvCxnSpPr>
        <p:spPr>
          <a:xfrm flipH="1">
            <a:off x="4645800" y="4130640"/>
            <a:ext cx="3960" cy="5277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n-small cell lung cancer is no longer one disease treated empirically with one or two chemotherapy regime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SCLC”, and in particular adenocarcinoma, must be sub-typed both pathologically and genotypical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GFR mutations served as a “watershed event” for this fundamental paradigm change but other “druggable” kinase mutations will continue to be identifi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MALL BIOPSY/CYTOLOGY LUNG CANCER DIAGNOSIS: IN USA OVER 130,000 CASES IN 2009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1136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9: ACS estimates for USA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19,440 Lung Canc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mal A et al: CA Cancer J Clin 2009:59:22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5% NSCLC = 186,524 (15% SCLC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0% Advanced Stage = 130,567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resectable: Diagnosed by small biopsies/cyt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MUNOHISTOCHEMICAL MARK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39560" y="1752480"/>
            <a:ext cx="801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ENOCARCINOM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TF-1 (best), Napsin, PE-1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QUAMOUS CARCINOM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63 (best), CK5/6, 34</a:t>
            </a: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1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mocollin-3 (need more testing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cktails – nuclear/cytoplasmic antibod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enocarcinoma – TTF-1/Naps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quamous – p63/CK5/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UGGESTED TERMINOLOGY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SCLC: SMALL BIOPSIES/CYTOLOG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20680" y="1905120"/>
            <a:ext cx="8771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ght microscopy – clear differenti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quamous Cell Carcinoma or Adenocarcinom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ght microscopy – NSCLC-NOS – do IHC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ear IHC differenti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on-small cell carcinoma, favor squamous cell carcinoma (IHC: positive squamous, negative adenocarcinoma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on-small cell carcinoma, favor adenocarcinoma (IHC: positive adeno, negative squamous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HC negative or not clear: NSCLC-NO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ll staining negativ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flicting staining (both adenoCA and squamous IHC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095880" y="685800"/>
            <a:ext cx="990720" cy="30492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95880" y="228600"/>
            <a:ext cx="990720" cy="30492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1143000"/>
            <a:ext cx="1752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95880" y="2973240"/>
            <a:ext cx="1295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019920" y="2438280"/>
            <a:ext cx="1371600" cy="30492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7280" y="1143000"/>
            <a:ext cx="1524240" cy="30492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095880" y="5257800"/>
            <a:ext cx="1600200" cy="38088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943600" y="419112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133720" y="5257800"/>
            <a:ext cx="2057400" cy="380880"/>
          </a:xfrm>
          <a:prstGeom prst="rect">
            <a:avLst/>
          </a:prstGeom>
          <a:solidFill>
            <a:srgbClr val="95d1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52680" y="5867280"/>
            <a:ext cx="3048120" cy="685800"/>
          </a:xfrm>
          <a:prstGeom prst="rect">
            <a:avLst/>
          </a:prstGeom>
          <a:solidFill>
            <a:srgbClr val="95d1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52680" y="5867280"/>
            <a:ext cx="3048120" cy="228600"/>
          </a:xfrm>
          <a:prstGeom prst="rect">
            <a:avLst/>
          </a:prstGeom>
          <a:solidFill>
            <a:srgbClr val="2393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86200" y="2895480"/>
            <a:ext cx="1600200" cy="914400"/>
          </a:xfrm>
          <a:prstGeom prst="rect">
            <a:avLst/>
          </a:prstGeom>
          <a:solidFill>
            <a:srgbClr val="95d1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2895480"/>
            <a:ext cx="1600200" cy="228600"/>
          </a:xfrm>
          <a:prstGeom prst="rect">
            <a:avLst/>
          </a:prstGeom>
          <a:solidFill>
            <a:srgbClr val="2393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62520" y="4648320"/>
            <a:ext cx="1523880" cy="30456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267080" y="4114800"/>
            <a:ext cx="914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90720" y="4648320"/>
            <a:ext cx="1371600" cy="30456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3276720"/>
            <a:ext cx="7621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2819520"/>
            <a:ext cx="1676520" cy="38088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1447920"/>
            <a:ext cx="213372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380880"/>
            <a:ext cx="2210040" cy="914400"/>
          </a:xfrm>
          <a:prstGeom prst="rect">
            <a:avLst/>
          </a:prstGeom>
          <a:solidFill>
            <a:srgbClr val="95d1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380880"/>
            <a:ext cx="2210040" cy="228600"/>
          </a:xfrm>
          <a:prstGeom prst="rect">
            <a:avLst/>
          </a:prstGeom>
          <a:solidFill>
            <a:srgbClr val="2393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228600"/>
            <a:ext cx="1752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457200"/>
            <a:ext cx="2210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TEP 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6094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SITIVE BIOPSY (FOB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BBx, Core, SLBx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143000" y="9907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SITIVE CYTOLOGY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effusion, aspirate, washings, brushings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23796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 morphology, large cells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 IHC+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11430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eratinization, pearls and/or intercellular bridg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27880"/>
            <a:ext cx="99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SCLC,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?LCNE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95880" y="72288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L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121932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assic morphology:SQCC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43000" y="1523880"/>
            <a:ext cx="20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istology: Lepidic, papillary, and/or acinar architecture(s)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ytology: 3-D arragements, delicate foamy/vacuolated (translucent) cytoplasm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ne nuclear chromatin and often prominent nucleoli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uclei are often eccentrically situat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19920" y="2475360"/>
            <a:ext cx="137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SCLC, favor SQC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95880" y="297180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QCC marker +v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C marker -ve/or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cin -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86200" y="3209760"/>
            <a:ext cx="160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y ancillary panel of one SQCC and one ADC marker +/OR Muci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038480" y="2971800"/>
            <a:ext cx="129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TEP 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2863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lassic morphology: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D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3276720"/>
            <a:ext cx="76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C marker and/or Mucin +ve; SQCC marker -ve (or weak in same cells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90720" y="4704120"/>
            <a:ext cx="137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SCLC, favor AD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67080" y="4175280"/>
            <a:ext cx="91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HC -ve and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cin -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943600" y="41911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C marker or Mucin +ve;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s well as SQCC marker +ve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 different cell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1120" y="470412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SCLC NO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33720" y="5318640"/>
            <a:ext cx="20574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lecular analysis: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.g. EGFR mutatio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095880" y="53020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SCLC, NOS, possible adenosquamous ca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390840" y="6140520"/>
            <a:ext cx="30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f tumor tissue inadequate for molecular testing, discuss need for further sampling - back to Step 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390840" y="5943600"/>
            <a:ext cx="300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TEP 3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66680" y="914400"/>
            <a:ext cx="2210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685800"/>
            <a:ext cx="1752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6858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 morphology, small cells, no nucleoli, NE IHC+, TTF-1 +/-, CK+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276720" y="533520"/>
            <a:ext cx="60948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276720" y="914400"/>
            <a:ext cx="609480" cy="228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638680" y="8380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38680" y="1295280"/>
            <a:ext cx="2286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38680" y="3808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133720" y="1295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6720" y="1143000"/>
            <a:ext cx="1447560" cy="838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724280" y="228600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133720" y="26668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95480" y="3200400"/>
            <a:ext cx="0" cy="20574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4343400"/>
            <a:ext cx="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09680" y="4952880"/>
            <a:ext cx="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724280" y="3809880"/>
            <a:ext cx="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724280" y="4419720"/>
            <a:ext cx="0" cy="228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114800" y="4952880"/>
            <a:ext cx="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86400" y="3809880"/>
            <a:ext cx="137160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486400" y="3200400"/>
            <a:ext cx="6094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6705720" y="2742840"/>
            <a:ext cx="0" cy="228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0" y="464832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190760" y="5410080"/>
            <a:ext cx="1904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38280" y="56386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438280" y="61722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2057400" y="3505320"/>
            <a:ext cx="18288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076640" y="1981080"/>
            <a:ext cx="1295640" cy="53352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076640" y="2003400"/>
            <a:ext cx="129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 clear ADC or SQCC morphology: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SCLC-NO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JOR CHANGES IN PRACTIC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2057400"/>
            <a:ext cx="8432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ng cancer diagnosis is multidisciplin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ification fo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all biopsy/cytology  specimens (Never in WHO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ection specime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all biopsies/cytology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ed to classify further than NSCLC-N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ssue management for IHC/molecular stud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GFR mutation testing is recommended in advanced stage lung adca and NSCLC-NO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ressa Pan Asian Study (iPASS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3"/>
          <p:cNvGrpSpPr/>
          <p:nvPr/>
        </p:nvGrpSpPr>
        <p:grpSpPr>
          <a:xfrm>
            <a:off x="2384280" y="1673280"/>
            <a:ext cx="3473640" cy="3563280"/>
            <a:chOff x="2384280" y="1673280"/>
            <a:chExt cx="3473640" cy="3563280"/>
          </a:xfrm>
        </p:grpSpPr>
        <p:sp>
          <p:nvSpPr>
            <p:cNvPr id="456" name="Line 4"/>
            <p:cNvSpPr/>
            <p:nvPr/>
          </p:nvSpPr>
          <p:spPr>
            <a:xfrm>
              <a:off x="4251240" y="4498920"/>
              <a:ext cx="160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5"/>
            <p:cNvSpPr/>
            <p:nvPr/>
          </p:nvSpPr>
          <p:spPr>
            <a:xfrm>
              <a:off x="4251240" y="2347200"/>
              <a:ext cx="160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6"/>
            <p:cNvSpPr/>
            <p:nvPr/>
          </p:nvSpPr>
          <p:spPr>
            <a:xfrm>
              <a:off x="3259080" y="3689280"/>
              <a:ext cx="2051280" cy="15472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7"/>
            <p:cNvSpPr/>
            <p:nvPr/>
          </p:nvSpPr>
          <p:spPr>
            <a:xfrm>
              <a:off x="3263760" y="1673280"/>
              <a:ext cx="2041560" cy="13496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8"/>
            <p:cNvSpPr/>
            <p:nvPr/>
          </p:nvSpPr>
          <p:spPr>
            <a:xfrm>
              <a:off x="3268800" y="1761840"/>
              <a:ext cx="2030400" cy="11743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Gefitinib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250 mg / day)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9"/>
            <p:cNvSpPr/>
            <p:nvPr/>
          </p:nvSpPr>
          <p:spPr>
            <a:xfrm flipV="1">
              <a:off x="2384280" y="2340000"/>
              <a:ext cx="86364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0"/>
            <p:cNvSpPr/>
            <p:nvPr/>
          </p:nvSpPr>
          <p:spPr>
            <a:xfrm>
              <a:off x="2397240" y="3785400"/>
              <a:ext cx="850680" cy="734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1"/>
            <p:cNvSpPr/>
            <p:nvPr/>
          </p:nvSpPr>
          <p:spPr>
            <a:xfrm>
              <a:off x="3159000" y="4065840"/>
              <a:ext cx="2249640" cy="818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rboplatin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AUC 5 or 6) / paclitaxel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200 mg / m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 weekly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#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3146400" y="3265920"/>
              <a:ext cx="22939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79440" indent="-379440" algn="ctr">
                <a:lnSpc>
                  <a:spcPct val="80000"/>
                </a:lnSpc>
                <a:spcBef>
                  <a:spcPts val="4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:1 randomiz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AutoShape 13"/>
          <p:cNvSpPr/>
          <p:nvPr/>
        </p:nvSpPr>
        <p:spPr>
          <a:xfrm>
            <a:off x="5867280" y="1058760"/>
            <a:ext cx="2990880" cy="4351320"/>
          </a:xfrm>
          <a:custGeom>
            <a:avLst/>
            <a:gdLst>
              <a:gd name="textAreaLeft" fmla="*/ 145800 w 2990880"/>
              <a:gd name="textAreaRight" fmla="*/ 2845080 w 2990880"/>
              <a:gd name="textAreaTop" fmla="*/ 145800 h 4351320"/>
              <a:gd name="textAreaBottom" fmla="*/ 4205520 h 4351320"/>
            </a:gdLst>
            <a:ahLst/>
            <a:rect l="textAreaLeft" t="textAreaTop" r="textAreaRight" b="textAreaBottom"/>
            <a:pathLst>
              <a:path w="21600" h="31424">
                <a:moveTo>
                  <a:pt x="3600" y="0"/>
                </a:moveTo>
                <a:arcTo wR="3600" hR="3600" stAng="16200000" swAng="-5400000"/>
                <a:lnTo>
                  <a:pt x="0" y="27824"/>
                </a:lnTo>
                <a:arcTo wR="3600" hR="3600" stAng="10800000" swAng="-5400000"/>
                <a:lnTo>
                  <a:pt x="18000" y="314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282600" indent="-282600" algn="ctr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5"/>
          <p:cNvSpPr/>
          <p:nvPr/>
        </p:nvSpPr>
        <p:spPr>
          <a:xfrm>
            <a:off x="390600" y="1400040"/>
            <a:ext cx="2354040" cy="3506760"/>
          </a:xfrm>
          <a:custGeom>
            <a:avLst/>
            <a:gdLst>
              <a:gd name="textAreaLeft" fmla="*/ 114840 w 2354040"/>
              <a:gd name="textAreaRight" fmla="*/ 2239200 w 2354040"/>
              <a:gd name="textAreaTop" fmla="*/ 114840 h 3506760"/>
              <a:gd name="textAreaBottom" fmla="*/ 3391920 h 3506760"/>
            </a:gdLst>
            <a:ahLst/>
            <a:rect l="textAreaLeft" t="textAreaTop" r="textAreaRight" b="textAreaBottom"/>
            <a:pathLst>
              <a:path w="21600" h="32175">
                <a:moveTo>
                  <a:pt x="3600" y="0"/>
                </a:moveTo>
                <a:arcTo wR="3600" hR="3600" stAng="16200000" swAng="-5400000"/>
                <a:lnTo>
                  <a:pt x="0" y="28575"/>
                </a:lnTo>
                <a:arcTo wR="3600" hR="3600" stAng="10800000" swAng="-5400000"/>
                <a:lnTo>
                  <a:pt x="18000" y="321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282600" indent="-282600" algn="ctr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177840" y="5410080"/>
            <a:ext cx="8610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*Never smokers, &lt;100 cigarettes in lifetime; light ex-smokers, stopped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5 years ago and smoked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 pack years; 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mited to a maximum of 6 cycles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rboplatin / paclitaxel was offered to gefitinib patients upon progression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S, performance status; EGFR, epidermal growth factor recept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507960" y="1484280"/>
            <a:ext cx="224172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hemonaïv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ge ≥18 years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denocarcinoma histolog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ever or light ex-smoker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fe expectancy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≥12 week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S 0-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asurable stage IIIB / IV dise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5791320" y="1593720"/>
            <a:ext cx="29113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ression-free survival   (non-inferiorit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ive response ra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verall survival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lity of lif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ease-related symptom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fety and tolerabil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lorat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omark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GFR mut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GFR-gene-copy numb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GFR protein express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6014880" y="1224000"/>
            <a:ext cx="26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04920" y="640080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permission from Mok T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 ES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08;Abstract LBA2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son of PFS by Mutation Status within Treatment 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380880" y="2057400"/>
          <a:ext cx="8458200" cy="2390760"/>
        </p:xfrm>
        <a:graphic>
          <a:graphicData uri="http://schemas.openxmlformats.org/drawingml/2006/table">
            <a:tbl>
              <a:tblPr/>
              <a:tblGrid>
                <a:gridCol w="2743200"/>
                <a:gridCol w="1447920"/>
                <a:gridCol w="1676520"/>
                <a:gridCol w="1218960"/>
                <a:gridCol w="137160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FS, Events by Mutation Statu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FR-Mutation Positiv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FR Mutation Negativ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6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fitini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# events / n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 / 1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 / 9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.000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platin + Paclitaxel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# events / n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/ 12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/ 8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.000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4" name="Rectangle 29"/>
          <p:cNvSpPr/>
          <p:nvPr/>
        </p:nvSpPr>
        <p:spPr>
          <a:xfrm>
            <a:off x="571320" y="6126120"/>
            <a:ext cx="47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k TS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 Engl J M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09;361(10):947-57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4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391160" cy="477828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2"/>
          <p:cNvSpPr/>
          <p:nvPr/>
        </p:nvSpPr>
        <p:spPr>
          <a:xfrm>
            <a:off x="0" y="76320"/>
            <a:ext cx="9132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ressa Pan Asian Study (iPASS)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9"/>
          <p:cNvSpPr/>
          <p:nvPr/>
        </p:nvSpPr>
        <p:spPr>
          <a:xfrm>
            <a:off x="488520" y="5987880"/>
            <a:ext cx="708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verall EGFR mutation positive rate = 59.7% (261 / 437) !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84480" y="6248520"/>
            <a:ext cx="62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permission from Mok T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 ES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08;Abstract LBA2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20:05:33Z</dcterms:created>
  <dc:creator>Research To Practice</dc:creator>
  <dc:description/>
  <cp:keywords/>
  <dc:language>en-US</dc:language>
  <cp:lastModifiedBy>Mac Pro E703803Y4PC</cp:lastModifiedBy>
  <cp:lastPrinted>2011-02-11T13:58:42Z</cp:lastPrinted>
  <dcterms:modified xsi:type="dcterms:W3CDTF">2011-06-08T18:05:04Z</dcterms:modified>
  <cp:revision>33</cp:revision>
  <dc:subject/>
  <dc:title>PowerPoint Presentation</dc:title>
</cp:coreProperties>
</file>