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7.pct" ContentType="image/x-pict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4.pct" ContentType="image/x-pict"/>
  <Override PartName="/ppt/media/image4.jpeg" ContentType="image/jpeg"/>
  <Override PartName="/ppt/media/image5.jpeg" ContentType="image/jpeg"/>
  <Override PartName="/ppt/media/image10.pct" ContentType="image/x-pict"/>
  <Override PartName="/ppt/media/image8.pct" ContentType="image/x-pict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3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ftr" idx="3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 type="sldNum" idx="3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F737-D55F-41ED-A26C-0245971C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C1AB-0B43-4D58-8942-EF36AE42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9DC-7DE4-4C33-B2A2-061E62FD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3AF3-393C-402A-AB38-D469E417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3E2-4440-4613-B002-CAFA6682D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992-167B-45B9-ACB2-1C7744C5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979-7BA2-4F21-9F3A-2F84ADA6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1EF8-94F2-498C-B679-95E3ADE09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2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2CA-A55A-4240-BB4B-E6CCC24F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C8E-A871-40A4-AD66-B5D8BE54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58D8-C267-4E9D-8CFF-C50EC2437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BE2-B9D2-460D-BC3B-12284AC5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25A-CA86-407C-9A36-2BD5FC3DA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9E4A-497E-4DA2-B828-9E62F76F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99DC-AC95-4EC6-AB5F-8562CCFC9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255B-9A1A-4B8C-820B-26EE2BF5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0FD-CC99-4945-8495-89379668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CACC-F8DE-4A18-AE94-720871BA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DA2-C18B-4040-9317-580AF3D0C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DC2-DA61-4993-BF46-5B4560C3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3F9-FEE8-41AB-858C-9907A295E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CBD-F00B-4F6E-B17D-E0955F29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D51-C80A-4DB1-A385-A5430B4621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939-8214-4778-8FDC-E762FE999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97C5-2F45-4546-AC5E-4D85BC36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06240-26F2-4F79-B0D1-A512526C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B3E28-4F4B-4411-9EC4-B2DF0ACD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DB6F-248A-41D7-B21C-CB90F54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5390-6724-4162-941E-A92E33E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959D1-A4AC-499C-AAAB-FCE787B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5005-160D-4884-9061-4850247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345F-06FE-4724-809D-0EA45D97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B10F-918F-4074-B4F4-14815621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AF009-70F6-4EF3-AD00-E265B912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E0A76-54AA-4241-9925-F4C04A4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5071-1443-4760-A04A-1D88172A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A38C0-5478-425C-8380-9697A619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0268A-E366-4554-A732-4AC6A8D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D25C-8DAD-4D7A-A36A-B853039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27DEE-80A3-4638-BFCD-21A3FAC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152F-2E9F-412B-9484-926D39E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2D9C4-E2B6-4BEA-9215-634A2AC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D37D7-C4CD-4401-ADBA-8C73522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7A2B5-AFE8-4B8D-8EEC-091E9E3A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933A-C43A-44FC-888B-C8011009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725CA-AFA8-4FBE-814C-DDE1E83C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D15E7-11E5-4824-B2DD-E1FDD5E7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B242-12E9-468B-9EF1-9F53F3FC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EA85A-DB29-4488-8F3E-60F893D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67D43-5E42-43D6-8D48-B6FC44EC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10176-2F61-4A1A-8F8E-7274BC0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A20F-7DEF-4C9A-9340-F0C500BC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C2758-8A0D-4572-B05E-1C308C2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58721-47C4-47DF-BD8F-8BAEDAA8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261-C4F7-4B18-BA3B-F21BB19F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83E38-0B3C-4938-A1CA-E45FA389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3B3F8-DD7F-4239-9330-8BF77CB8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8E409-9FD5-49F2-8278-C566F39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6A888-A014-41A7-9A45-D504C14E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BAB75-AE09-4E35-AC87-583DBC05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D3BDA-5863-49CF-9FA3-69F1EA8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22A71-6449-4819-A42A-C297E2A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B23D9-0618-45C0-A76D-160FDCB6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5C21C-FF56-441F-89AC-6CB6473D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67F19-897A-469B-B158-87985ED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34E-4AA5-47C0-9F15-622BC1C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127B5-1197-487D-BE95-8EEA200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BC5D-63A4-4CED-BC54-E767711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487E2-BCEC-4556-9C07-52663AA4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464D-44B9-4DF9-A4C5-E7CA385D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4358A-32AC-4537-8206-7D74A852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41710-A584-42CA-A348-3A8D653E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1DBAA-396B-4F55-9990-8F9E1AE3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A57EA-157C-40BD-BE52-ABBE7E81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D828-ABBF-4568-85C0-B96CAA0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D3FFF-CD63-4EFA-8E2B-5C19EAE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72A-5A30-4500-B422-9F78397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53C9B-098B-458C-BAEF-E9B02F9C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98153-8C9D-4D95-8688-F06B0DD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0671D-F3D7-46C2-B47C-7137FECE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72893-93F5-4389-81D4-E2CF5DE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7B0FB-4C45-4ABB-BD22-9B2B0DF1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978C8-4D80-4BBA-A50A-796E8CF3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93A58-7D40-4674-921E-2BF06140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3B0-D591-459F-9AC1-E892B8E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B73-8AFD-4931-8925-D853397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2EC-E9BC-4EE5-A881-F9D7E28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DAE-6BB7-4A63-96E8-DABB68B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AE7-613C-4238-8B40-7024C85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D57-1F91-402D-83AD-8B86AFB1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F33-27B3-4117-98D1-7196E77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926-5ED4-4F6D-9541-A3B375B0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12B-AF2C-4977-BD0E-2F973AA5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2BE-FCA1-44A8-ABBE-1C42E71A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27B2-1DC0-4003-94BD-C709FB9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021-6C22-4548-94AB-D7FAD72F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E9E-B378-4337-A4A3-EF3B1082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B406-ED63-4D6C-88E9-1C7D616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D3A2-E17B-46BA-A780-5496D6C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6D4C-D5DF-4FB9-86E8-93A36A8D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5B4-E8AC-4A2D-87A1-D9C8F45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DF11-D23D-4590-8F58-E4EAA02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C744-FF4F-45CC-BC0F-12303328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3ED5-774A-4179-BF3D-2116D84F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43F-8805-4C52-91A8-2420CCA1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31DC-041C-4F7B-A0C2-A77425F0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11C8-2477-49A0-8F95-AD5EA684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F6FD-06C7-4253-AE47-A1C75A26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C7D9-6DFD-4F7C-84C9-44464BC7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9ABF-DB2D-4F96-9FD2-BFD8883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3EF6-11B3-4963-972F-F59E823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E7B7-3C13-4D48-AED7-3D28F37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FAA3-E55F-47C5-AC4A-F96025DD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0AC0-9ACD-4D44-824D-4AAEF20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BB6A-0462-4324-9F82-8BD0F2DD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DF90-3239-4A0C-8D1E-41D30FA1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192C-282F-4EA8-9920-1452A487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5B2E-0DF9-4B0D-AEEA-13D4F599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15F6-14F1-4011-8097-1DF4CD63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9842-4C22-4163-9A4C-A6B1A95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AA1D-C1FA-410A-B754-381A8936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CD5D-F554-4500-9706-155CDD74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2AD1-163A-42C4-8AEF-7B7CA20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5B36-575B-4DD1-81A1-897D9D9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201D-8EE2-46D7-B87B-CFF18BB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BFAB-8FF9-4F63-85F4-B28BE57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A17E-F6BD-423C-9F01-0F66277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F08A-F5A6-4091-A73B-D47C17EC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B450-B4C2-423E-AC7D-C3543676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E3375-A18A-47B4-BCCD-B771C259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BED0B-2D8A-4AB8-A800-8BD9480D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A5A4-24F1-4AC4-94F4-67F60BE4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1C7B-66C3-42B5-8C39-715F750A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680BF-D5DC-4581-BF6E-C532C3A8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6A2E-81F7-4DA4-A2BE-3540C06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057A4-42F4-4A54-9A58-C339BFEF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235A-A9A6-454F-93B9-C82C057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BE21-174C-4229-A7A4-FD7EB4F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85A8-EC6C-400D-8570-EC990B97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F9EC-7665-4477-B20E-B43A11DA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B5AB-82FE-4388-934D-5D656A12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4883-7AF1-4D0C-B25A-B2387254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3BDF3-D745-4B28-A654-E530FE8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B4B3-3063-4845-8C22-D1F0F8DF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0E6E-B257-48CA-A5FD-7C0E2209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3070-85F4-425F-AC5B-25ABA883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C875-2511-4A68-9DB7-417E6E86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0AED8-00A8-426F-A54B-16F9F7EE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F076-EEB3-443D-9074-8025E04E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214D-1CDB-4D91-8E84-713CED1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7B8F-46D6-42A2-91BB-02B3BC2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42EF-9F44-4C88-8D81-F2203047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1DD0-38D0-44CC-BE05-368EC876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B9FE-A65D-4006-8313-C5E7C416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20E7-F644-4C3E-9879-FBA218B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42A4-1478-496E-A0D7-62C5197B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D175-9EA5-4266-B6EB-7731E28B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A435A-60FC-422E-A608-8895D87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88478-1499-46F5-BD93-77F7704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CB56-1D71-4F5A-AB55-63FFA01D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5948-93CF-479F-B16B-56FED2D9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C4C9-4402-4055-B466-1FBA30E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8058-4824-44E7-8292-B443CBEA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30FFA-BBF1-4F1A-814C-9C13989A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17B4-1D5B-49C4-A003-BF731AB7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BB25B-9942-45C6-9E30-D50587BE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B8D82-E1D7-454E-B289-F9B7DCC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F9AF-1924-443A-BE3C-27A109E2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5A0-FD1E-480E-A85A-79F64DA778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A68-CD87-4700-89B2-69EC827DC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D196-DE43-4E43-82E3-A21CC05C59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D9A-92A3-4EDD-9E36-5160D4D0C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AC39-4E3A-428E-9BD7-9BE142DC967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D625-FDB1-4765-843B-257449DA3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0AE8-6999-431F-A566-0FCC2743F0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654E-4A60-4E1A-9D32-6D1EDD563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E7F-2336-4567-A93B-169664D03C4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026-A623-4FB1-BD2B-698AEE8F6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98E-7877-47FE-81D2-B10CF5F935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71A-86F9-4B05-9F9D-DFC743EC2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2E1-A2E7-4BA4-AA03-7B2B675C4A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FE7B-DFDE-4A3E-96BB-7D97D7902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C959-8438-4DEE-8E76-012B01CAF5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B41-F58E-4FB1-A0B2-EE9C54990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FF8-A5B8-4449-BACF-7E6D95934DC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C50F-F832-42E2-8C79-5C18F53AE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FF45-C5F9-4F06-8ABB-B5F71802FD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B99-B637-4605-9F99-E9CACB9D1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87AD-812E-4127-BB14-2184A8F424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CA40-E663-48CB-BF49-39EAFBB29D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2ED0-2A0F-4DC1-9AB3-1FFA74AD7A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12B8-CCD8-4E35-86C8-E60910096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ct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ter J Curran, Jr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reotactic RT in Early Stage Lung Cancer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Is the Evidence Compelling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ase I Dose Response for Loca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1676520" y="1932120"/>
          <a:ext cx="579096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32120"/>
                    <a:ext cx="579096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mall cell lung cancer - biopsy prov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1, T2 (≤ 5 cm) and T3 (chest wall only, ≤ 5 cm), N0, M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problems preclude surg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emphysema, heart disease, diabet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ther planned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TOG 0236: Preliminary Out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ed May 2004 and closed October 20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9 patients enrolled (55 evalu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2% female, median age 72 yea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brod performance 0 (12 patients), 1 (35), 2 (8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 patients with T1 tumors, 11 with T2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n follow-up = 34.4 months (range 4.8-49.9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457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ereotactic RT for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cal Tumor Control Rate: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TOG 023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88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 failure within PTV, 0 within 1 cm of P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6 months local control = 98% (CI: 84 -10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gional and Disseminated Recurrence: 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patients have reported a regional failure, both after 2 years (2.8 and 3.0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ven patients (20%) have experienced disseminated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"/>
          <p:cNvGraphicFramePr/>
          <p:nvPr/>
        </p:nvGraphicFramePr>
        <p:xfrm>
          <a:off x="1600200" y="2133720"/>
          <a:ext cx="6095880" cy="31496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lete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(4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al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(4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(1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evalu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(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 : Best Observed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SHIMMON1"/>
          <p:cNvPicPr/>
          <p:nvPr/>
        </p:nvPicPr>
        <p:blipFill>
          <a:blip r:embed="rId1"/>
          <a:srcRect l="9375" t="18750" r="6252" b="28124"/>
          <a:stretch/>
        </p:blipFill>
        <p:spPr>
          <a:xfrm>
            <a:off x="317520" y="1857240"/>
            <a:ext cx="4379760" cy="37227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" descr="SHIMMON3"/>
          <p:cNvPicPr/>
          <p:nvPr/>
        </p:nvPicPr>
        <p:blipFill>
          <a:blip r:embed="rId2"/>
          <a:srcRect l="0" t="10940" r="0" b="15627"/>
          <a:stretch/>
        </p:blipFill>
        <p:spPr>
          <a:xfrm>
            <a:off x="4762440" y="1857240"/>
            <a:ext cx="3810240" cy="3714840"/>
          </a:xfrm>
          <a:prstGeom prst="rect">
            <a:avLst/>
          </a:prstGeom>
          <a:ln w="0">
            <a:noFill/>
          </a:ln>
        </p:spPr>
      </p:pic>
      <p:sp>
        <p:nvSpPr>
          <p:cNvPr id="755" name="Oval 4"/>
          <p:cNvSpPr/>
          <p:nvPr/>
        </p:nvSpPr>
        <p:spPr>
          <a:xfrm>
            <a:off x="1397160" y="3071880"/>
            <a:ext cx="896760" cy="116532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5"/>
          <p:cNvSpPr/>
          <p:nvPr/>
        </p:nvSpPr>
        <p:spPr>
          <a:xfrm>
            <a:off x="5524560" y="3121200"/>
            <a:ext cx="896760" cy="116496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0" y="571680"/>
            <a:ext cx="914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-Treatment Lung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Grade 3-5 Toxicity:  Location, Loca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5" descr="zone%20of%20central%20chest"/>
          <p:cNvPicPr/>
          <p:nvPr/>
        </p:nvPicPr>
        <p:blipFill>
          <a:blip r:embed="rId1"/>
          <a:stretch/>
        </p:blipFill>
        <p:spPr>
          <a:xfrm>
            <a:off x="1689120" y="1676520"/>
            <a:ext cx="5765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618: SBRT for Operable Stage I NSCLC:  Accrual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OG 0813: SBRT for Central Early Stage N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RTOG Phase I/II Trials SB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2" name="Object 9"/>
          <p:cNvGraphicFramePr/>
          <p:nvPr/>
        </p:nvGraphicFramePr>
        <p:xfrm>
          <a:off x="165240" y="3591000"/>
          <a:ext cx="3035160" cy="22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3591000"/>
                    <a:ext cx="30351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4" name="Picture 10" descr="DSCN1573"/>
          <p:cNvPicPr/>
          <p:nvPr/>
        </p:nvPicPr>
        <p:blipFill>
          <a:blip r:embed="rId3"/>
          <a:srcRect l="0" t="0" r="0" b="2252"/>
          <a:stretch/>
        </p:blipFill>
        <p:spPr>
          <a:xfrm>
            <a:off x="3124080" y="3581280"/>
            <a:ext cx="2743200" cy="2246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1" descr="zone%20of%20central%20chest"/>
          <p:cNvPicPr/>
          <p:nvPr/>
        </p:nvPicPr>
        <p:blipFill>
          <a:blip r:embed="rId4"/>
          <a:srcRect l="0" t="0" r="0" b="5335"/>
          <a:stretch/>
        </p:blipFill>
        <p:spPr>
          <a:xfrm>
            <a:off x="5703840" y="3592440"/>
            <a:ext cx="3287880" cy="2235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12"/>
          <p:cNvSpPr/>
          <p:nvPr/>
        </p:nvSpPr>
        <p:spPr>
          <a:xfrm>
            <a:off x="685800" y="5904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2c85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gitimate Alternative to Lobectomy for Stage I NSCLC????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ntrol 90% or mor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60-80%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r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 III or higher toxicity &lt;15-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invasive than thoracot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more conven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 less cos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roven by prospective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cuss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 for Medically Inoperative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and Ongoing Clinic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Operable Pati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(SR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s 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 Trial between ACOSOG and RT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ved by NCI Thoracic Malignancies Steering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ascertain whether patients treated by SBRT have 3-year overall survival (OS) rate that is no more than 10% less than patients treated with S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I Study of Sublobar Resection vers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n High Risk Patients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ge I NSCLC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4099 / R1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96920" y="2397240"/>
            <a:ext cx="6445440" cy="279072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7552800" y="49896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hase III Study of SR vs SBRT in High Risk Pts with Stage I NSCLC:   Z4099 / R102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Inferiority Survival Design:  80% +/-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0 Pts to be Enro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Activated 3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chytherapy with Sublobar Re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BRT is a new Standard for Medically Inoperable Stage I NSC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rable Patients:  Data from Phase II and Phase III Trials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 Lesions:  Data on Dose Also Pen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 Fractionation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nventionally 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mall daily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go to very high cumulative do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tolerable for most normal 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pofractionated 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larger daily doses (3-8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used mostly for pall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blative RT (Stereotacti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very high daily doses (8-20 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verwhelm tumor re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auses “late” effects that may be intol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Ablative Treatments (Stereotactic)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Must Exclude Normal Tissue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blative hypofraction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andon prophylactic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 for organ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hieve sharper dose fall-off gradients to normal tissue (mimic radiosurge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quirements need advanced 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cyberknife1"/>
          <p:cNvPicPr/>
          <p:nvPr/>
        </p:nvPicPr>
        <p:blipFill>
          <a:blip r:embed="rId1"/>
          <a:stretch/>
        </p:blipFill>
        <p:spPr>
          <a:xfrm>
            <a:off x="762120" y="1447920"/>
            <a:ext cx="2198520" cy="26668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se Image Guid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Picture 4" descr="Varian Trilogy"/>
          <p:cNvPicPr/>
          <p:nvPr/>
        </p:nvPicPr>
        <p:blipFill>
          <a:blip r:embed="rId2"/>
          <a:stretch/>
        </p:blipFill>
        <p:spPr>
          <a:xfrm>
            <a:off x="3205080" y="1676520"/>
            <a:ext cx="2190960" cy="24256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Elekta Synergy"/>
          <p:cNvPicPr/>
          <p:nvPr/>
        </p:nvPicPr>
        <p:blipFill>
          <a:blip r:embed="rId3"/>
          <a:stretch/>
        </p:blipFill>
        <p:spPr>
          <a:xfrm>
            <a:off x="5778360" y="1828800"/>
            <a:ext cx="2451240" cy="20732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tomotherapy 1"/>
          <p:cNvPicPr/>
          <p:nvPr/>
        </p:nvPicPr>
        <p:blipFill>
          <a:blip r:embed="rId4"/>
          <a:stretch/>
        </p:blipFill>
        <p:spPr>
          <a:xfrm>
            <a:off x="1752480" y="4191120"/>
            <a:ext cx="2540160" cy="22096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NovalisPlatform"/>
          <p:cNvPicPr/>
          <p:nvPr/>
        </p:nvPicPr>
        <p:blipFill>
          <a:blip r:embed="rId5"/>
          <a:stretch/>
        </p:blipFill>
        <p:spPr>
          <a:xfrm>
            <a:off x="5334120" y="3886200"/>
            <a:ext cx="234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act Dose De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1"/>
          <a:stretch/>
        </p:blipFill>
        <p:spPr>
          <a:xfrm>
            <a:off x="1371600" y="2125800"/>
            <a:ext cx="6248520" cy="40464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6"/>
          <p:cNvSpPr/>
          <p:nvPr/>
        </p:nvSpPr>
        <p:spPr>
          <a:xfrm>
            <a:off x="5565240" y="3421080"/>
            <a:ext cx="2329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monary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659760" y="3497400"/>
            <a:ext cx="1467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ron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2594160" y="4335480"/>
            <a:ext cx="1703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430800" y="5021280"/>
            <a:ext cx="84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4114800" y="486864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V="1">
            <a:off x="3962520" y="425880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>
            <a:off x="5181120" y="3649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>
            <a:off x="4572000" y="3801960"/>
            <a:ext cx="15228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4574880" y="5097600"/>
            <a:ext cx="77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5870160" y="441180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est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6"/>
          <p:cNvSpPr/>
          <p:nvPr/>
        </p:nvSpPr>
        <p:spPr>
          <a:xfrm flipH="1">
            <a:off x="5638320" y="4792680"/>
            <a:ext cx="38124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>
            <a:off x="5257800" y="5326200"/>
            <a:ext cx="457200" cy="7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6095880" y="3801960"/>
            <a:ext cx="99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19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9"/>
          <p:cNvSpPr/>
          <p:nvPr/>
        </p:nvSpPr>
        <p:spPr>
          <a:xfrm flipH="1">
            <a:off x="5715000" y="4030560"/>
            <a:ext cx="3808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28600" y="276552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4172040"/>
            <a:ext cx="8610480" cy="6951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5553000"/>
            <a:ext cx="8610480" cy="6955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BRT vs. Conventional Radio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32400" y="554184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0-45 treatments (6-9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152280" y="5553000"/>
            <a:ext cx="4303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-5 treatments (1-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4532400" y="2757600"/>
            <a:ext cx="43020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waths” of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228600" y="275760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beam aper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8"/>
          <p:cNvSpPr/>
          <p:nvPr/>
        </p:nvSpPr>
        <p:spPr>
          <a:xfrm>
            <a:off x="4532400" y="345456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eek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9"/>
          <p:cNvSpPr/>
          <p:nvPr/>
        </p:nvSpPr>
        <p:spPr>
          <a:xfrm>
            <a:off x="228600" y="345456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ily imag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4572000" y="4181400"/>
            <a:ext cx="430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228600" y="4149720"/>
            <a:ext cx="4303800" cy="69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rict mo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4532400" y="4846680"/>
            <a:ext cx="43020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mall “forgiving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228600" y="4846680"/>
            <a:ext cx="4303800" cy="69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rge “ablative” daily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4"/>
          <p:cNvSpPr/>
          <p:nvPr/>
        </p:nvSpPr>
        <p:spPr>
          <a:xfrm>
            <a:off x="4532400" y="2063880"/>
            <a:ext cx="43020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-4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5"/>
          <p:cNvSpPr/>
          <p:nvPr/>
        </p:nvSpPr>
        <p:spPr>
          <a:xfrm>
            <a:off x="228600" y="2063880"/>
            <a:ext cx="4303800" cy="69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any beams/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4532400" y="1438200"/>
            <a:ext cx="43020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onventional Radi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7"/>
          <p:cNvSpPr/>
          <p:nvPr/>
        </p:nvSpPr>
        <p:spPr>
          <a:xfrm>
            <a:off x="228600" y="1438200"/>
            <a:ext cx="430380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SB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8"/>
          <p:cNvSpPr/>
          <p:nvPr/>
        </p:nvSpPr>
        <p:spPr>
          <a:xfrm>
            <a:off x="228600" y="14382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9"/>
          <p:cNvSpPr/>
          <p:nvPr/>
        </p:nvSpPr>
        <p:spPr>
          <a:xfrm>
            <a:off x="228600" y="20638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28600" y="275760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1"/>
          <p:cNvSpPr/>
          <p:nvPr/>
        </p:nvSpPr>
        <p:spPr>
          <a:xfrm>
            <a:off x="228600" y="6238800"/>
            <a:ext cx="8605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2"/>
          <p:cNvSpPr/>
          <p:nvPr/>
        </p:nvSpPr>
        <p:spPr>
          <a:xfrm>
            <a:off x="2286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3"/>
          <p:cNvSpPr/>
          <p:nvPr/>
        </p:nvSpPr>
        <p:spPr>
          <a:xfrm>
            <a:off x="4532400" y="1438200"/>
            <a:ext cx="0" cy="48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4"/>
          <p:cNvSpPr/>
          <p:nvPr/>
        </p:nvSpPr>
        <p:spPr>
          <a:xfrm>
            <a:off x="8834400" y="1438200"/>
            <a:ext cx="0" cy="4800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5"/>
          <p:cNvSpPr/>
          <p:nvPr/>
        </p:nvSpPr>
        <p:spPr>
          <a:xfrm>
            <a:off x="228600" y="484668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26"/>
          <p:cNvSpPr/>
          <p:nvPr/>
        </p:nvSpPr>
        <p:spPr>
          <a:xfrm>
            <a:off x="228600" y="414972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7"/>
          <p:cNvSpPr/>
          <p:nvPr/>
        </p:nvSpPr>
        <p:spPr>
          <a:xfrm>
            <a:off x="228600" y="3454560"/>
            <a:ext cx="86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8"/>
          <p:cNvSpPr/>
          <p:nvPr/>
        </p:nvSpPr>
        <p:spPr>
          <a:xfrm>
            <a:off x="228600" y="539892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4"/>
          <p:cNvSpPr/>
          <p:nvPr/>
        </p:nvSpPr>
        <p:spPr>
          <a:xfrm>
            <a:off x="0" y="228600"/>
            <a:ext cx="9144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mpact of Respiratory Motion on IM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5"/>
          <p:cNvGrpSpPr/>
          <p:nvPr/>
        </p:nvGrpSpPr>
        <p:grpSpPr>
          <a:xfrm>
            <a:off x="1447920" y="3767040"/>
            <a:ext cx="6324480" cy="423720"/>
            <a:chOff x="1447920" y="3767040"/>
            <a:chExt cx="6324480" cy="423720"/>
          </a:xfrm>
        </p:grpSpPr>
        <p:sp>
          <p:nvSpPr>
            <p:cNvPr id="722" name="Rectangle 6"/>
            <p:cNvSpPr/>
            <p:nvPr/>
          </p:nvSpPr>
          <p:spPr>
            <a:xfrm>
              <a:off x="1447920" y="3809880"/>
              <a:ext cx="63244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1600200" y="3886200"/>
              <a:ext cx="381240" cy="228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2838600" y="3882960"/>
              <a:ext cx="380880" cy="228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038840" y="3886200"/>
              <a:ext cx="380880" cy="228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5257800" y="3886200"/>
              <a:ext cx="381240" cy="228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477120" y="3886200"/>
              <a:ext cx="38088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620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1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3169800" y="376704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2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4358880" y="37908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5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5582880" y="377496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5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6"/>
            <p:cNvSpPr/>
            <p:nvPr/>
          </p:nvSpPr>
          <p:spPr>
            <a:xfrm>
              <a:off x="6820920" y="377640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0 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17"/>
          <p:cNvSpPr/>
          <p:nvPr/>
        </p:nvSpPr>
        <p:spPr>
          <a:xfrm>
            <a:off x="3961080" y="4300560"/>
            <a:ext cx="13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8"/>
          <p:cNvSpPr/>
          <p:nvPr/>
        </p:nvSpPr>
        <p:spPr>
          <a:xfrm>
            <a:off x="3960360" y="1218960"/>
            <a:ext cx="155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9"/>
          <p:cNvSpPr/>
          <p:nvPr/>
        </p:nvSpPr>
        <p:spPr>
          <a:xfrm>
            <a:off x="6503040" y="6521400"/>
            <a:ext cx="2654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g, Zhang, et al  MDA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TOG 023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North American cooperative group trial testing SB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activation, the RTOG and partners (ATC, RPC) developed extensive accreditation and compliance criteria for this new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II study based on the previously published phase I study from Indiana Uni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JAMA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4-22T14:34:46Z</cp:lastPrinted>
  <dcterms:modified xsi:type="dcterms:W3CDTF">2011-05-19T14:13:23Z</dcterms:modified>
  <cp:revision>1078</cp:revision>
  <dc:subject/>
  <dc:title>PowerPoint Presentation</dc:title>
</cp:coreProperties>
</file>