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71135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711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2"/>
          </p:nvPr>
        </p:nvSpPr>
        <p:spPr>
          <a:xfrm>
            <a:off x="4028760" y="-36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7702-A94C-42E1-BA12-F399BEEA5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Img"/>
          </p:nvPr>
        </p:nvSpPr>
        <p:spPr>
          <a:xfrm>
            <a:off x="120600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33"/>
          </p:nvPr>
        </p:nvSpPr>
        <p:spPr>
          <a:xfrm>
            <a:off x="-3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 type="sldNum" idx="34"/>
          </p:nvPr>
        </p:nvSpPr>
        <p:spPr>
          <a:xfrm>
            <a:off x="4028760" y="8926200"/>
            <a:ext cx="308124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E545-D8D3-44D6-9B4C-CA0BDA97D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30560" y="8928000"/>
            <a:ext cx="30816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CDB639D-0BD4-4164-891C-5943EFA6AD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542960" y="70488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11360" y="4464000"/>
            <a:ext cx="5689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F244A-5C0B-45EC-92BE-F1AE6383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8C7B8C-7009-4770-8DD2-309F42AF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9F373E-2F99-4099-9DFD-A82DDC6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EC7B44-AD11-46BF-98FF-E84734B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7CB866-DF52-4C76-9C61-DA5B10D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10389A-74FA-49FE-A7D7-F8D7E8C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020E31-8779-4D64-AFDF-5E16BCC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913F81-7470-4E72-8301-6D2E0339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5B715-F77C-4CD9-8C7C-FE8FDBD4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63634-D767-48BB-80E3-F27829ED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2D4ED-3B27-400A-A491-E3A92E6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B175B-62D1-453C-B521-38602788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09B0A-1FC4-4077-A339-46A6E154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34FF1-1465-4357-920A-E81C2AF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83087-DB1C-432E-A4F0-BA22502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EAF42-8EA7-4B53-B791-9C8F807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FE435-9E6D-46EF-A5DE-B808DC3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C58BC-1FA0-4791-BE33-F1AEE167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38C3A-83E8-46B0-A4D0-1483BD87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E7A63-4EDF-4583-BA61-5E88EB4F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E81A4-0601-47C8-8960-2C75FD94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32456-5483-4289-9ECB-E5DE1BF6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246F7-3585-4116-9CCB-C61EFFEC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F7F6D-C0E5-40FC-A51C-F048F615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6E38C-4DD1-4C97-8161-9223E44A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8EBCC-9B7D-4C5D-9832-E55FA076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46586-2786-44FB-B24D-E6F1EF48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C4FA0-ED2D-45D7-92C2-2E785F49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0FEE0-3216-4152-9557-BE81BCB7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EF796-2CA9-43AB-955C-6293F7F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8B3-4D36-4FF2-8A1C-3DAD3B2C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4C2FE-2F0D-4864-A2CE-157BA6E1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18F6C-4389-42AB-96EF-59AACB47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1E839-D43C-43CD-B18F-826F2FBA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775EE-724C-4B55-9A52-55E5F3DD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439BEB-5041-4203-BDA4-32A15DA4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CEBD42-FAC7-4458-8467-B92A7FE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AB73FA-F7BE-4DBA-AFE5-873DD6A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270717-015E-4863-91FA-CA5EBE83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A856C-D31D-4C0F-92FF-2B5EA3A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444817-E4D1-4729-BD7F-42D6EA6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04A-DE46-4748-8F57-BDB97C4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CCEF0B-D4E6-42F4-A11B-B8CEB7E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56682-2D00-46CE-B96B-33BAEBA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323E7C-CE89-4EA9-99FC-8F1E0347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BB5060-28AB-4BD9-AD00-EA80F6BE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233B35-2D80-45C2-95CC-2E3AD8A8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CD7-7593-4CC2-8432-BFDC4A0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ACB-F954-4934-9834-D57FC13C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EB4-67C8-48BA-8841-AD2B9EF3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B6F-EE5C-4CED-A312-923A896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3CE-2570-4405-BF05-B1C9E39F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18C8-C14D-46E3-B540-BC1394DC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585-341B-4FA5-887E-11667E1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F91-63C8-41EB-9E7D-CBBCBBEC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87E-A961-4A3D-9456-77386471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014-56E9-42A0-9D37-56FC56D2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55E7-4F0A-47FD-8A9F-A1829CA040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48E1A-0589-42AA-B905-E62FA77692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86BA1-EA02-4086-BF71-AEBC9C5429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FF9F-924B-4D65-9F55-962535D78B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285A-12F7-471B-B898-E85F69FB9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78F20-E820-408F-A707-55954FAA05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5D013-CD3B-42DE-AAF3-895426D232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242E9-00C3-4C91-B1B7-0DD881B7C0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38F7-547D-416A-9142-856878361B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FCDA-FA93-487A-9201-FCC0EDF9FA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88085-10B7-480D-A44A-CF70556EB6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D6D5E-3278-4C3E-BE17-4B1DBD0946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C42F0-0AD4-4A84-AE9D-A767CE02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BE189-0F0D-4A0B-95AB-69C8CCDA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EA24A-9C04-4445-AD55-3370A711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2C755-5F2A-47A9-AAE0-DDDC0764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CAFC-6D9C-4787-8FCC-CE483BF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C526F-2CE2-43E8-8D50-95C7F68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83BC9-8C44-49C5-8628-62446C2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CB515-3900-4D1C-87A2-3CE11636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C4894-730C-4288-9446-DA1DE7A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7E175-AB8A-47D9-8A0A-C4FFD2D4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542FC-6792-4721-9FF9-4CA8A09F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F4213-5CCB-4A67-90B6-35449C7B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3FE39-648A-43C1-B820-682445C3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542A2-AAAC-417B-9DF4-B9AE4726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BE9BA-0D9A-4045-BA36-1B736ECF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28C49-AE2F-4949-A6B7-DDCA5E73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1E1C1-A6EE-4E96-902F-0F50B185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BE399D-E8EB-4751-BB41-B32F69F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BD983-1317-4D97-80AB-5C65271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97EDA-301F-491F-AE05-004ED0C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4356D-A0C6-4E12-9CE6-69956D1C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368E7-EA62-4498-93E2-5D8566A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66E2E-451C-444D-94FF-6CA02C34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D7ABC-9CA1-411F-B825-48243333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E864-AC38-459A-8873-B0CFB30556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BCE6-B09B-4C3F-875E-1EE82638DB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30B6-F8EB-40F5-9F51-AC5D795F68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7BE0-8BC7-4B3E-BBFD-77EE029283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1DD2-2B50-4C68-A73D-744B865E7C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E3C2-F268-4A68-9373-527E4221B0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4882-8588-4CF9-846D-46AC4781A3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1F14-C088-45F2-BFD1-1E2F153991E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9A54B-D5D4-41BA-9635-7C69179F4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6E24-EA5D-4438-8742-4573DBA591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FFF9-7D4C-47D2-9EF9-D16AEC0BB5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F18C-A450-439E-8CDD-C429C85276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064B1-59A8-452E-9127-74FCA4E8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5D330-538C-47E2-9663-B2D527DA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828DF-6827-4411-B779-51BF930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D48CD-2237-4788-B8DC-88C89929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D46A3A-2AE4-4F1D-A38C-673AB99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2EF9BA-8246-43F3-B9F3-5BBB0765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599A57-BD79-42F8-9EA2-241AD7FB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E985B-5944-436C-B4F8-032292C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D76D54-FC45-4F18-97ED-883E8C1C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FC956-9650-4CBB-B02A-9A061BEE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FD2EEF-CBAF-4FD8-9D34-41583D51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72C0F-BFCD-4568-A438-9B39DF16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C33007-9B84-4153-AC0B-8CD86FDF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1F6033-A8C1-4DD5-B178-C061EC5B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2851F-AC52-4652-89C3-497CA894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5D3692-588D-4C08-9C59-A515F8AA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B4A625-24AA-42CF-BBCA-D22FE55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345E7E-97BB-4880-86CC-66E4C79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D70D41-AD26-4A0B-B68F-210F112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FAA243-CD6F-4B6D-B4D8-429EA44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F92487-F115-42E7-9119-E1A52DD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9068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B30A4F-879C-4D40-92B4-D26259E1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4616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9068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743119-831D-4F75-970D-989F53B6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4616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9068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031CD0-B5B8-41FB-B37C-55C220BD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4EED43-8B1A-4574-9DDA-23BE6C27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B4DC3E-5859-4710-8B40-74DAAE42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E6CEF4-2AA3-4C0B-8D46-EDBCC7EA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DED-7198-46CC-B524-C671C40234B1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79D8-AB2D-4B52-A6C6-EB88CBCAF9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CB9-9792-406C-B5D6-95DB4D9F2FAC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8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5FC-30F8-4F22-B2B4-CC0CBEC17E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01BC-B63B-46B9-80D0-1107A9D29A5C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B7E0-07D7-4E56-8D81-49736A8B3E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1" descr="Nsclc_GR_title slideUSE THIS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490-46CE-4CF2-B2D6-A072B6046339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F2CD-C60D-41CA-AFA3-3BD63A0929D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7277-3B24-4270-9035-CA458D324B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0AE5-17AE-45E4-A41D-D7AB75732D62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70B4-2C75-4F8E-A5E2-D917BC7B841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184-2A2C-403C-A2AD-45909DA1F539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2ECD-F566-4666-881F-DB260E6922C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8621280" y="623844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CD25-01D2-4E76-96EC-1CC23DD3E95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3"/>
          </p:nvPr>
        </p:nvSpPr>
        <p:spPr>
          <a:xfrm>
            <a:off x="457200" y="6160680"/>
            <a:ext cx="814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894B-512C-48B4-9183-CFABDAE1D71C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8382-55EA-4920-B157-FCDC5B91C8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0984-CCAD-4A4C-8819-A8CE5521298F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290-E616-4123-9448-18049BEA61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0" y="0"/>
            <a:ext cx="9144000" cy="1436760"/>
          </a:xfrm>
          <a:prstGeom prst="rect">
            <a:avLst/>
          </a:prstGeom>
          <a:solidFill>
            <a:srgbClr val="6c37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"/>
          <p:cNvSpPr/>
          <p:nvPr/>
        </p:nvSpPr>
        <p:spPr>
          <a:xfrm>
            <a:off x="0" y="143676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68400" indent="-230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30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657440" indent="-230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657440" indent="-230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6CEF-20C8-48D3-A6C6-84686EDF3D1B}" type="datetime"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2"/>
          </p:nvPr>
        </p:nvSpPr>
        <p:spPr>
          <a:xfrm>
            <a:off x="8621280" y="6322680"/>
            <a:ext cx="52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AF26-BED0-4C5E-AA12-C79ABACBBD9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en/2/21/Mdanderson_logo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aerials-2006-010"/>
          <p:cNvPicPr/>
          <p:nvPr/>
        </p:nvPicPr>
        <p:blipFill>
          <a:blip r:embed="rId1"/>
          <a:srcRect l="0" t="4981" r="0" b="6444"/>
          <a:stretch/>
        </p:blipFill>
        <p:spPr>
          <a:xfrm>
            <a:off x="182520" y="4446720"/>
            <a:ext cx="5405400" cy="2278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74" name="Rectangle 3"/>
          <p:cNvSpPr/>
          <p:nvPr/>
        </p:nvSpPr>
        <p:spPr>
          <a:xfrm>
            <a:off x="74520" y="181080"/>
            <a:ext cx="9018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Novel Agents and Targets in Lung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4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900600" y="3100320"/>
            <a:ext cx="1342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6" descr="File:Mdanderson log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8360" y="4770360"/>
            <a:ext cx="3251520" cy="16909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7"/>
          <p:cNvSpPr/>
          <p:nvPr/>
        </p:nvSpPr>
        <p:spPr>
          <a:xfrm>
            <a:off x="1293840" y="2111400"/>
            <a:ext cx="66484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ward S. Kim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ssociate Professor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rector, Clinical Research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ief, Section of Head and Neck Medical Oncology Dept. Thoracic/Head and Neck Medical Onc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oblast Growth Factor (FGF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3903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3840" indent="-2138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mily composed of 22 members, FGF-1 through FGF-23 that variously bind to seven FGF receptor isoforms from four FGF receptor gen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GFR1b and c; FGFR2b and c; FGFR3b and c; and FGFR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olved in multiple processes ranging from cell transformation, angiogenesis and tissue repair to embryonic development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3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3840" indent="-21384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rant regulation (amplification, overexpression, upregulation) of FGF ligands and their receptors is associated with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69640">
              <a:lnSpc>
                <a:spcPct val="95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breast, astrocytoma, myeloma, pancreatic, prostate, ovarian, gastric,  colorectal, and bladder cance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3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GF Pathwa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5840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any tumors express the FGF2, and increased levels of FGF are correlated with poor prognosis in pts with RCC, HCC, NSCLC, esophageal, and pancreatic cance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GF pathway activation is a potent driver of lung tumor grow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~20% primary lung tumors with mutations/amplification in FGF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0680" indent="-22068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utocrine activation of FGFR signaling in non-small-cell lung cancers may contribute to gefitinib insensitiv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44240" y="142920"/>
            <a:ext cx="8667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berrant  regulation of FGF/FGFR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ignaling occurs in many human tum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685800" y="1254240"/>
            <a:ext cx="8191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Proliferation/Migration/Anti-apoptosis/Angiogenes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reast cancer: Amplification ~10% 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n-small cell lung cancer: Amplification 10% squa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tate cancer: Upregulated FGF lig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2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astric cancer: Amplification ~5%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ometrial cancer: Mutations ~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3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oninvasive bladder cancer: Mutations ~70% tum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ltiple myeloma: ~20%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FGFR4: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lorectal cancer: Upregulated FGF19 lig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tate cancer: Upregulated FGF lig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506520" y="15685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uine target - identified via screening with anti-tumor killer T-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uine tumor-specific - not expressed in normal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to detect in patients (RT-PCR on tumor t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 major tumor typ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ung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5-5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ladder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0-5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ver  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4-78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elanoma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 in early and advanced stages of a given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entially associated with poor survival pro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441360" y="54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GE-A3 tumor anti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GE Func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28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 proteins could confer tumor survival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 proteins interfere with p53 pro-apoptot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 antigens suggested to confer resist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hemotherapeutic agents by suppressing p53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3 downregulates p21, a transcriptional target of p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7000" indent="-207000">
              <a:spcBef>
                <a:spcPts val="4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E-A3 expression stimulates tumor growth and meta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204840" y="981000"/>
            <a:ext cx="8748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A3 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juvant Non-Small Cell L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III Study: MAGR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01760" y="1728720"/>
            <a:ext cx="8219520" cy="4662720"/>
            <a:chOff x="401760" y="1728720"/>
            <a:chExt cx="8219520" cy="4662720"/>
          </a:xfrm>
        </p:grpSpPr>
        <p:sp>
          <p:nvSpPr>
            <p:cNvPr id="754" name="Line 48"/>
            <p:cNvSpPr/>
            <p:nvPr/>
          </p:nvSpPr>
          <p:spPr>
            <a:xfrm>
              <a:off x="6526800" y="3367080"/>
              <a:ext cx="0" cy="16250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8"/>
            <p:cNvSpPr/>
            <p:nvPr/>
          </p:nvSpPr>
          <p:spPr>
            <a:xfrm>
              <a:off x="2933640" y="3381120"/>
              <a:ext cx="361152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32"/>
            <p:cNvSpPr/>
            <p:nvPr/>
          </p:nvSpPr>
          <p:spPr>
            <a:xfrm>
              <a:off x="2787120" y="6103080"/>
              <a:ext cx="338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BE" sz="1600" spc="-1" strike="noStrike">
                  <a:solidFill>
                    <a:srgbClr val="ffffff"/>
                  </a:solidFill>
                  <a:latin typeface="Arial"/>
                </a:rPr>
                <a:t>Powered for effica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17"/>
            <p:cNvSpPr/>
            <p:nvPr/>
          </p:nvSpPr>
          <p:spPr>
            <a:xfrm>
              <a:off x="2254320" y="3009600"/>
              <a:ext cx="13993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 che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1"/>
            <p:cNvSpPr/>
            <p:nvPr/>
          </p:nvSpPr>
          <p:spPr>
            <a:xfrm flipV="1">
              <a:off x="5266440" y="4992120"/>
              <a:ext cx="2540880" cy="8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2"/>
            <p:cNvSpPr/>
            <p:nvPr/>
          </p:nvSpPr>
          <p:spPr>
            <a:xfrm>
              <a:off x="5280480" y="4996080"/>
              <a:ext cx="0" cy="20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3"/>
            <p:cNvSpPr/>
            <p:nvPr/>
          </p:nvSpPr>
          <p:spPr>
            <a:xfrm>
              <a:off x="4447440" y="5328000"/>
              <a:ext cx="16088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GE-A3 A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7349400" y="5328000"/>
              <a:ext cx="9000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29"/>
            <p:cNvSpPr/>
            <p:nvPr/>
          </p:nvSpPr>
          <p:spPr>
            <a:xfrm>
              <a:off x="7805520" y="4999320"/>
              <a:ext cx="0" cy="205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35"/>
            <p:cNvSpPr/>
            <p:nvPr/>
          </p:nvSpPr>
          <p:spPr>
            <a:xfrm>
              <a:off x="1184760" y="5089680"/>
              <a:ext cx="3463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fr-BE" sz="1600" spc="-1" strike="noStrike">
                  <a:solidFill>
                    <a:srgbClr val="ffffff"/>
                  </a:solidFill>
                  <a:latin typeface="Arial"/>
                </a:rPr>
                <a:t>Powered for effica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ight Bracket 33"/>
            <p:cNvSpPr/>
            <p:nvPr/>
          </p:nvSpPr>
          <p:spPr>
            <a:xfrm rot="5400000">
              <a:off x="4439160" y="1787760"/>
              <a:ext cx="144360" cy="8219520"/>
            </a:xfrm>
            <a:custGeom>
              <a:avLst/>
              <a:gdLst>
                <a:gd name="textAreaLeft" fmla="*/ 0 w 144360"/>
                <a:gd name="textAreaRight" fmla="*/ 101160 w 144360"/>
                <a:gd name="textAreaTop" fmla="*/ 5760 h 8219520"/>
                <a:gd name="textAreaBottom" fmla="*/ 8213760 h 82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6"/>
                    <a:pt x="21600" y="32"/>
                  </a:cubicBezTo>
                  <a:lnTo>
                    <a:pt x="21600" y="21568"/>
                  </a:lnTo>
                  <a:cubicBezTo>
                    <a:pt x="21600" y="21584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d95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ight Bracket 35"/>
            <p:cNvSpPr/>
            <p:nvPr/>
          </p:nvSpPr>
          <p:spPr>
            <a:xfrm rot="5400000">
              <a:off x="2727360" y="2870280"/>
              <a:ext cx="175320" cy="3976200"/>
            </a:xfrm>
            <a:custGeom>
              <a:avLst/>
              <a:gdLst>
                <a:gd name="textAreaLeft" fmla="*/ 0 w 175320"/>
                <a:gd name="textAreaRight" fmla="*/ 123120 w 175320"/>
                <a:gd name="textAreaTop" fmla="*/ 7200 h 3976200"/>
                <a:gd name="textAreaBottom" fmla="*/ 3969000 h 39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40"/>
                    <a:pt x="21600" y="79"/>
                  </a:cubicBezTo>
                  <a:lnTo>
                    <a:pt x="21600" y="21521"/>
                  </a:lnTo>
                  <a:cubicBezTo>
                    <a:pt x="21600" y="21561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48"/>
            <p:cNvSpPr/>
            <p:nvPr/>
          </p:nvSpPr>
          <p:spPr>
            <a:xfrm>
              <a:off x="4975200" y="1982520"/>
              <a:ext cx="0" cy="1412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55"/>
            <p:cNvSpPr/>
            <p:nvPr/>
          </p:nvSpPr>
          <p:spPr>
            <a:xfrm>
              <a:off x="2949120" y="3394800"/>
              <a:ext cx="0" cy="8650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56"/>
            <p:cNvSpPr/>
            <p:nvPr/>
          </p:nvSpPr>
          <p:spPr>
            <a:xfrm flipV="1">
              <a:off x="1689120" y="4247640"/>
              <a:ext cx="2540520" cy="8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57"/>
            <p:cNvSpPr/>
            <p:nvPr/>
          </p:nvSpPr>
          <p:spPr>
            <a:xfrm>
              <a:off x="4215960" y="4246560"/>
              <a:ext cx="0" cy="205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58"/>
            <p:cNvSpPr/>
            <p:nvPr/>
          </p:nvSpPr>
          <p:spPr>
            <a:xfrm>
              <a:off x="1704240" y="4258440"/>
              <a:ext cx="0" cy="204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59"/>
            <p:cNvSpPr/>
            <p:nvPr/>
          </p:nvSpPr>
          <p:spPr>
            <a:xfrm>
              <a:off x="879480" y="4556160"/>
              <a:ext cx="1640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GE-A3 AS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60"/>
            <p:cNvSpPr/>
            <p:nvPr/>
          </p:nvSpPr>
          <p:spPr>
            <a:xfrm>
              <a:off x="3765240" y="4564800"/>
              <a:ext cx="942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ceb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6"/>
            <p:cNvSpPr/>
            <p:nvPr/>
          </p:nvSpPr>
          <p:spPr>
            <a:xfrm>
              <a:off x="1559160" y="3629520"/>
              <a:ext cx="2781000" cy="33732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ndom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7"/>
            <p:cNvSpPr/>
            <p:nvPr/>
          </p:nvSpPr>
          <p:spPr>
            <a:xfrm>
              <a:off x="2884320" y="2420280"/>
              <a:ext cx="4158360" cy="33732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thological stage IB,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8"/>
            <p:cNvSpPr/>
            <p:nvPr/>
          </p:nvSpPr>
          <p:spPr>
            <a:xfrm>
              <a:off x="2865600" y="1728720"/>
              <a:ext cx="4158000" cy="33732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ected MAGE-A3 (+) NSCL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84"/>
            <p:cNvSpPr/>
            <p:nvPr/>
          </p:nvSpPr>
          <p:spPr>
            <a:xfrm>
              <a:off x="5266440" y="3553200"/>
              <a:ext cx="2625840" cy="58068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p to 4 cycles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latinum-based che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3"/>
            <p:cNvSpPr/>
            <p:nvPr/>
          </p:nvSpPr>
          <p:spPr>
            <a:xfrm>
              <a:off x="5180040" y="4317840"/>
              <a:ext cx="2780640" cy="3373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ndom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0" y="342720"/>
            <a:ext cx="9132840" cy="6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ATTLE Tria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EGF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an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KRA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utatio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ovel Discovery Find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6215040" y="2100240"/>
            <a:ext cx="147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KRA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4"/>
          <p:cNvSpPr/>
          <p:nvPr/>
        </p:nvSpPr>
        <p:spPr>
          <a:xfrm>
            <a:off x="1380960" y="1741320"/>
            <a:ext cx="14400" cy="416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1191960" y="5791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1070280" y="5348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084320" y="24336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1082880" y="4938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1082880" y="4103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082880" y="45338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1082880" y="32749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1082880" y="2870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1095480" y="36939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1070280" y="20336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 rot="16200000">
            <a:off x="-1006200" y="3575880"/>
            <a:ext cx="34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hieved 8 week DC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979560" y="16398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5508720" y="4589640"/>
            <a:ext cx="579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5983200" y="3827520"/>
            <a:ext cx="56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9"/>
          <p:cNvGrpSpPr/>
          <p:nvPr/>
        </p:nvGrpSpPr>
        <p:grpSpPr>
          <a:xfrm>
            <a:off x="7446240" y="2754360"/>
            <a:ext cx="1099440" cy="700560"/>
            <a:chOff x="7446240" y="2754360"/>
            <a:chExt cx="1099440" cy="700560"/>
          </a:xfrm>
        </p:grpSpPr>
        <p:sp>
          <p:nvSpPr>
            <p:cNvPr id="796" name="Rectangle 20"/>
            <p:cNvSpPr/>
            <p:nvPr/>
          </p:nvSpPr>
          <p:spPr>
            <a:xfrm>
              <a:off x="8028000" y="3149640"/>
              <a:ext cx="517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5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1"/>
            <p:cNvSpPr/>
            <p:nvPr/>
          </p:nvSpPr>
          <p:spPr>
            <a:xfrm>
              <a:off x="7446240" y="275436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22"/>
          <p:cNvSpPr/>
          <p:nvPr/>
        </p:nvSpPr>
        <p:spPr>
          <a:xfrm>
            <a:off x="5699160" y="4987800"/>
            <a:ext cx="355680" cy="884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6072120" y="4297320"/>
            <a:ext cx="341280" cy="1575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5783760" y="578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5"/>
          <p:cNvGrpSpPr/>
          <p:nvPr/>
        </p:nvGrpSpPr>
        <p:grpSpPr>
          <a:xfrm>
            <a:off x="6367680" y="3417840"/>
            <a:ext cx="1161720" cy="2850480"/>
            <a:chOff x="6367680" y="3417840"/>
            <a:chExt cx="1161720" cy="2850480"/>
          </a:xfrm>
        </p:grpSpPr>
        <p:sp>
          <p:nvSpPr>
            <p:cNvPr id="802" name="Rectangle 26"/>
            <p:cNvSpPr/>
            <p:nvPr/>
          </p:nvSpPr>
          <p:spPr>
            <a:xfrm>
              <a:off x="7024320" y="3417840"/>
              <a:ext cx="265320" cy="2457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7"/>
            <p:cNvSpPr/>
            <p:nvPr/>
          </p:nvSpPr>
          <p:spPr>
            <a:xfrm>
              <a:off x="7184880" y="5560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8"/>
            <p:cNvSpPr/>
            <p:nvPr/>
          </p:nvSpPr>
          <p:spPr>
            <a:xfrm>
              <a:off x="6435360" y="4910040"/>
              <a:ext cx="263520" cy="960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9"/>
            <p:cNvSpPr/>
            <p:nvPr/>
          </p:nvSpPr>
          <p:spPr>
            <a:xfrm>
              <a:off x="6689520" y="4299120"/>
              <a:ext cx="250920" cy="157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30"/>
            <p:cNvSpPr/>
            <p:nvPr/>
          </p:nvSpPr>
          <p:spPr>
            <a:xfrm>
              <a:off x="7291080" y="4003560"/>
              <a:ext cx="238320" cy="1859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31"/>
            <p:cNvSpPr/>
            <p:nvPr/>
          </p:nvSpPr>
          <p:spPr>
            <a:xfrm>
              <a:off x="6367680" y="579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2"/>
            <p:cNvSpPr/>
            <p:nvPr/>
          </p:nvSpPr>
          <p:spPr>
            <a:xfrm>
              <a:off x="6977160" y="5808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33"/>
          <p:cNvGrpSpPr/>
          <p:nvPr/>
        </p:nvGrpSpPr>
        <p:grpSpPr>
          <a:xfrm>
            <a:off x="7605720" y="3260880"/>
            <a:ext cx="624960" cy="3020040"/>
            <a:chOff x="7605720" y="3260880"/>
            <a:chExt cx="624960" cy="3020040"/>
          </a:xfrm>
        </p:grpSpPr>
        <p:sp>
          <p:nvSpPr>
            <p:cNvPr id="810" name="Rectangle 34"/>
            <p:cNvSpPr/>
            <p:nvPr/>
          </p:nvSpPr>
          <p:spPr>
            <a:xfrm>
              <a:off x="7930080" y="3600360"/>
              <a:ext cx="300600" cy="2266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7625880" y="3260880"/>
              <a:ext cx="302400" cy="2617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7605720" y="5821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37"/>
          <p:cNvSpPr/>
          <p:nvPr/>
        </p:nvSpPr>
        <p:spPr>
          <a:xfrm>
            <a:off x="1854360" y="2073240"/>
            <a:ext cx="178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GF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8"/>
          <p:cNvGrpSpPr/>
          <p:nvPr/>
        </p:nvGrpSpPr>
        <p:grpSpPr>
          <a:xfrm>
            <a:off x="1898640" y="2544840"/>
            <a:ext cx="257040" cy="2108160"/>
            <a:chOff x="1898640" y="2544840"/>
            <a:chExt cx="257040" cy="2108160"/>
          </a:xfrm>
        </p:grpSpPr>
        <p:sp>
          <p:nvSpPr>
            <p:cNvPr id="815" name="Rectangle 39"/>
            <p:cNvSpPr/>
            <p:nvPr/>
          </p:nvSpPr>
          <p:spPr>
            <a:xfrm>
              <a:off x="1898640" y="25448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40"/>
            <p:cNvSpPr/>
            <p:nvPr/>
          </p:nvSpPr>
          <p:spPr>
            <a:xfrm>
              <a:off x="2155320" y="434844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1"/>
          <p:cNvGrpSpPr/>
          <p:nvPr/>
        </p:nvGrpSpPr>
        <p:grpSpPr>
          <a:xfrm>
            <a:off x="3780000" y="2970360"/>
            <a:ext cx="245880" cy="1957320"/>
            <a:chOff x="3780000" y="2970360"/>
            <a:chExt cx="245880" cy="1957320"/>
          </a:xfrm>
        </p:grpSpPr>
        <p:sp>
          <p:nvSpPr>
            <p:cNvPr id="818" name="Rectangle 42"/>
            <p:cNvSpPr/>
            <p:nvPr/>
          </p:nvSpPr>
          <p:spPr>
            <a:xfrm>
              <a:off x="3780000" y="462276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43"/>
            <p:cNvSpPr/>
            <p:nvPr/>
          </p:nvSpPr>
          <p:spPr>
            <a:xfrm>
              <a:off x="4025520" y="297036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3313080" y="3286080"/>
            <a:ext cx="651600" cy="2952360"/>
            <a:chOff x="3313080" y="3286080"/>
            <a:chExt cx="651600" cy="2952360"/>
          </a:xfrm>
        </p:grpSpPr>
        <p:sp>
          <p:nvSpPr>
            <p:cNvPr id="821" name="Rectangle 45"/>
            <p:cNvSpPr/>
            <p:nvPr/>
          </p:nvSpPr>
          <p:spPr>
            <a:xfrm>
              <a:off x="3313080" y="4986360"/>
              <a:ext cx="329760" cy="880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46"/>
            <p:cNvSpPr/>
            <p:nvPr/>
          </p:nvSpPr>
          <p:spPr>
            <a:xfrm>
              <a:off x="3648960" y="3286080"/>
              <a:ext cx="31572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47"/>
            <p:cNvSpPr/>
            <p:nvPr/>
          </p:nvSpPr>
          <p:spPr>
            <a:xfrm>
              <a:off x="3381120" y="5872320"/>
              <a:ext cx="550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48"/>
          <p:cNvGrpSpPr/>
          <p:nvPr/>
        </p:nvGrpSpPr>
        <p:grpSpPr>
          <a:xfrm>
            <a:off x="2225520" y="3359160"/>
            <a:ext cx="1095480" cy="2866320"/>
            <a:chOff x="2225520" y="3359160"/>
            <a:chExt cx="1095480" cy="2866320"/>
          </a:xfrm>
        </p:grpSpPr>
        <p:sp>
          <p:nvSpPr>
            <p:cNvPr id="825" name="Rectangle 49"/>
            <p:cNvSpPr/>
            <p:nvPr/>
          </p:nvSpPr>
          <p:spPr>
            <a:xfrm>
              <a:off x="2809800" y="3433680"/>
              <a:ext cx="255600" cy="2441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50"/>
            <p:cNvSpPr/>
            <p:nvPr/>
          </p:nvSpPr>
          <p:spPr>
            <a:xfrm>
              <a:off x="2982960" y="556092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2225520" y="3359160"/>
              <a:ext cx="266760" cy="2511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2482920" y="4591080"/>
              <a:ext cx="253800" cy="1279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3065400" y="4162320"/>
              <a:ext cx="255600" cy="1700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54"/>
            <p:cNvSpPr/>
            <p:nvPr/>
          </p:nvSpPr>
          <p:spPr>
            <a:xfrm>
              <a:off x="2890800" y="5859360"/>
              <a:ext cx="42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55"/>
            <p:cNvSpPr/>
            <p:nvPr/>
          </p:nvSpPr>
          <p:spPr>
            <a:xfrm>
              <a:off x="2235240" y="5859360"/>
              <a:ext cx="420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56"/>
          <p:cNvGrpSpPr/>
          <p:nvPr/>
        </p:nvGrpSpPr>
        <p:grpSpPr>
          <a:xfrm>
            <a:off x="1622520" y="2906640"/>
            <a:ext cx="591840" cy="3318840"/>
            <a:chOff x="1622520" y="2906640"/>
            <a:chExt cx="591840" cy="3318840"/>
          </a:xfrm>
        </p:grpSpPr>
        <p:sp>
          <p:nvSpPr>
            <p:cNvPr id="833" name="Rectangle 57"/>
            <p:cNvSpPr/>
            <p:nvPr/>
          </p:nvSpPr>
          <p:spPr>
            <a:xfrm>
              <a:off x="1622520" y="2906640"/>
              <a:ext cx="294120" cy="2965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58"/>
            <p:cNvSpPr/>
            <p:nvPr/>
          </p:nvSpPr>
          <p:spPr>
            <a:xfrm>
              <a:off x="1918080" y="4708440"/>
              <a:ext cx="296280" cy="1163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59"/>
            <p:cNvSpPr/>
            <p:nvPr/>
          </p:nvSpPr>
          <p:spPr>
            <a:xfrm>
              <a:off x="1631520" y="585936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+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60"/>
          <p:cNvGrpSpPr/>
          <p:nvPr/>
        </p:nvGrpSpPr>
        <p:grpSpPr>
          <a:xfrm>
            <a:off x="3223440" y="2855880"/>
            <a:ext cx="934200" cy="1958040"/>
            <a:chOff x="3223440" y="2855880"/>
            <a:chExt cx="934200" cy="1958040"/>
          </a:xfrm>
        </p:grpSpPr>
        <p:sp>
          <p:nvSpPr>
            <p:cNvPr id="837" name="Rectangle 61"/>
            <p:cNvSpPr/>
            <p:nvPr/>
          </p:nvSpPr>
          <p:spPr>
            <a:xfrm>
              <a:off x="3223440" y="450864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2"/>
            <p:cNvSpPr/>
            <p:nvPr/>
          </p:nvSpPr>
          <p:spPr>
            <a:xfrm>
              <a:off x="3462480" y="2855880"/>
              <a:ext cx="69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Line 63"/>
          <p:cNvSpPr/>
          <p:nvPr/>
        </p:nvSpPr>
        <p:spPr>
          <a:xfrm>
            <a:off x="1393920" y="5891040"/>
            <a:ext cx="27684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4"/>
          <p:cNvSpPr/>
          <p:nvPr/>
        </p:nvSpPr>
        <p:spPr>
          <a:xfrm>
            <a:off x="5445000" y="1728720"/>
            <a:ext cx="14400" cy="41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5"/>
          <p:cNvSpPr/>
          <p:nvPr/>
        </p:nvSpPr>
        <p:spPr>
          <a:xfrm>
            <a:off x="5256000" y="57783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6"/>
          <p:cNvSpPr/>
          <p:nvPr/>
        </p:nvSpPr>
        <p:spPr>
          <a:xfrm>
            <a:off x="5133960" y="5335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7"/>
          <p:cNvSpPr/>
          <p:nvPr/>
        </p:nvSpPr>
        <p:spPr>
          <a:xfrm>
            <a:off x="5148360" y="2421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8"/>
          <p:cNvSpPr/>
          <p:nvPr/>
        </p:nvSpPr>
        <p:spPr>
          <a:xfrm>
            <a:off x="5146920" y="4925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9"/>
          <p:cNvSpPr/>
          <p:nvPr/>
        </p:nvSpPr>
        <p:spPr>
          <a:xfrm>
            <a:off x="5146920" y="409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70"/>
          <p:cNvSpPr/>
          <p:nvPr/>
        </p:nvSpPr>
        <p:spPr>
          <a:xfrm>
            <a:off x="5146920" y="4521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1"/>
          <p:cNvSpPr/>
          <p:nvPr/>
        </p:nvSpPr>
        <p:spPr>
          <a:xfrm>
            <a:off x="5146920" y="32623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2"/>
          <p:cNvSpPr/>
          <p:nvPr/>
        </p:nvSpPr>
        <p:spPr>
          <a:xfrm>
            <a:off x="5146920" y="2857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3"/>
          <p:cNvSpPr/>
          <p:nvPr/>
        </p:nvSpPr>
        <p:spPr>
          <a:xfrm>
            <a:off x="5159520" y="36813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4"/>
          <p:cNvSpPr/>
          <p:nvPr/>
        </p:nvSpPr>
        <p:spPr>
          <a:xfrm>
            <a:off x="5133960" y="20210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5"/>
          <p:cNvSpPr/>
          <p:nvPr/>
        </p:nvSpPr>
        <p:spPr>
          <a:xfrm>
            <a:off x="5043600" y="1627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76"/>
          <p:cNvSpPr/>
          <p:nvPr/>
        </p:nvSpPr>
        <p:spPr>
          <a:xfrm>
            <a:off x="5448240" y="5878440"/>
            <a:ext cx="2965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77"/>
          <p:cNvGrpSpPr/>
          <p:nvPr/>
        </p:nvGrpSpPr>
        <p:grpSpPr>
          <a:xfrm>
            <a:off x="1274760" y="1116000"/>
            <a:ext cx="7000920" cy="393840"/>
            <a:chOff x="1274760" y="1116000"/>
            <a:chExt cx="7000920" cy="393840"/>
          </a:xfrm>
        </p:grpSpPr>
        <p:sp>
          <p:nvSpPr>
            <p:cNvPr id="854" name="Rectangle 78"/>
            <p:cNvSpPr/>
            <p:nvPr/>
          </p:nvSpPr>
          <p:spPr>
            <a:xfrm>
              <a:off x="1274760" y="1116000"/>
              <a:ext cx="7000920" cy="39384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79"/>
            <p:cNvSpPr/>
            <p:nvPr/>
          </p:nvSpPr>
          <p:spPr>
            <a:xfrm>
              <a:off x="1344600" y="1230480"/>
              <a:ext cx="236520" cy="174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80"/>
            <p:cNvSpPr/>
            <p:nvPr/>
          </p:nvSpPr>
          <p:spPr>
            <a:xfrm>
              <a:off x="1663560" y="1187640"/>
              <a:ext cx="77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loti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81"/>
            <p:cNvSpPr/>
            <p:nvPr/>
          </p:nvSpPr>
          <p:spPr>
            <a:xfrm>
              <a:off x="2690640" y="1235160"/>
              <a:ext cx="236880" cy="174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82"/>
            <p:cNvSpPr/>
            <p:nvPr/>
          </p:nvSpPr>
          <p:spPr>
            <a:xfrm>
              <a:off x="3003120" y="1181160"/>
              <a:ext cx="102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deta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83"/>
            <p:cNvSpPr/>
            <p:nvPr/>
          </p:nvSpPr>
          <p:spPr>
            <a:xfrm>
              <a:off x="4206960" y="1231920"/>
              <a:ext cx="236520" cy="174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4"/>
            <p:cNvSpPr/>
            <p:nvPr/>
          </p:nvSpPr>
          <p:spPr>
            <a:xfrm>
              <a:off x="4523400" y="1192320"/>
              <a:ext cx="203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lotinib + Bexarote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85"/>
            <p:cNvSpPr/>
            <p:nvPr/>
          </p:nvSpPr>
          <p:spPr>
            <a:xfrm>
              <a:off x="6886440" y="1220760"/>
              <a:ext cx="236520" cy="174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86"/>
            <p:cNvSpPr/>
            <p:nvPr/>
          </p:nvSpPr>
          <p:spPr>
            <a:xfrm>
              <a:off x="7221960" y="1179360"/>
              <a:ext cx="880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rafeni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87"/>
          <p:cNvGrpSpPr/>
          <p:nvPr/>
        </p:nvGrpSpPr>
        <p:grpSpPr>
          <a:xfrm>
            <a:off x="1572480" y="2481120"/>
            <a:ext cx="921600" cy="2058120"/>
            <a:chOff x="1572480" y="2481120"/>
            <a:chExt cx="921600" cy="2058120"/>
          </a:xfrm>
        </p:grpSpPr>
        <p:sp>
          <p:nvSpPr>
            <p:cNvPr id="864" name="Rectangle 88"/>
            <p:cNvSpPr/>
            <p:nvPr/>
          </p:nvSpPr>
          <p:spPr>
            <a:xfrm>
              <a:off x="1572480" y="248112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71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89"/>
            <p:cNvSpPr/>
            <p:nvPr/>
          </p:nvSpPr>
          <p:spPr>
            <a:xfrm>
              <a:off x="1954080" y="4233960"/>
              <a:ext cx="54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90"/>
          <p:cNvGrpSpPr/>
          <p:nvPr/>
        </p:nvGrpSpPr>
        <p:grpSpPr>
          <a:xfrm>
            <a:off x="1538280" y="1511280"/>
            <a:ext cx="6813360" cy="403200"/>
            <a:chOff x="1538280" y="1511280"/>
            <a:chExt cx="6813360" cy="403200"/>
          </a:xfrm>
        </p:grpSpPr>
        <p:grpSp>
          <p:nvGrpSpPr>
            <p:cNvPr id="867" name="Group 91"/>
            <p:cNvGrpSpPr/>
            <p:nvPr/>
          </p:nvGrpSpPr>
          <p:grpSpPr>
            <a:xfrm>
              <a:off x="1538280" y="1511280"/>
              <a:ext cx="2689200" cy="393480"/>
              <a:chOff x="1538280" y="1511280"/>
              <a:chExt cx="2689200" cy="393480"/>
            </a:xfrm>
          </p:grpSpPr>
          <p:sp>
            <p:nvSpPr>
              <p:cNvPr id="868" name="Rectangle 92"/>
              <p:cNvSpPr/>
              <p:nvPr/>
            </p:nvSpPr>
            <p:spPr>
              <a:xfrm>
                <a:off x="1538280" y="1511280"/>
                <a:ext cx="2689200" cy="393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93"/>
              <p:cNvSpPr/>
              <p:nvPr/>
            </p:nvSpPr>
            <p:spPr>
              <a:xfrm>
                <a:off x="1608120" y="1625400"/>
                <a:ext cx="236520" cy="174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94"/>
              <p:cNvSpPr/>
              <p:nvPr/>
            </p:nvSpPr>
            <p:spPr>
              <a:xfrm>
                <a:off x="1927080" y="1582560"/>
                <a:ext cx="773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loti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95"/>
              <p:cNvSpPr/>
              <p:nvPr/>
            </p:nvSpPr>
            <p:spPr>
              <a:xfrm>
                <a:off x="2935080" y="1630440"/>
                <a:ext cx="236520" cy="174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96"/>
              <p:cNvSpPr/>
              <p:nvPr/>
            </p:nvSpPr>
            <p:spPr>
              <a:xfrm>
                <a:off x="3242160" y="1574640"/>
                <a:ext cx="880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rafe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97"/>
            <p:cNvGrpSpPr/>
            <p:nvPr/>
          </p:nvGrpSpPr>
          <p:grpSpPr>
            <a:xfrm>
              <a:off x="5662440" y="1521000"/>
              <a:ext cx="2689200" cy="393480"/>
              <a:chOff x="5662440" y="1521000"/>
              <a:chExt cx="2689200" cy="393480"/>
            </a:xfrm>
          </p:grpSpPr>
          <p:sp>
            <p:nvSpPr>
              <p:cNvPr id="874" name="Rectangle 98"/>
              <p:cNvSpPr/>
              <p:nvPr/>
            </p:nvSpPr>
            <p:spPr>
              <a:xfrm>
                <a:off x="5662440" y="1521000"/>
                <a:ext cx="2689200" cy="39348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99"/>
              <p:cNvSpPr/>
              <p:nvPr/>
            </p:nvSpPr>
            <p:spPr>
              <a:xfrm>
                <a:off x="5732280" y="1635120"/>
                <a:ext cx="236520" cy="174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100"/>
              <p:cNvSpPr/>
              <p:nvPr/>
            </p:nvSpPr>
            <p:spPr>
              <a:xfrm>
                <a:off x="6051240" y="1592280"/>
                <a:ext cx="773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loti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101"/>
              <p:cNvSpPr/>
              <p:nvPr/>
            </p:nvSpPr>
            <p:spPr>
              <a:xfrm>
                <a:off x="7059240" y="1640160"/>
                <a:ext cx="236520" cy="17460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102"/>
              <p:cNvSpPr/>
              <p:nvPr/>
            </p:nvSpPr>
            <p:spPr>
              <a:xfrm>
                <a:off x="7366320" y="1584360"/>
                <a:ext cx="880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rafeni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9" name="Rectangle 103"/>
          <p:cNvSpPr/>
          <p:nvPr/>
        </p:nvSpPr>
        <p:spPr>
          <a:xfrm>
            <a:off x="1113120" y="613080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04"/>
          <p:cNvSpPr/>
          <p:nvPr/>
        </p:nvSpPr>
        <p:spPr>
          <a:xfrm>
            <a:off x="1620720" y="6102360"/>
            <a:ext cx="25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7  45              13  67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5"/>
          <p:cNvGrpSpPr/>
          <p:nvPr/>
        </p:nvGrpSpPr>
        <p:grpSpPr>
          <a:xfrm>
            <a:off x="1785960" y="5413320"/>
            <a:ext cx="6175080" cy="520560"/>
            <a:chOff x="1785960" y="5413320"/>
            <a:chExt cx="6175080" cy="520560"/>
          </a:xfrm>
        </p:grpSpPr>
        <p:grpSp>
          <p:nvGrpSpPr>
            <p:cNvPr id="882" name="Group 106"/>
            <p:cNvGrpSpPr/>
            <p:nvPr/>
          </p:nvGrpSpPr>
          <p:grpSpPr>
            <a:xfrm>
              <a:off x="1785960" y="5413320"/>
              <a:ext cx="6175080" cy="520560"/>
              <a:chOff x="1785960" y="5413320"/>
              <a:chExt cx="6175080" cy="520560"/>
            </a:xfrm>
          </p:grpSpPr>
          <p:sp>
            <p:nvSpPr>
              <p:cNvPr id="883" name="Rectangle 107"/>
              <p:cNvSpPr/>
              <p:nvPr/>
            </p:nvSpPr>
            <p:spPr>
              <a:xfrm>
                <a:off x="1785960" y="541332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108"/>
              <p:cNvSpPr/>
              <p:nvPr/>
            </p:nvSpPr>
            <p:spPr>
              <a:xfrm>
                <a:off x="3453480" y="54133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109"/>
              <p:cNvSpPr/>
              <p:nvPr/>
            </p:nvSpPr>
            <p:spPr>
              <a:xfrm>
                <a:off x="5925960" y="5413320"/>
                <a:ext cx="183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110"/>
              <p:cNvSpPr/>
              <p:nvPr/>
            </p:nvSpPr>
            <p:spPr>
              <a:xfrm>
                <a:off x="7681320" y="54133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Rectangle 111"/>
            <p:cNvSpPr/>
            <p:nvPr/>
          </p:nvSpPr>
          <p:spPr>
            <a:xfrm>
              <a:off x="5925960" y="5413320"/>
              <a:ext cx="18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112"/>
          <p:cNvSpPr/>
          <p:nvPr/>
        </p:nvSpPr>
        <p:spPr>
          <a:xfrm>
            <a:off x="5175360" y="61293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13"/>
          <p:cNvSpPr/>
          <p:nvPr/>
        </p:nvSpPr>
        <p:spPr>
          <a:xfrm>
            <a:off x="5519880" y="6089760"/>
            <a:ext cx="31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Arial"/>
              </a:rPr>
              <a:t>9  43                 18  62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14"/>
          <p:cNvSpPr/>
          <p:nvPr/>
        </p:nvSpPr>
        <p:spPr>
          <a:xfrm>
            <a:off x="1463760" y="2322360"/>
            <a:ext cx="71892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15"/>
          <p:cNvSpPr/>
          <p:nvPr/>
        </p:nvSpPr>
        <p:spPr>
          <a:xfrm>
            <a:off x="3095640" y="4371840"/>
            <a:ext cx="71928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16"/>
          <p:cNvSpPr/>
          <p:nvPr/>
        </p:nvSpPr>
        <p:spPr>
          <a:xfrm>
            <a:off x="5477040" y="4438800"/>
            <a:ext cx="71892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17"/>
          <p:cNvSpPr/>
          <p:nvPr/>
        </p:nvSpPr>
        <p:spPr>
          <a:xfrm>
            <a:off x="7323120" y="2602080"/>
            <a:ext cx="719280" cy="623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18"/>
          <p:cNvSpPr/>
          <p:nvPr/>
        </p:nvSpPr>
        <p:spPr>
          <a:xfrm>
            <a:off x="4883040" y="6535800"/>
            <a:ext cx="42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S Kim et al.  AACR 2010, Plenary Session LBA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35080" y="353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vel Therapies in Lung Canc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scale randomized trial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ed to assess bio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 targeted therapies will fail unless appropriate target or population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modulation in a particular patient may be needed to assess effic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vel Therap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paclitax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G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-type or KRAS mu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8404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rafeni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logic Rationale for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Paclitax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254160" y="1092240"/>
            <a:ext cx="85849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olvent polyoxyethylated castor oil (cremophor) decreases efficacy and contributes to the toxicities observed with paclitaxel including hypersensitivity reactions and neuropa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noparticle albumin-boun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 paclitaxel has been shown to be more efficacious than solvent-based paclitaxel in breast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P leverages the gp60 / caveolin-1 / SPARC transcytosis pathway to establish a portal to the tumor microenvironment resulting in high intra-tumoral drug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expression of caveolin-1 and SPARC occurs in NSCLC and is associated with poor pro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3" name="Straight Arrow Connector 8"/>
          <p:cNvCxnSpPr/>
          <p:nvPr/>
        </p:nvCxnSpPr>
        <p:spPr>
          <a:xfrm flipV="1">
            <a:off x="3682800" y="2768400"/>
            <a:ext cx="635400" cy="280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4" name="Straight Arrow Connector 10"/>
          <p:cNvCxnSpPr/>
          <p:nvPr/>
        </p:nvCxnSpPr>
        <p:spPr>
          <a:xfrm>
            <a:off x="3683160" y="3580920"/>
            <a:ext cx="660600" cy="229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5" name="TextBox 11"/>
          <p:cNvSpPr/>
          <p:nvPr/>
        </p:nvSpPr>
        <p:spPr>
          <a:xfrm>
            <a:off x="0" y="10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P/C vs P/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Straight Arrow Connector 8"/>
          <p:cNvCxnSpPr/>
          <p:nvPr/>
        </p:nvCxnSpPr>
        <p:spPr>
          <a:xfrm>
            <a:off x="2463840" y="3276720"/>
            <a:ext cx="53424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7" name="AutoShape 13"/>
          <p:cNvSpPr/>
          <p:nvPr/>
        </p:nvSpPr>
        <p:spPr>
          <a:xfrm>
            <a:off x="254160" y="2362320"/>
            <a:ext cx="2166840" cy="1901880"/>
          </a:xfrm>
          <a:prstGeom prst="roundRect">
            <a:avLst>
              <a:gd name="adj" fmla="val 9963"/>
            </a:avLst>
          </a:pr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emo-na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 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IIIb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,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482760" y="4495680"/>
            <a:ext cx="4495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>
            <a:off x="4470480" y="1600200"/>
            <a:ext cx="4343400" cy="1752480"/>
          </a:xfrm>
          <a:prstGeom prst="roundRect">
            <a:avLst>
              <a:gd name="adj" fmla="val 9963"/>
            </a:avLst>
          </a:prstGeom>
          <a:solidFill>
            <a:srgbClr val="00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a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Paclitaxel 100 mg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1, 8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platin AUC 6 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Pre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2997360" y="3048120"/>
            <a:ext cx="685800" cy="457200"/>
          </a:xfrm>
          <a:prstGeom prst="roundRect">
            <a:avLst>
              <a:gd name="adj" fmla="val 996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3"/>
          <p:cNvSpPr/>
          <p:nvPr/>
        </p:nvSpPr>
        <p:spPr>
          <a:xfrm>
            <a:off x="4470480" y="3581280"/>
            <a:ext cx="4343400" cy="2006640"/>
          </a:xfrm>
          <a:prstGeom prst="roundRect">
            <a:avLst>
              <a:gd name="adj" fmla="val 9963"/>
            </a:avLst>
          </a:prstGeom>
          <a:solidFill>
            <a:srgbClr val="ccff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platin AUC 6 d1 With Premedication of Dexamethasone + Antihistam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5307120" y="6428520"/>
            <a:ext cx="36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1"/>
          <p:cNvSpPr/>
          <p:nvPr/>
        </p:nvSpPr>
        <p:spPr>
          <a:xfrm>
            <a:off x="0" y="419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tudy End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673200" y="142236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imary end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 response rate b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ependent radiologic review based 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8556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+ partial response (CR, 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econdary end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sion-free and overall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ease control rate: CR + PR + stable disease (SD) ≥1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fety (NCI CTCAE v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Chart 1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516720" cy="41655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8"/>
          <p:cNvSpPr/>
          <p:nvPr/>
        </p:nvSpPr>
        <p:spPr>
          <a:xfrm>
            <a:off x="7120080" y="2565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P/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228600" y="152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rimary Endpoin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jective Responses – All His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5"/>
          <p:cNvSpPr/>
          <p:nvPr/>
        </p:nvSpPr>
        <p:spPr>
          <a:xfrm>
            <a:off x="1981080" y="16765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ponse Ratio = 1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1.082 – 1.59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= 0.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7"/>
          <p:cNvSpPr/>
          <p:nvPr/>
        </p:nvSpPr>
        <p:spPr>
          <a:xfrm rot="10800000">
            <a:off x="833400" y="2906640"/>
            <a:ext cx="48528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c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3973680" y="6446160"/>
            <a:ext cx="50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permission from 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7034040" y="2712960"/>
            <a:ext cx="123840" cy="123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Chart 1"/>
          <p:cNvGraphicFramePr/>
          <p:nvPr/>
        </p:nvGraphicFramePr>
        <p:xfrm>
          <a:off x="592200" y="1959120"/>
          <a:ext cx="849636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59120"/>
                    <a:ext cx="849636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3"/>
          <p:cNvSpPr/>
          <p:nvPr/>
        </p:nvSpPr>
        <p:spPr>
          <a:xfrm rot="10800000">
            <a:off x="-6480" y="2770560"/>
            <a:ext cx="48528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rcent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bjective Responses by Histology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1600200" y="10238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"/>
          <p:cNvSpPr/>
          <p:nvPr/>
        </p:nvSpPr>
        <p:spPr>
          <a:xfrm>
            <a:off x="5410080" y="1023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nsquam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685800" y="170964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&lt; 0.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12"/>
          <p:cNvSpPr/>
          <p:nvPr/>
        </p:nvSpPr>
        <p:spPr>
          <a:xfrm>
            <a:off x="2514600" y="1709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0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4648320" y="170964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8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4"/>
          <p:cNvSpPr/>
          <p:nvPr/>
        </p:nvSpPr>
        <p:spPr>
          <a:xfrm>
            <a:off x="6248520" y="170964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= 0.0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1295280" y="620568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2666880" y="6205680"/>
            <a:ext cx="152640" cy="15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160236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289800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5"/>
          <p:cNvSpPr/>
          <p:nvPr/>
        </p:nvSpPr>
        <p:spPr>
          <a:xfrm>
            <a:off x="5181480" y="620568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6"/>
          <p:cNvSpPr/>
          <p:nvPr/>
        </p:nvSpPr>
        <p:spPr>
          <a:xfrm>
            <a:off x="6553080" y="6205680"/>
            <a:ext cx="152640" cy="15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549036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785640" y="612936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 = 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0" y="63723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* Not a pre-specified end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4164120" y="6447600"/>
            <a:ext cx="48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permission from Socinski et al. ASCO 2010 Abs #LBA7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7840800" y="2219400"/>
            <a:ext cx="155520" cy="155520"/>
          </a:xfrm>
          <a:prstGeom prst="rect">
            <a:avLst/>
          </a:prstGeom>
          <a:solidFill>
            <a:srgbClr val="ffffcb"/>
          </a:solidFill>
          <a:ln w="0">
            <a:noFill/>
          </a:ln>
          <a:effectLst>
            <a:outerShdw dist="17819" dir="2700000" blurRad="0" rotWithShape="0">
              <a:srgbClr val="9999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7840800" y="2506680"/>
            <a:ext cx="155520" cy="155520"/>
          </a:xfrm>
          <a:prstGeom prst="rect">
            <a:avLst/>
          </a:prstGeom>
          <a:solidFill>
            <a:srgbClr val="9bccff"/>
          </a:solidFill>
          <a:ln w="0">
            <a:noFill/>
          </a:ln>
          <a:effectLst>
            <a:outerShdw dist="17819" dir="2700000" blurRad="0" rotWithShape="0">
              <a:srgbClr val="5d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983360" y="2120760"/>
            <a:ext cx="906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P/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7983360" y="2408400"/>
            <a:ext cx="906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3"/>
          <p:cNvSpPr/>
          <p:nvPr/>
        </p:nvSpPr>
        <p:spPr>
          <a:xfrm>
            <a:off x="911160" y="2317680"/>
            <a:ext cx="802800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rmal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.9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6/122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3%  (4/12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quamous Cell Carcino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7.2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(34/39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2.1%  (32/3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enocarcinom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6.1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(35/46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3.9%  (34/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mall Cell Carcinoma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3/3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3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rge Cell Carcinoma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4/4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0.0%  (4/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400"/>
              </a:spcBef>
              <a:tabLst>
                <a:tab algn="l" pos="0"/>
                <a:tab algn="r" pos="2862360"/>
                <a:tab algn="l" pos="2971800"/>
                <a:tab algn="r" pos="4173480"/>
                <a:tab algn="l" pos="4284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3929400" y="178128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&gt;90% U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542640" y="178128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ＭＳ Ｐゴシック"/>
              </a:rPr>
              <a:t>&gt;95% U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4880" y="358560"/>
            <a:ext cx="8344080" cy="113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P1 Upregulation in Lung Canc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728640" y="2122560"/>
            <a:ext cx="79786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40840" y="617040"/>
            <a:ext cx="800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LIPSE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NSCLC Study Desig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42"/>
          <p:cNvSpPr/>
          <p:nvPr/>
        </p:nvSpPr>
        <p:spPr>
          <a:xfrm>
            <a:off x="5603760" y="1374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3"/>
          <p:cNvSpPr/>
          <p:nvPr/>
        </p:nvSpPr>
        <p:spPr>
          <a:xfrm>
            <a:off x="5643360" y="1374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86"/>
          <p:cNvSpPr/>
          <p:nvPr/>
        </p:nvSpPr>
        <p:spPr>
          <a:xfrm>
            <a:off x="3765600" y="3767040"/>
            <a:ext cx="623880" cy="685800"/>
          </a:xfrm>
          <a:prstGeom prst="rightArrow">
            <a:avLst>
              <a:gd name="adj1" fmla="val 56148"/>
              <a:gd name="adj2" fmla="val 39694"/>
            </a:avLst>
          </a:prstGeom>
          <a:solidFill>
            <a:srgbClr val="00ff00"/>
          </a:solidFill>
          <a:ln w="15840">
            <a:solidFill>
              <a:srgbClr val="008000"/>
            </a:solidFill>
            <a:miter/>
          </a:ln>
          <a:effectLst>
            <a:outerShdw dist="17819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87"/>
          <p:cNvSpPr/>
          <p:nvPr/>
        </p:nvSpPr>
        <p:spPr>
          <a:xfrm>
            <a:off x="3773520" y="2322360"/>
            <a:ext cx="623880" cy="685800"/>
          </a:xfrm>
          <a:prstGeom prst="rightArrow">
            <a:avLst>
              <a:gd name="adj1" fmla="val 56148"/>
              <a:gd name="adj2" fmla="val 39694"/>
            </a:avLst>
          </a:prstGeom>
          <a:solidFill>
            <a:srgbClr val="00ff00"/>
          </a:solidFill>
          <a:ln w="15840">
            <a:solidFill>
              <a:srgbClr val="008000"/>
            </a:solidFill>
            <a:miter/>
          </a:ln>
          <a:effectLst>
            <a:outerShdw dist="17819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4605480" y="2025720"/>
            <a:ext cx="4116240" cy="120276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00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 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5 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SI201 5.6 mg/kg D 4,8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4649760" y="3811680"/>
            <a:ext cx="4116240" cy="78552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00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mcitabine 10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D 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5 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3030480" y="22287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2"/>
          <p:cNvSpPr/>
          <p:nvPr/>
        </p:nvSpPr>
        <p:spPr>
          <a:xfrm>
            <a:off x="384120" y="2598840"/>
            <a:ext cx="2322720" cy="11289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operable locally adv/ metastatic d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quam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01:19:19Z</dcterms:created>
  <dc:creator>Research To Practice</dc:creator>
  <dc:description/>
  <cp:keywords/>
  <dc:language>en-US</dc:language>
  <cp:lastModifiedBy>Mac Pro E703803Y4PC</cp:lastModifiedBy>
  <dcterms:modified xsi:type="dcterms:W3CDTF">2011-05-11T18:05:16Z</dcterms:modified>
  <cp:revision>363</cp:revision>
  <dc:subject/>
  <dc:title>PowerPoint Presentation</dc:title>
</cp:coreProperties>
</file>