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FB8-E6AB-4578-A66B-B41F5EB0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3DB2-62D2-4E0A-8FDE-707F40583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DA5-3BF0-4218-A5CC-C160DF2B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30B-6DFA-4A59-8DAB-5F3C1551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8CC8-CF9D-42E3-AB8A-4C710A8AF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46C-28C5-4A0C-8DD5-6437E00D9F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81C-3FE5-4ED1-B061-875C660B8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0C5-9CD2-4D95-812D-34E2ACE20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E43-CC6B-4FD0-8013-64A1BA56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571D-2BF4-4B6E-8279-9A6851E6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2BD4-AB98-4069-B344-557F4192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F7A-F808-4F74-9D81-721C8864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4F8-ED66-48FE-9854-C40E60B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C5B-1055-482E-9556-9494ECFC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140-6DF9-472E-B5AF-83BD03E9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842A-787C-466A-8732-48B0F9B9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C27-5625-4C96-A472-73C08EB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14C0-ACC7-40D3-A352-78FEA69A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779F-F117-483A-B462-339DE48C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591B-BA4C-475E-A260-3185BD1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21D-2F9E-468B-8EDE-14DD114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583A-AD28-40E1-8734-05ED83A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DAD-FF5E-405E-84AB-4C6FDA5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49E8-B658-40B6-BF38-A864670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511-3E1F-4BB4-AFE4-2D788D4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7B7-7D72-4E1B-9967-378A62A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FBDB-43FB-45FC-A948-DEE6BBA4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B31-CA89-45A6-8492-717AB7E6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218D-BE0A-493E-B1BF-0CD6F29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1789F-F0DD-453C-AC4F-403D16EA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E319-8728-456B-B937-B6DDC843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98B1-56C2-4671-BF48-1B7245EB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762D-0674-4E20-9806-7ABFC484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553-227F-464B-B8BC-1FE98BDA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BD72-0B2D-46F0-A5EC-2D8B70D2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E17C-1B68-4BB4-A52F-C33ABDF2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AB8A-3790-46E8-A61F-0DC9CAF0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306D-36F9-4489-A4F1-C972C0F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F3D7-89F5-4D7B-8F31-2F891C3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0A7B-49A0-4558-AEB1-8DD093F9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48D7-15CC-4C5E-B29A-AE28DD88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915-05F5-43DC-9916-6E55E69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E76-702C-4004-A56C-0CD469B7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BA2-5D44-4C1E-8331-6A757A7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568-5FAA-4072-9530-28DE536C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B08-5B4A-43EF-A9A2-2354BA6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27-935E-467C-A001-12B9491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75B-B7DB-423E-A2E7-C382A1D09F8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73F-519B-4944-8C94-CBEFD44AC6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A13-021E-47D4-AC12-4A40C8FAF62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7C4-1C05-41FF-B732-1E4D7750EE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FAA-7600-4283-9BC1-DE41CC912F9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075F-3989-4B7B-B8E3-BA11D6CD90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lter J Curran J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ole of Consolidation RT for Extensive- Stage Small Cell Lung Cancer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OG 0937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andomized Phase II Study Comparing PCI vs PCI and Consolidative Extra-Cranial RT for ED-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T (4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:  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"/>
          <p:cNvSpPr/>
          <p:nvPr/>
        </p:nvSpPr>
        <p:spPr>
          <a:xfrm>
            <a:off x="5029200" y="243828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 flipH="1">
            <a:off x="2285640" y="2514600"/>
            <a:ext cx="762120" cy="83808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Agre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, 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chest and/o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gree,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 to the c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/or the brain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228600"/>
            <a:ext cx="758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RTC 08993-22993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 Trial of PCI in E-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804000" y="1773360"/>
            <a:ext cx="1979640" cy="122400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30 G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2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6804000" y="3357720"/>
            <a:ext cx="1979640" cy="107928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076720" y="2744640"/>
            <a:ext cx="1322640" cy="792360"/>
          </a:xfrm>
          <a:prstGeom prst="flowChartDecision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7"/>
          <p:cNvCxnSpPr>
            <a:endCxn id="142" idx="1"/>
          </p:cNvCxnSpPr>
          <p:nvPr/>
        </p:nvCxnSpPr>
        <p:spPr>
          <a:xfrm flipV="1">
            <a:off x="6399360" y="2385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"/>
          <p:cNvCxnSpPr>
            <a:endCxn id="143" idx="1"/>
          </p:cNvCxnSpPr>
          <p:nvPr/>
        </p:nvCxnSpPr>
        <p:spPr>
          <a:xfrm>
            <a:off x="6399360" y="3141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AutoShape 10"/>
          <p:cNvSpPr/>
          <p:nvPr/>
        </p:nvSpPr>
        <p:spPr>
          <a:xfrm>
            <a:off x="3117960" y="2960640"/>
            <a:ext cx="1682640" cy="397080"/>
          </a:xfrm>
          <a:prstGeom prst="flowChartTerminator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1"/>
          <p:cNvCxnSpPr>
            <a:stCxn id="147" idx="3"/>
          </p:cNvCxnSpPr>
          <p:nvPr/>
        </p:nvCxnSpPr>
        <p:spPr>
          <a:xfrm flipV="1">
            <a:off x="4800240" y="3141360"/>
            <a:ext cx="361080" cy="1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12"/>
          <p:cNvCxnSpPr>
            <a:stCxn id="150" idx="3"/>
            <a:endCxn id="147" idx="1"/>
          </p:cNvCxnSpPr>
          <p:nvPr/>
        </p:nvCxnSpPr>
        <p:spPr>
          <a:xfrm>
            <a:off x="2592360" y="2850840"/>
            <a:ext cx="526320" cy="30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Text Box 13"/>
          <p:cNvSpPr/>
          <p:nvPr/>
        </p:nvSpPr>
        <p:spPr>
          <a:xfrm>
            <a:off x="469440" y="547380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: Performance score and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56000" y="382428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700360" y="3824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2556000" y="4400640"/>
            <a:ext cx="42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700360" y="44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2895480" y="2286000"/>
            <a:ext cx="1970280" cy="38736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No 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8"/>
          <p:cNvCxnSpPr>
            <a:stCxn id="150" idx="3"/>
            <a:endCxn id="156" idx="1"/>
          </p:cNvCxnSpPr>
          <p:nvPr/>
        </p:nvCxnSpPr>
        <p:spPr>
          <a:xfrm flipV="1">
            <a:off x="2592360" y="2479320"/>
            <a:ext cx="30384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29"/>
          <p:cNvSpPr/>
          <p:nvPr/>
        </p:nvSpPr>
        <p:spPr>
          <a:xfrm>
            <a:off x="395280" y="2239920"/>
            <a:ext cx="2197080" cy="122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(4-6 cycl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3635280" y="2097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3564000" y="2096640"/>
            <a:ext cx="718920" cy="7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45720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62"/>
          <p:cNvSpPr/>
          <p:nvPr/>
        </p:nvSpPr>
        <p:spPr>
          <a:xfrm>
            <a:off x="4572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Symptomat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Metast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80880" y="1676520"/>
            <a:ext cx="83822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irradiation gro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4.4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14.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control group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32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40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zard ratio for irradiation group: 0.27 (95% CI 0.16 - 0.44)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&lt; 0.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85"/>
          <p:cNvSpPr/>
          <p:nvPr/>
        </p:nvSpPr>
        <p:spPr>
          <a:xfrm>
            <a:off x="15228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Survival by Assigned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80880" y="1676520"/>
            <a:ext cx="8382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dian overall survival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6.7 mos vs 5.4 mo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0.003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zard ratio for irradiation group: 0.68 (95% CI 0.52 - 0.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rvival rate at 1 year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27.1% vs 1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ized Version of this Dat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 and PCI: My Opinion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-SCLC Patient with CR or Near-CR to 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MR of Brain Pre- and Post-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gnificant Neuro-Cognitiv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: 25 Gy in ten 2.5 Gy f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OLIDATIVE THORACIC RT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ith Timing of RT—Awfully Lat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for Pts with Oligometastatic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with Hemi-Body RT (Bonner et 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n the Setting of a Clinical Trial (Ho H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06440">
              <a:lnSpc>
                <a:spcPct val="6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 it or not, there is on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-ANALYSIS OF  TRT TIMING 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d et al. Lung Cancer 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24280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 Trials Published since 1985:  1524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te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R of Early vs Late 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2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0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1f497d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5.2% Higher 2-Yr Survival Rate with Early 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2-10T20:29:23Z</cp:lastPrinted>
  <dcterms:modified xsi:type="dcterms:W3CDTF">2011-05-16T11:35:29Z</dcterms:modified>
  <cp:revision>1086</cp:revision>
  <dc:subject/>
  <dc:title>PowerPoint Presentation</dc:title>
</cp:coreProperties>
</file>