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711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dt" idx="33"/>
          </p:nvPr>
        </p:nvSpPr>
        <p:spPr>
          <a:xfrm>
            <a:off x="40287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61A7-D193-4C23-AFF8-028D76A3A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Img"/>
          </p:nvPr>
        </p:nvSpPr>
        <p:spPr>
          <a:xfrm>
            <a:off x="120600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ftr" idx="34"/>
          </p:nvPr>
        </p:nvSpPr>
        <p:spPr>
          <a:xfrm>
            <a:off x="-3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 type="sldNum" idx="35"/>
          </p:nvPr>
        </p:nvSpPr>
        <p:spPr>
          <a:xfrm>
            <a:off x="40287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5220-84BA-4FA4-9FAF-0F8AF54B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9" name="Slide Number Placeholder 3"/>
          <p:cNvSpPr/>
          <p:nvPr/>
        </p:nvSpPr>
        <p:spPr>
          <a:xfrm>
            <a:off x="4029120" y="8926560"/>
            <a:ext cx="3081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fld id="{D56DB13B-1A7A-4C4D-95F1-4D326B2AF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5FDB85-789F-4B32-804B-F9D576DF4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5283E0-86C5-46BC-A55B-D70783FDB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694400" cy="35211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27320" y="8926560"/>
            <a:ext cx="3083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48F25C5-ADA1-4539-94F5-25B07DF3FA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831960" y="4376880"/>
            <a:ext cx="5332320" cy="4232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8E13-E85A-484E-B6DF-C3A8DF630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BE7F-4842-4747-BC45-DD7CEBC072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72D2B0-61C6-4B76-A837-FDFE81D3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DD83E-59B8-42E4-9A81-E8258BA4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96162-FF24-4395-9E7F-FA51A9A7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42B38-3269-429A-A84C-6DB0650A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71633-DDF8-44F4-A1DE-AB9D03A3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4D6CD-7756-4174-A95F-4030B9F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E7579-E500-4FA7-A467-0BBA94A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2BD59-3CB9-4936-B680-E36387E8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A4259-45D9-429A-9C23-799F742A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D9E78-043A-47BC-BCFE-F331546B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E369-06A9-4A11-8473-46E7FD6CAB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99B6D8-AD6E-4535-875A-E28B60A9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B4A5D6-66D8-4576-92DA-A47E5B4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59B9D-1C65-40A4-9527-B43D317D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A48988-B0D3-4C39-9803-20F4458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545DC-244E-4B5D-BAEE-84CDC29C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496A08-6D74-4274-9B08-979EF25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680C33-1F79-4B0D-9E1D-DD849B7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075CCB-805C-4CCE-8BF0-E7C88E64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E10290-464E-4F1A-8B52-ADC52E77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43938E-0918-455A-A8F7-1200C56C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4443-F1C0-40FB-BB9A-C6148697F45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6EB30-33C4-48A2-BE9A-2E648F7B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414850-1DA6-42BD-B82B-56F811ED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3AE409-11BD-4FAE-B79D-77EF8788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B8E5E9-1043-4F43-9FAE-059867E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FD6A8E-E941-4FE8-AB0E-841F9F71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AC6975-32CC-472F-9F4D-E6F38F6E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DD000E-DE90-40F0-ABE0-FCB9931B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CCA2CB-092E-4F58-BF7A-869EA48B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F31444-F7EE-4843-B529-C9125AD6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ED01BC-0C1A-4ADB-80C0-0396E0DE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87FE5-19F6-4362-9404-B9F1FDDB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00B276-05C6-40CC-BE49-40106671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F3B8FE-5435-4CF4-ABC4-3E3BAF1A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D6A29F-6F7D-4C3B-A604-8120E635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7040D0-489E-4027-9791-9EFB7D7B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CA5633-539F-4DF0-B0AC-A541B9D2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571FD6-8571-4B28-9E4D-B1FB49B0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C5D5D0-EC67-4AE6-BADB-85869651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76D6A3-DD69-41E6-8D68-DB8C4FD8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46A15B-0109-406D-93A0-7F7497E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0E4D73-F548-43C0-B9D7-552D08F0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63FEE-1E39-4E21-9279-68647F0E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EBCF04-6D85-4CC6-BD4B-CD4751B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71A428-5574-449B-B78A-A9F1616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F28E1-0690-4212-BFED-E139D3CF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9EAD74-F81F-49C7-9221-A1FDB826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336410-BC1E-4903-BE62-BE7D4C4D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D6211-1782-411F-927A-FDDED960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E9547-30C6-47BA-A0E7-DCC9C89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B50A5-ADA5-4EBB-BE31-5159CC3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1B718-8DD2-45B2-AF7F-4C8EB00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3BFC0-37E0-491B-987B-E1C3265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B16F-B56B-42C8-B4CE-C04247F13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63240-D471-474B-8AAB-471A2BA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D957F-A06C-49F0-AEBD-91E5CEE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1D5AF-37EB-4531-8F77-9EFB1BC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711B9-C1A5-480B-947A-ED8F8D42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7C604-C0C6-4E5A-872E-72073FB3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463-2E52-4C7F-B0A1-C75B3482E3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C813-7AA8-4041-821B-F17B2BF44D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9470-AD89-4E9F-8841-BC8D4962E0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C68B-6D69-4EC4-B61F-06840AAF2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60A-A47A-4F3A-9C1A-B0229E813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CE1E-3642-43DA-A13A-4FEF2BFF3F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B50-76F6-41AC-8C79-4F6FA019E3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C226-3511-4BCC-85D5-9CE0FFCC22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8C2-B351-42EF-8F1F-8B0FC02A5C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1CBD-177B-4D7C-BB3F-DB1A929190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BEE3-4723-4358-B933-4E6512412A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B565-D95D-400C-9BD8-5B38B41E50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C181-7E83-4FF7-86A3-7215730332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AC2F-2626-41D6-82C2-78BFF7ED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0804-955D-4172-99FA-90EABA02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3B755-30E6-4C87-9CE9-4E39F904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E1B5-B6FD-4228-9FD8-2D5A98E240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D331-AA3E-4D74-93F7-8FF7C43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66EF-79D3-4BD2-8421-549BCD3E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C346-58FF-44CA-ADF0-7F592319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E3ED-0063-4EBC-BB86-5C280850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4C96-4876-4BA1-97FB-15EF2E9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5553-0649-483B-ABBF-591EC4E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0E59-5D66-4E76-BC01-5A57686B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2F5C0-B7C1-443B-A3D9-9054E322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9234-F9E2-44C7-8090-98B85547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908A-49F1-43EA-92F2-396A6E40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C981-BE16-4251-9DF4-FF53A500FC4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F1CA-92EC-4BAA-AA63-87CA1933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01FD-79BF-4F4C-9891-33207222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C46C7-3F83-4284-9231-97FFAF40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3F53-9469-4B3F-8D7F-A6B850C2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ABDA-18B1-4BE9-B47F-23449B5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72203-D151-4767-88E4-5E958B7B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0C7FE-D6CC-47EF-9B7F-91672BE9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5D18-CA67-474F-A489-F6ACED89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F805-3301-4D76-A564-56607FD9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FCA8-9A9B-4308-8A1F-444F4D69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1D4C-1E8A-46DC-BFA4-31378F6A5C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2E30-ED4F-4E9E-A76F-5EE127E5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08224-B824-493D-B4DE-6CF318DA198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719BB-BB9B-46F4-A9A2-DB2AB20047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D1E324-8436-41D8-B26B-66611C19B3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4687E-B4FA-40FA-8ED9-E95EA2D55E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882191-9AA1-405B-83F3-247A1D77E4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640E6-E669-425D-B74E-354ABDAB2F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E3A97A-52E6-42FD-A29B-EC9ADAC006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2BC44-178C-4849-B352-51067B4B012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3B0EED-BD32-48C6-9573-1C4C763C1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863A-0B1C-446E-B42C-B84B477EC1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C50198-F13E-49A4-A10D-5BB59D885E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F7845-2087-4FD5-812B-FCCCEA02FE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D59785-364A-4D82-BB2E-211789A082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0C61E-D088-472F-8153-026DEBD9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BF80C-0CBF-49A7-953F-90D914EE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8B421-6C84-422B-BFDA-0A5830C6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15455-F6FF-4793-BC7F-C40592D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92DE6-E20C-42D5-A790-0FCE6CF1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43F09-FBC1-4381-A0AB-482633D4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27A80-3E2E-49F7-860D-79F31FCB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5BC6-6430-4DF1-A669-ADB9EF23E0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9FDAC-2BA3-4974-861D-88975AF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1A142-7304-4574-A88E-21F6747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442B1-44DF-4F91-B5AA-34EAA48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AB054-0E1A-41FA-84B5-C7EA0AF6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78916-9348-4FB7-A88F-BB457D27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5AE7C-A3BB-44B5-98A5-EE61D1F1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2CD61-183C-4B30-B3BD-A72C5EF0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67F4C-7A82-44E9-82DA-D412F6D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73630-341E-4DE7-BAEA-2E307CB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B4C43-CEA6-489D-BF98-CE787ED3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CFB9-7463-49E9-9AD9-190FCB9C62C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FFE85-4988-4309-8927-BA5DDF7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F6696-C700-4C8A-839E-3478238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4E69A-6D9C-4D6F-9869-097472F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9F9CB-0CAB-4B6D-B3A7-A44A14A2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39EC6-788E-4FE1-99D0-286A2F6F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BFC15B-2406-41A8-9AE5-884C2C14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D2B2A-CB89-4EDB-BE77-F5131A60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C0618-74C0-4821-B1F0-80952ABB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BEEC43-24EA-4AA1-9893-15B89B9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C4D2D0-3E84-4721-AB9B-5F8CC4EF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5B7-85D2-4916-87B7-8B70D64BF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64C-6698-4992-AB64-BF1DBB1252A7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6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7CE-CEEA-4566-934E-E96BE881E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2F8E-BAEC-4363-A13E-6B19C0956344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28CF-653B-49D2-A2FE-E6DB81749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8BAA-8371-4141-ADD8-F8215F42CBB5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128B-79AA-45FD-B5C2-308D7AC97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1" descr="Nsclc_GR_title slideUSE THIS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3A07-1BE3-494C-AF70-4BD290E7225B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2D52-A606-42FB-BA01-6B93002B6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729-79E8-44A2-91A6-323EC686F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578-B335-409C-8C99-40579F9A2A1A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A39D-FADF-42FB-AD8B-2DA61B248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3A2-4F06-4FCA-B8EF-0425C0699D1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366F-CB91-42B3-BD49-99D33806A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3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D010-D8A0-4FC2-8483-CBE396E9B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156B-B566-495F-8C11-292D15C0FED8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7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4E5-F2EA-4ABA-95FC-C264C7EA8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E5AF-6F9A-48FD-825F-6CBB9FABAD4F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0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152-CE32-4B71-9BFE-41808E0ED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5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3ED-0899-4DA8-AD16-72B836B9F6CE}" type="datetime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3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74B7-4420-4CED-9558-E9FD03329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en/2/21/Mdanderson_logo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aerials-2006-010"/>
          <p:cNvPicPr/>
          <p:nvPr/>
        </p:nvPicPr>
        <p:blipFill>
          <a:blip r:embed="rId1"/>
          <a:srcRect l="0" t="4981" r="0" b="6444"/>
          <a:stretch/>
        </p:blipFill>
        <p:spPr>
          <a:xfrm>
            <a:off x="182520" y="4446720"/>
            <a:ext cx="5405400" cy="2278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675" name="Rectangle 3"/>
          <p:cNvSpPr/>
          <p:nvPr/>
        </p:nvSpPr>
        <p:spPr>
          <a:xfrm>
            <a:off x="74520" y="181080"/>
            <a:ext cx="9018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ationale for Targeting c-MET in Lung Cancer:  The BATTL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4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" descr="File:Mdanderson 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8360" y="4770360"/>
            <a:ext cx="3251520" cy="169092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7"/>
          <p:cNvSpPr/>
          <p:nvPr/>
        </p:nvSpPr>
        <p:spPr>
          <a:xfrm>
            <a:off x="1293840" y="2111400"/>
            <a:ext cx="6648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ward S. Kim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ociate Professor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, Clinical Research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ief, Section of Head and Neck Medical Oncology Dept. Thoracic/Head and Neck Med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PFS and OS i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n-Squamous Cell Histology Patients (n=117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Text Box 90"/>
          <p:cNvSpPr/>
          <p:nvPr/>
        </p:nvSpPr>
        <p:spPr>
          <a:xfrm>
            <a:off x="114480" y="641628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PFS (Investigator Asses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ARQ 197 (n=58) — 18.9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placebo (n=59) — 9.7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zard ratio = 0.71 (95% CI 0.46 - 1.10)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ed HR = 0.61 (95% CI 0.47 - 0.98)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ARQ 197 (n=58) — 43.1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rlotinib + placebo (n=59) — 29.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zard ratio=0.72 (95% CI 0.60 - 1.30)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=0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justed HR=0.58 (95% CI 0.34 - 0.99)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4600" y="6045120"/>
            <a:ext cx="6769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Cox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145"/>
          <p:cNvSpPr/>
          <p:nvPr/>
        </p:nvSpPr>
        <p:spPr>
          <a:xfrm>
            <a:off x="196920" y="1523880"/>
            <a:ext cx="8883720" cy="48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0200"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Rationale for targeting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is amplified, mutated, overexpressed in many tum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expression is associated with a worse prognosis in many cancers including NSC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t activation is implicated in resistance to erlotinib/gefitinib in pts with activating EGFR mu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8120" indent="-160200"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tMAb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ne-armed format designed to prevent HGF-mediated stimulation of pathw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-163440">
              <a:lnSpc>
                <a:spcPct val="100000"/>
              </a:lnSpc>
              <a:spcAft>
                <a:spcPts val="499"/>
              </a:spcAft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eclinical activity across multiple tumor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49200" y="209520"/>
            <a:ext cx="861048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etMAb is an Anti-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Met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novalen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ti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ＭＳ Ｐゴシック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dy that Inhibits HGF-Mediated Acti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Box 153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53"/>
          <p:cNvGrpSpPr/>
          <p:nvPr/>
        </p:nvGrpSpPr>
        <p:grpSpPr>
          <a:xfrm>
            <a:off x="5349240" y="3268800"/>
            <a:ext cx="810000" cy="711360"/>
            <a:chOff x="5349240" y="3268800"/>
            <a:chExt cx="810000" cy="711360"/>
          </a:xfrm>
        </p:grpSpPr>
        <p:sp>
          <p:nvSpPr>
            <p:cNvPr id="769" name="AutoShape 54"/>
            <p:cNvSpPr/>
            <p:nvPr/>
          </p:nvSpPr>
          <p:spPr>
            <a:xfrm flipV="1" rot="18306000">
              <a:off x="5649480" y="3548520"/>
              <a:ext cx="496800" cy="289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5"/>
            <p:cNvSpPr/>
            <p:nvPr/>
          </p:nvSpPr>
          <p:spPr>
            <a:xfrm flipV="1" rot="2106000">
              <a:off x="5361120" y="3384720"/>
              <a:ext cx="464760" cy="18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52"/>
          <p:cNvGrpSpPr/>
          <p:nvPr/>
        </p:nvGrpSpPr>
        <p:grpSpPr>
          <a:xfrm>
            <a:off x="5363640" y="1591920"/>
            <a:ext cx="810000" cy="711360"/>
            <a:chOff x="5363640" y="1591920"/>
            <a:chExt cx="810000" cy="711360"/>
          </a:xfrm>
        </p:grpSpPr>
        <p:sp>
          <p:nvSpPr>
            <p:cNvPr id="772" name="AutoShape 50"/>
            <p:cNvSpPr/>
            <p:nvPr/>
          </p:nvSpPr>
          <p:spPr>
            <a:xfrm rot="3294000">
              <a:off x="5663880" y="1733760"/>
              <a:ext cx="496800" cy="288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51"/>
            <p:cNvSpPr/>
            <p:nvPr/>
          </p:nvSpPr>
          <p:spPr>
            <a:xfrm rot="19494000">
              <a:off x="5375520" y="1998000"/>
              <a:ext cx="464760" cy="188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12"/>
          <p:cNvSpPr/>
          <p:nvPr/>
        </p:nvSpPr>
        <p:spPr>
          <a:xfrm>
            <a:off x="6078600" y="1590840"/>
            <a:ext cx="2684520" cy="10047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lotinib (150 qd-oral) + MetMAb (15 mg/kg IV q3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4"/>
          <p:cNvSpPr/>
          <p:nvPr/>
        </p:nvSpPr>
        <p:spPr>
          <a:xfrm>
            <a:off x="6713640" y="5295960"/>
            <a:ext cx="1334880" cy="5806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ition of MetMAb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6"/>
          <p:cNvSpPr/>
          <p:nvPr/>
        </p:nvSpPr>
        <p:spPr>
          <a:xfrm>
            <a:off x="3801960" y="2203560"/>
            <a:ext cx="1943280" cy="1092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ratification Factor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obacco Histor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erformance Statu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88"/>
              </a:spcAft>
              <a:buClr>
                <a:srgbClr val="294f2d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ist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9"/>
          <p:cNvSpPr/>
          <p:nvPr/>
        </p:nvSpPr>
        <p:spPr>
          <a:xfrm>
            <a:off x="7089840" y="490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458640" y="4265640"/>
            <a:ext cx="32306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-Primary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S in “Met High”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S in overall ITT pop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 Key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 in “Met High”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 in Overall ITT pati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all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24"/>
              </a:spcAft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fety/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82240" y="230040"/>
            <a:ext cx="86122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AM4558g Study Design: Global, Double-Blind, Placebo-Controlled, Phase II Stud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Text Box 12"/>
          <p:cNvSpPr/>
          <p:nvPr/>
        </p:nvSpPr>
        <p:spPr>
          <a:xfrm>
            <a:off x="6078600" y="3233880"/>
            <a:ext cx="2730600" cy="11318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lotinib (150 qd-oral)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bo (IV q3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5"/>
          <p:cNvSpPr/>
          <p:nvPr/>
        </p:nvSpPr>
        <p:spPr>
          <a:xfrm>
            <a:off x="201600" y="1895400"/>
            <a:ext cx="2438280" cy="176436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spcAft>
                <a:spcPts val="7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Key Eligibilit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nd/3rd-line NSC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issue Requir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Aft>
                <a:spcPts val="737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S 0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17"/>
          <p:cNvSpPr/>
          <p:nvPr/>
        </p:nvSpPr>
        <p:spPr>
          <a:xfrm>
            <a:off x="3080160" y="1784520"/>
            <a:ext cx="307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3021120" y="1468440"/>
            <a:ext cx="7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40"/>
          <p:cNvGrpSpPr/>
          <p:nvPr/>
        </p:nvGrpSpPr>
        <p:grpSpPr>
          <a:xfrm>
            <a:off x="2631960" y="2357280"/>
            <a:ext cx="342720" cy="871560"/>
            <a:chOff x="2631960" y="2357280"/>
            <a:chExt cx="342720" cy="871560"/>
          </a:xfrm>
        </p:grpSpPr>
        <p:sp>
          <p:nvSpPr>
            <p:cNvPr id="785" name="AutoShape 36"/>
            <p:cNvSpPr/>
            <p:nvPr/>
          </p:nvSpPr>
          <p:spPr>
            <a:xfrm rot="5400000">
              <a:off x="2429280" y="2683440"/>
              <a:ext cx="871560" cy="218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39"/>
            <p:cNvSpPr/>
            <p:nvPr/>
          </p:nvSpPr>
          <p:spPr>
            <a:xfrm>
              <a:off x="2631960" y="2627280"/>
              <a:ext cx="127080" cy="33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"/>
          <p:cNvGrpSpPr/>
          <p:nvPr/>
        </p:nvGrpSpPr>
        <p:grpSpPr>
          <a:xfrm>
            <a:off x="3459240" y="2392200"/>
            <a:ext cx="342720" cy="871560"/>
            <a:chOff x="3459240" y="2392200"/>
            <a:chExt cx="342720" cy="871560"/>
          </a:xfrm>
        </p:grpSpPr>
        <p:sp>
          <p:nvSpPr>
            <p:cNvPr id="788" name="AutoShape 42"/>
            <p:cNvSpPr/>
            <p:nvPr/>
          </p:nvSpPr>
          <p:spPr>
            <a:xfrm rot="5400000">
              <a:off x="3256560" y="2718360"/>
              <a:ext cx="871560" cy="2188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3"/>
            <p:cNvSpPr/>
            <p:nvPr/>
          </p:nvSpPr>
          <p:spPr>
            <a:xfrm>
              <a:off x="3459240" y="2662200"/>
              <a:ext cx="127080" cy="330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30"/>
          <p:cNvGrpSpPr/>
          <p:nvPr/>
        </p:nvGrpSpPr>
        <p:grpSpPr>
          <a:xfrm>
            <a:off x="6827400" y="4422600"/>
            <a:ext cx="945720" cy="474120"/>
            <a:chOff x="6827400" y="4422600"/>
            <a:chExt cx="945720" cy="474120"/>
          </a:xfrm>
        </p:grpSpPr>
        <p:sp>
          <p:nvSpPr>
            <p:cNvPr id="791" name="AutoShape 45"/>
            <p:cNvSpPr/>
            <p:nvPr/>
          </p:nvSpPr>
          <p:spPr>
            <a:xfrm rot="10800000">
              <a:off x="6827400" y="4709880"/>
              <a:ext cx="945720" cy="1868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6"/>
            <p:cNvSpPr/>
            <p:nvPr/>
          </p:nvSpPr>
          <p:spPr>
            <a:xfrm rot="5400000">
              <a:off x="7157520" y="4388760"/>
              <a:ext cx="290520" cy="35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Box 31"/>
          <p:cNvSpPr/>
          <p:nvPr/>
        </p:nvSpPr>
        <p:spPr>
          <a:xfrm>
            <a:off x="865440" y="143496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32"/>
          <p:cNvSpPr/>
          <p:nvPr/>
        </p:nvSpPr>
        <p:spPr>
          <a:xfrm>
            <a:off x="7445160" y="26290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3"/>
          <p:cNvSpPr/>
          <p:nvPr/>
        </p:nvSpPr>
        <p:spPr>
          <a:xfrm>
            <a:off x="7975440" y="4394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33"/>
          <p:cNvSpPr/>
          <p:nvPr/>
        </p:nvSpPr>
        <p:spPr>
          <a:xfrm>
            <a:off x="8070840" y="53751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35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81200" y="399960"/>
            <a:ext cx="77198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FS and OS: IT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TextBox 9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PF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64) — 9.6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64) — 11.1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1.09 (95% CI 0.71 - 1.67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6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64) — 7.1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64) — 8.2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1.09 (95% CI 0.62 - 1.91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76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Date Placeholder 1"/>
          <p:cNvSpPr/>
          <p:nvPr/>
        </p:nvSpPr>
        <p:spPr>
          <a:xfrm>
            <a:off x="0" y="6400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2320" y="217440"/>
            <a:ext cx="832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FS and OS: Met High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3" name="TextBox 9"/>
          <p:cNvSpPr/>
          <p:nvPr/>
        </p:nvSpPr>
        <p:spPr>
          <a:xfrm>
            <a:off x="289080" y="649764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gel, D et al. ESMO 2010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Abstr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BA 5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PF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35) — 12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30) — 6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0.56 (95% CI 0.31 - 1.02);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0.05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MetMAb (n=35) — 7.7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30) — 7.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zard ratio=0.55 (95% CI 0.26 - 1.16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11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response rat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otinib+MetMAb n=4 (6.3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lotinib+Placebo n=3 (4.7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 pts from the Erlotinib+Placebo arm crossed over to MetM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S and OS are consistent with previously reported findings in similar disease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lotinib+MetMAb improves both PFS and OS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t 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SCLC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35080" y="35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-MET/HGF Inhibition in Lung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randomized trial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principles of real-time tumor biopsy to assess bioma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rkers are helpful i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dies are not very positive or neg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ugs may add side effects/toxic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of c-MET/HGF in lung cancer to be 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71400" y="30636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BATTL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44240" y="1305000"/>
            <a:ext cx="815652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form for integrated translational re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nical trial progr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vel trial desig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iomarker disco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70000"/>
              </a:lnSpc>
              <a:spcBef>
                <a:spcPts val="18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Hypo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l time biopsies are possible to more accurately reflect aberrant signaling pathways of lung can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tching targeted agents with abnormal pathways will improve disease control in lung cancer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90000"/>
              </a:lnSpc>
              <a:spcBef>
                <a:spcPts val="16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-week disease control is an acceptable surrogate for efficacy in patients with pretreated lung canc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85"/>
          <p:cNvGrpSpPr/>
          <p:nvPr/>
        </p:nvGrpSpPr>
        <p:grpSpPr>
          <a:xfrm>
            <a:off x="289080" y="4711680"/>
            <a:ext cx="8363520" cy="1113840"/>
            <a:chOff x="289080" y="4711680"/>
            <a:chExt cx="8363520" cy="1113840"/>
          </a:xfrm>
        </p:grpSpPr>
        <p:sp>
          <p:nvSpPr>
            <p:cNvPr id="683" name="Line 54"/>
            <p:cNvSpPr/>
            <p:nvPr/>
          </p:nvSpPr>
          <p:spPr>
            <a:xfrm>
              <a:off x="4368960" y="47116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9"/>
            <p:cNvSpPr/>
            <p:nvPr/>
          </p:nvSpPr>
          <p:spPr>
            <a:xfrm>
              <a:off x="901800" y="5143680"/>
              <a:ext cx="6921360" cy="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50"/>
            <p:cNvSpPr/>
            <p:nvPr/>
          </p:nvSpPr>
          <p:spPr>
            <a:xfrm>
              <a:off x="914400" y="513072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51"/>
            <p:cNvSpPr/>
            <p:nvPr/>
          </p:nvSpPr>
          <p:spPr>
            <a:xfrm>
              <a:off x="2590920" y="51688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52"/>
            <p:cNvSpPr/>
            <p:nvPr/>
          </p:nvSpPr>
          <p:spPr>
            <a:xfrm>
              <a:off x="4673520" y="514368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53"/>
            <p:cNvSpPr/>
            <p:nvPr/>
          </p:nvSpPr>
          <p:spPr>
            <a:xfrm>
              <a:off x="7810560" y="5130720"/>
              <a:ext cx="0" cy="419040"/>
            </a:xfrm>
            <a:prstGeom prst="line">
              <a:avLst/>
            </a:prstGeom>
            <a:ln w="38160">
              <a:solidFill>
                <a:srgbClr val="5ff9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"/>
            <p:cNvSpPr/>
            <p:nvPr/>
          </p:nvSpPr>
          <p:spPr>
            <a:xfrm>
              <a:off x="289080" y="5365800"/>
              <a:ext cx="1279440" cy="459720"/>
            </a:xfrm>
            <a:prstGeom prst="rect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rloti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1"/>
            <p:cNvSpPr/>
            <p:nvPr/>
          </p:nvSpPr>
          <p:spPr>
            <a:xfrm>
              <a:off x="7168680" y="5361120"/>
              <a:ext cx="1483920" cy="459720"/>
            </a:xfrm>
            <a:prstGeom prst="rect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orafe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5"/>
            <p:cNvSpPr/>
            <p:nvPr/>
          </p:nvSpPr>
          <p:spPr>
            <a:xfrm>
              <a:off x="1762560" y="5364000"/>
              <a:ext cx="1720080" cy="459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Vandetan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3676680" y="5365800"/>
              <a:ext cx="3186000" cy="459720"/>
            </a:xfrm>
            <a:prstGeom prst="rect">
              <a:avLst/>
            </a:prstGeom>
            <a:noFill/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rlotinib + Bexarot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AutoShape 3"/>
          <p:cNvSpPr/>
          <p:nvPr/>
        </p:nvSpPr>
        <p:spPr>
          <a:xfrm>
            <a:off x="3822840" y="1379520"/>
            <a:ext cx="1101600" cy="3614760"/>
          </a:xfrm>
          <a:prstGeom prst="downArrow">
            <a:avLst>
              <a:gd name="adj1" fmla="val 59944"/>
              <a:gd name="adj2" fmla="val 21906"/>
            </a:avLst>
          </a:prstGeom>
          <a:solidFill>
            <a:srgbClr val="ff0000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2898720" y="3710160"/>
            <a:ext cx="2959200" cy="82548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qual  </a:t>
            </a:r>
            <a:r>
              <a:rPr b="1" lang="en-US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d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6"/>
          <p:cNvSpPr/>
          <p:nvPr/>
        </p:nvSpPr>
        <p:spPr>
          <a:xfrm>
            <a:off x="93600" y="6016680"/>
            <a:ext cx="89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end point: 8 week Disease Control (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"/>
          <p:cNvSpPr/>
          <p:nvPr/>
        </p:nvSpPr>
        <p:spPr>
          <a:xfrm>
            <a:off x="2362320" y="863640"/>
            <a:ext cx="4005000" cy="520560"/>
          </a:xfrm>
          <a:prstGeom prst="rect">
            <a:avLst/>
          </a:prstGeom>
          <a:noFill/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mbrell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2440" y="1224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TTLE Schem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55"/>
          <p:cNvSpPr/>
          <p:nvPr/>
        </p:nvSpPr>
        <p:spPr>
          <a:xfrm>
            <a:off x="2567160" y="2652840"/>
            <a:ext cx="3654360" cy="8254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KRAS/BRAF     VEGF      RXR/Cyclin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83"/>
          <p:cNvGrpSpPr/>
          <p:nvPr/>
        </p:nvGrpSpPr>
        <p:grpSpPr>
          <a:xfrm>
            <a:off x="2055960" y="1906560"/>
            <a:ext cx="5027400" cy="520560"/>
            <a:chOff x="2055960" y="1906560"/>
            <a:chExt cx="5027400" cy="520560"/>
          </a:xfrm>
        </p:grpSpPr>
        <p:sp>
          <p:nvSpPr>
            <p:cNvPr id="700" name="Line 59"/>
            <p:cNvSpPr/>
            <p:nvPr/>
          </p:nvSpPr>
          <p:spPr>
            <a:xfrm flipV="1">
              <a:off x="2055960" y="2146320"/>
              <a:ext cx="5027400" cy="1440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4"/>
            <p:cNvSpPr/>
            <p:nvPr/>
          </p:nvSpPr>
          <p:spPr>
            <a:xfrm>
              <a:off x="3200400" y="1906560"/>
              <a:ext cx="2408400" cy="520560"/>
            </a:xfrm>
            <a:prstGeom prst="rect">
              <a:avLst/>
            </a:prstGeom>
            <a:noFill/>
            <a:ln w="41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re Biops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84"/>
          <p:cNvGrpSpPr/>
          <p:nvPr/>
        </p:nvGrpSpPr>
        <p:grpSpPr>
          <a:xfrm>
            <a:off x="6292800" y="1308240"/>
            <a:ext cx="2611440" cy="2868480"/>
            <a:chOff x="6292800" y="1308240"/>
            <a:chExt cx="2611440" cy="2868480"/>
          </a:xfrm>
        </p:grpSpPr>
        <p:sp>
          <p:nvSpPr>
            <p:cNvPr id="703" name="Rectangle 60"/>
            <p:cNvSpPr/>
            <p:nvPr/>
          </p:nvSpPr>
          <p:spPr>
            <a:xfrm>
              <a:off x="6292800" y="374976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5"/>
            <p:cNvSpPr/>
            <p:nvPr/>
          </p:nvSpPr>
          <p:spPr>
            <a:xfrm>
              <a:off x="6482520" y="3949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67"/>
            <p:cNvSpPr/>
            <p:nvPr/>
          </p:nvSpPr>
          <p:spPr>
            <a:xfrm>
              <a:off x="7981200" y="39495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8"/>
            <p:cNvSpPr/>
            <p:nvPr/>
          </p:nvSpPr>
          <p:spPr>
            <a:xfrm>
              <a:off x="6445080" y="2330280"/>
              <a:ext cx="2459160" cy="8254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omarker Prof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Group 75"/>
            <p:cNvGrpSpPr/>
            <p:nvPr/>
          </p:nvGrpSpPr>
          <p:grpSpPr>
            <a:xfrm>
              <a:off x="6459480" y="1308240"/>
              <a:ext cx="2433600" cy="2746080"/>
              <a:chOff x="6459480" y="1308240"/>
              <a:chExt cx="2433600" cy="2746080"/>
            </a:xfrm>
          </p:grpSpPr>
          <p:sp>
            <p:nvSpPr>
              <p:cNvPr id="708" name="Rectangle 58"/>
              <p:cNvSpPr/>
              <p:nvPr/>
            </p:nvSpPr>
            <p:spPr>
              <a:xfrm>
                <a:off x="6599160" y="3546360"/>
                <a:ext cx="360" cy="4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2"/>
              <p:cNvSpPr/>
              <p:nvPr/>
            </p:nvSpPr>
            <p:spPr>
              <a:xfrm>
                <a:off x="6599160" y="374976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3"/>
              <p:cNvSpPr/>
              <p:nvPr/>
            </p:nvSpPr>
            <p:spPr>
              <a:xfrm>
                <a:off x="7882560" y="374976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22"/>
              <p:cNvSpPr/>
              <p:nvPr/>
            </p:nvSpPr>
            <p:spPr>
              <a:xfrm>
                <a:off x="6497640" y="1336680"/>
                <a:ext cx="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3"/>
              <p:cNvSpPr/>
              <p:nvPr/>
            </p:nvSpPr>
            <p:spPr>
              <a:xfrm>
                <a:off x="7647840" y="1308240"/>
                <a:ext cx="51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Group 69"/>
              <p:cNvGrpSpPr/>
              <p:nvPr/>
            </p:nvGrpSpPr>
            <p:grpSpPr>
              <a:xfrm>
                <a:off x="6464160" y="3197160"/>
                <a:ext cx="1531800" cy="691920"/>
                <a:chOff x="6464160" y="3197160"/>
                <a:chExt cx="1531800" cy="691920"/>
              </a:xfrm>
            </p:grpSpPr>
            <p:sp>
              <p:nvSpPr>
                <p:cNvPr id="714" name="Rectangle 61"/>
                <p:cNvSpPr/>
                <p:nvPr/>
              </p:nvSpPr>
              <p:spPr>
                <a:xfrm>
                  <a:off x="6464160" y="3197160"/>
                  <a:ext cx="1531800" cy="69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15" name="Picture 63" descr=""/>
                <p:cNvPicPr/>
                <p:nvPr/>
              </p:nvPicPr>
              <p:blipFill>
                <a:blip r:embed="rId1"/>
                <a:srcRect l="0" t="-17939" r="36167" b="0"/>
                <a:stretch/>
              </p:blipFill>
              <p:spPr>
                <a:xfrm>
                  <a:off x="6491160" y="3232080"/>
                  <a:ext cx="148716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16" name="Pictur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7316640" y="1554120"/>
                <a:ext cx="744840" cy="74772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717" name="Picture 6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97840" y="1557360"/>
                <a:ext cx="768240" cy="7412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718" name="Picture 7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59480" y="1555920"/>
                <a:ext cx="822240" cy="74916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graphicFrame>
            <p:nvGraphicFramePr>
              <p:cNvPr id="719" name="Object 73"/>
              <p:cNvGraphicFramePr/>
              <p:nvPr/>
            </p:nvGraphicFramePr>
            <p:xfrm>
              <a:off x="8007480" y="3203640"/>
              <a:ext cx="885600" cy="67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0" name="Object 7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007480" y="3203640"/>
                        <a:ext cx="885600" cy="677880"/>
                      </a:xfrm>
                      <a:prstGeom prst="rect">
                        <a:avLst/>
                      </a:prstGeom>
                      <a:ln w="936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21" name="Group 82"/>
          <p:cNvGrpSpPr/>
          <p:nvPr/>
        </p:nvGrpSpPr>
        <p:grpSpPr>
          <a:xfrm>
            <a:off x="171360" y="1300320"/>
            <a:ext cx="2092320" cy="2597040"/>
            <a:chOff x="171360" y="1300320"/>
            <a:chExt cx="2092320" cy="2597040"/>
          </a:xfrm>
        </p:grpSpPr>
        <p:sp>
          <p:nvSpPr>
            <p:cNvPr id="722" name="Line 76"/>
            <p:cNvSpPr/>
            <p:nvPr/>
          </p:nvSpPr>
          <p:spPr>
            <a:xfrm flipH="1">
              <a:off x="1584000" y="2013120"/>
              <a:ext cx="385560" cy="475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77" descr=""/>
            <p:cNvPicPr/>
            <p:nvPr/>
          </p:nvPicPr>
          <p:blipFill>
            <a:blip r:embed="rId7"/>
            <a:srcRect l="23435" t="13124" r="32064" b="36751"/>
            <a:stretch/>
          </p:blipFill>
          <p:spPr>
            <a:xfrm>
              <a:off x="171360" y="1539720"/>
              <a:ext cx="2092320" cy="235764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724" name="Line 78"/>
            <p:cNvSpPr/>
            <p:nvPr/>
          </p:nvSpPr>
          <p:spPr>
            <a:xfrm>
              <a:off x="258840" y="1300320"/>
              <a:ext cx="385560" cy="475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79"/>
            <p:cNvSpPr/>
            <p:nvPr/>
          </p:nvSpPr>
          <p:spPr>
            <a:xfrm>
              <a:off x="785880" y="2154240"/>
              <a:ext cx="69840" cy="10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45"/>
          <p:cNvSpPr/>
          <p:nvPr/>
        </p:nvSpPr>
        <p:spPr>
          <a:xfrm>
            <a:off x="4807080" y="6500880"/>
            <a:ext cx="42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 Kim et al.  AACR 2010, Plenary Session LBA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-MET/HGF in Lung Cance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156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GF/c-MET one of the most frequently dysregulated pathways in can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solid tumors and hematologic maligna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thelial tumors display c-MET over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lea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lif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d surviv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gration and inva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11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giogen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ected Ag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636480" y="1571760"/>
          <a:ext cx="7871040" cy="4556160"/>
        </p:xfrm>
        <a:graphic>
          <a:graphicData uri="http://schemas.openxmlformats.org/drawingml/2006/table">
            <a:tbl>
              <a:tblPr/>
              <a:tblGrid>
                <a:gridCol w="787104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L880 — Multi-target kinase inhibitor (c-MET, VEGFR, PDGFR, KIT, FLT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L184 — Multi-target kinase inhibitor (c-MET, VEGFR, RET, KIT, FLT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Q197 — c-MET kinase inhibitor (c-MET selectiv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2341066 — c-MET kinase inhibitor (also active against ALK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P470 — Multi-target kinase inhibitor (mutant KIT, PDGFR, FLT3, and c-MET, RET, RAD5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GX523 — c-MET kinase inhibitor (c-MET selectiv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G102 — Anti-human HGF fully humanized IgG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143966 — Anti-human c-MET humanized monovalent A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CD265 — Multi-target kinase inhibitor (c-MET, RON, VEGFR1/2/3, TIE-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1" name="Rectangle 111"/>
          <p:cNvSpPr/>
          <p:nvPr/>
        </p:nvSpPr>
        <p:spPr>
          <a:xfrm>
            <a:off x="136440" y="64612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. Liu et al. Expert Opinion on Investigational Drugs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95440" y="514080"/>
            <a:ext cx="68911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Q 197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6124680" y="853920"/>
            <a:ext cx="2732040" cy="168444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734" name="TextBox 6"/>
          <p:cNvSpPr/>
          <p:nvPr/>
        </p:nvSpPr>
        <p:spPr>
          <a:xfrm>
            <a:off x="228600" y="1805040"/>
            <a:ext cx="84963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ATP competitive inhibitor of c-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 mechanism of binding stabiliz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tive conformation of c-ME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ound demonstrates broad-spectrum, anti-tumor activity in a number of tumor xenograft models (including NSC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vivo anti-tumor activity of ARQ 197 + EGFR inhibitor greater than either drug alon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monstration of safety and linear PK in phase I combination with EGFR inhibitor erlotini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295200" y="6257880"/>
            <a:ext cx="846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nshi N et al. Mol Cancer Ther 2010;Epub ahead of print. 2.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published; courtesy of ArQule, Inc. and Kyowa Hakko Kirin Co., Ltd. 3. </a:t>
            </a:r>
            <a:r>
              <a:rPr b="0" lang="fi-FI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ux I et al. ASCO 2009. 4.</a:t>
            </a:r>
            <a:r>
              <a:rPr b="0" lang="da-DK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ldman J et al. IASLC 2009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Q 197-209: Study 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47242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5"/>
          <p:cNvSpPr/>
          <p:nvPr/>
        </p:nvSpPr>
        <p:spPr>
          <a:xfrm>
            <a:off x="4374720" y="2977560"/>
            <a:ext cx="664200" cy="447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 flipV="1">
            <a:off x="4390200" y="2388240"/>
            <a:ext cx="674640" cy="38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3851280" y="16653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1"/>
          <p:cNvSpPr/>
          <p:nvPr/>
        </p:nvSpPr>
        <p:spPr>
          <a:xfrm flipV="1">
            <a:off x="3234600" y="2824920"/>
            <a:ext cx="5385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4"/>
          <p:cNvSpPr/>
          <p:nvPr/>
        </p:nvSpPr>
        <p:spPr>
          <a:xfrm>
            <a:off x="8280360" y="3465360"/>
            <a:ext cx="324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6"/>
          <p:cNvSpPr/>
          <p:nvPr/>
        </p:nvSpPr>
        <p:spPr>
          <a:xfrm>
            <a:off x="8604360" y="2205000"/>
            <a:ext cx="0" cy="1290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 flipH="1">
            <a:off x="8280000" y="2205000"/>
            <a:ext cx="360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5219640" y="2960640"/>
            <a:ext cx="2916360" cy="87660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rlotinib 150 mg PO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+ 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28-day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8"/>
          <p:cNvSpPr/>
          <p:nvPr/>
        </p:nvSpPr>
        <p:spPr>
          <a:xfrm>
            <a:off x="5219640" y="1808280"/>
            <a:ext cx="2919600" cy="9010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rlotinib 150 mg PO Q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+ ARQ 197 360 mg PO B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28-day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6"/>
          <p:cNvSpPr/>
          <p:nvPr/>
        </p:nvSpPr>
        <p:spPr>
          <a:xfrm>
            <a:off x="838080" y="4316400"/>
            <a:ext cx="3102120" cy="13107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dpoints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° P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° ORR,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et analy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ossover: O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826920" y="2133720"/>
            <a:ext cx="2322720" cy="13723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operable locally adv/ metastatic d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≥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rior chem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no prior EGFR TK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5"/>
          <p:cNvSpPr/>
          <p:nvPr/>
        </p:nvSpPr>
        <p:spPr>
          <a:xfrm>
            <a:off x="4211640" y="4329000"/>
            <a:ext cx="4645080" cy="179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3 sites in 6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udy accrual over 11 months (10/08-9/0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ization stratified by prognostic factors incl. sex, age, smoking, histology, performance status, prior therapy and best response, and geography (U.S. vs. ex-U.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8"/>
          <p:cNvSpPr/>
          <p:nvPr/>
        </p:nvSpPr>
        <p:spPr>
          <a:xfrm>
            <a:off x="8644320" y="2637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0"/>
          <p:cNvSpPr/>
          <p:nvPr/>
        </p:nvSpPr>
        <p:spPr>
          <a:xfrm>
            <a:off x="673200" y="63478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59840" y="274320"/>
            <a:ext cx="893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Progression-Free Survival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ITT Popul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90"/>
          <p:cNvSpPr/>
          <p:nvPr/>
        </p:nvSpPr>
        <p:spPr>
          <a:xfrm>
            <a:off x="376200" y="6468480"/>
            <a:ext cx="24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dian Progression-Free Survi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rlotinib+ARQ 197 (n=84) — 16.1 we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83) — 9.7 wee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azard ratio (HR)=0.81 (95% CI 0.57 - 1.15);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=0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djusted HR=0.64 (95% CI 0.47 - 0.98);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0.05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FS also measured by independent radiographic review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dian 15.6 vs. 8.4 w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5360">
              <a:lnSpc>
                <a:spcPct val="100000"/>
              </a:lnSpc>
              <a:spcBef>
                <a:spcPts val="300"/>
              </a:spcBef>
              <a:buClr>
                <a:srgbClr val="00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adjusted/adjusted HR= 0.74/0.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83"/>
          <p:cNvSpPr/>
          <p:nvPr/>
        </p:nvSpPr>
        <p:spPr>
          <a:xfrm>
            <a:off x="504000" y="5921280"/>
            <a:ext cx="25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x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Q 197-209: Overall Survival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ITT Popul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Text Box 90"/>
          <p:cNvSpPr/>
          <p:nvPr/>
        </p:nvSpPr>
        <p:spPr>
          <a:xfrm>
            <a:off x="0" y="6378480"/>
            <a:ext cx="24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ller J et al. ASCO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457200" y="1511280"/>
            <a:ext cx="82296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n Overall Survi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ARQ 197 (n=84) — 36.6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lotinib+placebo (n=83) — 29.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R=0.88 (95% CI 0.60 - 1.30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0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justed HR=0.88 (95% CI 0.60 - 1.30)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0.52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2760" y="5397480"/>
            <a:ext cx="435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 Cox regress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2:46:40Z</dcterms:created>
  <dc:creator>Research To Practice</dc:creator>
  <dc:description/>
  <cp:keywords/>
  <dc:language>en-US</dc:language>
  <cp:lastModifiedBy>Mac Pro E703803Y4PC</cp:lastModifiedBy>
  <cp:lastPrinted>2011-02-11T14:56:55Z</cp:lastPrinted>
  <dcterms:modified xsi:type="dcterms:W3CDTF">2011-05-11T17:35:24Z</dcterms:modified>
  <cp:revision>412</cp:revision>
  <dc:subject/>
  <dc:title>PowerPoint Presentation</dc:title>
</cp:coreProperties>
</file>