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1F1F-6C82-420F-A484-3D55108D2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B419-05F3-4D7F-86A0-175C1370F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659C-8A71-4D23-8895-2E9920AAE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25FD-ACA7-4FAB-99E0-1F73BD1BC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16000" y="67932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76520"/>
            <a:ext cx="502920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83D2-65CF-4E5E-8BAB-F368DF66B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9D6C-BC9C-4CE8-9513-C8F24F39D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728F-5CB2-4276-AB9C-41A48F63B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5617-EBCF-4AB8-B639-1178933BF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12F4-D217-435C-8CCF-BB86DCA96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80A2-89DF-464F-AA90-69C7BDC2B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9224-6655-45D1-BBFA-310CAC33E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3B9D-7964-4ED2-9F8A-927465C5A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5200-1AEC-4897-9D4B-00AA2232B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9640-A6CB-4E05-9031-C5F9A7A44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4C46-272B-43CE-A50B-E160C402CD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7A6F-24FC-4089-918F-6C975F0C2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663E-44ED-41D3-94C1-DEEE3389F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566B-22A8-4438-9AA3-8B7C956B1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4033-3593-4598-8354-D6F1B2073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AB29-1F93-4E47-9E19-5D5FB6F5B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38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96B7-0DC1-4C78-B475-F5E433A51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38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F662-990F-47E3-8BF0-1934C8693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B0A7-B57F-4CDD-BA03-7CC0AD0B4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AE5F-9C29-4734-9551-EFFF44A18B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174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A4C1-D0F6-4300-8027-F898C7623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F680-FC83-40CB-B1D2-F48AB95555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636E-9790-4A67-969A-7818E1C6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3EF8-AEB3-47CF-9CF7-08E6840F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AD2-9320-477D-894C-5DEC1E88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F69-E208-401A-BC62-DA46F210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9A1C-29FB-45F0-8F27-F1D6E974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C41F-32A6-4A82-AD14-D178246C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19B9-1C42-4C5B-BFC7-0A40133A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64BD-9DA9-487C-AA38-9D03C8BD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D333-E1F7-4DB4-909E-A4A3CCA8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D35C-1055-4B7F-8573-375A818F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79F7-C648-4A2B-BEA5-41A74AC4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A745-2D36-4D1F-A8DC-E8F65381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CABC-239D-4242-99B9-D76E1B66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9A36-413D-49E0-AE91-1D30AEB1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38C3-EEBA-4ED3-826E-8493AFDD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429F-C92F-48FB-B2DC-FB784A3C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B3D8-5EEE-483E-9ED5-AE8C8807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295FE-DE26-4B83-8001-1F724998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BA95C-50DF-4938-87EB-3AA7D41C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476EA-3F1D-4A99-B443-21DC5856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E9EB6-1F62-4A2F-955E-B19CA2F1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52649-2E22-44DE-955F-D3AB9FD8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8E0-C38B-4040-8169-A4B71F73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79F11-440E-43D6-B6D8-7572D58B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7F9CC-4813-4797-9308-20A1D16C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EF6E7-47BF-4091-A3AF-E7029376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DA32D-4D40-41AE-A76C-D2C9FE01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CEF0D-AA87-48F3-B506-ED43D678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49C24-BB76-42DA-BC92-BD910386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86A87-F257-42FF-8DE7-1AA625E8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1A182-5B4A-417A-B4FE-52D4D8F8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712CF-05DC-4576-8A97-845087F9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E157C-53E8-4D5A-BFCD-1863441A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5BB-0892-4B63-832D-81E84C34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ABBE0-0EBA-4609-9D72-651D482F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FD35A-758F-46D3-951E-89555616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E8C33-6415-4331-8B1F-01026188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CFADB-BD4D-47F2-AC10-DE74CE97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678A7-100C-4E82-8270-A2185A70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95528-1158-487A-88D4-FB0AEB97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29CAF-338B-4F66-86F4-6A3B5379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1864F-A2CD-4D1D-852C-B7C2880D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8D560-E45A-4A77-A176-28762418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2F100-928B-4B5B-AB3C-759538D7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E5D0-447F-41E3-A3FA-C0045A96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A73DD-3DB0-484B-B42A-806EC4B6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400CA-38E4-4B17-9D0A-9FA13E21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EB239-C21E-4343-AED9-FAA5EC62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C24E5-18F7-4EAA-A750-E2F50A7A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8E2A4-C57F-40A5-ADD5-B81AD697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AD7BA-A067-4A45-AC42-DEDAE11F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6A4E0-3D27-4AA5-8C64-0B1395EA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C1DCD-94DC-485F-B5C0-F7356DC3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A0C2D-0FAC-4B31-B044-D50D0A58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62C85-14DE-4E3D-9B5B-1FC114CC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07CD-F46F-47AA-97CB-A3C5DD43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CD575-31FF-4344-A51D-6B1F2B83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9DE4D-94DF-4D8B-9CB1-3D7C5BEE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56D12-3BE6-4732-86B8-07865B64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156F9-76E6-4B8A-94EC-449AE555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36331-8E98-46F3-846F-275045C5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428BC-581F-4550-8EF3-6748BC7E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7257B-1E2B-4A4F-831D-11ADE332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F1902-C35A-40F4-9C84-CC822E5A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AFC74-52EB-46B9-A718-D5CF97E3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37DA8-B50E-4219-A5F2-7766F39B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29A-7DD9-49E8-AE36-3675048C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8EA6D-B046-4F4C-B9CB-68B33763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00664-4094-47DD-BD11-72C8FFE4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3E74D-C57F-4A4F-8EBF-CADA19C7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885C3-7C53-4E17-BDE6-59BD0691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D1A72-1681-4C55-8321-8A598A97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7F0FF-408C-464F-8DF1-A60EB2FB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56DC0-3B21-4FFF-9193-9D668B77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10B37-9EEC-4392-9BA1-1F353BCC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E9D43-C541-4B87-9A38-F2BAE99C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586FA-77A5-4E74-A8E6-C4C437C3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5C34-CC57-4160-977F-9657FE11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455F1-89F4-4841-A81A-873C00C4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21A73-4EAF-470C-B274-28CBA845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02DB3-AE28-4F01-A790-24AAAE0A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3ED3D-6ECD-4F4A-8DCD-2081A9EB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320C4-212D-43AA-9571-C36DFA16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84322-FEBB-4407-B8DB-2892F77E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A2E16-0E45-4AA3-99E0-3993321E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B2F0E-A2EA-4D22-9E01-DF449E55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599FA-53D3-44B5-8F11-34CB878A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9E82D-5C1F-4FE3-BD7C-EA630BA1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09C1-01E5-4403-97E8-DBFD0566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B1A73-0E75-466D-A054-ED41BD9A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011D8-BD38-453D-8F98-F8DC5919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8B539-7CF0-4ECB-99CE-5FB44D83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89B65-1616-4CC5-85C9-F1BBE8C5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054DA-8081-4831-A019-A2CC40FE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6BE94-D235-4437-9BBF-6566C147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38C14-7BE1-41E1-8CD2-4FB91E6C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69CA-EBFB-443F-B3E8-068A090CA23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C264-0940-4B2F-8ACA-B4EB948D68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DF64-0AE3-44BC-B3C9-14C212FCDD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6618-1EF7-4B07-9955-C7A9B4BB62D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8EE9-6C22-4E5E-9A7E-BC27C0B958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228600" y="1384200"/>
            <a:ext cx="8686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CC63-A0FE-4663-87A6-318CC4123E7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C9DB-22A6-4099-9DD8-A493AAD016B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6EC0-C78D-464C-AA6C-65396C930D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1136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ultimodality Treatment of Locally Advanced NSCLC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erett E. Vok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University of Chicag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ALGB 39801 Design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482760" y="1538280"/>
            <a:ext cx="442800" cy="375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1713960" y="1984320"/>
            <a:ext cx="256896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(Standard CT/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1701720" y="3840120"/>
            <a:ext cx="257328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 (Ind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T/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4888080" y="1908000"/>
            <a:ext cx="372240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litaxel 50 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V/1h/w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boplatin AUC 2 IV/30 min/w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RT 6600 cGy (to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4915440" y="3824280"/>
            <a:ext cx="35593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litaxel 200 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V/3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boplatin AUC 6 IV/3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 21 days for a total of 2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4902120" y="5322960"/>
            <a:ext cx="365760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litaxel 50 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V/1h/w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boplatin AUC 2 IV/30 min/w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RT 6600 cGy (total) (d 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0"/>
          <p:cNvSpPr/>
          <p:nvPr/>
        </p:nvSpPr>
        <p:spPr>
          <a:xfrm>
            <a:off x="6654960" y="4738680"/>
            <a:ext cx="0" cy="5335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1"/>
          <p:cNvSpPr/>
          <p:nvPr/>
        </p:nvSpPr>
        <p:spPr>
          <a:xfrm flipV="1">
            <a:off x="939960" y="2528640"/>
            <a:ext cx="83808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2"/>
          <p:cNvSpPr/>
          <p:nvPr/>
        </p:nvSpPr>
        <p:spPr>
          <a:xfrm>
            <a:off x="939960" y="3138480"/>
            <a:ext cx="83808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3"/>
          <p:cNvSpPr/>
          <p:nvPr/>
        </p:nvSpPr>
        <p:spPr>
          <a:xfrm>
            <a:off x="0" y="120024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642960" y="304920"/>
            <a:ext cx="79502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urrent Questions in Stage III NSCLC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169920" y="1447920"/>
            <a:ext cx="8763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4"/>
          <p:cNvSpPr/>
          <p:nvPr/>
        </p:nvSpPr>
        <p:spPr>
          <a:xfrm>
            <a:off x="236520" y="1828800"/>
            <a:ext cx="8686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576360" y="2286000"/>
            <a:ext cx="7924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imal chemoradiotherapy plat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imal cycle number (consolid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gations of new cytotoxics (at   systemically active dose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imal radiotherapy dose and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on of targeted therap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gations of predictive ma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236520" y="228600"/>
            <a:ext cx="867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ALGB 30407 (PI: R. Govindan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838080" y="1905120"/>
            <a:ext cx="791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249840" y="2870280"/>
            <a:ext cx="40122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boplatin AUC 5  q3w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metrexed 500mg/m² q3wk x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RT – 70 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4671720" y="2870280"/>
            <a:ext cx="4082040" cy="1618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boplatin AUC 5  q3w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metrexed 500mg/m² q3 wk x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RT – 70 G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tuximab 400mg/m² loa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250mg/m² week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6"/>
          <p:cNvSpPr/>
          <p:nvPr/>
        </p:nvSpPr>
        <p:spPr>
          <a:xfrm flipH="1">
            <a:off x="2209320" y="1523880"/>
            <a:ext cx="2032200" cy="1219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7"/>
          <p:cNvSpPr/>
          <p:nvPr/>
        </p:nvSpPr>
        <p:spPr>
          <a:xfrm>
            <a:off x="4376880" y="1523880"/>
            <a:ext cx="1947600" cy="1219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8"/>
          <p:cNvSpPr/>
          <p:nvPr/>
        </p:nvSpPr>
        <p:spPr>
          <a:xfrm>
            <a:off x="2075040" y="3886200"/>
            <a:ext cx="0" cy="1447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9"/>
          <p:cNvSpPr/>
          <p:nvPr/>
        </p:nvSpPr>
        <p:spPr>
          <a:xfrm>
            <a:off x="6858000" y="4495680"/>
            <a:ext cx="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1968480" y="5342040"/>
            <a:ext cx="50418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metrexed 500mg/m² q3week x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1"/>
          <p:cNvSpPr/>
          <p:nvPr/>
        </p:nvSpPr>
        <p:spPr>
          <a:xfrm>
            <a:off x="152280" y="1357200"/>
            <a:ext cx="8839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7960" y="15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LGB 30407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eatment Delivery During Chemoradi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57200" y="1913040"/>
          <a:ext cx="8153280" cy="319248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etrexed and Carbopla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-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etrexed, Carboplatin and Cetuxi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-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four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e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o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LGB 30407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eatment Delivery (Post Chemoradiation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609480" y="1752480"/>
          <a:ext cx="8153280" cy="364176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etrexed and Carbopla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-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etrexed, Carboplatin and Cetuxi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-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four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e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o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4296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ALGB 30407</a:t>
            </a:r>
            <a:br>
              <a:rPr sz="3800"/>
            </a:b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Overall Survival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677880" y="1981080"/>
            <a:ext cx="7823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 Overall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m 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.2 months (95% CI: 7.4-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m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.4 months (95% CI: 13-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 Month Overall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m 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6% (95% CI 43-7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m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% (95% CI 38-6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1600200" y="5334120"/>
            <a:ext cx="58500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dian follow-up: 23 months (as of 7-23-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0: p≤0.35 versus H1: p≥0.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 = survival probability at 18 months reg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ALGB 30407</a:t>
            </a:r>
            <a:br>
              <a:rPr sz="3800"/>
            </a:b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Overall Survival by Histology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880920" y="1828800"/>
            <a:ext cx="6162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 Overall Survi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 month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95% CI: 11.8-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 SCC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 month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95% CI: 17-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 Month Overall Survi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% (95% CI: 34-7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 SC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6% (95% CI: 44-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ALGB 30407</a:t>
            </a:r>
            <a:br>
              <a:rPr sz="3800"/>
            </a:b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76000" y="1752120"/>
            <a:ext cx="8034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metrexed, carboplatin and thoracic radiation with or without cetuximab produced a median survival of 22 month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th regimens met the pre-defined threshold (median survival of 20.9 months) to be considered worthy for further developmen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nds toward better outcomes observed with non-squamous NSCLC in this stud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xicities related to concurrent chemoradiation are similar to previous studi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11000" y="151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uture Directions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n-squamous NSCLC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CLAIM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555480" y="2209680"/>
            <a:ext cx="43524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1677960" y="2895480"/>
            <a:ext cx="75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rm 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1600200" y="4403880"/>
            <a:ext cx="94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rm 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2405160" y="2590920"/>
            <a:ext cx="4064040" cy="77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isplatin 75 mg/m² q3 week x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emetrexed 500 mg/m² q 3 week x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RT – 66 Gy in 33 frac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2471760" y="4162320"/>
            <a:ext cx="4386240" cy="77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isplatin 50 mg/m² d1, 8 q4 week x 2 cyc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toposide 50 mg/m²  d1-5 q4week x 2 cyc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RT – 66 Gy in 33 frac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7"/>
          <p:cNvSpPr/>
          <p:nvPr/>
        </p:nvSpPr>
        <p:spPr>
          <a:xfrm>
            <a:off x="1150920" y="3886200"/>
            <a:ext cx="57636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20"/>
          <p:cNvSpPr/>
          <p:nvPr/>
        </p:nvSpPr>
        <p:spPr>
          <a:xfrm flipV="1">
            <a:off x="1150920" y="3276360"/>
            <a:ext cx="507960" cy="6094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2"/>
          <p:cNvSpPr/>
          <p:nvPr/>
        </p:nvSpPr>
        <p:spPr>
          <a:xfrm>
            <a:off x="2949480" y="167652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 Randomized Phase III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23"/>
          <p:cNvSpPr/>
          <p:nvPr/>
        </p:nvSpPr>
        <p:spPr>
          <a:xfrm>
            <a:off x="6942240" y="4406760"/>
            <a:ext cx="1828800" cy="77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latinum based doublets x 2 cyc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8"/>
          <p:cNvSpPr/>
          <p:nvPr/>
        </p:nvSpPr>
        <p:spPr>
          <a:xfrm>
            <a:off x="6672240" y="2666880"/>
            <a:ext cx="1895400" cy="55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emetrexed x 4 cyc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9"/>
          <p:cNvSpPr/>
          <p:nvPr/>
        </p:nvSpPr>
        <p:spPr>
          <a:xfrm>
            <a:off x="1930320" y="5673600"/>
            <a:ext cx="6299280" cy="77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32a2d"/>
                </a:solidFill>
                <a:latin typeface="Arial"/>
              </a:rPr>
              <a:t>Primary objective: survival</a:t>
            </a:r>
            <a:br>
              <a:rPr sz="1500"/>
            </a:br>
            <a:r>
              <a:rPr b="1" lang="en-US" sz="1500" spc="-1" strike="noStrike">
                <a:solidFill>
                  <a:srgbClr val="232a2d"/>
                </a:solidFill>
                <a:latin typeface="Arial"/>
              </a:rPr>
              <a:t>Superiority design</a:t>
            </a:r>
            <a:br>
              <a:rPr sz="1500"/>
            </a:br>
            <a:r>
              <a:rPr b="1" lang="en-US" sz="1500" spc="-1" strike="noStrike">
                <a:solidFill>
                  <a:srgbClr val="232a2d"/>
                </a:solidFill>
                <a:latin typeface="Arial"/>
              </a:rPr>
              <a:t>80% Powered to detect Hazard Ratio = 0.74 - Sample Size 6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2" descr="Africa Asia Europe Globe"/>
          <p:cNvPicPr/>
          <p:nvPr/>
        </p:nvPicPr>
        <p:blipFill>
          <a:blip r:embed="rId1"/>
          <a:stretch/>
        </p:blipFill>
        <p:spPr>
          <a:xfrm>
            <a:off x="846000" y="228600"/>
            <a:ext cx="93528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1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Integration of Cetuximab: RTOG 0324</a:t>
            </a:r>
            <a:endParaRPr b="1" lang="en-US" sz="3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241200" y="2505240"/>
            <a:ext cx="3810240" cy="2012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tuximab 400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w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or to XRT then 250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ekly x 7 during XRT (63G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boplatin AUC 2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litaxel 45mg/m² weekly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 = 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1468440" y="5016600"/>
            <a:ext cx="115236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7"/>
          <p:cNvSpPr/>
          <p:nvPr/>
        </p:nvSpPr>
        <p:spPr>
          <a:xfrm flipV="1">
            <a:off x="1467000" y="3796920"/>
            <a:ext cx="1083960" cy="1219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9"/>
          <p:cNvSpPr/>
          <p:nvPr/>
        </p:nvSpPr>
        <p:spPr>
          <a:xfrm>
            <a:off x="380880" y="6324480"/>
            <a:ext cx="678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lumenschein et al. ASCO abstract 7516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4813200" y="2695680"/>
            <a:ext cx="4114800" cy="1738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tuximab 250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ekly x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boplatin AUC 6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litaxel 200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 21 days starting 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eek cetuxim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ight Arrow 12"/>
          <p:cNvSpPr/>
          <p:nvPr/>
        </p:nvSpPr>
        <p:spPr>
          <a:xfrm>
            <a:off x="4203720" y="3228840"/>
            <a:ext cx="533520" cy="484200"/>
          </a:xfrm>
          <a:prstGeom prst="rightArrow">
            <a:avLst>
              <a:gd name="adj1" fmla="val 50000"/>
              <a:gd name="adj2" fmla="val 44497"/>
            </a:avLst>
          </a:prstGeom>
          <a:solidFill>
            <a:srgbClr val="da1f28"/>
          </a:solidFill>
          <a:ln w="2556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4889520" y="216216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so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393840" y="2009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urrent Thera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2"/>
          <p:cNvSpPr/>
          <p:nvPr/>
        </p:nvSpPr>
        <p:spPr>
          <a:xfrm>
            <a:off x="169920" y="1371600"/>
            <a:ext cx="88041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terogeneity of N2 disease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ood Prognos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gle st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gle no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croscopic invol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tion 5 or 6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mall volume disea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ad Prognos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ulti-station disea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ulti-nod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tracapsular extens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tion 4L or 9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lky disea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xed (invasion of mediastinal structure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kip metasta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TextBox 5"/>
          <p:cNvSpPr/>
          <p:nvPr/>
        </p:nvSpPr>
        <p:spPr>
          <a:xfrm>
            <a:off x="838080" y="6324480"/>
            <a:ext cx="44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Kassis Thorac Surg Clin 18 (2008) 333-3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1066680" y="4495680"/>
            <a:ext cx="224316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erformance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eight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ulmonary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-morbid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i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7"/>
          <p:cNvSpPr/>
          <p:nvPr/>
        </p:nvSpPr>
        <p:spPr>
          <a:xfrm>
            <a:off x="169920" y="1143000"/>
            <a:ext cx="88041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Future Directions</a:t>
            </a:r>
            <a:br>
              <a:rPr sz="3800"/>
            </a:b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RTOG 0617- Schema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522000" y="2286000"/>
            <a:ext cx="43524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11"/>
          <p:cNvSpPr/>
          <p:nvPr/>
        </p:nvSpPr>
        <p:spPr>
          <a:xfrm>
            <a:off x="1117440" y="2133720"/>
            <a:ext cx="426744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rbopla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clita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RT – 60 Gy in 6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2"/>
          <p:cNvSpPr/>
          <p:nvPr/>
        </p:nvSpPr>
        <p:spPr>
          <a:xfrm>
            <a:off x="1117440" y="3200400"/>
            <a:ext cx="42674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bopla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clita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RT – 74 Gy in 7.5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17"/>
          <p:cNvSpPr/>
          <p:nvPr/>
        </p:nvSpPr>
        <p:spPr>
          <a:xfrm>
            <a:off x="1150920" y="4648320"/>
            <a:ext cx="57636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2949480" y="16002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 Randomized Phase III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23"/>
          <p:cNvSpPr/>
          <p:nvPr/>
        </p:nvSpPr>
        <p:spPr>
          <a:xfrm>
            <a:off x="6197760" y="4648320"/>
            <a:ext cx="2234880" cy="120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plat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litax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tuxim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8"/>
          <p:cNvSpPr/>
          <p:nvPr/>
        </p:nvSpPr>
        <p:spPr>
          <a:xfrm>
            <a:off x="6062760" y="2743200"/>
            <a:ext cx="216684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plat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lita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1117440" y="4191120"/>
            <a:ext cx="4267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bopla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clita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tuxim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RT – 60 Gy in 6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1117440" y="5486400"/>
            <a:ext cx="4267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bopla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clita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tuxim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RT – 74 Gy in 7.5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ight Brace 35"/>
          <p:cNvSpPr/>
          <p:nvPr/>
        </p:nvSpPr>
        <p:spPr>
          <a:xfrm>
            <a:off x="5656320" y="2590920"/>
            <a:ext cx="135000" cy="1295280"/>
          </a:xfrm>
          <a:custGeom>
            <a:avLst/>
            <a:gdLst>
              <a:gd name="textAreaLeft" fmla="*/ 0 w 135000"/>
              <a:gd name="textAreaRight" fmla="*/ 48600 w 135000"/>
              <a:gd name="textAreaTop" fmla="*/ 3960 h 1295280"/>
              <a:gd name="textAreaBottom" fmla="*/ 12913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"/>
                  <a:pt x="10800" y="212"/>
                </a:cubicBezTo>
                <a:lnTo>
                  <a:pt x="10800" y="10588"/>
                </a:lnTo>
                <a:cubicBezTo>
                  <a:pt x="10800" y="10694"/>
                  <a:pt x="16200" y="10800"/>
                  <a:pt x="21600" y="10800"/>
                </a:cubicBezTo>
                <a:cubicBezTo>
                  <a:pt x="16200" y="10800"/>
                  <a:pt x="10800" y="10906"/>
                  <a:pt x="10800" y="11012"/>
                </a:cubicBezTo>
                <a:lnTo>
                  <a:pt x="10800" y="21388"/>
                </a:lnTo>
                <a:cubicBezTo>
                  <a:pt x="10800" y="2149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ight Brace 36"/>
          <p:cNvSpPr/>
          <p:nvPr/>
        </p:nvSpPr>
        <p:spPr>
          <a:xfrm>
            <a:off x="5656320" y="4724280"/>
            <a:ext cx="135000" cy="1295640"/>
          </a:xfrm>
          <a:custGeom>
            <a:avLst/>
            <a:gdLst>
              <a:gd name="textAreaLeft" fmla="*/ 0 w 135000"/>
              <a:gd name="textAreaRight" fmla="*/ 48600 w 135000"/>
              <a:gd name="textAreaTop" fmla="*/ 3960 h 1295640"/>
              <a:gd name="textAreaBottom" fmla="*/ 12916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"/>
                  <a:pt x="10800" y="212"/>
                </a:cubicBezTo>
                <a:lnTo>
                  <a:pt x="10800" y="10588"/>
                </a:lnTo>
                <a:cubicBezTo>
                  <a:pt x="10800" y="10694"/>
                  <a:pt x="16200" y="10800"/>
                  <a:pt x="21600" y="10800"/>
                </a:cubicBezTo>
                <a:cubicBezTo>
                  <a:pt x="16200" y="10800"/>
                  <a:pt x="10800" y="10906"/>
                  <a:pt x="10800" y="11012"/>
                </a:cubicBezTo>
                <a:lnTo>
                  <a:pt x="10800" y="21388"/>
                </a:lnTo>
                <a:cubicBezTo>
                  <a:pt x="10800" y="2149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0" y="74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Arial"/>
              </a:rPr>
              <a:t>Dominance of Systemic Failure</a:t>
            </a:r>
            <a:br>
              <a:rPr sz="2300"/>
            </a:br>
            <a:r>
              <a:rPr b="1" lang="en-US" sz="2300" spc="-1" strike="noStrike">
                <a:solidFill>
                  <a:srgbClr val="ffff00"/>
                </a:solidFill>
                <a:latin typeface="Arial"/>
              </a:rPr>
              <a:t>Stage III Sites of Relapse in CALGB 39801 (n = 213) </a:t>
            </a:r>
            <a:br>
              <a:rPr sz="23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Vokes et al JCO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0" y="120024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3284640" y="1676520"/>
            <a:ext cx="243828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s prog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304920" y="3124080"/>
            <a:ext cx="18968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2540160" y="3124080"/>
            <a:ext cx="21668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and di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4978440" y="3124080"/>
            <a:ext cx="196380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an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7213680" y="3124080"/>
            <a:ext cx="176040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060720" y="4452840"/>
            <a:ext cx="311472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ant relap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168560" y="5824440"/>
            <a:ext cx="21668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ain and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606840" y="5824440"/>
            <a:ext cx="196380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ain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5842080" y="5824440"/>
            <a:ext cx="257328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ant, but not b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4"/>
          <p:cNvSpPr/>
          <p:nvPr/>
        </p:nvSpPr>
        <p:spPr>
          <a:xfrm flipH="1">
            <a:off x="1252080" y="2133720"/>
            <a:ext cx="2032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5"/>
          <p:cNvSpPr/>
          <p:nvPr/>
        </p:nvSpPr>
        <p:spPr>
          <a:xfrm flipH="1">
            <a:off x="5722920" y="2133720"/>
            <a:ext cx="20318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6"/>
          <p:cNvSpPr/>
          <p:nvPr/>
        </p:nvSpPr>
        <p:spPr>
          <a:xfrm flipH="1">
            <a:off x="6197760" y="5029200"/>
            <a:ext cx="947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7"/>
          <p:cNvSpPr/>
          <p:nvPr/>
        </p:nvSpPr>
        <p:spPr>
          <a:xfrm flipH="1">
            <a:off x="2103120" y="4952880"/>
            <a:ext cx="949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1270080" y="2133720"/>
            <a:ext cx="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9"/>
          <p:cNvSpPr/>
          <p:nvPr/>
        </p:nvSpPr>
        <p:spPr>
          <a:xfrm>
            <a:off x="7754760" y="2104920"/>
            <a:ext cx="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2120760" y="4938840"/>
            <a:ext cx="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7132680" y="5019840"/>
            <a:ext cx="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22"/>
          <p:cNvSpPr/>
          <p:nvPr/>
        </p:nvSpPr>
        <p:spPr>
          <a:xfrm>
            <a:off x="3827520" y="2548080"/>
            <a:ext cx="0" cy="423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23"/>
          <p:cNvSpPr/>
          <p:nvPr/>
        </p:nvSpPr>
        <p:spPr>
          <a:xfrm>
            <a:off x="5316480" y="2543040"/>
            <a:ext cx="0" cy="428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24"/>
          <p:cNvSpPr/>
          <p:nvPr/>
        </p:nvSpPr>
        <p:spPr>
          <a:xfrm>
            <a:off x="3624120" y="3976560"/>
            <a:ext cx="0" cy="424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5638680" y="3981600"/>
            <a:ext cx="0" cy="428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26"/>
          <p:cNvSpPr/>
          <p:nvPr/>
        </p:nvSpPr>
        <p:spPr>
          <a:xfrm>
            <a:off x="4640400" y="5334120"/>
            <a:ext cx="0" cy="423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bined Modality Therapy Approach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omitant chemotherapy can be sensitizing or system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69920" y="2438280"/>
            <a:ext cx="250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Induction 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3218040" y="2438280"/>
            <a:ext cx="2504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oncomitant CT/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6324480" y="2438280"/>
            <a:ext cx="2811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onsolidation 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2608200" y="3200400"/>
            <a:ext cx="812880" cy="0"/>
          </a:xfrm>
          <a:prstGeom prst="line">
            <a:avLst/>
          </a:prstGeom>
          <a:ln w="54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8"/>
          <p:cNvSpPr/>
          <p:nvPr/>
        </p:nvSpPr>
        <p:spPr>
          <a:xfrm>
            <a:off x="5656320" y="3200400"/>
            <a:ext cx="812880" cy="0"/>
          </a:xfrm>
          <a:prstGeom prst="line">
            <a:avLst/>
          </a:prstGeom>
          <a:ln w="54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169920" y="2004840"/>
            <a:ext cx="88041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5"/>
          <p:cNvSpPr/>
          <p:nvPr/>
        </p:nvSpPr>
        <p:spPr>
          <a:xfrm>
            <a:off x="338040" y="6477120"/>
            <a:ext cx="661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Lucida Sans Unicode"/>
              </a:rPr>
              <a:t>Auperin, A. et al. J Clin Oncol; 28:2181-2190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162000" y="162000"/>
            <a:ext cx="881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Induction versus Concomitant Therapy Meta-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Hazard Ratio (HR): Survival and P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7"/>
          <p:cNvSpPr/>
          <p:nvPr/>
        </p:nvSpPr>
        <p:spPr>
          <a:xfrm>
            <a:off x="171360" y="884160"/>
            <a:ext cx="8990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135080" y="1157400"/>
          <a:ext cx="6858000" cy="43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all Survival HR (95% CI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ion-Free Survival HR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95% CI)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GB 883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2 (0.73 to 1.7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8 (0.70 to 1.6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JLC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8 (0.61 to 0.99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4 (0.66 to 1.0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TOG 94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 (0.65 to 0.9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2 (0.67 to 1.0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MA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kara 9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7 (0.41 to 1.8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2 (0.38 to 1.7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T-GFPC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P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 (0.60 to 1.07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4 (0.63 to 1.1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ORTC 0897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8 (0.69 to 1.39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8 (0.92 to 1.8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4 (0.74 to 0.9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0 (0.79 to 1.01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1015920" y="5562720"/>
            <a:ext cx="541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R &gt;1 favors RT + sequential C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RT + concurrent CT effect p = 0.004</a:t>
            </a:r>
            <a:br>
              <a:rPr sz="1400"/>
            </a:b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†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T + concurrent CT effect p = 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0" y="412920"/>
            <a:ext cx="914400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nduction versus Concomitant Therapy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eta-analys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Lucida Sans Unicode"/>
              </a:rPr>
              <a:t>Hazard Ratio (HR):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Lucida Sans Unicode"/>
              </a:rPr>
              <a:t>Local Progression and Distant Prog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171360" y="1447920"/>
            <a:ext cx="8990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38040" y="6477120"/>
            <a:ext cx="661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Lucida Sans Unicode"/>
              </a:rPr>
              <a:t>Auperin, A. et al. J Clin Oncol; 28:2181-2190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15920" y="5518080"/>
            <a:ext cx="541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R &gt;1 favors RT + sequential C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RT + concurrent CT effect p = 0.01</a:t>
            </a:r>
            <a:br>
              <a:rPr sz="1400"/>
            </a:b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RT + concurrent CT effect p = 0.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135080" y="1677960"/>
          <a:ext cx="6858000" cy="3808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68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l Progression HR (95% CI)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ant Progression HR (95% CI)</a:t>
                      </a:r>
                      <a:r>
                        <a:rPr b="1" lang="en-US" sz="17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JLC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9 (0.48 to 1.0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6 (0.88 to 1.79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TOG 94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2 (0.64 to 1.31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3 (0.69 to 1.25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MA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kara 9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9 (0.19 to 2.57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5 (0.43 to 3.0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T-GFPC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P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8 (0.35 to 0.9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7 (0.60 to 1.5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ORTC 0897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3 (0.54 to 1.6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2 (0.63 to 1.67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7 (0.62 to 0.9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4 (0.86 to 1.2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Induction (Consolidation) plus Concurrent Chemoradiation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ddresses systemic and locoregional cancer compartments comprehensivel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livers more cycles of chemotherap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llows for use of more than one regime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wo models: SWOG   (CT/X      CT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LGB (CT       CT/X)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5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6"/>
          <p:cNvSpPr/>
          <p:nvPr/>
        </p:nvSpPr>
        <p:spPr>
          <a:xfrm>
            <a:off x="6095880" y="4343400"/>
            <a:ext cx="474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9"/>
          <p:cNvSpPr/>
          <p:nvPr/>
        </p:nvSpPr>
        <p:spPr>
          <a:xfrm>
            <a:off x="5943600" y="4952880"/>
            <a:ext cx="473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2128320" y="1295280"/>
            <a:ext cx="5107320" cy="136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lIns="45720" r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hem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isplatin 50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IV d 1,8,29,36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toposide 50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IV d 1-5 &amp; 29-33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current RT 59.4 Gy (1.8 Gy/f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442800" y="29880"/>
            <a:ext cx="8382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HOG LUN 01-24/USO 02-033 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73200" y="3417840"/>
            <a:ext cx="23414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tratification Variabl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PS 0-1 vs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IIIA vs II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R vs. non-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530280" y="5721480"/>
            <a:ext cx="4192560" cy="533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ocetaxel 75 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q 3 wk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6"/>
          <p:cNvSpPr/>
          <p:nvPr/>
        </p:nvSpPr>
        <p:spPr>
          <a:xfrm flipH="1">
            <a:off x="3179880" y="4390560"/>
            <a:ext cx="891720" cy="90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7"/>
          <p:cNvSpPr/>
          <p:nvPr/>
        </p:nvSpPr>
        <p:spPr>
          <a:xfrm>
            <a:off x="4707000" y="2666880"/>
            <a:ext cx="0" cy="587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5489280" y="4428000"/>
            <a:ext cx="790920" cy="973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5181480" y="5686560"/>
            <a:ext cx="3505320" cy="55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3908520" y="3465360"/>
            <a:ext cx="17539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Random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2"/>
          <p:cNvSpPr/>
          <p:nvPr/>
        </p:nvSpPr>
        <p:spPr>
          <a:xfrm>
            <a:off x="4584600" y="4446720"/>
            <a:ext cx="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40"/>
          <p:cNvSpPr/>
          <p:nvPr/>
        </p:nvSpPr>
        <p:spPr>
          <a:xfrm>
            <a:off x="5291280" y="6377040"/>
            <a:ext cx="360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Hanna et al JCO 26: 5755-5760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5888160" y="3440160"/>
            <a:ext cx="9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Box 14"/>
          <p:cNvSpPr/>
          <p:nvPr/>
        </p:nvSpPr>
        <p:spPr>
          <a:xfrm>
            <a:off x="7651800" y="2155680"/>
            <a:ext cx="9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15"/>
          <p:cNvSpPr/>
          <p:nvPr/>
        </p:nvSpPr>
        <p:spPr>
          <a:xfrm>
            <a:off x="3994200" y="4865760"/>
            <a:ext cx="9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16"/>
          <p:cNvSpPr/>
          <p:nvPr/>
        </p:nvSpPr>
        <p:spPr>
          <a:xfrm>
            <a:off x="6486480" y="4822920"/>
            <a:ext cx="9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8"/>
          <p:cNvSpPr/>
          <p:nvPr/>
        </p:nvSpPr>
        <p:spPr>
          <a:xfrm>
            <a:off x="338040" y="1143000"/>
            <a:ext cx="88059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1960" y="555120"/>
            <a:ext cx="802332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Overall Survival (ITT)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947880" y="1752480"/>
            <a:ext cx="60958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ocetaxel: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edian: 21.5 months (17.0-34.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3 year survival rate: 27.2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bservation: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edian: 24.1 months (18.0-34.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3 year survival rate: 27.6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-value: 0.94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40"/>
          <p:cNvSpPr/>
          <p:nvPr/>
        </p:nvSpPr>
        <p:spPr>
          <a:xfrm>
            <a:off x="5291280" y="6377040"/>
            <a:ext cx="360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Hanna et al JCO 26: 5755-5760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"/>
          <p:cNvSpPr/>
          <p:nvPr/>
        </p:nvSpPr>
        <p:spPr>
          <a:xfrm>
            <a:off x="338040" y="1295280"/>
            <a:ext cx="88059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15:59:06Z</dcterms:created>
  <dc:creator>Research To Practice</dc:creator>
  <dc:description/>
  <cp:keywords/>
  <dc:language>en-US</dc:language>
  <cp:lastModifiedBy>Mac Pro E703803Y4PC</cp:lastModifiedBy>
  <cp:lastPrinted>2011-05-10T16:55:25Z</cp:lastPrinted>
  <dcterms:modified xsi:type="dcterms:W3CDTF">2011-05-11T16:49:21Z</dcterms:modified>
  <cp:revision>227</cp:revision>
  <dc:subject/>
  <dc:title>PowerPoint Presentation</dc:title>
</cp:coreProperties>
</file>