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EA89-0876-4C33-8B04-280E0FC55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2B2-AB61-43B7-A39F-96D00714E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9916-B2CD-4513-AACB-B393A31F4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5C78-2530-4F7F-89F4-2F3545350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EDF-8850-4C3A-8C96-9DB622D7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5F47-CA84-4A2D-93CD-81C4D30A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570-81FA-4835-835C-42577AF0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381-38EB-42F2-B300-08E9C3AD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B80-ABEF-490B-9924-38E9C637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C4D-9379-4A43-9DF1-48FA212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AE4-DC33-49E1-B5DE-64A29CA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BEA-3499-4CD2-8BC6-8757E033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894-0441-4A21-8EA4-6837D9C4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379-53AE-435D-9970-73430FD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530-F80C-4B95-8FB8-A819F44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184-66C9-41D1-A6B0-30B97BD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3C74-E64A-40D9-AE39-51CB19838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B6E7-0CE6-40D6-8CD5-963E79C8F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gical treatment of N2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7010640" cy="226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590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and repeat FDG-PET after induction chemotherapy, as well as complete resection specimens of both mediastinal LNs and primary tumor  were available in 30 patients with mediastinoscopy-proven N2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logic response grading was performed by means of conventional morphometric procedu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stinal response grading combined with the percentage decrease of maximum standardized uptake value (SUVmax) on the primary tumor was correlated with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791320" y="63673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57200" y="62485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3_3_Pass_Slide10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…how to get the best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EBUS first to document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just biopsy the PET-positive ones…get all of them as possible bilater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, then reassess by mediastinos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learance or a “significant?” change, operate if it is to be a lobect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uld patients with limited N2 disea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 offered surgery after chemotherapy and/or chemoradiation therap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is no standard definition of limited lymph node disea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believe that lobectomy is justified if there has been mediastinal downstaging (or near downstaging – selected on an individual basi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avoid right pneumonectomies at this time because I think they do have higher risk, and there is marginal data on long-term results (especially in adenocarcinoma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y biggest problem with this whole deal is the inability to “do the whole algorithm” for mediastinal downstaging as a justification for resec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at Is Limited N2 at Presentation and Do These Definitions Merit Surgical Resection After Induc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litary lymph node that is invol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91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or more stations with only microscopic involvement, or all stations &gt;3 c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4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ect all the disease even if it would take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5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that easy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nitial Multidisciplinary Surgical Opi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N2 alone or N3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T/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only N2, then where and 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2, 4 vs 5, 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lky and multis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patient lik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al comorbid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tolerate chemoradiation to “potentially curative dos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it take a pneumonectomy or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initial presentation without a biopsy ye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so, the surgeon must make the call about whether he/she will consider them for surgery after in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itial EBUS…..post treatment mediastinoscopy/otomy/V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le the patient is being treated, what does the surgeon think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going to be the mortality of this ope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I really helping the patient if there is residual mediastinal disease/disease in the primary and can this be quantitated/determined accurately before the patient goes to the operating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 (or should I) do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914400"/>
          <a:ext cx="8229600" cy="5070600"/>
        </p:xfrm>
        <a:graphic>
          <a:graphicData uri="http://schemas.openxmlformats.org/drawingml/2006/table">
            <a:tbl>
              <a:tblPr/>
              <a:tblGrid>
                <a:gridCol w="1523880"/>
                <a:gridCol w="1270080"/>
                <a:gridCol w="1359000"/>
                <a:gridCol w="1359000"/>
                <a:gridCol w="1358640"/>
                <a:gridCol w="1359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SWOG 8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LC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EOR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T 0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TOG 0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(Carbo/V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 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combinations and 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arbo + tax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X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7.2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7% (1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4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-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025720" y="1295280"/>
            <a:ext cx="463860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0" y="12600"/>
            <a:ext cx="9109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960480"/>
          <a:ext cx="8077320" cy="5448240"/>
        </p:xfrm>
        <a:graphic>
          <a:graphicData uri="http://schemas.openxmlformats.org/drawingml/2006/table">
            <a:tbl>
              <a:tblPr/>
              <a:tblGrid>
                <a:gridCol w="2286000"/>
                <a:gridCol w="2210040"/>
                <a:gridCol w="2133360"/>
                <a:gridCol w="1447920"/>
              </a:tblGrid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Postoperative ev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esection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4851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duction therapy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525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 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ronchosc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2 (3.34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 (6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0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chanical ventilation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&gt; 48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 (0.5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5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Reintub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6 (3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2 (4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Tracheosto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2 (1.2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 (1.3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87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AR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8 (1.4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77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2 (4.3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5 (4.76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Empye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3 (0.4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 (0.3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65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Sep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 (0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12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lood transfu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84 (7.9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3 (17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&lt;.0001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ostoperative outcom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0-d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9 (1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2 (2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46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Discharge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1 (1.6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n length of stay (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6.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5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Length of stay &gt; 14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4 (6.8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 (5.9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omposite of majo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morbid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7 (9.2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5 (10.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33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72"/>
          <p:cNvSpPr/>
          <p:nvPr/>
        </p:nvSpPr>
        <p:spPr>
          <a:xfrm>
            <a:off x="0" y="921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toperative events and outcomes in resectio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d inductio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7"/>
          <p:cNvSpPr/>
          <p:nvPr/>
        </p:nvSpPr>
        <p:spPr>
          <a:xfrm>
            <a:off x="609480" y="647712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s NR 3rd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Thorac Cardovasc Su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139(4):991-6.e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52480" y="990720"/>
          <a:ext cx="5664240" cy="5317920"/>
        </p:xfrm>
        <a:graphic>
          <a:graphicData uri="http://schemas.openxmlformats.org/drawingml/2006/table">
            <a:tbl>
              <a:tblPr/>
              <a:tblGrid>
                <a:gridCol w="1676520"/>
                <a:gridCol w="1270080"/>
                <a:gridCol w="1359000"/>
                <a:gridCol w="1358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We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Mans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ais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141 (45G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downsta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3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stification for Pneumonectom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We digress on pneumonectomies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Points (to 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doing a lobectomy, the mortality is low (~ 3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nly winners are those with mediastinal nodal downstaging (doubling of surviv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what if it is not COMPLETELY downstaged and you only find, say, 10% viable in the nodes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the hell can you estimate 10% in the no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21:32Z</dcterms:created>
  <dc:creator>Research To Practice</dc:creator>
  <dc:description/>
  <cp:keywords/>
  <dc:language>en-US</dc:language>
  <cp:lastModifiedBy>Mac Pro E703803Y4PC</cp:lastModifiedBy>
  <cp:lastPrinted>2011-04-20T19:59:52Z</cp:lastPrinted>
  <dcterms:modified xsi:type="dcterms:W3CDTF">2011-06-08T18:05:24Z</dcterms:modified>
  <cp:revision>51</cp:revision>
  <dc:subject/>
  <dc:title>PowerPoint Presentation</dc:title>
</cp:coreProperties>
</file>