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A44E-C97C-4889-ACC0-B9A3AC2C30D4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1AB-A0C5-4714-886E-A4E4BA1C38BC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BE5-B3E7-47DC-9C1F-79CF0E9749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E871-6D99-4DDA-A58B-B155DA49ED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407-A24E-41E6-A7EB-4DEE015E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0216-F8C0-4098-AFC0-384CB1CCB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0C96-F4ED-4F8A-BF1C-0EB39C834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B503-313A-433B-90D3-3920E153F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E3B3-D645-4DD2-BF02-35069D36D8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DFEE-A466-49CA-92C3-04F45CF9A86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ADE2-2BDF-4CC8-8D2B-080E672A9D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50DE-0FBB-416C-BA4D-873E18DA80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A99-B608-4F97-9EE8-A8CE7386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1F6-E500-4EF4-943B-EE719C5C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1DC-68A0-4486-A00B-99DDE94D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71C-D63B-48BF-AED3-6E364331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1E2-F1EA-44FE-9E60-DFCC9FBC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F26-DE9E-42B5-9333-4C6AD22C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925-8E51-41E5-BC5E-ACB06AC6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AEF-1794-4DFC-BFA2-D2E55D62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01A-FB85-4824-BAE5-29C260AB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974-3EE0-4B3C-8DB3-E7EE5D4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986-79DE-4D34-85A2-EF9EED30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ECC-09AB-4E4A-B976-F28F372F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995A-421F-4795-8030-9E398E020B1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52F8-4030-423E-9820-03ECDE1B3E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calgb.org/Private/COOP_Groups/CALGB/member_news/broadcasts/2010/30506_07212010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JUVANT SYSTEMIC TREATMENT IN NSCLC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inter Lung Cancer Conferenc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1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ROGERIO LILENBAUM M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OUNT SINAI CANCER CEN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IAMI BEACH, F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0"/>
          <p:cNvSpPr/>
          <p:nvPr/>
        </p:nvSpPr>
        <p:spPr>
          <a:xfrm>
            <a:off x="0" y="465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djuvant Chemotherapy for NSCLC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hemotherapy Benefits BR.10 High-Risk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but </a:t>
            </a: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Low-Risk Patients: 15-Gene Signature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Text Box 367"/>
          <p:cNvSpPr/>
          <p:nvPr/>
        </p:nvSpPr>
        <p:spPr>
          <a:xfrm>
            <a:off x="458640" y="629748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sao MS et al. ASCO 2008;Abstract 7510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67"/>
          <p:cNvSpPr/>
          <p:nvPr/>
        </p:nvSpPr>
        <p:spPr>
          <a:xfrm>
            <a:off x="380880" y="1989000"/>
            <a:ext cx="8382240" cy="339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el 15-gene signature may identify early stage non-small cell lung cancer patients who are most likely to benefit from chemotherapy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gh-risk patients (n=67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0.33 (95% CI 0.17 - 0.63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05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w-risk patients (n=66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3.67 (95% CI 1.22 - 11.06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133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st for interacti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0.000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lecular Profiling: CALGB 305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675440" y="5851440"/>
            <a:ext cx="58042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MPORARY SUSPENSION OF CALGB 30506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7/21/201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1447920"/>
            <a:ext cx="9144000" cy="53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Duke Scientist Suspended Over Rhodes Scholar Clai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ew York Times: July 20, 2010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is week’s letter to Dr. Harold E. Varmus, the director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the National Cancer Institute, more than two dozen biostatisticians and oncology researchers from academic institutions recommended ending the studies pending further outside review. “Recently, published and peer-reviewed re-analyses of the work done by Potti and Nevins revealed serious errors that questioned the validity of the prediction models upon which these ongoing clinical trials are based”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0"/>
          <p:cNvSpPr/>
          <p:nvPr/>
        </p:nvSpPr>
        <p:spPr>
          <a:xfrm>
            <a:off x="647640" y="2065320"/>
            <a:ext cx="786924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ected tumors 2 cm-6 c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2361960" y="4308480"/>
            <a:ext cx="1274760" cy="4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5791320" y="4308480"/>
            <a:ext cx="1028520" cy="428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Picture 11" descr="im1"/>
          <p:cNvPicPr/>
          <p:nvPr/>
        </p:nvPicPr>
        <p:blipFill>
          <a:blip r:embed="rId1"/>
          <a:srcRect l="14035" t="8216" r="21987" b="13164"/>
          <a:stretch/>
        </p:blipFill>
        <p:spPr>
          <a:xfrm>
            <a:off x="3886200" y="3165480"/>
            <a:ext cx="175248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28600" y="4917960"/>
            <a:ext cx="4114800" cy="56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4917960"/>
            <a:ext cx="3944880" cy="567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lecular Profiling: CALGB 305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1373400" y="4946760"/>
            <a:ext cx="182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5869440" y="494676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spective Biomarker Adj T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371600"/>
          <a:ext cx="8686800" cy="4438800"/>
        </p:xfrm>
        <a:graphic>
          <a:graphicData uri="http://schemas.openxmlformats.org/drawingml/2006/table">
            <a:tbl>
              <a:tblPr/>
              <a:tblGrid>
                <a:gridCol w="1479600"/>
                <a:gridCol w="1380960"/>
                <a:gridCol w="3654720"/>
                <a:gridCol w="21715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rke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0506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Chemo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G 0720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Chemo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is/Gem)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RRM1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C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/Pemetrexe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/TS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 / Erlotinib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/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inum / Docetaxel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CA1/ RAP80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Schem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066680"/>
            <a:ext cx="3200400" cy="54864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ts with completely resected stage IB,II, and IIIA NSCL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Stratified by                   - stage                        - histology            - post-op RT        - sex                      - adjuvant  chemotherap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324480" y="1143000"/>
            <a:ext cx="2286000" cy="182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Gefitini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50 mg p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aily x 2 y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324480" y="3886200"/>
            <a:ext cx="2286000" cy="182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0 mg po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aily x 2 y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V="1">
            <a:off x="3505320" y="1981080"/>
            <a:ext cx="259056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505320" y="3657600"/>
            <a:ext cx="274320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4191120" y="32767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ized 1: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15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Disease-Free Surviv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Rectangle 822"/>
          <p:cNvSpPr/>
          <p:nvPr/>
        </p:nvSpPr>
        <p:spPr>
          <a:xfrm>
            <a:off x="684360" y="1528920"/>
            <a:ext cx="5454360" cy="269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50000"/>
              </a:lnSpc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disease-free survi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fitinib arm (n=251): 4.2 ye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arm (n=252): N.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1.22 (95% CI 0.93 - 1.61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atified log ran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15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823"/>
          <p:cNvSpPr/>
          <p:nvPr/>
        </p:nvSpPr>
        <p:spPr>
          <a:xfrm>
            <a:off x="459360" y="629748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15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Overall Surviv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Rectangle 828"/>
          <p:cNvSpPr/>
          <p:nvPr/>
        </p:nvSpPr>
        <p:spPr>
          <a:xfrm>
            <a:off x="228960" y="624852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Rectangle 829"/>
          <p:cNvSpPr/>
          <p:nvPr/>
        </p:nvSpPr>
        <p:spPr>
          <a:xfrm>
            <a:off x="758880" y="1447920"/>
            <a:ext cx="7470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50000"/>
              </a:lnSpc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fitinib arm (n=251): 5.1 ye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arm (n=252): N.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1.23 (95% CI 0.94 - 1.64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atified log ran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13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3049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all Survival by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EGFR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tation Status and Treatm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57200" y="2362320"/>
            <a:ext cx="41911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R Gef/placebo: 1.21 (0.84, 1.73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Log rank: </a:t>
            </a:r>
            <a:r>
              <a:rPr b="1" i="1" lang="en-CA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=0.30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Median (95% C.I.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  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Placebo: NR (5.1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  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Gefitinib: 5.0 yrs (4.3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861080" y="2362320"/>
            <a:ext cx="41274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R Gef/placebo: 1.58 (0.83, 3.00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Log rank: </a:t>
            </a:r>
            <a:r>
              <a:rPr b="1" i="1" lang="en-CA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=0.16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Median (95% C.I.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Placebo: 5.1 yrs (4.4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Gefitinib: 3.7 yrs (2.6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Rectangle 778"/>
          <p:cNvSpPr/>
          <p:nvPr/>
        </p:nvSpPr>
        <p:spPr>
          <a:xfrm>
            <a:off x="228960" y="624852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781"/>
          <p:cNvSpPr/>
          <p:nvPr/>
        </p:nvSpPr>
        <p:spPr>
          <a:xfrm>
            <a:off x="453960" y="1905120"/>
            <a:ext cx="154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Wild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Rectangle 782"/>
          <p:cNvSpPr/>
          <p:nvPr/>
        </p:nvSpPr>
        <p:spPr>
          <a:xfrm>
            <a:off x="4876920" y="1905120"/>
            <a:ext cx="329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Sensitizing Mut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846" b="2873"/>
          <a:stretch/>
        </p:blipFill>
        <p:spPr>
          <a:xfrm>
            <a:off x="152280" y="152280"/>
            <a:ext cx="8839440" cy="6497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DIANT: Randomized Double-Blind Trial of Adjuvant Erlotinib in NSCL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971800"/>
            <a:ext cx="1676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f5fe"/>
                </a:solidFill>
                <a:latin typeface="Verdana"/>
              </a:rPr>
              <a:t>Erlotinib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3835440" y="3794040"/>
            <a:ext cx="495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3835440" y="2241720"/>
            <a:ext cx="495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2832120" y="3073320"/>
            <a:ext cx="749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36600" y="4789440"/>
            <a:ext cx="3083040" cy="10227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ed regime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docetax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vinorelbin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gemcitabin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711600" y="4789440"/>
            <a:ext cx="5280120" cy="11307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mary end poin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verall surviv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177840"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ary end points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ease-free survival, safet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bleeding and arterial thromboembolic events (ATEs)]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68360" y="2109960"/>
            <a:ext cx="2779560" cy="1928520"/>
          </a:xfrm>
          <a:prstGeom prst="rect">
            <a:avLst/>
          </a:prstGeom>
          <a:solidFill>
            <a:srgbClr val="043264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gibility (proposed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cted IB (&gt; 4 cm) - III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≥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bectomy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previous chemotherapy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planned XRT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CVA/TI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ATE in 12 month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04240" y="4226040"/>
            <a:ext cx="18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 = 15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583080" y="1690560"/>
            <a:ext cx="415800" cy="27673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I Z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73040" y="203040"/>
            <a:ext cx="8226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4362480" y="1922400"/>
            <a:ext cx="2958840" cy="639720"/>
            <a:chOff x="4362480" y="1922400"/>
            <a:chExt cx="2958840" cy="639720"/>
          </a:xfrm>
        </p:grpSpPr>
        <p:sp>
          <p:nvSpPr>
            <p:cNvPr id="166" name="AutoShape 12"/>
            <p:cNvSpPr/>
            <p:nvPr/>
          </p:nvSpPr>
          <p:spPr>
            <a:xfrm>
              <a:off x="4362480" y="2023920"/>
              <a:ext cx="2958840" cy="434520"/>
            </a:xfrm>
            <a:prstGeom prst="roundRect">
              <a:avLst>
                <a:gd name="adj" fmla="val 16667"/>
              </a:avLst>
            </a:prstGeom>
            <a:solidFill>
              <a:srgbClr val="043264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ffff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984720" y="1949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pic>
          <p:nvPicPr>
            <p:cNvPr id="168" name="Picture 14" descr=""/>
            <p:cNvPicPr/>
            <p:nvPr/>
          </p:nvPicPr>
          <p:blipFill>
            <a:blip r:embed="rId1"/>
            <a:stretch/>
          </p:blipFill>
          <p:spPr>
            <a:xfrm>
              <a:off x="5110200" y="1922400"/>
              <a:ext cx="1828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5"/>
            <p:cNvSpPr/>
            <p:nvPr/>
          </p:nvSpPr>
          <p:spPr>
            <a:xfrm>
              <a:off x="4520880" y="210492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Tx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70" name="AutoShape 16"/>
          <p:cNvSpPr/>
          <p:nvPr/>
        </p:nvSpPr>
        <p:spPr>
          <a:xfrm>
            <a:off x="4362480" y="3573360"/>
            <a:ext cx="4038480" cy="435240"/>
          </a:xfrm>
          <a:prstGeom prst="roundRect">
            <a:avLst>
              <a:gd name="adj" fmla="val 16667"/>
            </a:avLst>
          </a:prstGeom>
          <a:solidFill>
            <a:srgbClr val="06468c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4495680" y="375444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x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4571640" y="333540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v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7196040" y="3227400"/>
            <a:ext cx="193680" cy="466560"/>
          </a:xfrm>
          <a:prstGeom prst="rect">
            <a:avLst/>
          </a:prstGeom>
          <a:solidFill>
            <a:srgbClr val="33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7683840" y="368928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 1 yr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5" name="Picture 21" descr=""/>
          <p:cNvPicPr/>
          <p:nvPr/>
        </p:nvPicPr>
        <p:blipFill>
          <a:blip r:embed="rId2"/>
          <a:stretch/>
        </p:blipFill>
        <p:spPr>
          <a:xfrm>
            <a:off x="5084640" y="3373560"/>
            <a:ext cx="1828800" cy="874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2"/>
          <p:cNvSpPr/>
          <p:nvPr/>
        </p:nvSpPr>
        <p:spPr>
          <a:xfrm>
            <a:off x="7640640" y="3227400"/>
            <a:ext cx="193680" cy="466560"/>
          </a:xfrm>
          <a:prstGeom prst="rect">
            <a:avLst/>
          </a:prstGeom>
          <a:solidFill>
            <a:srgbClr val="33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7873920" y="3451320"/>
            <a:ext cx="4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959520" y="36259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1647720" y="23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B - IIIA Resectable NSCLC: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150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8493120" y="6415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Relapse Patterns:  NSCL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63680" y="6299280"/>
            <a:ext cx="57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d 1984; Pairolero 1984; Martini 1980; Thomas 199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75560" y="1447920"/>
            <a:ext cx="845640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(%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t (%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-2N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IIA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005280" y="2022480"/>
            <a:ext cx="298764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ctable NSCLC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008160" y="2668680"/>
            <a:ext cx="298944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03600" y="244620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4503600" y="307980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495680" y="374004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425680" y="395604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263600" y="4761000"/>
            <a:ext cx="231300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2422440" y="518472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1246320" y="5393880"/>
            <a:ext cx="2336760" cy="972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26640" bIns="-2664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71920" y="538632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1258920" y="539748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50280" y="5618160"/>
            <a:ext cx="19731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E-A3 AS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033720" y="5630760"/>
            <a:ext cx="1086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778040" y="4164120"/>
            <a:ext cx="1285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hem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2882880" y="3289320"/>
            <a:ext cx="3241800" cy="426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ical stage IB, II, II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2422440" y="454968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0" y="30492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3 Study – MAGRIT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-A3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juvant Non-Small Cell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mu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ap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4471920" y="374004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6342120" y="4876920"/>
            <a:ext cx="0" cy="44424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5180040" y="5329080"/>
            <a:ext cx="2311200" cy="538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6338880" y="585468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 flipV="1">
            <a:off x="5162400" y="6063840"/>
            <a:ext cx="2338560" cy="972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26640" bIns="-2664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5176800" y="606744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237920" y="6327720"/>
            <a:ext cx="19731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E-A3 AS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950160" y="6300720"/>
            <a:ext cx="1086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23040" y="395280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4906800" y="4164120"/>
            <a:ext cx="2826000" cy="70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4 cycles of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tinum-based chem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7499520" y="607212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>
            <a:off x="2421000" y="3963960"/>
            <a:ext cx="389736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36360" bIns="-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74880" y="1355760"/>
            <a:ext cx="29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227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as primary endpoi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2518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Therapy for NSCLC: Treatment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1400" y="164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uvant cisplatin-based chemotherapy is the standard of care for patients with resected stage II/IIA NSCL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chemotherapy for tumor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≥ 4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ractice, selection of patients must take into consideration benefit of therapy vs. overall health status and wishes of the pat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targeted therapies in the adjuvant setting is under investiga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selection of patients will soon optimize adjuvant therapy in NSCL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50840" y="174960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-Analysis of Overall Survival by Tri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5226120" y="5715000"/>
            <a:ext cx="12189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230040" y="5972040"/>
            <a:ext cx="464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500400" y="2195640"/>
            <a:ext cx="183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LPI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MTC+VD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Rectangle 52"/>
          <p:cNvSpPr/>
          <p:nvPr/>
        </p:nvSpPr>
        <p:spPr>
          <a:xfrm>
            <a:off x="425520" y="2133720"/>
            <a:ext cx="1542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Rectangle 54"/>
          <p:cNvSpPr/>
          <p:nvPr/>
        </p:nvSpPr>
        <p:spPr>
          <a:xfrm>
            <a:off x="501480" y="2690640"/>
            <a:ext cx="139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NITA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Rectangle 55"/>
          <p:cNvSpPr/>
          <p:nvPr/>
        </p:nvSpPr>
        <p:spPr>
          <a:xfrm>
            <a:off x="2406600" y="2514600"/>
            <a:ext cx="477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Rectangle 56"/>
          <p:cNvSpPr/>
          <p:nvPr/>
        </p:nvSpPr>
        <p:spPr>
          <a:xfrm>
            <a:off x="498240" y="4465800"/>
            <a:ext cx="431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BLT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 / VDS / MTC+VDS / MTC+IFM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Rectangle 59"/>
          <p:cNvSpPr/>
          <p:nvPr/>
        </p:nvSpPr>
        <p:spPr>
          <a:xfrm>
            <a:off x="499320" y="3809880"/>
            <a:ext cx="32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ALT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 / VDS / VLB / VP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Rectangle 62"/>
          <p:cNvSpPr/>
          <p:nvPr/>
        </p:nvSpPr>
        <p:spPr>
          <a:xfrm>
            <a:off x="502560" y="324648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BR10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Rectangle 63"/>
          <p:cNvSpPr/>
          <p:nvPr/>
        </p:nvSpPr>
        <p:spPr>
          <a:xfrm>
            <a:off x="230040" y="5972040"/>
            <a:ext cx="464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Rectangle 64"/>
          <p:cNvSpPr/>
          <p:nvPr/>
        </p:nvSpPr>
        <p:spPr>
          <a:xfrm>
            <a:off x="501120" y="1569960"/>
            <a:ext cx="297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Trials </a:t>
            </a:r>
            <a:r>
              <a:rPr b="1" lang="fr-FR" sz="1800" spc="-1" strike="noStrike" u="sng">
                <a:solidFill>
                  <a:srgbClr val="ffff00"/>
                </a:solidFill>
                <a:uFillTx/>
                <a:latin typeface="Arial"/>
              </a:rPr>
              <a:t>(Associated drug(s))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790720" y="5715000"/>
            <a:ext cx="356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hemotherapy effect:   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=0.00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502560" y="4952880"/>
            <a:ext cx="727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6143040" y="152388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Hazard Ratio (95% C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6486480" y="214776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5 (0.81, 1.12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6485040" y="264312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2 (0.68, 0.9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6485040" y="441972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00 (0.72, 1.3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6486480" y="32004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71 (0.54, 0.94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6486480" y="37638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1 (0.80, 1.0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6486480" y="49528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9 (0.82, 0.9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3960" y="304560"/>
            <a:ext cx="69087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vant cisplatin-based chemotherapy  improves survival for stage II and III NSCL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s for further clinical resear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-dependent 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and PS-dependent 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erm morbidity/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-based selec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eta-analysis: CT Effect &amp; Stag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480060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 may be detrimental for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ge 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but stage IA patients were generally not given cisplatin+vinorelbine (13% of stage IA patients versus ~43% for other stage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6324480" y="2133720"/>
            <a:ext cx="609840" cy="4572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3581280" y="2133720"/>
            <a:ext cx="53352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88320" y="1600200"/>
            <a:ext cx="1169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Catego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974320" y="1600200"/>
            <a:ext cx="223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# Deaths/# Entere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022440" y="160020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Hazard Ratio (95% C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97040" y="2050920"/>
            <a:ext cx="18396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87600" y="2171880"/>
            <a:ext cx="109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687600" y="2743200"/>
            <a:ext cx="109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86880" y="3352680"/>
            <a:ext cx="994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686880" y="3924360"/>
            <a:ext cx="1058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610440" y="217188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2/347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3515040" y="274320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509/1,37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3515040" y="335268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880/1,616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3515040" y="392436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865/1,247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6364440" y="21718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41 (0.96, 2.0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364440" y="27432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2 (0.78, 1.10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6364440" y="33526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3 (0.73, 0.95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6364440" y="392436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3 (0.73, 0.95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We Identify High-Risk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ge IA Patient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s with tumor size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cm may be candidates for postsurgical treatmen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tology: no specific histological characteristics have been identified to dat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ce and extent of lymphovascular inva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gh rate of uptake on PET sc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95200" y="612792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mada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 23:615 (abstr 7002); Harpole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;76:787; Harpole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 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5;55:51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9600" y="5029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=positron emission tomography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Trial Patients 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al World Clinical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6360" y="1523880"/>
          <a:ext cx="8084880" cy="4507200"/>
        </p:xfrm>
        <a:graphic>
          <a:graphicData uri="http://schemas.openxmlformats.org/drawingml/2006/table">
            <a:tbl>
              <a:tblPr/>
              <a:tblGrid>
                <a:gridCol w="2695320"/>
                <a:gridCol w="2721240"/>
                <a:gridCol w="26683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Study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Median Age 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(2 arms)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Pts PS2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ALT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.1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963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-62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ITA 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ST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-6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 Population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-48%*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459720" y="63244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Lilenbaum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08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CE Meta-analysis: Late Deaths Among Adjuvant Chemotherapy Recipi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cess non-cancer deaths (1.4%) on pooled chemo arm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fter 5 yea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wide range of causes: PEs, MIs, infections, and “other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0440" y="62974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gnon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 Clin Onc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08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477800"/>
            <a:ext cx="29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5 trials, 4,584 pati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981080"/>
          <a:ext cx="7925040" cy="3213360"/>
        </p:xfrm>
        <a:graphic>
          <a:graphicData uri="http://schemas.openxmlformats.org/drawingml/2006/table">
            <a:tbl>
              <a:tblPr/>
              <a:tblGrid>
                <a:gridCol w="3522960"/>
                <a:gridCol w="1360440"/>
                <a:gridCol w="1360440"/>
                <a:gridCol w="1681200"/>
              </a:tblGrid>
              <a:tr h="6098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ancer deaths / person years by period</a:t>
                      </a:r>
                      <a:endParaRPr b="0" lang="en-US" sz="17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0-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4-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≥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482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 / 4,35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 / 1,399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/ 61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 / 4,6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/ 1,61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/ 70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cer deaths by perio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Molecular Profiling: ERCC1 and Survival in IALT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25360" y="6232680"/>
            <a:ext cx="846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Olaussen KA,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N Engl J Med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06;355:983-991; Le Chevalier T, et al. 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J Clin Oncol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08(May 20 suppl);Abstract 7507.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85800" y="1219320"/>
            <a:ext cx="7772400" cy="49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ence of ERCC1 expression associated with survival benefit in response to adjuvant chemotherapy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0.65, 95% CI: 0.50 - 0.86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vant chemotherapy was not associated with a prolonged survival benefit in patients with tumors positive for ERCC1 express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1.14, 95% CI: 0.84 - 1.55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4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patients who did not receive adjuvant chemotherapy, those with ERCC1-positive tumors survived longer than those with ERCC1-negative tumo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0.66, 95% CI: 0.49 - 0.90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9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persist at 7.5 year follow-up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RCC1-negative: HR 0.76, (95% CI 0.59 - 0.9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RCC1-positive: HR 1.2 (95% CI 0.91 - 1.5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4:47:51Z</dcterms:created>
  <dc:creator>Research To Practice</dc:creator>
  <dc:description/>
  <cp:keywords/>
  <dc:language>en-US</dc:language>
  <cp:lastModifiedBy>Mac Pro E703803Y4PC</cp:lastModifiedBy>
  <cp:lastPrinted>2011-04-19T17:02:01Z</cp:lastPrinted>
  <dcterms:modified xsi:type="dcterms:W3CDTF">2011-05-11T16:41:09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ID">
    <vt:lpwstr>ece8ed369a0544a78ef6abfb82de03bf</vt:lpwstr>
  </property>
</Properties>
</file>