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4390-F1FF-43FC-839B-74814AE01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33DF-2917-4C9E-97D4-D771FD22C6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CA9B-DDDB-4D46-8292-4EE989A6F1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32A9-7C4A-4C9F-9370-22F65AA6BC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37B6-A80D-4CF7-8CEB-AEA435136F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FB03-BA02-4CF4-8790-A7AE2DAA62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0A48-C125-49B6-884A-CC51E84409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3DC1F-4848-4A89-8942-5F5608775F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09A6-D29C-4C30-A3AB-86E36BB360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324E2-1747-4215-8DCE-5AB12316A7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FA92-1F30-4C98-9D39-13D5E97D7E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F2060-18E7-4A88-A547-B5AC4774CD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8548-50EE-49D3-82D4-12444D62D8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83A4E-B6AA-4852-92CD-B1902B3ACD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62EA-16BA-4735-802E-C49DB5E68D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265F7-B77D-4D58-82D5-89CC7BDE34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9F34-09E2-4B46-9CC1-68D3F66D59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46DD-B109-4C29-981F-4EA1BB2C1C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6B58-B342-4293-9B93-8FFBEB0864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4FF4-7781-44E2-89BA-917C9CBFF5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92BE-7CB0-44B2-A016-618C00CBB8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2DD9-503F-44BB-9540-90D3973329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5A01-C28E-4E6F-882C-4C76325763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DE76-9528-4975-8EEB-38205EB70A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9126-8672-455D-BB5F-4CC1360179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F08B-1AA0-4EE2-A958-D3B76BB2A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6E91-9DE8-4959-A089-7A1F8859A9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88BD-2D09-4AA3-9F59-94D192988F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0759-54FD-4C14-B816-7F1C19BB7B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BC2-E315-4CE9-95E9-A215E2A8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750-14C9-4F9F-89C4-A46860CC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548-89E8-4404-8F55-8C5C1591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F70-2DB5-45CE-B898-76042E83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C05-4391-4130-A481-A993B029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F0D-2226-4BA6-8B9A-E54C703C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7CF-F3DA-46DB-851F-A9C7C6C3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828-20DE-4C60-9559-6326BD2B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0B2-EFF0-457D-84F4-0A8F4E68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2C1-4EB5-4C6E-ADF5-8E34782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52C-E611-4674-88AE-C681FE0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A7E-84E6-4E9E-8076-9C3C9364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504C-2EBE-43C8-840D-88410BB1B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inter Lung Cancer Conferenc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ami 201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3505320"/>
            <a:ext cx="83185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gerio Lilenbaum, MD, FA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or, Thoracic Oncology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unt Sinai Cancer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ami Beach, F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25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INVITE trial in advanced NSCLC elderly (&gt;70 yrs) pts with PS </a:t>
            </a:r>
            <a:r>
              <a:rPr b="1" lang="it-IT" sz="3600" spc="-1" strike="noStrike" u="sng">
                <a:solidFill>
                  <a:srgbClr val="ffff00"/>
                </a:solidFill>
                <a:uFillTx/>
                <a:latin typeface="Times New Roman"/>
              </a:rPr>
              <a:t>&lt;</a:t>
            </a: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 2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1676520"/>
          <a:ext cx="8305560" cy="1366560"/>
        </p:xfrm>
        <a:graphic>
          <a:graphicData uri="http://schemas.openxmlformats.org/drawingml/2006/table">
            <a:tbl>
              <a:tblPr/>
              <a:tblGrid>
                <a:gridCol w="973080"/>
                <a:gridCol w="703080"/>
                <a:gridCol w="914400"/>
                <a:gridCol w="914400"/>
                <a:gridCol w="838440"/>
                <a:gridCol w="914400"/>
                <a:gridCol w="1143000"/>
                <a:gridCol w="99036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 2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R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I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I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 3-5 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C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sh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NR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F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533520" y="3660840"/>
            <a:ext cx="35812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for Gef vs Vnr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S:  1.19 (0.85, 1.69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:    0.98 (0.66, 1.47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4191120" y="3508200"/>
            <a:ext cx="2598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for Vnr vs Gef for 54 FISH (+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S:  3.13 (1.45, 6.73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:    2.88 (1.21, 6.83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80880" y="6095880"/>
            <a:ext cx="7239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Crino et al. IASLC 2007.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Crino L </a:t>
            </a:r>
            <a:r>
              <a:rPr b="0" lang="en-US" sz="1600" spc="-1" strike="noStrike">
                <a:solidFill>
                  <a:srgbClr val="ffc000"/>
                </a:solidFill>
                <a:latin typeface="Arial"/>
              </a:rPr>
              <a:t>et al.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J Clin Oncol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2008;26(26):4253-60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57200" y="4648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clusions: 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fitinib and vinorelbine similar efficacy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fitinib better tolerated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doxical benefit for VNR in FISH (+) pts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374560" y="3124080"/>
            <a:ext cx="435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*PSI – Pulmonary symptom improvemen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is a paucity of data for patients over the age of 75 and particularly over the age of 80. These patients tend to be managed with BSC or single-agent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BINED RESULT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WOG 0027 and LUN06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219320"/>
          <a:ext cx="8229600" cy="5443560"/>
        </p:xfrm>
        <a:graphic>
          <a:graphicData uri="http://schemas.openxmlformats.org/drawingml/2006/table">
            <a:tbl>
              <a:tblPr/>
              <a:tblGrid>
                <a:gridCol w="2900520"/>
                <a:gridCol w="2330280"/>
                <a:gridCol w="2998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OG 0027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ients &lt; age 80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OG 0027 and LUN06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patients 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age 80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 of patient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4 (41.2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 (21.5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an age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 (80-87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/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/1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(17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(8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D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(27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(44.9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an survival 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year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rade 2/4 toxicities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/91 (96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/49 (78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lèche vers la droite 27"/>
          <p:cNvSpPr/>
          <p:nvPr/>
        </p:nvSpPr>
        <p:spPr>
          <a:xfrm>
            <a:off x="2676600" y="3162240"/>
            <a:ext cx="4348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Flèche vers la droite 28"/>
          <p:cNvSpPr/>
          <p:nvPr/>
        </p:nvSpPr>
        <p:spPr>
          <a:xfrm>
            <a:off x="3551400" y="2286000"/>
            <a:ext cx="436320" cy="380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Flèche vers la droite 29"/>
          <p:cNvSpPr/>
          <p:nvPr/>
        </p:nvSpPr>
        <p:spPr>
          <a:xfrm>
            <a:off x="3551400" y="4014720"/>
            <a:ext cx="436320" cy="38124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Flèche vers la droite 30"/>
          <p:cNvSpPr/>
          <p:nvPr/>
        </p:nvSpPr>
        <p:spPr>
          <a:xfrm>
            <a:off x="6215040" y="2975040"/>
            <a:ext cx="436680" cy="38088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Flèche vers la droite 31"/>
          <p:cNvSpPr/>
          <p:nvPr/>
        </p:nvSpPr>
        <p:spPr>
          <a:xfrm>
            <a:off x="6215040" y="3792600"/>
            <a:ext cx="436680" cy="38088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ekly paclitaxel combined with carboplatin versus single-agent therapy in patients aged 70 to 89: IFCT-Randomized Phase III Study in Advanced NSCL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ZoneTexte 8"/>
          <p:cNvSpPr/>
          <p:nvPr/>
        </p:nvSpPr>
        <p:spPr>
          <a:xfrm>
            <a:off x="3418920" y="553068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Choice of  the center at the beginning of the stud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* In case of PD or excessive toxicit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Rectangle à coins arrondis 22"/>
          <p:cNvGrpSpPr/>
          <p:nvPr/>
        </p:nvGrpSpPr>
        <p:grpSpPr>
          <a:xfrm>
            <a:off x="476280" y="1822320"/>
            <a:ext cx="2254320" cy="3249720"/>
            <a:chOff x="476280" y="1822320"/>
            <a:chExt cx="2254320" cy="3249720"/>
          </a:xfrm>
        </p:grpSpPr>
        <p:pic>
          <p:nvPicPr>
            <p:cNvPr id="92" name="Rectangle à coins arrondis 22" descr=""/>
            <p:cNvPicPr/>
            <p:nvPr/>
          </p:nvPicPr>
          <p:blipFill>
            <a:blip r:embed="rId1"/>
            <a:stretch/>
          </p:blipFill>
          <p:spPr>
            <a:xfrm>
              <a:off x="476280" y="1822320"/>
              <a:ext cx="225432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96880" y="1919520"/>
              <a:ext cx="2016720" cy="30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" name="Rectangle 23"/>
          <p:cNvSpPr/>
          <p:nvPr/>
        </p:nvSpPr>
        <p:spPr>
          <a:xfrm>
            <a:off x="596880" y="1981080"/>
            <a:ext cx="2016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NSCLC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Stage III-IV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Age  70-89 years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PS 0-2 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n = 451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5" name="Rectangle à coins arrondis 20"/>
          <p:cNvGrpSpPr/>
          <p:nvPr/>
        </p:nvGrpSpPr>
        <p:grpSpPr>
          <a:xfrm>
            <a:off x="3889440" y="1981080"/>
            <a:ext cx="2492280" cy="1444680"/>
            <a:chOff x="3889440" y="1981080"/>
            <a:chExt cx="2492280" cy="1444680"/>
          </a:xfrm>
        </p:grpSpPr>
        <p:pic>
          <p:nvPicPr>
            <p:cNvPr id="96" name="Rectangle à coins arrondis 20" descr=""/>
            <p:cNvPicPr/>
            <p:nvPr/>
          </p:nvPicPr>
          <p:blipFill>
            <a:blip r:embed="rId2"/>
            <a:stretch/>
          </p:blipFill>
          <p:spPr>
            <a:xfrm>
              <a:off x="3889440" y="1981080"/>
              <a:ext cx="2492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92040" y="2058120"/>
              <a:ext cx="2292840" cy="12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3987720" y="2057400"/>
            <a:ext cx="230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inorelbine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mcitabin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Rectangle à coins arrondis 18"/>
          <p:cNvGrpSpPr/>
          <p:nvPr/>
        </p:nvGrpSpPr>
        <p:grpSpPr>
          <a:xfrm>
            <a:off x="3902040" y="3828960"/>
            <a:ext cx="2475000" cy="1243080"/>
            <a:chOff x="3902040" y="3828960"/>
            <a:chExt cx="2475000" cy="1243080"/>
          </a:xfrm>
        </p:grpSpPr>
        <p:pic>
          <p:nvPicPr>
            <p:cNvPr id="100" name="Rectangle à coins arrondis 18" descr=""/>
            <p:cNvPicPr/>
            <p:nvPr/>
          </p:nvPicPr>
          <p:blipFill>
            <a:blip r:embed="rId3"/>
            <a:stretch/>
          </p:blipFill>
          <p:spPr>
            <a:xfrm>
              <a:off x="3902040" y="3828960"/>
              <a:ext cx="24750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996000" y="3896280"/>
              <a:ext cx="229572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2" name="Rectangle 19"/>
          <p:cNvSpPr/>
          <p:nvPr/>
        </p:nvSpPr>
        <p:spPr>
          <a:xfrm>
            <a:off x="4032360" y="3895560"/>
            <a:ext cx="22921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arboplatin +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clitaxel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" name="Rectangle à coins arrondis 16"/>
          <p:cNvGrpSpPr/>
          <p:nvPr/>
        </p:nvGrpSpPr>
        <p:grpSpPr>
          <a:xfrm>
            <a:off x="6632640" y="3005280"/>
            <a:ext cx="2262240" cy="1182600"/>
            <a:chOff x="6632640" y="3005280"/>
            <a:chExt cx="2262240" cy="1182600"/>
          </a:xfrm>
        </p:grpSpPr>
        <p:pic>
          <p:nvPicPr>
            <p:cNvPr id="104" name="Rectangle à coins arrondis 16" descr=""/>
            <p:cNvPicPr/>
            <p:nvPr/>
          </p:nvPicPr>
          <p:blipFill>
            <a:blip r:embed="rId4"/>
            <a:stretch/>
          </p:blipFill>
          <p:spPr>
            <a:xfrm>
              <a:off x="6632640" y="3005280"/>
              <a:ext cx="22622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727680" y="3074400"/>
              <a:ext cx="2081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6" name="Rectangle 17"/>
          <p:cNvSpPr/>
          <p:nvPr/>
        </p:nvSpPr>
        <p:spPr>
          <a:xfrm>
            <a:off x="6727680" y="318276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Erlotinib**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150 mg/d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ZoneTexte 25"/>
          <p:cNvSpPr/>
          <p:nvPr/>
        </p:nvSpPr>
        <p:spPr>
          <a:xfrm>
            <a:off x="3126240" y="2050920"/>
            <a:ext cx="4762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ZoneTexte 24"/>
          <p:cNvSpPr/>
          <p:nvPr/>
        </p:nvSpPr>
        <p:spPr>
          <a:xfrm>
            <a:off x="764280" y="5181480"/>
            <a:ext cx="654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tratification by centre, PS 0-1 vs 2, age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80 vs &gt;80 and stage III vs IV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Response rate at 6 weeks (ITT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48"/>
          <p:cNvSpPr/>
          <p:nvPr/>
        </p:nvSpPr>
        <p:spPr>
          <a:xfrm>
            <a:off x="769680" y="5181480"/>
            <a:ext cx="657252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Main causes: deaths (20 in arm A and 23 in arm B),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duced general condition (respectively 7 and 4), toxicit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0 and 4 cases respectively and withdrawal of consent (6 cases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341360"/>
          <a:ext cx="7848720" cy="3535560"/>
        </p:xfrm>
        <a:graphic>
          <a:graphicData uri="http://schemas.openxmlformats.org/drawingml/2006/table">
            <a:tbl>
              <a:tblPr/>
              <a:tblGrid>
                <a:gridCol w="2286000"/>
                <a:gridCol w="1981080"/>
                <a:gridCol w="213372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Agent Arm A (2 = 211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B (n = 210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PR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23 (10.9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61 (29.05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-5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ST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96 (45.5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81 (38.5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18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DCR (PR + ST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19 (56.4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42 (67.62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02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PD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46 (21.8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5 (7.14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-4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Not reported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5 (7.11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20 (9.53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47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Withdrawal before 1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 evaluation*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31 (14.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33 (15.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88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oneTexte 18"/>
          <p:cNvSpPr/>
          <p:nvPr/>
        </p:nvSpPr>
        <p:spPr>
          <a:xfrm>
            <a:off x="3192840" y="3144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ZoneTexte 20"/>
          <p:cNvSpPr/>
          <p:nvPr/>
        </p:nvSpPr>
        <p:spPr>
          <a:xfrm>
            <a:off x="2003040" y="42559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Object 7" descr=""/>
          <p:cNvPicPr/>
          <p:nvPr/>
        </p:nvPicPr>
        <p:blipFill>
          <a:blip r:embed="rId1"/>
          <a:stretch/>
        </p:blipFill>
        <p:spPr>
          <a:xfrm>
            <a:off x="1817640" y="890640"/>
            <a:ext cx="6488280" cy="4510080"/>
          </a:xfrm>
          <a:prstGeom prst="rect">
            <a:avLst/>
          </a:prstGeom>
          <a:ln w="0">
            <a:noFill/>
          </a:ln>
        </p:spPr>
      </p:pic>
      <p:sp>
        <p:nvSpPr>
          <p:cNvPr id="117" name="Connecteur droit 23"/>
          <p:cNvSpPr/>
          <p:nvPr/>
        </p:nvSpPr>
        <p:spPr>
          <a:xfrm>
            <a:off x="3352680" y="1295280"/>
            <a:ext cx="322560" cy="0"/>
          </a:xfrm>
          <a:prstGeom prst="line">
            <a:avLst/>
          </a:prstGeom>
          <a:ln w="25560">
            <a:solidFill>
              <a:srgbClr val="4fa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Connecteur droit 24"/>
          <p:cNvSpPr/>
          <p:nvPr/>
        </p:nvSpPr>
        <p:spPr>
          <a:xfrm>
            <a:off x="3467160" y="2286000"/>
            <a:ext cx="3222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ZoneTexte 27"/>
          <p:cNvSpPr/>
          <p:nvPr/>
        </p:nvSpPr>
        <p:spPr>
          <a:xfrm>
            <a:off x="3534120" y="34750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ZoneTexte 28"/>
          <p:cNvSpPr/>
          <p:nvPr/>
        </p:nvSpPr>
        <p:spPr>
          <a:xfrm>
            <a:off x="2382480" y="39816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4700520"/>
          <a:ext cx="8153640" cy="914400"/>
        </p:xfrm>
        <a:graphic>
          <a:graphicData uri="http://schemas.openxmlformats.org/drawingml/2006/table">
            <a:tbl>
              <a:tblPr/>
              <a:tblGrid>
                <a:gridCol w="1257480"/>
                <a:gridCol w="861840"/>
                <a:gridCol w="862200"/>
                <a:gridCol w="861840"/>
                <a:gridCol w="862200"/>
                <a:gridCol w="861840"/>
                <a:gridCol w="862200"/>
                <a:gridCol w="861840"/>
                <a:gridCol w="8622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Months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Singl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5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Doublet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0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ZoneTexte 30"/>
          <p:cNvSpPr/>
          <p:nvPr/>
        </p:nvSpPr>
        <p:spPr>
          <a:xfrm>
            <a:off x="1752480" y="976320"/>
            <a:ext cx="24948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FS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robabi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ZoneTexte 7"/>
          <p:cNvSpPr/>
          <p:nvPr/>
        </p:nvSpPr>
        <p:spPr>
          <a:xfrm>
            <a:off x="3793320" y="97632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edian: 6.1 months (95% CI 5.5-6.9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-year PFS: 15.4% (95% CI 10.8-20.8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ZoneTexte 8"/>
          <p:cNvSpPr/>
          <p:nvPr/>
        </p:nvSpPr>
        <p:spPr>
          <a:xfrm>
            <a:off x="3793680" y="19447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edian: 3.0 months (95% CI 2.6-3.9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-year PFS: 2.3% (95% CI 0.8-5.3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p &lt; 10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-6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457200" y="122400"/>
            <a:ext cx="8381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PFS (ITT) 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8285040" y="871560"/>
            <a:ext cx="487440" cy="3840120"/>
            <a:chOff x="8285040" y="871560"/>
            <a:chExt cx="487440" cy="3840120"/>
          </a:xfrm>
        </p:grpSpPr>
        <p:pic>
          <p:nvPicPr>
            <p:cNvPr id="127" name="Rectangle 13" descr=""/>
            <p:cNvPicPr/>
            <p:nvPr/>
          </p:nvPicPr>
          <p:blipFill>
            <a:blip r:embed="rId2"/>
            <a:stretch/>
          </p:blipFill>
          <p:spPr>
            <a:xfrm>
              <a:off x="8285040" y="871560"/>
              <a:ext cx="48744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305920" y="890640"/>
              <a:ext cx="45720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9" name="Rectangle 14"/>
          <p:cNvGrpSpPr/>
          <p:nvPr/>
        </p:nvGrpSpPr>
        <p:grpSpPr>
          <a:xfrm>
            <a:off x="590400" y="878040"/>
            <a:ext cx="1251000" cy="3840120"/>
            <a:chOff x="590400" y="878040"/>
            <a:chExt cx="1251000" cy="3840120"/>
          </a:xfrm>
        </p:grpSpPr>
        <p:pic>
          <p:nvPicPr>
            <p:cNvPr id="130" name="Rectangle 14" descr=""/>
            <p:cNvPicPr/>
            <p:nvPr/>
          </p:nvPicPr>
          <p:blipFill>
            <a:blip r:embed="rId3"/>
            <a:stretch/>
          </p:blipFill>
          <p:spPr>
            <a:xfrm>
              <a:off x="590400" y="878040"/>
              <a:ext cx="12510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09480" y="895320"/>
              <a:ext cx="121932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onnecteur droit 5"/>
          <p:cNvSpPr/>
          <p:nvPr/>
        </p:nvSpPr>
        <p:spPr>
          <a:xfrm>
            <a:off x="4572000" y="1295280"/>
            <a:ext cx="990720" cy="1800"/>
          </a:xfrm>
          <a:prstGeom prst="line">
            <a:avLst/>
          </a:prstGeom>
          <a:ln w="25560">
            <a:solidFill>
              <a:srgbClr val="4fa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Connecteur droit 7"/>
          <p:cNvSpPr/>
          <p:nvPr/>
        </p:nvSpPr>
        <p:spPr>
          <a:xfrm>
            <a:off x="4572000" y="1752480"/>
            <a:ext cx="9907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57150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ZoneTexte 10"/>
          <p:cNvSpPr/>
          <p:nvPr/>
        </p:nvSpPr>
        <p:spPr>
          <a:xfrm>
            <a:off x="5715000" y="1535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ngle agen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Object 2" descr=""/>
          <p:cNvPicPr/>
          <p:nvPr/>
        </p:nvPicPr>
        <p:blipFill>
          <a:blip r:embed="rId1"/>
          <a:stretch/>
        </p:blipFill>
        <p:spPr>
          <a:xfrm>
            <a:off x="2019240" y="838080"/>
            <a:ext cx="6629400" cy="514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990720" y="5251320"/>
          <a:ext cx="7657920" cy="914400"/>
        </p:xfrm>
        <a:graphic>
          <a:graphicData uri="http://schemas.openxmlformats.org/drawingml/2006/table">
            <a:tbl>
              <a:tblPr/>
              <a:tblGrid>
                <a:gridCol w="1181160"/>
                <a:gridCol w="733320"/>
                <a:gridCol w="885600"/>
                <a:gridCol w="809640"/>
                <a:gridCol w="809640"/>
                <a:gridCol w="887400"/>
                <a:gridCol w="911520"/>
                <a:gridCol w="903240"/>
                <a:gridCol w="536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Months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Singl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Doublet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5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ZoneTexte 8"/>
          <p:cNvSpPr/>
          <p:nvPr/>
        </p:nvSpPr>
        <p:spPr>
          <a:xfrm>
            <a:off x="5248800" y="3527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ZoneTexte 16"/>
          <p:cNvSpPr/>
          <p:nvPr/>
        </p:nvSpPr>
        <p:spPr>
          <a:xfrm>
            <a:off x="2896920" y="38973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ZoneTexte 14"/>
          <p:cNvSpPr/>
          <p:nvPr/>
        </p:nvSpPr>
        <p:spPr>
          <a:xfrm>
            <a:off x="990720" y="838080"/>
            <a:ext cx="1218960" cy="43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ZoneTexte 12"/>
          <p:cNvSpPr/>
          <p:nvPr/>
        </p:nvSpPr>
        <p:spPr>
          <a:xfrm>
            <a:off x="4209120" y="1004760"/>
            <a:ext cx="39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MST = 10.3 months (95% CI 8.3-13.3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-year survival 45.1% (95% CI 38.2-51.8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Connecteur droit 15"/>
          <p:cNvSpPr/>
          <p:nvPr/>
        </p:nvSpPr>
        <p:spPr>
          <a:xfrm>
            <a:off x="3733920" y="1297080"/>
            <a:ext cx="4014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Connecteur droit 16"/>
          <p:cNvSpPr/>
          <p:nvPr/>
        </p:nvSpPr>
        <p:spPr>
          <a:xfrm>
            <a:off x="3733920" y="2057400"/>
            <a:ext cx="401400" cy="0"/>
          </a:xfrm>
          <a:prstGeom prst="line">
            <a:avLst/>
          </a:prstGeom>
          <a:ln w="25560">
            <a:solidFill>
              <a:srgbClr val="1c6f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ZoneTexte 11"/>
          <p:cNvSpPr/>
          <p:nvPr/>
        </p:nvSpPr>
        <p:spPr>
          <a:xfrm>
            <a:off x="4232160" y="1739880"/>
            <a:ext cx="41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MST = 6.2 months (95% CI 5.3-7.4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-year survival 26.9% (95% CI 21-33.1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p = 0.00004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495360" y="122400"/>
            <a:ext cx="81532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Overall survival (ITT)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990720" y="5181480"/>
            <a:ext cx="1028520" cy="76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1328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Exploratory subgroup analy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1500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28600" y="3032280"/>
            <a:ext cx="1668600" cy="209340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150 patients with newly diagnosed metastatic NSCLC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216240" y="3962520"/>
            <a:ext cx="312840" cy="349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565440" y="2139840"/>
            <a:ext cx="2363760" cy="130212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Early palliative care integrated with standard oncology care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557520" y="4363920"/>
            <a:ext cx="2379600" cy="69228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Standard oncology care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1946160" y="3917880"/>
            <a:ext cx="757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843200" y="3111480"/>
            <a:ext cx="98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line Data Collection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774880" y="2181240"/>
            <a:ext cx="381240" cy="343404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Gill Sans"/>
                <a:ea typeface="ヒラギノ角ゴ Pro W3"/>
              </a:rPr>
              <a:t>RANDOMIZED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3224160" y="3546000"/>
            <a:ext cx="312840" cy="320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LY PALLIATIVE CARE – ADVANCED NSCLC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345360" y="1863720"/>
            <a:ext cx="2590560" cy="1607040"/>
          </a:xfrm>
          <a:prstGeom prst="rect">
            <a:avLst/>
          </a:prstGeom>
          <a:solidFill>
            <a:srgbClr val="e9edf4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et with palliative care within 3 weeks of signing consent and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onthly thereafter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340320" y="3917880"/>
            <a:ext cx="2590920" cy="1607040"/>
          </a:xfrm>
          <a:prstGeom prst="rect">
            <a:avLst/>
          </a:prstGeom>
          <a:solidFill>
            <a:srgbClr val="e9edf4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et with palliative care only whe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queste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y patient, family or oncology clinician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5977080" y="2668680"/>
            <a:ext cx="309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5986440" y="4726080"/>
            <a:ext cx="309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20280" y="6248520"/>
            <a:ext cx="29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el et al. NEJM 2010.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rvival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71400" y="1641600"/>
            <a:ext cx="77724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an survival: Early palliative care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6 months; standard care, 8.9 month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0.02)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olling for age, gender and PS, adjusted HR (early palliative care versus standard care) = 0.59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0.01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- Representati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Clinical Tria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9400" y="1536480"/>
            <a:ext cx="82119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5% of lung cancer patients are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50% of lung cancer patients are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lderly representation on US t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Study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%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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7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5592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1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9509/9305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1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1594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20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GB 973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2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COG 45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2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25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: Treatment Princip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580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 alone should not be a criterion for selection of therapy in advanced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dicated chemotherapy trials in patients aged 70 to 75 with PS 0-1 are no longer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dicated studies are urgently needed in octogenar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timal use of targeted agents in elderly patients still a “moving targe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tter assessment of comorbidities and general “frailty index” is an important research go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50840" y="174960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457200"/>
            <a:ext cx="7124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: Obstac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400" y="1641240"/>
            <a:ext cx="77724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clinical practice, elderly patients, often excluded from clinical trials, receive untested or inferior treatments, based on several long-held but undocumented belief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have less aggressive canc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do not want aggressive therap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cannot tolerate aggressive therap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have different wishes with respect to prolongation of life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79560" y="170496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ltiple retrospective and prospective subset analyses indicate that elderly patients (mostly between 70-75 years of age), with a PS 0-1, tend to fare as well as younger patients with carboplatin-based doublets in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line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2244600"/>
            <a:ext cx="89154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TAL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4                 277                           164                170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R (%)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                 17                              30                  11                              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T (mo)        8.8                 6.7                             10                  8.6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Y (%)            37                  32                              40                  32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DERL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77                 78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56                65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R (%)         36                  21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22                 19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T (mo)        8.0                 5.8                             11                 9.4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Y (%)            35                  31                              NR               NR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995560" y="1430280"/>
            <a:ext cx="14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LGB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507000" y="1433520"/>
            <a:ext cx="20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WEDISH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430360" y="2035080"/>
            <a:ext cx="62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P                P                        CG              G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2746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rospective Subset Analyses of Elderly Patients:</a:t>
            </a:r>
            <a:endParaRPr b="0" i="1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ombination vs Single Agents</a:t>
            </a:r>
            <a:endParaRPr b="0" i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22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ral clinical trials in elderly patients included PS 2 patients as a combined “special population” elig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2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se trials showed a distinct difference in outcome between age and 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is little data regarding the efficacy and safety of biological agents in the elderly cohor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Outcomes for Elderly Advanced NSCLC Patients Treated with Bevacizumab in Combination with Carboplatin and Paclitaxel: Analysis of ECOG 4599 Study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633680"/>
          <a:ext cx="7772400" cy="4386240"/>
        </p:xfrm>
        <a:graphic>
          <a:graphicData uri="http://schemas.openxmlformats.org/drawingml/2006/table">
            <a:tbl>
              <a:tblPr/>
              <a:tblGrid>
                <a:gridCol w="1555920"/>
                <a:gridCol w="1552320"/>
                <a:gridCol w="1555920"/>
                <a:gridCol w="1552320"/>
                <a:gridCol w="15559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derly (</a:t>
                      </a: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&gt;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70)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-Elderly (&lt; 70)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B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B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+PR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D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n PF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9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9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= 0.063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2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&lt; 0.00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Yr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n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1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0.4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6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8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= 0.0027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52"/>
          <p:cNvSpPr/>
          <p:nvPr/>
        </p:nvSpPr>
        <p:spPr>
          <a:xfrm>
            <a:off x="5425200" y="64324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malingam et al. JCO 2008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Text Box 53"/>
          <p:cNvSpPr/>
          <p:nvPr/>
        </p:nvSpPr>
        <p:spPr>
          <a:xfrm>
            <a:off x="593640" y="640080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*Median Age “Elderly”: 74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xicity on PCB Arm: Elderly vs Non-Elder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03440" y="1523880"/>
          <a:ext cx="7754760" cy="4595760"/>
        </p:xfrm>
        <a:graphic>
          <a:graphicData uri="http://schemas.openxmlformats.org/drawingml/2006/table">
            <a:tbl>
              <a:tblPr/>
              <a:tblGrid>
                <a:gridCol w="2396880"/>
                <a:gridCol w="1901880"/>
                <a:gridCol w="1768320"/>
                <a:gridCol w="168768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de 3/4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&gt;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70 yr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70 yr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penia    (Gr 4)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2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lena/GI Bleed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5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teinuria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9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tor Neuropathy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5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st Grade 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7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0.00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D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8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26:26Z</dcterms:created>
  <dc:creator>Research To Practice</dc:creator>
  <dc:description/>
  <cp:keywords/>
  <dc:language>en-US</dc:language>
  <cp:lastModifiedBy>Mac Pro E703803Y4PC</cp:lastModifiedBy>
  <dcterms:modified xsi:type="dcterms:W3CDTF">2011-05-11T16:15:51Z</dcterms:modified>
  <cp:revision>121</cp:revision>
  <dc:subject/>
  <dc:title>PowerPoint Presentation</dc:title>
</cp:coreProperties>
</file>