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7.png" ContentType="image/png"/>
  <Override PartName="/ppt/media/image5.jpeg" ContentType="image/jpeg"/>
  <Override PartName="/ppt/media/image6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F8B-CFA3-434C-8C0D-BC22C922C3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Click to move the slide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B600-F8D8-4D80-B523-1275BA13A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4857-FC9F-499C-B435-9EB89C3C7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DF0FEB-0AA1-428E-BC54-BB94A8E032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D2D4-F09B-4BE9-9D5E-6B2136D62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8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63F0B7-C6CB-4C8B-969F-65F12CBA28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D007-C213-410C-93CA-9C7F5A6F44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873A-415A-4475-BA3D-A626D0F91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7366-FE38-4F2F-8DCC-EE2BC5982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7F7-0D88-4E8D-8B28-574E166DB8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469880" y="685800"/>
            <a:ext cx="4237200" cy="3176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52440" y="4017960"/>
            <a:ext cx="4670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C4F-C082-4798-BC5E-AA3263EC577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2D51-34B6-49FA-8BD1-43C88590EC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5000" y="685800"/>
            <a:ext cx="4248000" cy="3186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100160" y="4017960"/>
            <a:ext cx="46576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FA55-F160-4980-847E-9B2FB7D66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638B-F982-47AB-BF1B-7DCF0F194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3E6-AFC1-42D5-AE48-B2B41546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8F8-BDCB-42C8-986E-5B85ECD8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8B9-3486-4457-B83F-2694E5C6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1B4-6074-4AC4-AD84-1929A3A8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716-2D7F-451C-935E-C31405C6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96D5-BB42-466D-976D-26C6EF73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16B5-62E9-43ED-B7EE-655ED234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E1F3-9C10-41C2-B675-595E93AF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F54D-CC07-4B84-BD4B-E44149DE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C2B4-2E85-491D-A199-EF3FA508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83E-1545-41A6-84A8-7B80500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FFE-7324-48F5-8C66-D27957A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B931-F74A-4D44-B4D7-8D769D57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10EB-8951-4DED-BAFF-D778538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B26-6512-4ACE-B3FA-E1CAB7F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7AA8-32E4-480C-ADCE-5D614D64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2BED-008F-47E5-8B01-C715BD82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9833-02A5-421D-B8D1-058323C1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664C-63DB-46BA-842F-64C4D012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E3E2-A937-481C-9812-295478ED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090A-59A7-4A9C-89F8-4F8811EE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0491-DDAE-49F6-9D85-0A5425BB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00D-792F-4AB9-9004-4823EAC3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AD1E-1816-4F91-834D-9A44AF1D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8769F-967F-4B39-8EBE-258AC8B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5D52-D172-4B78-9764-FED0B877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B38A-BC22-4B2F-86C7-54BB616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6C632-9F3F-446B-810D-EC4D75E4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9861-C18C-44F7-AE15-422D3901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1F02-A691-402B-A4EA-F11D8372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5C3-E40A-4CF3-8419-2D2D039C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E82-05B5-48EF-91F9-1A6AFF00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1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1C1-4FE1-4711-BD8A-5249829E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D9E-7E37-4CC8-86E4-65CAD4B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8E8-5B62-4ED7-8513-56E4481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A4C-AD4F-4298-9FE1-23A2373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B188-A9FE-4637-8F91-61440B9B4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yccsmilowbackgrndwhite"/>
          <p:cNvPicPr/>
          <p:nvPr/>
        </p:nvPicPr>
        <p:blipFill>
          <a:blip r:embed="rId3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1" marL="704160" indent="-269640">
              <a:spcBef>
                <a:spcPts val="700"/>
              </a:spcBef>
              <a:buClr>
                <a:srgbClr val="002b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2" marL="1084320" indent="-21564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3" marL="1518480" indent="-215640">
              <a:spcBef>
                <a:spcPts val="700"/>
              </a:spcBef>
              <a:buClr>
                <a:srgbClr val="002b5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4" marL="1953000" indent="-215640">
              <a:spcBef>
                <a:spcPts val="700"/>
              </a:spcBef>
              <a:buClr>
                <a:srgbClr val="002b5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5" marL="1953000" indent="-2156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lvl="6" marL="1953000" indent="-2156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71100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3544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2E2-3609-40CA-9FBA-0D092BA732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-360" y="7596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335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373680" indent="-37368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13960" indent="-29196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01320" indent="-174600">
              <a:spcBef>
                <a:spcPts val="1349"/>
              </a:spcBef>
              <a:spcAft>
                <a:spcPts val="1349"/>
              </a:spcAft>
              <a:buClr>
                <a:srgbClr val="ff33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47280" indent="-198000">
              <a:spcBef>
                <a:spcPts val="1349"/>
              </a:spcBef>
              <a:spcAft>
                <a:spcPts val="1349"/>
              </a:spcAft>
              <a:buClr>
                <a:srgbClr val="ff33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1160" indent="-174600">
              <a:spcBef>
                <a:spcPts val="1349"/>
              </a:spcBef>
              <a:spcAft>
                <a:spcPts val="13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84B0-6465-4498-8595-3EBCE8806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8D8E-928C-429B-87C3-779F27549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601"/>
              </a:spcAft>
              <a:buClr>
                <a:srgbClr val="e3195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4360" indent="-33984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7760">
              <a:spcAft>
                <a:spcPts val="601"/>
              </a:spcAft>
              <a:buClr>
                <a:srgbClr val="e319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92120" indent="-3538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79640" indent="-58428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38160">
            <a:solidFill>
              <a:srgbClr val="e319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12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6800" indent="-349560">
              <a:spcAft>
                <a:spcPts val="601"/>
              </a:spcAft>
              <a:buClr>
                <a:srgbClr val="e319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93920" indent="-355680">
              <a:spcAft>
                <a:spcPts val="601"/>
              </a:spcAft>
              <a:buClr>
                <a:srgbClr val="e3195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81080" indent="-585720">
              <a:spcAft>
                <a:spcPts val="60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38160">
            <a:solidFill>
              <a:srgbClr val="e319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EGFR and KRAS Mutations: Prognostic and Predictive Utilit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Winter 2011 Lung Cancer Conference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838080" y="3962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Thomas J. Lynch, Jr., M.D.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Director, Yale Cancer Center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  <a:ea typeface="ＭＳ Ｐゴシック"/>
              </a:rPr>
              <a:t>Physician-in-Chief, Smilow Cancer Hospital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rogression-Free Survival (PFS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EGFR  Mutation-Positive and Negativ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2054160"/>
          <a:ext cx="8458200" cy="2556000"/>
        </p:xfrm>
        <a:graphic>
          <a:graphicData uri="http://schemas.openxmlformats.org/drawingml/2006/table">
            <a:tbl>
              <a:tblPr/>
              <a:tblGrid>
                <a:gridCol w="2286000"/>
                <a:gridCol w="1676520"/>
                <a:gridCol w="1935000"/>
                <a:gridCol w="1189080"/>
                <a:gridCol w="1371600"/>
              </a:tblGrid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FS, Events by Mutation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arboplatin + Paclitaxel (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97 (13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11 (12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Neg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8 (9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0 (8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.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1880" y="624852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k TS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Engl J 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361(10):947-5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PASS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 (OS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     by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981080"/>
          <a:ext cx="8153280" cy="2286000"/>
        </p:xfrm>
        <a:graphic>
          <a:graphicData uri="http://schemas.openxmlformats.org/drawingml/2006/table">
            <a:tbl>
              <a:tblPr/>
              <a:tblGrid>
                <a:gridCol w="2819520"/>
                <a:gridCol w="1741320"/>
                <a:gridCol w="2013120"/>
                <a:gridCol w="157932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S, Events by 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arboplatin + Paclitaxel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87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37588680" indent="9711720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8 (13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3 (12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37588680" indent="9711720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2 (9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2 (8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/>
          <p:cNvSpPr/>
          <p:nvPr/>
        </p:nvSpPr>
        <p:spPr>
          <a:xfrm>
            <a:off x="461160" y="6251400"/>
            <a:ext cx="47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ukuoka 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Abstract 8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6960" y="4572000"/>
            <a:ext cx="72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azard ratio &lt;1.00 implies a lower risk of death on gefitini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.21: Updated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ording to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1981080"/>
          <a:ext cx="8458200" cy="266724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xon 19 Deletions and L858R Mut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0.9 mo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8.3 mos 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12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 EGFR and Indeterminate Varia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9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1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3 mos 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5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9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461160" y="6248520"/>
            <a:ext cx="44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hu 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;26(26):4268-7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0880" y="304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EST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               by EGFR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04920" y="1981080"/>
          <a:ext cx="8458200" cy="228600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4.2 mos (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6.6 mos (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0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GFR Mutation 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.4 mos (11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.0 mos (13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91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459720" y="624852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uillard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5):744-5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7080" y="435780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tion status by treatment interaction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: 0.58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5c"/>
                </a:solidFill>
                <a:latin typeface="Arial Bold"/>
              </a:rPr>
              <a:t>EGFR  Mutations</a:t>
            </a:r>
            <a:endParaRPr b="0" lang="en-US" sz="36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edictive for response and PFS benefit from tyrosine kinase inhibitors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edictive of response to chemotherapy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ognostic for overall survival in stage IV disease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2b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5c"/>
                </a:solidFill>
                <a:latin typeface="Arial"/>
              </a:rPr>
              <a:t>Prognostic for overall survival after surgery?</a:t>
            </a:r>
            <a:endParaRPr b="0" lang="en-US" sz="2800" spc="-1" strike="noStrike">
              <a:solidFill>
                <a:srgbClr val="002b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2b5c"/>
                </a:solidFill>
                <a:latin typeface="Arial Bold"/>
              </a:rPr>
              <a:t>RAS Mutations</a:t>
            </a:r>
            <a:endParaRPr b="0" lang="en-US" sz="11500" spc="-1" strike="noStrike">
              <a:solidFill>
                <a:srgbClr val="002b5c"/>
              </a:solidFill>
              <a:latin typeface="Arial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0880" y="0"/>
            <a:ext cx="8382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rvival of Patients After Radical Surgery for Adenocarcinoma of the 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9360" y="6251400"/>
            <a:ext cx="44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ebos R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 Engl J 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1990;323:561-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62120" y="1981080"/>
          <a:ext cx="7543800" cy="271620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  <a:gridCol w="2286000"/>
                <a:gridCol w="1371600"/>
              </a:tblGrid>
              <a:tr h="103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Point Mutation-Positive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9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Point Mutation-Negative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50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isease-free survival 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3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survival even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BR.10: Results by RAS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9720" y="6251400"/>
            <a:ext cx="42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tts CA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1):29-3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6765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S Wild-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 vs Chemotherapy, n = 170, 1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zard ratio, 0.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value, 0.2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S Mu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ervation vs Chemotherapy, n = 58, 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zard ratio, 0.8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e31952"/>
              </a:buClr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value, 0.4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BR.21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Overall Surviv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ccording to Updated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62120" y="1905120"/>
          <a:ext cx="7696080" cy="2122200"/>
        </p:xfrm>
        <a:graphic>
          <a:graphicData uri="http://schemas.openxmlformats.org/drawingml/2006/table">
            <a:tbl>
              <a:tblPr/>
              <a:tblGrid>
                <a:gridCol w="1523880"/>
                <a:gridCol w="1600200"/>
                <a:gridCol w="1600200"/>
                <a:gridCol w="1447920"/>
                <a:gridCol w="152388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Surviv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3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Mu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30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460800" y="6251400"/>
            <a:ext cx="438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hu 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8;26(26):4268-7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4267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pite large numerical differences in the HRs, no significant        interaction could be demonstr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action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, 0.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0880" y="4572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TURN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F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y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62120" y="1905120"/>
          <a:ext cx="7696080" cy="2122200"/>
        </p:xfrm>
        <a:graphic>
          <a:graphicData uri="http://schemas.openxmlformats.org/drawingml/2006/table">
            <a:tbl>
              <a:tblPr/>
              <a:tblGrid>
                <a:gridCol w="1981080"/>
                <a:gridCol w="1371600"/>
                <a:gridCol w="1600200"/>
                <a:gridCol w="1295280"/>
                <a:gridCol w="1447920"/>
              </a:tblGrid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lotinib (n)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lacebo (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22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0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1520" y="6248520"/>
            <a:ext cx="46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ugger W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 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Abstract 802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560" y="44956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acti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, 0.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dictive and Prognostic Facto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799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nosti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actor is a baseline patient or tumour characteristic that identifies a better outcom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gardless of treat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Aft>
                <a:spcPts val="799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dic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actor is a baseline patient or tumour characteristic that identifies a better outcom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rom treatmen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response or surviva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07800" y="6400800"/>
            <a:ext cx="2719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urtesy of Dr. F. Shephe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EST: </a:t>
            </a:r>
            <a:r>
              <a:rPr b="1" lang="en-US" sz="3200" spc="-1" strike="noStrike">
                <a:solidFill>
                  <a:srgbClr val="efeb55"/>
                </a:solidFill>
                <a:latin typeface="Arial"/>
                <a:ea typeface="ＭＳ Ｐゴシック"/>
              </a:rPr>
              <a:t>PF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y KRAS Mutation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04920" y="2135160"/>
          <a:ext cx="8458200" cy="197964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  <a:gridCol w="1752840"/>
                <a:gridCol w="1371600"/>
                <a:gridCol w="1371600"/>
              </a:tblGrid>
              <a:tr h="69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 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efi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azard Rat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utation-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4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5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68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KRAS Mutation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Wild-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.6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.3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0.19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459720" y="6251400"/>
            <a:ext cx="45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uillard 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28(5):744-5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4000680" y="2354400"/>
          <a:ext cx="3743280" cy="262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354400"/>
                    <a:ext cx="37432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4"/>
          <p:cNvGraphicFramePr/>
          <p:nvPr/>
        </p:nvGraphicFramePr>
        <p:xfrm>
          <a:off x="0" y="1905120"/>
          <a:ext cx="4586400" cy="350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458640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5"/>
          <p:cNvSpPr/>
          <p:nvPr/>
        </p:nvSpPr>
        <p:spPr>
          <a:xfrm>
            <a:off x="2019960" y="3629160"/>
            <a:ext cx="113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48360" y="3019320"/>
            <a:ext cx="1198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34160" y="3629160"/>
            <a:ext cx="1012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723600" y="4390920"/>
            <a:ext cx="99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3390840" y="2638440"/>
            <a:ext cx="1219320" cy="380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516720" y="2104920"/>
            <a:ext cx="104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7360560" y="3095640"/>
            <a:ext cx="1553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639040" y="4086360"/>
            <a:ext cx="102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GF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811320" y="3200400"/>
            <a:ext cx="99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534560" y="2181240"/>
            <a:ext cx="1808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 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797360" y="3511440"/>
            <a:ext cx="1526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5357880" y="262404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 flipV="1">
            <a:off x="6702480" y="2500200"/>
            <a:ext cx="1522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009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er Smok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ung Adenoca (US)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most All Molecular Subsets Defin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19"/>
          <p:cNvSpPr/>
          <p:nvPr/>
        </p:nvSpPr>
        <p:spPr>
          <a:xfrm flipV="1">
            <a:off x="7232760" y="3279600"/>
            <a:ext cx="158760" cy="4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57913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m D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6;24(11):1700; Stephens P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431(7008):525; Shaw AT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9;27(26):4247; Riely G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8;14(18):573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rcRect l="0" t="0" r="16128" b="7225"/>
          <a:stretch/>
        </p:blipFill>
        <p:spPr>
          <a:xfrm>
            <a:off x="2286000" y="1725480"/>
            <a:ext cx="3962520" cy="39132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5c"/>
                </a:solidFill>
                <a:latin typeface="Arial Bold"/>
                <a:ea typeface="ＭＳ Ｐゴシック"/>
              </a:rPr>
              <a:t>Epidermal Growth Factor Receptor Mutations</a:t>
            </a:r>
            <a:endParaRPr b="0" lang="en-US" sz="3200" spc="-1" strike="noStrike">
              <a:solidFill>
                <a:srgbClr val="002b5c"/>
              </a:solidFill>
              <a:latin typeface="Arial Bold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2330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-l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3397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60a09"/>
                </a:solidFill>
                <a:latin typeface="Arial"/>
              </a:rPr>
              <a:t>L85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2720" y="42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430d"/>
                </a:solidFill>
                <a:latin typeface="Arial"/>
              </a:rPr>
              <a:t>Activation lo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5181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-l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863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54480"/>
                </a:solidFill>
                <a:latin typeface="Arial"/>
              </a:rPr>
              <a:t>P-lo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3092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60a09"/>
                </a:solidFill>
                <a:latin typeface="Arial"/>
              </a:rPr>
              <a:t>G7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2178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b60a09"/>
                </a:solidFill>
                <a:latin typeface="Arial"/>
              </a:rPr>
              <a:t>ELRE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30040" y="345960"/>
            <a:ext cx="8433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c"/>
                </a:solidFill>
                <a:latin typeface="Arial"/>
              </a:rPr>
              <a:t>Rapid and dramatic response to gefitinib in subset of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Image24 molina 6"/>
          <p:cNvPicPr/>
          <p:nvPr/>
        </p:nvPicPr>
        <p:blipFill>
          <a:blip r:embed="rId2"/>
          <a:stretch/>
        </p:blipFill>
        <p:spPr>
          <a:xfrm>
            <a:off x="609480" y="2022480"/>
            <a:ext cx="354492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2"/>
          <p:cNvGraphicFramePr/>
          <p:nvPr/>
        </p:nvGraphicFramePr>
        <p:xfrm>
          <a:off x="4933800" y="2009880"/>
          <a:ext cx="3524400" cy="3670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3800" y="2009880"/>
                    <a:ext cx="352440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5"/>
          <p:cNvSpPr/>
          <p:nvPr/>
        </p:nvSpPr>
        <p:spPr>
          <a:xfrm>
            <a:off x="4686480" y="1600200"/>
            <a:ext cx="3231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Comic Sans MS"/>
              </a:rPr>
              <a:t>After Gefitinib (6 wee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17240" y="16002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0"/>
                </a:solidFill>
                <a:latin typeface="Comic Sans MS"/>
              </a:rPr>
              <a:t>Before Gefitin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66680" y="762120"/>
          <a:ext cx="7010640" cy="5181480"/>
        </p:xfrm>
        <a:graphic>
          <a:graphicData uri="http://schemas.openxmlformats.org/drawingml/2006/table">
            <a:tbl>
              <a:tblPr/>
              <a:tblGrid>
                <a:gridCol w="4114800"/>
                <a:gridCol w="2286000"/>
                <a:gridCol w="609840"/>
              </a:tblGrid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rlotinib therapy — no.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 w="5760">
                      <a:solidFill>
                        <a:srgbClr val="002b5c"/>
                      </a:solidFill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First lin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13 (52.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econd or third lin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04 (47.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GFR</a:t>
                      </a: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 mutation — no. (%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del 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35 (62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L858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82 (37.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EGFR</a:t>
                      </a: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 mutation in serum — no. (%)*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del 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64 (39.0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L858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33 (20.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Not detecte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67 (40.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7c"/>
                          </a:solidFill>
                          <a:latin typeface="Arial"/>
                        </a:rPr>
                        <a:t>Response — no. (%)</a:t>
                      </a:r>
                      <a:r>
                        <a:rPr b="1" lang="en-US" sz="1500" spc="-1" strike="noStrike" baseline="30000">
                          <a:solidFill>
                            <a:srgbClr val="00007c"/>
                          </a:solidFill>
                          <a:latin typeface="Arial"/>
                        </a:rPr>
                        <a:t>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Complete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24 (12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Parti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15 (58.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Complete or partial respon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139 (70.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tabl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38 (19.3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ecf3"/>
                    </a:solidFill>
                  </a:tcPr>
                </a:tc>
              </a:tr>
              <a:tr h="3049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Progressiv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20 (10.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Stable or progressive diseas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2b5c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9000e"/>
                          </a:solidFill>
                          <a:latin typeface="Arial"/>
                        </a:rPr>
                        <a:t>58 (29.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  <a:tc>
                  <a:txBody>
                    <a:bodyPr lIns="90000" rIns="0" tIns="0" bIns="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5760">
                      <a:solidFill>
                        <a:srgbClr val="002b5c"/>
                      </a:solidFill>
                    </a:lnR>
                    <a:lnT>
                      <a:noFill/>
                    </a:lnT>
                    <a:lnB w="5760">
                      <a:solidFill>
                        <a:srgbClr val="002b5c"/>
                      </a:solidFill>
                    </a:lnB>
                    <a:solidFill>
                      <a:srgbClr val="e3ecf3"/>
                    </a:solidFill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c"/>
                </a:solidFill>
                <a:latin typeface="Arial"/>
              </a:rPr>
              <a:t>Characteristics and Treatment Responses (n = 217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5943600"/>
            <a:ext cx="662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* The EGFR mutation was evaluated in the serum of 164 pat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9000e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9000e"/>
                </a:solidFill>
                <a:latin typeface="Arial"/>
              </a:rPr>
              <a:t>The response to erlotinib therapy was evalua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197 pat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647712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ell R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;361:958-6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tions Ar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nostic After Surg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" y="6365880"/>
            <a:ext cx="56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saki H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 Cancer Res Clin Onc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09;135(2):313-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6765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gnosis was worse in the EGFR wild type than the EGFR mutan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p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0.003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wild type (GG), n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n follow-up = 23.7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GFR mutant (GA or AA), n =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00"/>
              </a:spcAft>
              <a:buClr>
                <a:srgbClr val="e31952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an follow-up = 55.1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dfd"/>
                </a:solidFill>
                <a:latin typeface="Arial"/>
              </a:rPr>
              <a:t>Study Desig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2384280" y="1512720"/>
            <a:ext cx="3473640" cy="3211200"/>
            <a:chOff x="2384280" y="1512720"/>
            <a:chExt cx="3473640" cy="3211200"/>
          </a:xfrm>
        </p:grpSpPr>
        <p:sp>
          <p:nvSpPr>
            <p:cNvPr id="258" name="Line 4"/>
            <p:cNvSpPr/>
            <p:nvPr/>
          </p:nvSpPr>
          <p:spPr>
            <a:xfrm>
              <a:off x="4251240" y="4059000"/>
              <a:ext cx="160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5"/>
            <p:cNvSpPr/>
            <p:nvPr/>
          </p:nvSpPr>
          <p:spPr>
            <a:xfrm>
              <a:off x="4251240" y="2120040"/>
              <a:ext cx="160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6"/>
            <p:cNvSpPr/>
            <p:nvPr/>
          </p:nvSpPr>
          <p:spPr>
            <a:xfrm>
              <a:off x="3259080" y="3329640"/>
              <a:ext cx="2051280" cy="1394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7"/>
            <p:cNvSpPr/>
            <p:nvPr/>
          </p:nvSpPr>
          <p:spPr>
            <a:xfrm>
              <a:off x="3263760" y="1512720"/>
              <a:ext cx="2041560" cy="12164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8"/>
            <p:cNvSpPr/>
            <p:nvPr/>
          </p:nvSpPr>
          <p:spPr>
            <a:xfrm>
              <a:off x="3268800" y="1592640"/>
              <a:ext cx="2030400" cy="1058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efitinib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50 mg / day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 flipV="1">
              <a:off x="2384280" y="2113200"/>
              <a:ext cx="863640" cy="686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>
              <a:off x="2397240" y="3416040"/>
              <a:ext cx="850680" cy="661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1"/>
            <p:cNvSpPr/>
            <p:nvPr/>
          </p:nvSpPr>
          <p:spPr>
            <a:xfrm>
              <a:off x="3159000" y="3668760"/>
              <a:ext cx="2249640" cy="737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plati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AUC 5 or 6) / paclitaxel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200 mg / m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3 weekly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ＭＳ Ｐゴシック"/>
                </a:rPr>
                <a:t>#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3146400" y="2948040"/>
              <a:ext cx="22939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78000" indent="-378000" algn="ctr">
                <a:lnSpc>
                  <a:spcPct val="80000"/>
                </a:lnSpc>
                <a:spcBef>
                  <a:spcPts val="499"/>
                </a:spcBef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:1 randomis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AutoShape 13"/>
          <p:cNvSpPr/>
          <p:nvPr/>
        </p:nvSpPr>
        <p:spPr>
          <a:xfrm>
            <a:off x="5867280" y="835200"/>
            <a:ext cx="2990880" cy="465588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655880"/>
              <a:gd name="textAreaBottom" fmla="*/ 4510080 h 4655880"/>
            </a:gdLst>
            <a:ahLst/>
            <a:rect l="textAreaLeft" t="textAreaTop" r="textAreaRight" b="textAreaBottom"/>
            <a:pathLst>
              <a:path w="21600" h="33623">
                <a:moveTo>
                  <a:pt x="3600" y="0"/>
                </a:moveTo>
                <a:arcTo wR="3600" hR="3600" stAng="16200000" swAng="-5400000"/>
                <a:lnTo>
                  <a:pt x="0" y="30023"/>
                </a:lnTo>
                <a:arcTo wR="3600" hR="3600" stAng="10800000" swAng="-5400000"/>
                <a:lnTo>
                  <a:pt x="18000" y="33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5"/>
          <p:cNvSpPr/>
          <p:nvPr/>
        </p:nvSpPr>
        <p:spPr>
          <a:xfrm>
            <a:off x="390600" y="121608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177840" y="5533920"/>
            <a:ext cx="86104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Never smokers, &lt;100 cigarettes in lifetime; light ex-smokers, stopped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5 years ago and smoked </a:t>
            </a: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10 pack years;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mited to a maximum of 6 cycles 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rboplatin / paclitaxel was offered to gefitinib patients upon progression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S, performance status; EGFR, epidermal growth factor recep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07960" y="1300320"/>
            <a:ext cx="224172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onaï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 ≥18 years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ver or light ex-smokers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 expectanc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≥12 wee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 0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able stage IIIB / IV dise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5954760" y="1409760"/>
            <a:ext cx="291132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ession-free survival   (non-inferiorit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response 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surviv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of l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-related symptom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and tolera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ora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omark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mu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-gene-copy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protein expr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576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6014880" y="1039680"/>
            <a:ext cx="267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6461280"/>
            <a:ext cx="777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Mok T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ESM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08;Abstract LBA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1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jective Response Rate in EGFR Mutatio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ositive and Negative Pati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75" name="Chart Placeholder 6"/>
          <p:cNvGraphicFramePr/>
          <p:nvPr/>
        </p:nvGraphicFramePr>
        <p:xfrm>
          <a:off x="1343160" y="1436760"/>
          <a:ext cx="6762600" cy="4487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6" name="Chart Placeholder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1436760"/>
                    <a:ext cx="67626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5"/>
          <p:cNvSpPr/>
          <p:nvPr/>
        </p:nvSpPr>
        <p:spPr>
          <a:xfrm>
            <a:off x="5232240" y="1569960"/>
            <a:ext cx="36259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ff00"/>
                </a:solidFill>
                <a:latin typeface="Arial"/>
              </a:rPr>
              <a:t>Gefitini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"/>
              </a:rPr>
              <a:t>Carboplatin / paclitax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GFR M+ odds ratio (95% CI) = 2.75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1.65, 4.60), p = 0.000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GFR M- odds ratio (95% CI) = 0.04</a:t>
            </a:r>
            <a:br>
              <a:rPr sz="1400"/>
            </a:b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0.01, 0.27), p = 0.0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76320" y="144612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verall response rate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338560" y="5245200"/>
            <a:ext cx="124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1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3392640" y="5245200"/>
            <a:ext cx="124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1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5611680" y="524520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6478560" y="524520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=8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184320" y="6095880"/>
            <a:ext cx="86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dds ratio &gt;1 implies greater chance of response on gefitini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2514600" y="160020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1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3352680" y="266688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7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5612040" y="478152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6400800" y="3733920"/>
            <a:ext cx="104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3.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6461280"/>
            <a:ext cx="777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permission from Mok T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Proc ESMO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2008;Abstract LBA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7:25:28Z</dcterms:created>
  <dc:creator>Research To Practice</dc:creator>
  <dc:description/>
  <cp:keywords/>
  <dc:language>en-US</dc:language>
  <cp:lastModifiedBy>Aura Herrmann</cp:lastModifiedBy>
  <cp:lastPrinted>2011-02-11T13:36:11Z</cp:lastPrinted>
  <dcterms:modified xsi:type="dcterms:W3CDTF">2011-06-09T21:33:53Z</dcterms:modified>
  <cp:revision>94</cp:revision>
  <dc:subject/>
  <dc:title>PowerPoint Presentation</dc:title>
</cp:coreProperties>
</file>