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4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Narrow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6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E3E83FC-0C13-4120-971D-A01B7C1E7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0514A16-AC28-4DF6-B273-DDC0FBCB23D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F56C8F8-FADF-4ADE-A1E4-A7A00DF9E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19240" y="695160"/>
            <a:ext cx="4648320" cy="348804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3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0B81B0F-9A4B-45CB-B6D0-87FEA439C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19240" y="695160"/>
            <a:ext cx="4648320" cy="3488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3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9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BF5617A-8600-4490-A46F-FBDC47ED8EC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2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D2746B8-997C-434C-9A33-702EB1EF77D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5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338AC67-89AB-4B1A-912E-D442D126B3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FBA6C76-DC24-434A-A74B-3A01B7B42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19240" y="695160"/>
            <a:ext cx="4648320" cy="348804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3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51BE271-2FDA-4B99-87C3-97B958A4B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19240" y="695160"/>
            <a:ext cx="4648320" cy="348804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3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4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EE3207B-25AA-4B2C-BE95-4159F138CA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7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E7C5CEC-56D4-48DD-AC50-E5AB06EFEE7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900600" y="8831160"/>
            <a:ext cx="2981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C5FD1-9FCE-4F10-964F-888AA7EB84AD}" type="slidenum">
              <a:rPr b="0" lang="fr-FR" sz="12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D48A1DE-FEE1-4190-943E-99D398FA98EA}" type="slidenum"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3810E51-643C-4DA4-B360-EDC3A4FE3F6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88EA3B3-3E71-4519-B686-93157E4631D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36F4890-EF16-4436-AEB9-C74DA975EB8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37C928A-35B9-445F-83F7-AA6CC706C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19240" y="695160"/>
            <a:ext cx="4648320" cy="34880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3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900600" y="8831160"/>
            <a:ext cx="2981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514C9-3CDC-4FD6-80EE-E009A6D59F77}" type="slidenum">
              <a:rPr b="0" lang="fr-FR" sz="12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2DBE64D-91C4-4EA9-B486-751344917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19240" y="695160"/>
            <a:ext cx="4648320" cy="3488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9040" y="4416480"/>
            <a:ext cx="5503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43BA-42C2-426C-BB76-6EF97B511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5994-AADD-4B54-B40F-BE4727293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0602-8372-4362-B1ED-E1AE98FC0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EE6B-ACB5-4519-AAA3-FA4382603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BA57-D438-4A04-BE0F-ACEE9A529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6C0D-A370-40AF-9F16-7B223B237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7B7C-7452-4103-B20D-52C0688B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7B74-7D73-4D95-A8DA-E6678CF6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ABAF-A572-43DB-98A6-DE0D15FD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BCAD-5275-43D1-BB6C-BA328750B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2EA3-1277-4E92-A23A-5B86A33B9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C36E-0815-4078-BEA0-9FE7D28F3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99"/>
            </a:outerShdw>
          </a:effectLst>
        </p:spPr>
        <p:txBody>
          <a:bodyPr lIns="0" rIns="0" tIns="0" bIns="54720" anchor="b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20360"/>
            <a:ext cx="8229600" cy="44751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0" rIns="109800" tIns="0" bIns="0" anchor="t">
            <a:normAutofit fontScale="99000"/>
          </a:bodyPr>
          <a:p>
            <a:pPr marL="339480" indent="0">
              <a:lnSpc>
                <a:spcPct val="95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lnSpc>
                <a:spcPct val="95000"/>
              </a:lnSpc>
              <a:spcBef>
                <a:spcPts val="2438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lnSpc>
                <a:spcPct val="95000"/>
              </a:lnSpc>
              <a:spcBef>
                <a:spcPts val="2438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lnSpc>
                <a:spcPct val="95000"/>
              </a:lnSpc>
              <a:spcBef>
                <a:spcPts val="2438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lnSpc>
                <a:spcPct val="95000"/>
              </a:lnSpc>
              <a:spcBef>
                <a:spcPts val="2438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lnSpc>
                <a:spcPct val="95000"/>
              </a:lnSpc>
              <a:spcBef>
                <a:spcPts val="2438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lnSpc>
                <a:spcPct val="95000"/>
              </a:lnSpc>
              <a:spcBef>
                <a:spcPts val="2438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90B5A-FD87-45B9-B8F9-E20BEDEC1EA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9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MS PGothic"/>
              </a:rPr>
              <a:t>Biomarkers of Response or Resistanc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MS PGothic"/>
              </a:rPr>
              <a:t>to Chemotherapy</a:t>
            </a:r>
            <a:endParaRPr b="0" lang="en-US" sz="32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990720" y="3428640"/>
            <a:ext cx="716256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MS PGothic"/>
              </a:rPr>
              <a:t>Karen Kelly, MD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MS PGothic"/>
              </a:rPr>
              <a:t>Professor of Medicine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MS PGothic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MS PGothic"/>
              </a:rPr>
              <a:t>University of California, Davis, Sacramento, CA </a:t>
            </a:r>
            <a:br>
              <a:rPr sz="2000"/>
            </a:b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5" name=""/>
          <p:cNvGraphicFramePr/>
          <p:nvPr/>
        </p:nvGraphicFramePr>
        <p:xfrm>
          <a:off x="304920" y="731880"/>
          <a:ext cx="8458200" cy="5818320"/>
        </p:xfrm>
        <a:graphic>
          <a:graphicData uri="http://schemas.openxmlformats.org/drawingml/2006/table">
            <a:tbl>
              <a:tblPr/>
              <a:tblGrid>
                <a:gridCol w="838080"/>
                <a:gridCol w="838080"/>
                <a:gridCol w="838440"/>
                <a:gridCol w="1676160"/>
                <a:gridCol w="1371600"/>
                <a:gridCol w="1447920"/>
                <a:gridCol w="1447920"/>
              </a:tblGrid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uth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  <a:tc>
                  <a:txBody>
                    <a:bodyPr lIns="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# of p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  <a:tc>
                  <a:txBody>
                    <a:bodyPr lIns="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thod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  <a:tc>
                  <a:txBody>
                    <a:bodyPr lIns="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sponse r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  <a:tc>
                  <a:txBody>
                    <a:bodyPr lIns="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ime to progress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  <a:tc>
                  <a:txBody>
                    <a:bodyPr lIns="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Overall survival (median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  <a:tc>
                  <a:txBody>
                    <a:bodyPr lIns="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Hazard rati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</a:tr>
              <a:tr h="777240"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ooto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66 (cis or carbo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T-PCR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RCC1 high: 36%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RCC1 low:  28%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</a:t>
                      </a:r>
                      <a:r>
                        <a:rPr b="0" i="1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=0.794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8.8 mth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0.9 mth (</a:t>
                      </a:r>
                      <a:r>
                        <a:rPr b="0" i="1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=0.801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RCC1 high: 0.96 (</a:t>
                      </a:r>
                      <a:r>
                        <a:rPr b="0" i="1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=0.08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7240"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ffff"/>
                          </a:solidFill>
                          <a:latin typeface="Arial"/>
                          <a:ea typeface="Arial"/>
                        </a:rPr>
                        <a:t>Azum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67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(46 carbo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IHC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ERCC1+: 28%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ERCC1-: 29%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6.5 mth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11 mth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(</a:t>
                      </a:r>
                      <a:r>
                        <a:rPr b="0" i="1" lang="en-US" sz="13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3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=0.0075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11 mth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18.3 mth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(</a:t>
                      </a:r>
                      <a:r>
                        <a:rPr b="0" i="1" lang="en-US" sz="13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3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=0.0006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TIP: 137 (</a:t>
                      </a:r>
                      <a:r>
                        <a:rPr b="0" i="1" lang="en-US" sz="13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3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=0.0147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OS: 1.65 (</a:t>
                      </a:r>
                      <a:r>
                        <a:rPr b="0" i="1" lang="en-US" sz="13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3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=0.002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</a:tr>
              <a:tr h="579240"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bo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6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T-PCR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ntrol arm:  39.3%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Genotype arm: 51.2%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5.19 mth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6.1 mth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9.82 mth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9.8 mth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79*** (</a:t>
                      </a:r>
                      <a:r>
                        <a:rPr b="0" i="1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=0.08) and 0.9*** (</a:t>
                      </a:r>
                      <a:r>
                        <a:rPr b="0" i="1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=0.59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ffff"/>
                          </a:solidFill>
                          <a:latin typeface="Arial"/>
                          <a:ea typeface="Arial"/>
                        </a:rPr>
                        <a:t>Ceppi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6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RT-PCR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ERCC1 high: N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ERCC1 low: N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N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10.9 mth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17.3 mth (</a:t>
                      </a:r>
                      <a:r>
                        <a:rPr b="0" i="1" lang="en-US" sz="13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3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=0.0032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3.43 (</a:t>
                      </a:r>
                      <a:r>
                        <a:rPr b="0" i="1" lang="en-US" sz="13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3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=0.0003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</a:tr>
              <a:tr h="579240"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athers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2 (13 cis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IHC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RCC1+ vs. ERCC1-: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S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RCC1+ vs. ERCC1-: NS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sl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6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T-PCR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RCC1 high: N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RCC1 low: N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.8 mth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6.12 mth  (</a:t>
                      </a:r>
                      <a:r>
                        <a:rPr b="0" i="1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=0.19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0.56 mth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0.72 mth (</a:t>
                      </a:r>
                      <a:r>
                        <a:rPr b="0" i="1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=0.60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</a:tr>
              <a:tr h="609480"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ffff"/>
                          </a:solidFill>
                          <a:latin typeface="Arial"/>
                          <a:ea typeface="Arial"/>
                        </a:rPr>
                        <a:t>Lor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5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RT-PC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ERCC1 high: 37.4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ERCC1 low: 52%  N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5.1 mt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15.4 mth (</a:t>
                      </a:r>
                      <a:r>
                        <a:rPr b="0" i="1" lang="en-US" sz="14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4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=0.005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y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0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C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T-PC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/C:  56.9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/T: 35.5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/T: 7.8% (</a:t>
                      </a:r>
                      <a:r>
                        <a:rPr b="0" i="1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=NS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6.2 mt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.240 (</a:t>
                      </a:r>
                      <a:r>
                        <a:rPr b="0" i="1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=0.0001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</a:tr>
            </a:tbl>
          </a:graphicData>
        </a:graphic>
      </p:graphicFrame>
      <p:sp>
        <p:nvSpPr>
          <p:cNvPr id="276" name="TextBox 4"/>
          <p:cNvSpPr/>
          <p:nvPr/>
        </p:nvSpPr>
        <p:spPr>
          <a:xfrm>
            <a:off x="329400" y="152280"/>
            <a:ext cx="8163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ERCC1 as a Predictive Marker: Cisplatin Regime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Box 3"/>
          <p:cNvSpPr/>
          <p:nvPr/>
        </p:nvSpPr>
        <p:spPr>
          <a:xfrm>
            <a:off x="5385600" y="6581880"/>
            <a:ext cx="338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lmar A  et al.  Lung Cancer 64:131-139, 20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158760"/>
            <a:ext cx="91440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228600" y="1066680"/>
          <a:ext cx="8610480" cy="5072040"/>
        </p:xfrm>
        <a:graphic>
          <a:graphicData uri="http://schemas.openxmlformats.org/drawingml/2006/table">
            <a:tbl>
              <a:tblPr/>
              <a:tblGrid>
                <a:gridCol w="1143000"/>
                <a:gridCol w="533520"/>
                <a:gridCol w="914400"/>
                <a:gridCol w="2273040"/>
                <a:gridCol w="1116000"/>
                <a:gridCol w="1435320"/>
                <a:gridCol w="1195200"/>
              </a:tblGrid>
              <a:tr h="550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ferenc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  <a:tc>
                  <a:txBody>
                    <a:bodyPr lIns="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# of pt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  <a:tc>
                  <a:txBody>
                    <a:bodyPr lIns="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thod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  <a:tc>
                  <a:txBody>
                    <a:bodyPr lIns="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sponse rat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  <a:tc>
                  <a:txBody>
                    <a:bodyPr lIns="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ime to progression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  <a:tc>
                  <a:txBody>
                    <a:bodyPr lIns="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Overall survival (median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  <a:tc>
                  <a:txBody>
                    <a:bodyPr lIns="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Hazard rati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</a:tr>
              <a:tr h="639720"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ooton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66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T-PCR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RCC1 high: 36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3.8 mth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RCC1 high: 0.96 (</a:t>
                      </a:r>
                      <a:r>
                        <a:rPr b="0" i="1" lang="en-US" sz="15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=0.08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RCC1 low: 28% (</a:t>
                      </a:r>
                      <a:r>
                        <a:rPr b="0" i="1" lang="en-US" sz="15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=0.794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0.9 mth (</a:t>
                      </a:r>
                      <a:r>
                        <a:rPr b="0" i="1" lang="en-US" sz="15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=0.801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</a:tr>
              <a:tr h="639720"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ffff"/>
                          </a:solidFill>
                          <a:latin typeface="Arial"/>
                          <a:ea typeface="Arial"/>
                        </a:rPr>
                        <a:t>Azuma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67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IH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ERCC1+: 28% 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6.5 mth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11 mth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TIP: 137 (</a:t>
                      </a:r>
                      <a:r>
                        <a:rPr b="0" i="1" lang="en-US" sz="15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5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=0.0147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ERCC1-:  29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11 mth (</a:t>
                      </a:r>
                      <a:r>
                        <a:rPr b="0" i="1" lang="en-US" sz="15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5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=0.0075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18.3  mth (</a:t>
                      </a:r>
                      <a:r>
                        <a:rPr b="0" i="1" lang="en-US" sz="15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5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=0.0006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OS: 1.65 (</a:t>
                      </a:r>
                      <a:r>
                        <a:rPr b="0" i="1" lang="en-US" sz="15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5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=0.0002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</a:tr>
              <a:tr h="635760"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mon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5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T-PCR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R: 44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6.6 mth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3.3 mth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24440"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pler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5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T-PCR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RCC1 inversely correlated with response magnitude (r=0.283, </a:t>
                      </a:r>
                      <a:r>
                        <a:rPr b="0" i="1" lang="en-US" sz="15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=0.32) but not with classification according to Recist (</a:t>
                      </a:r>
                      <a:r>
                        <a:rPr b="0" i="1" lang="en-US" sz="15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=0.32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</a:tr>
            </a:tbl>
          </a:graphicData>
        </a:graphic>
      </p:graphicFrame>
      <p:sp>
        <p:nvSpPr>
          <p:cNvPr id="280" name="TextBox 4"/>
          <p:cNvSpPr/>
          <p:nvPr/>
        </p:nvSpPr>
        <p:spPr>
          <a:xfrm>
            <a:off x="302760" y="380880"/>
            <a:ext cx="8605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ERCC1 as a Predictive Marker: Carboplatin Regime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Box 4"/>
          <p:cNvSpPr/>
          <p:nvPr/>
        </p:nvSpPr>
        <p:spPr>
          <a:xfrm>
            <a:off x="5385600" y="6505560"/>
            <a:ext cx="338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lmar A  et al.  Lung Cancer 64:131-139, 20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U2007 ERCC1 Subset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rogression-Free Surviv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ERCC1 negative, 7.4 m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ERCC1 positive, 5.6 m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 Narrow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-value = 0.02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Overall Surviv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ERCC1 negative, 11.8 m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ERCC1 positive, 9.8 m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 Narrow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-value = 0.02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09840" y="6324480"/>
            <a:ext cx="468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lmar AC et al.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nn Onco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2010;21:1817-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Box 2"/>
          <p:cNvSpPr/>
          <p:nvPr/>
        </p:nvSpPr>
        <p:spPr>
          <a:xfrm>
            <a:off x="1830600" y="380880"/>
            <a:ext cx="56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RM1: Mechanism of 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705720" cy="425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4572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RM1 and Patient Survival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(after Gem/DDP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N = 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Low levels (&lt;1.5) of RRM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Overall survival 13.7 mon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More likely to respond to gemcitab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High levels (&gt;1.5) of RRM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Overall survival 3.6 mon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More likely to be resistant to gemcitab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68800" y="6261120"/>
            <a:ext cx="40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lin Cancer R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004;10:1318-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0" y="158760"/>
            <a:ext cx="91440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152280" y="1143000"/>
          <a:ext cx="8763120" cy="5232240"/>
        </p:xfrm>
        <a:graphic>
          <a:graphicData uri="http://schemas.openxmlformats.org/drawingml/2006/table">
            <a:tbl>
              <a:tblPr/>
              <a:tblGrid>
                <a:gridCol w="1067040"/>
                <a:gridCol w="533160"/>
                <a:gridCol w="1447920"/>
                <a:gridCol w="5715000"/>
              </a:tblGrid>
              <a:tr h="337320"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ssa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eatm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inding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</a:tr>
              <a:tr h="52020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RNA express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Gem+C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ow expression increased PFS (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=0.05) and OS (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=0.028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RNA express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Gem+Cis, Gem+Cis+Vin, o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Gem+Vin then Vin+If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OS and PFS are associated with RRM1 mRNA expression in Gem+Cis treated pts (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=0.009 and 0.020, respectively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</a:tr>
              <a:tr h="52020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RNA express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6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Gem+Cis+surgery o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Gen+Carbo+surger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ow expression associated with reduced relative risk of death (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=0.033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RNA express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Gem+Do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ow expression level associated with increased OS (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=0.02) and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DFS (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=0.04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</a:tr>
              <a:tr h="52020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RNA express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Gem+Carb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High expression level associated with reduced tumor shrinkage (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=0.002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RNA express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Gem+Pemetrexe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ow expression levels associated with improved clinical response (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&lt;0.001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</a:tr>
              <a:tr h="52020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RNA express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6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Gem or Gem+C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ow expression levels associated with increased OS (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=0.039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RNA express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8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Gem+Cis or Gem+Carb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ow expression levels associated with improved response to treatment 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=0.011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</a:tr>
              <a:tr h="52020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ffff"/>
                          </a:solidFill>
                          <a:latin typeface="Arial"/>
                          <a:ea typeface="Arial"/>
                        </a:rPr>
                        <a:t>mRNA express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9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Gem+Do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Expression not predictive alon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2" name="TextBox 4"/>
          <p:cNvSpPr/>
          <p:nvPr/>
        </p:nvSpPr>
        <p:spPr>
          <a:xfrm>
            <a:off x="546480" y="380880"/>
            <a:ext cx="78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udies of RRM1 as a Predictive Mark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Box 4"/>
          <p:cNvSpPr/>
          <p:nvPr/>
        </p:nvSpPr>
        <p:spPr>
          <a:xfrm>
            <a:off x="5107680" y="6505560"/>
            <a:ext cx="394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rdhelm LP et al. Lancet Oncology epub Dec 15, 20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2"/>
          <p:cNvSpPr/>
          <p:nvPr/>
        </p:nvSpPr>
        <p:spPr>
          <a:xfrm>
            <a:off x="0" y="158760"/>
            <a:ext cx="91440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152280" y="1219320"/>
          <a:ext cx="8686800" cy="4825800"/>
        </p:xfrm>
        <a:graphic>
          <a:graphicData uri="http://schemas.openxmlformats.org/drawingml/2006/table">
            <a:tbl>
              <a:tblPr/>
              <a:tblGrid>
                <a:gridCol w="990720"/>
                <a:gridCol w="609480"/>
                <a:gridCol w="1295640"/>
                <a:gridCol w="5790960"/>
              </a:tblGrid>
              <a:tr h="419760"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ssa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eatm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  <a:tc>
                  <a:txBody>
                    <a:bodyPr lIns="45720" rIns="4572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inding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</a:tr>
              <a:tr h="55800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ffff"/>
                          </a:solidFill>
                          <a:latin typeface="Arial"/>
                          <a:ea typeface="Arial"/>
                        </a:rPr>
                        <a:t>Protein leve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1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Gem or Gem+Carb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No significant association with protein expression level and 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tein leve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Gem+Cis, Gem+Carbo,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Gem+Vi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High protein expression level is associated with reduced survival (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=0.022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</a:tr>
              <a:tr h="55800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moter SN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Gem+C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o association between -37A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 and 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moter SN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9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Gem+Cis, Gem+Carbo,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Gem+Vi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ssociation between genotypes of -37A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 and -524C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 and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sponse rate (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=0.039), but not 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</a:tr>
              <a:tr h="55800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moter SN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5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Gem+Carb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ssociation between genotypes of -37A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 and PFS (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=0.043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24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moter SN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is+Vin, Cis+Pacli, Cis+Gem, Cis+Pacli+Vin, Cis+Eto+If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ssociation between genotypes of -524C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 and response (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=0.046), 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ut not in Cis+Gem grou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</a:tr>
              <a:tr h="5565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moter SN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is+Do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o association between -37A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 and response, toxicity or surviv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6" name="TextBox 4"/>
          <p:cNvSpPr/>
          <p:nvPr/>
        </p:nvSpPr>
        <p:spPr>
          <a:xfrm>
            <a:off x="546480" y="380880"/>
            <a:ext cx="78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udies of RRM1 as a Predictive Mark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Box 26"/>
          <p:cNvSpPr/>
          <p:nvPr/>
        </p:nvSpPr>
        <p:spPr>
          <a:xfrm>
            <a:off x="5107680" y="6353280"/>
            <a:ext cx="394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rdhelm LP et al. Lancet Oncology epub Dec 15, 20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Box 21"/>
          <p:cNvSpPr/>
          <p:nvPr/>
        </p:nvSpPr>
        <p:spPr>
          <a:xfrm>
            <a:off x="0" y="3808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00"/>
                </a:solidFill>
                <a:latin typeface="Arial"/>
              </a:rPr>
              <a:t>Feasibility and Efficacy of Molecular Analysis-</a:t>
            </a:r>
            <a:br>
              <a:rPr sz="2700"/>
            </a:br>
            <a:r>
              <a:rPr b="1" lang="en-US" sz="2700" spc="-1" strike="noStrike">
                <a:solidFill>
                  <a:srgbClr val="ffff00"/>
                </a:solidFill>
                <a:latin typeface="Arial"/>
              </a:rPr>
              <a:t>Directed Individualized Therapy for Advanced NSCLC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Box 38"/>
          <p:cNvSpPr/>
          <p:nvPr/>
        </p:nvSpPr>
        <p:spPr>
          <a:xfrm>
            <a:off x="6594120" y="6477120"/>
            <a:ext cx="239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mon G et al. J Clin Oncol 200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0" name="Group 41"/>
          <p:cNvGrpSpPr/>
          <p:nvPr/>
        </p:nvGrpSpPr>
        <p:grpSpPr>
          <a:xfrm>
            <a:off x="987480" y="1822320"/>
            <a:ext cx="7205760" cy="4449960"/>
            <a:chOff x="987480" y="1822320"/>
            <a:chExt cx="7205760" cy="4449960"/>
          </a:xfrm>
        </p:grpSpPr>
        <p:sp>
          <p:nvSpPr>
            <p:cNvPr id="301" name="Line 24"/>
            <p:cNvSpPr/>
            <p:nvPr/>
          </p:nvSpPr>
          <p:spPr>
            <a:xfrm>
              <a:off x="4583160" y="2530080"/>
              <a:ext cx="1369080" cy="4568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Line 25"/>
            <p:cNvSpPr/>
            <p:nvPr/>
          </p:nvSpPr>
          <p:spPr>
            <a:xfrm flipH="1">
              <a:off x="3137400" y="2530080"/>
              <a:ext cx="1369080" cy="4568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3" name="Rounded Rectangle 12"/>
            <p:cNvGrpSpPr/>
            <p:nvPr/>
          </p:nvGrpSpPr>
          <p:grpSpPr>
            <a:xfrm>
              <a:off x="4736520" y="5419080"/>
              <a:ext cx="1563840" cy="834840"/>
              <a:chOff x="4736520" y="5419080"/>
              <a:chExt cx="1563840" cy="834840"/>
            </a:xfrm>
          </p:grpSpPr>
          <p:pic>
            <p:nvPicPr>
              <p:cNvPr id="304" name="Rounded Rectangle 12" descr=""/>
              <p:cNvPicPr/>
              <p:nvPr/>
            </p:nvPicPr>
            <p:blipFill>
              <a:blip r:embed="rId1"/>
              <a:stretch/>
            </p:blipFill>
            <p:spPr>
              <a:xfrm>
                <a:off x="4736520" y="5419080"/>
                <a:ext cx="1563840" cy="834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"/>
              <p:cNvSpPr/>
              <p:nvPr/>
            </p:nvSpPr>
            <p:spPr>
              <a:xfrm>
                <a:off x="4782240" y="5465520"/>
                <a:ext cx="1471680" cy="74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arboplatin +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ocetaxel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6" name="Rounded Rectangle 15"/>
            <p:cNvGrpSpPr/>
            <p:nvPr/>
          </p:nvGrpSpPr>
          <p:grpSpPr>
            <a:xfrm>
              <a:off x="987480" y="5412960"/>
              <a:ext cx="1563840" cy="834840"/>
              <a:chOff x="987480" y="5412960"/>
              <a:chExt cx="1563840" cy="834840"/>
            </a:xfrm>
          </p:grpSpPr>
          <p:pic>
            <p:nvPicPr>
              <p:cNvPr id="307" name="Rounded Rectangle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987480" y="5412960"/>
                <a:ext cx="1563840" cy="834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8" name=""/>
              <p:cNvSpPr/>
              <p:nvPr/>
            </p:nvSpPr>
            <p:spPr>
              <a:xfrm>
                <a:off x="1036440" y="5458680"/>
                <a:ext cx="1471680" cy="74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ocetaxel 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+ 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vinorelbine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9" name="Rounded Rectangle 16"/>
            <p:cNvGrpSpPr/>
            <p:nvPr/>
          </p:nvGrpSpPr>
          <p:grpSpPr>
            <a:xfrm>
              <a:off x="6629400" y="5437440"/>
              <a:ext cx="1563840" cy="834840"/>
              <a:chOff x="6629400" y="5437440"/>
              <a:chExt cx="1563840" cy="834840"/>
            </a:xfrm>
          </p:grpSpPr>
          <p:pic>
            <p:nvPicPr>
              <p:cNvPr id="310" name="Rounded Rectangle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6629400" y="5437440"/>
                <a:ext cx="1563840" cy="834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1" name=""/>
              <p:cNvSpPr/>
              <p:nvPr/>
            </p:nvSpPr>
            <p:spPr>
              <a:xfrm>
                <a:off x="6672600" y="5480640"/>
                <a:ext cx="1471680" cy="74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arboplatin + gemcitabine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2" name="Rounded Rectangle 17"/>
            <p:cNvGrpSpPr/>
            <p:nvPr/>
          </p:nvGrpSpPr>
          <p:grpSpPr>
            <a:xfrm>
              <a:off x="2873880" y="5406840"/>
              <a:ext cx="1563840" cy="834840"/>
              <a:chOff x="2873880" y="5406840"/>
              <a:chExt cx="1563840" cy="834840"/>
            </a:xfrm>
          </p:grpSpPr>
          <p:pic>
            <p:nvPicPr>
              <p:cNvPr id="313" name="Rounded Rectangle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2873880" y="5406840"/>
                <a:ext cx="1563840" cy="834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4" name=""/>
              <p:cNvSpPr/>
              <p:nvPr/>
            </p:nvSpPr>
            <p:spPr>
              <a:xfrm>
                <a:off x="2917800" y="5453640"/>
                <a:ext cx="1471680" cy="74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Gemcitabine 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+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17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ocetaxel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5" name="TextBox 18"/>
            <p:cNvSpPr/>
            <p:nvPr/>
          </p:nvSpPr>
          <p:spPr>
            <a:xfrm>
              <a:off x="1970640" y="3947400"/>
              <a:ext cx="1462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Arial"/>
                </a:rPr>
                <a:t>RRM1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 express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6" name="Rounded Rectangle 20"/>
            <p:cNvGrpSpPr/>
            <p:nvPr/>
          </p:nvGrpSpPr>
          <p:grpSpPr>
            <a:xfrm>
              <a:off x="3360960" y="1822320"/>
              <a:ext cx="2385720" cy="560520"/>
              <a:chOff x="3360960" y="1822320"/>
              <a:chExt cx="2385720" cy="560520"/>
            </a:xfrm>
          </p:grpSpPr>
          <p:pic>
            <p:nvPicPr>
              <p:cNvPr id="317" name="Rounded Rectangle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3360960" y="1822320"/>
                <a:ext cx="2385720" cy="56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8" name=""/>
              <p:cNvSpPr/>
              <p:nvPr/>
            </p:nvSpPr>
            <p:spPr>
              <a:xfrm>
                <a:off x="3392640" y="1854720"/>
                <a:ext cx="2320200" cy="49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7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RCC1</a:t>
                </a:r>
                <a:r>
                  <a:rPr b="0" lang="en-US" sz="17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expression (</a:t>
                </a:r>
                <a:r>
                  <a:rPr b="0" i="1" lang="en-US" sz="17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RCC1</a:t>
                </a:r>
                <a:r>
                  <a:rPr b="0" lang="en-US" sz="17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mRNA)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9" name="Rounded Rectangle 23"/>
            <p:cNvGrpSpPr/>
            <p:nvPr/>
          </p:nvGrpSpPr>
          <p:grpSpPr>
            <a:xfrm>
              <a:off x="1693440" y="3163320"/>
              <a:ext cx="2063160" cy="371520"/>
              <a:chOff x="1693440" y="3163320"/>
              <a:chExt cx="2063160" cy="371520"/>
            </a:xfrm>
          </p:grpSpPr>
          <p:pic>
            <p:nvPicPr>
              <p:cNvPr id="320" name="Rounded Rectangle 23" descr=""/>
              <p:cNvPicPr/>
              <p:nvPr/>
            </p:nvPicPr>
            <p:blipFill>
              <a:blip r:embed="rId6"/>
              <a:stretch/>
            </p:blipFill>
            <p:spPr>
              <a:xfrm>
                <a:off x="1693440" y="3163320"/>
                <a:ext cx="2063160" cy="37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1" name=""/>
              <p:cNvSpPr/>
              <p:nvPr/>
            </p:nvSpPr>
            <p:spPr>
              <a:xfrm>
                <a:off x="1715040" y="3184200"/>
                <a:ext cx="201636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latinum withheld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2" name="Rounded Rectangle 24"/>
            <p:cNvGrpSpPr/>
            <p:nvPr/>
          </p:nvGrpSpPr>
          <p:grpSpPr>
            <a:xfrm>
              <a:off x="5186880" y="3151080"/>
              <a:ext cx="2568240" cy="377640"/>
              <a:chOff x="5186880" y="3151080"/>
              <a:chExt cx="2568240" cy="377640"/>
            </a:xfrm>
          </p:grpSpPr>
          <p:pic>
            <p:nvPicPr>
              <p:cNvPr id="323" name="Rounded Rectangle 24" descr=""/>
              <p:cNvPicPr/>
              <p:nvPr/>
            </p:nvPicPr>
            <p:blipFill>
              <a:blip r:embed="rId7"/>
              <a:stretch/>
            </p:blipFill>
            <p:spPr>
              <a:xfrm>
                <a:off x="5186880" y="3151080"/>
                <a:ext cx="2568240" cy="37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4" name=""/>
              <p:cNvSpPr/>
              <p:nvPr/>
            </p:nvSpPr>
            <p:spPr>
              <a:xfrm>
                <a:off x="5211720" y="3172320"/>
                <a:ext cx="252036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reatment with platinum 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5" name="TextBox 25"/>
            <p:cNvSpPr/>
            <p:nvPr/>
          </p:nvSpPr>
          <p:spPr>
            <a:xfrm>
              <a:off x="5741280" y="3901680"/>
              <a:ext cx="1462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Arial"/>
                </a:rPr>
                <a:t>RRM1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 express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Line 24"/>
            <p:cNvSpPr/>
            <p:nvPr/>
          </p:nvSpPr>
          <p:spPr>
            <a:xfrm>
              <a:off x="2778840" y="4328640"/>
              <a:ext cx="912600" cy="63972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Line 25"/>
            <p:cNvSpPr/>
            <p:nvPr/>
          </p:nvSpPr>
          <p:spPr>
            <a:xfrm flipH="1">
              <a:off x="1713240" y="4328640"/>
              <a:ext cx="912600" cy="63972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24"/>
            <p:cNvSpPr/>
            <p:nvPr/>
          </p:nvSpPr>
          <p:spPr>
            <a:xfrm>
              <a:off x="6549480" y="4252680"/>
              <a:ext cx="912600" cy="63972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Line 25"/>
            <p:cNvSpPr/>
            <p:nvPr/>
          </p:nvSpPr>
          <p:spPr>
            <a:xfrm flipH="1">
              <a:off x="5484240" y="4252680"/>
              <a:ext cx="912600" cy="63972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TextBox 30"/>
            <p:cNvSpPr/>
            <p:nvPr/>
          </p:nvSpPr>
          <p:spPr>
            <a:xfrm>
              <a:off x="1445040" y="5038200"/>
              <a:ext cx="63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ig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TextBox 31"/>
            <p:cNvSpPr/>
            <p:nvPr/>
          </p:nvSpPr>
          <p:spPr>
            <a:xfrm>
              <a:off x="3366360" y="5038200"/>
              <a:ext cx="58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o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TextBox 32"/>
            <p:cNvSpPr/>
            <p:nvPr/>
          </p:nvSpPr>
          <p:spPr>
            <a:xfrm>
              <a:off x="5209560" y="5033520"/>
              <a:ext cx="63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ig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TextBox 33"/>
            <p:cNvSpPr/>
            <p:nvPr/>
          </p:nvSpPr>
          <p:spPr>
            <a:xfrm>
              <a:off x="7134120" y="5038200"/>
              <a:ext cx="58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o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Up Arrow 34"/>
            <p:cNvSpPr/>
            <p:nvPr/>
          </p:nvSpPr>
          <p:spPr>
            <a:xfrm>
              <a:off x="2519640" y="2682360"/>
              <a:ext cx="183600" cy="457200"/>
            </a:xfrm>
            <a:prstGeom prst="upArrow">
              <a:avLst>
                <a:gd name="adj1" fmla="val 50000"/>
                <a:gd name="adj2" fmla="val 50138"/>
              </a:avLst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Up Arrow 35"/>
            <p:cNvSpPr/>
            <p:nvPr/>
          </p:nvSpPr>
          <p:spPr>
            <a:xfrm>
              <a:off x="2735280" y="2682360"/>
              <a:ext cx="182160" cy="457200"/>
            </a:xfrm>
            <a:prstGeom prst="upArrow">
              <a:avLst>
                <a:gd name="adj1" fmla="val 50000"/>
                <a:gd name="adj2" fmla="val 50105"/>
              </a:avLst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Down Arrow 36"/>
            <p:cNvSpPr/>
            <p:nvPr/>
          </p:nvSpPr>
          <p:spPr>
            <a:xfrm>
              <a:off x="6256800" y="2675880"/>
              <a:ext cx="182160" cy="457200"/>
            </a:xfrm>
            <a:prstGeom prst="downArrow">
              <a:avLst>
                <a:gd name="adj1" fmla="val 50000"/>
                <a:gd name="adj2" fmla="val 50105"/>
              </a:avLst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Down Arrow 37"/>
            <p:cNvSpPr/>
            <p:nvPr/>
          </p:nvSpPr>
          <p:spPr>
            <a:xfrm>
              <a:off x="6480360" y="2675880"/>
              <a:ext cx="182160" cy="457200"/>
            </a:xfrm>
            <a:prstGeom prst="downArrow">
              <a:avLst>
                <a:gd name="adj1" fmla="val 50000"/>
                <a:gd name="adj2" fmla="val 50105"/>
              </a:avLst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Line 25"/>
            <p:cNvSpPr/>
            <p:nvPr/>
          </p:nvSpPr>
          <p:spPr>
            <a:xfrm>
              <a:off x="2716200" y="3619800"/>
              <a:ext cx="0" cy="36540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Line 25"/>
            <p:cNvSpPr/>
            <p:nvPr/>
          </p:nvSpPr>
          <p:spPr>
            <a:xfrm>
              <a:off x="6462000" y="3603600"/>
              <a:ext cx="0" cy="36540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ADeIT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RR 44% </a:t>
            </a:r>
            <a:r>
              <a:rPr b="0" lang="en-US" sz="2800" spc="-1" strike="noStrike">
                <a:solidFill>
                  <a:srgbClr val="66ccff"/>
                </a:solidFill>
                <a:latin typeface="Arial Narrow"/>
              </a:rPr>
              <a:t>(2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FS 6.6 months </a:t>
            </a:r>
            <a:r>
              <a:rPr b="0" lang="en-US" sz="2800" spc="-1" strike="noStrike">
                <a:solidFill>
                  <a:srgbClr val="66ccff"/>
                </a:solidFill>
                <a:latin typeface="Arial Narrow"/>
              </a:rPr>
              <a:t>(4 month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Median OS 13.3 months </a:t>
            </a:r>
            <a:r>
              <a:rPr b="0" lang="en-US" sz="2800" spc="-1" strike="noStrike">
                <a:solidFill>
                  <a:srgbClr val="66ccff"/>
                </a:solidFill>
                <a:latin typeface="Arial Narrow"/>
              </a:rPr>
              <a:t>(10 month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1-year OS 59% </a:t>
            </a:r>
            <a:r>
              <a:rPr b="0" lang="en-US" sz="2800" spc="-1" strike="noStrike">
                <a:solidFill>
                  <a:srgbClr val="66ccff"/>
                </a:solidFill>
                <a:latin typeface="Arial Narrow"/>
              </a:rPr>
              <a:t>(3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82040" y="6291360"/>
            <a:ext cx="387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mon G et al.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J Clin Onco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00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Box 21"/>
          <p:cNvSpPr/>
          <p:nvPr/>
        </p:nvSpPr>
        <p:spPr>
          <a:xfrm>
            <a:off x="0" y="228600"/>
            <a:ext cx="91440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  <a:ea typeface="Arial"/>
              </a:rPr>
              <a:t>Phase III ERCC1/RRM1 Directed Trial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  <a:ea typeface="Arial"/>
              </a:rPr>
              <a:t>in Advanced NSCLC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40"/>
          <p:cNvGrpSpPr/>
          <p:nvPr/>
        </p:nvGrpSpPr>
        <p:grpSpPr>
          <a:xfrm>
            <a:off x="152280" y="1676520"/>
            <a:ext cx="8763120" cy="4440240"/>
            <a:chOff x="152280" y="1676520"/>
            <a:chExt cx="8763120" cy="4440240"/>
          </a:xfrm>
        </p:grpSpPr>
        <p:sp>
          <p:nvSpPr>
            <p:cNvPr id="345" name="Freeform 186"/>
            <p:cNvSpPr/>
            <p:nvPr/>
          </p:nvSpPr>
          <p:spPr>
            <a:xfrm>
              <a:off x="420120" y="2139480"/>
              <a:ext cx="339840" cy="22222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round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6" name="AutoShape 93"/>
            <p:cNvGrpSpPr/>
            <p:nvPr/>
          </p:nvGrpSpPr>
          <p:grpSpPr>
            <a:xfrm>
              <a:off x="5569920" y="2754360"/>
              <a:ext cx="3040920" cy="395640"/>
              <a:chOff x="5569920" y="2754360"/>
              <a:chExt cx="3040920" cy="395640"/>
            </a:xfrm>
          </p:grpSpPr>
          <p:pic>
            <p:nvPicPr>
              <p:cNvPr id="347" name="AutoShape 93" descr=""/>
              <p:cNvPicPr/>
              <p:nvPr/>
            </p:nvPicPr>
            <p:blipFill>
              <a:blip r:embed="rId1"/>
              <a:stretch/>
            </p:blipFill>
            <p:spPr>
              <a:xfrm>
                <a:off x="5569920" y="2754360"/>
                <a:ext cx="3040920" cy="39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8" name=""/>
              <p:cNvSpPr/>
              <p:nvPr/>
            </p:nvSpPr>
            <p:spPr>
              <a:xfrm>
                <a:off x="5631840" y="2818440"/>
                <a:ext cx="2919960" cy="26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500" spc="-1" strike="noStrike">
                    <a:solidFill>
                      <a:srgbClr val="ffffff"/>
                    </a:solidFill>
                    <a:latin typeface="Verdana"/>
                    <a:ea typeface="ヒラギノ角ゴ Pro W3"/>
                  </a:rPr>
                  <a:t>Gemcitabine + Carboplatin</a:t>
                </a: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9" name="Line 198"/>
            <p:cNvSpPr/>
            <p:nvPr/>
          </p:nvSpPr>
          <p:spPr>
            <a:xfrm>
              <a:off x="5167080" y="2913480"/>
              <a:ext cx="3808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0" name="AutoShape 99"/>
            <p:cNvGrpSpPr/>
            <p:nvPr/>
          </p:nvGrpSpPr>
          <p:grpSpPr>
            <a:xfrm>
              <a:off x="3845160" y="3594960"/>
              <a:ext cx="1340640" cy="694080"/>
              <a:chOff x="3845160" y="3594960"/>
              <a:chExt cx="1340640" cy="694080"/>
            </a:xfrm>
          </p:grpSpPr>
          <p:pic>
            <p:nvPicPr>
              <p:cNvPr id="351" name="AutoShape 99" descr=""/>
              <p:cNvPicPr/>
              <p:nvPr/>
            </p:nvPicPr>
            <p:blipFill>
              <a:blip r:embed="rId2"/>
              <a:stretch/>
            </p:blipFill>
            <p:spPr>
              <a:xfrm>
                <a:off x="3845160" y="3594960"/>
                <a:ext cx="1340640" cy="69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2" name=""/>
              <p:cNvSpPr/>
              <p:nvPr/>
            </p:nvSpPr>
            <p:spPr>
              <a:xfrm>
                <a:off x="3906000" y="3652560"/>
                <a:ext cx="122112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500" spc="-1" strike="noStrike">
                    <a:solidFill>
                      <a:srgbClr val="ffffff"/>
                    </a:solidFill>
                    <a:latin typeface="Verdana"/>
                    <a:ea typeface="ヒラギノ角ゴ Pro W3"/>
                  </a:rPr>
                  <a:t>ERCC1 high</a:t>
                </a: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500" spc="-1" strike="noStrike">
                    <a:solidFill>
                      <a:srgbClr val="ffffff"/>
                    </a:solidFill>
                    <a:latin typeface="Verdana"/>
                    <a:ea typeface="ヒラギノ角ゴ Pro W3"/>
                  </a:rPr>
                  <a:t>RRM1 low</a:t>
                </a: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3" name="AutoShape 100"/>
            <p:cNvGrpSpPr/>
            <p:nvPr/>
          </p:nvGrpSpPr>
          <p:grpSpPr>
            <a:xfrm>
              <a:off x="731160" y="3820320"/>
              <a:ext cx="2480040" cy="901440"/>
              <a:chOff x="731160" y="3820320"/>
              <a:chExt cx="2480040" cy="901440"/>
            </a:xfrm>
          </p:grpSpPr>
          <p:pic>
            <p:nvPicPr>
              <p:cNvPr id="354" name="AutoShape 100" descr=""/>
              <p:cNvPicPr/>
              <p:nvPr/>
            </p:nvPicPr>
            <p:blipFill>
              <a:blip r:embed="rId3"/>
              <a:stretch/>
            </p:blipFill>
            <p:spPr>
              <a:xfrm>
                <a:off x="731160" y="3820320"/>
                <a:ext cx="2480040" cy="90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"/>
              <p:cNvSpPr/>
              <p:nvPr/>
            </p:nvSpPr>
            <p:spPr>
              <a:xfrm>
                <a:off x="809640" y="3903480"/>
                <a:ext cx="2321280" cy="74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ffffff"/>
                    </a:solidFill>
                    <a:latin typeface="Verdana"/>
                    <a:ea typeface="ヒラギノ角ゴ Pro W3"/>
                  </a:rPr>
                  <a:t>Experimental Arm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ffffff"/>
                    </a:solidFill>
                    <a:latin typeface="Verdana"/>
                    <a:ea typeface="ヒラギノ角ゴ Pro W3"/>
                  </a:rPr>
                  <a:t>Customize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6" name="AutoShape 184"/>
            <p:cNvSpPr/>
            <p:nvPr/>
          </p:nvSpPr>
          <p:spPr>
            <a:xfrm>
              <a:off x="799560" y="1676520"/>
              <a:ext cx="2791440" cy="864360"/>
            </a:xfrm>
            <a:prstGeom prst="roundRect">
              <a:avLst>
                <a:gd name="adj" fmla="val 2876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ff"/>
                  </a:solidFill>
                  <a:latin typeface="Arial"/>
                  <a:ea typeface="ヒラギノ角ゴ Pro W3"/>
                </a:rPr>
                <a:t>Control Ar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ff"/>
                  </a:solidFill>
                  <a:latin typeface="Arial"/>
                  <a:ea typeface="ヒラギノ角ゴ Pro W3"/>
                </a:rPr>
                <a:t>Gemcitabine + Carboplati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7" name="AutoShape 185"/>
            <p:cNvGrpSpPr/>
            <p:nvPr/>
          </p:nvGrpSpPr>
          <p:grpSpPr>
            <a:xfrm>
              <a:off x="3784320" y="2663280"/>
              <a:ext cx="1340640" cy="700200"/>
              <a:chOff x="3784320" y="2663280"/>
              <a:chExt cx="1340640" cy="700200"/>
            </a:xfrm>
          </p:grpSpPr>
          <p:pic>
            <p:nvPicPr>
              <p:cNvPr id="358" name="AutoShape 185" descr=""/>
              <p:cNvPicPr/>
              <p:nvPr/>
            </p:nvPicPr>
            <p:blipFill>
              <a:blip r:embed="rId4"/>
              <a:stretch/>
            </p:blipFill>
            <p:spPr>
              <a:xfrm>
                <a:off x="3784320" y="2663280"/>
                <a:ext cx="1340640" cy="700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9" name=""/>
              <p:cNvSpPr/>
              <p:nvPr/>
            </p:nvSpPr>
            <p:spPr>
              <a:xfrm>
                <a:off x="3853800" y="2730240"/>
                <a:ext cx="1204200" cy="56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500" spc="-1" strike="noStrike">
                    <a:solidFill>
                      <a:srgbClr val="ffffff"/>
                    </a:solidFill>
                    <a:latin typeface="Verdana"/>
                    <a:ea typeface="ヒラギノ角ゴ Pro W3"/>
                  </a:rPr>
                  <a:t>ERRC1 low</a:t>
                </a: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500" spc="-1" strike="noStrike">
                    <a:solidFill>
                      <a:srgbClr val="ffffff"/>
                    </a:solidFill>
                    <a:latin typeface="Verdana"/>
                    <a:ea typeface="ヒラギノ角ゴ Pro W3"/>
                  </a:rPr>
                  <a:t>RRM1 low</a:t>
                </a: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360" name="Picture 201" descr="Rvert"/>
            <p:cNvPicPr/>
            <p:nvPr/>
          </p:nvPicPr>
          <p:blipFill>
            <a:blip r:embed="rId5"/>
            <a:stretch/>
          </p:blipFill>
          <p:spPr>
            <a:xfrm>
              <a:off x="152280" y="2838960"/>
              <a:ext cx="550080" cy="516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1" name="AutoShape 99"/>
            <p:cNvGrpSpPr/>
            <p:nvPr/>
          </p:nvGrpSpPr>
          <p:grpSpPr>
            <a:xfrm>
              <a:off x="3881880" y="4509000"/>
              <a:ext cx="1334520" cy="694080"/>
              <a:chOff x="3881880" y="4509000"/>
              <a:chExt cx="1334520" cy="694080"/>
            </a:xfrm>
          </p:grpSpPr>
          <p:pic>
            <p:nvPicPr>
              <p:cNvPr id="362" name="AutoShape 99" descr=""/>
              <p:cNvPicPr/>
              <p:nvPr/>
            </p:nvPicPr>
            <p:blipFill>
              <a:blip r:embed="rId6"/>
              <a:stretch/>
            </p:blipFill>
            <p:spPr>
              <a:xfrm>
                <a:off x="3881880" y="4509000"/>
                <a:ext cx="1334520" cy="69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3" name=""/>
              <p:cNvSpPr/>
              <p:nvPr/>
            </p:nvSpPr>
            <p:spPr>
              <a:xfrm>
                <a:off x="3937320" y="4566600"/>
                <a:ext cx="122112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500" spc="-1" strike="noStrike">
                    <a:solidFill>
                      <a:srgbClr val="ffffff"/>
                    </a:solidFill>
                    <a:latin typeface="Verdana"/>
                    <a:ea typeface="ヒラギノ角ゴ Pro W3"/>
                  </a:rPr>
                  <a:t>ERCC1 low</a:t>
                </a: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500" spc="-1" strike="noStrike">
                    <a:solidFill>
                      <a:srgbClr val="ffffff"/>
                    </a:solidFill>
                    <a:latin typeface="Verdana"/>
                    <a:ea typeface="ヒラギノ角ゴ Pro W3"/>
                  </a:rPr>
                  <a:t>RRM1 high</a:t>
                </a: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4" name="AutoShape 99"/>
            <p:cNvGrpSpPr/>
            <p:nvPr/>
          </p:nvGrpSpPr>
          <p:grpSpPr>
            <a:xfrm>
              <a:off x="3881880" y="5422680"/>
              <a:ext cx="1334520" cy="694080"/>
              <a:chOff x="3881880" y="5422680"/>
              <a:chExt cx="1334520" cy="694080"/>
            </a:xfrm>
          </p:grpSpPr>
          <p:pic>
            <p:nvPicPr>
              <p:cNvPr id="365" name="AutoShape 99" descr=""/>
              <p:cNvPicPr/>
              <p:nvPr/>
            </p:nvPicPr>
            <p:blipFill>
              <a:blip r:embed="rId7"/>
              <a:stretch/>
            </p:blipFill>
            <p:spPr>
              <a:xfrm>
                <a:off x="3881880" y="5422680"/>
                <a:ext cx="1334520" cy="69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6" name=""/>
              <p:cNvSpPr/>
              <p:nvPr/>
            </p:nvSpPr>
            <p:spPr>
              <a:xfrm>
                <a:off x="3937320" y="5480280"/>
                <a:ext cx="122112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500" spc="-1" strike="noStrike">
                    <a:solidFill>
                      <a:srgbClr val="ffffff"/>
                    </a:solidFill>
                    <a:latin typeface="Verdana"/>
                    <a:ea typeface="ヒラギノ角ゴ Pro W3"/>
                  </a:rPr>
                  <a:t>ERCC1 high</a:t>
                </a: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500" spc="-1" strike="noStrike">
                    <a:solidFill>
                      <a:srgbClr val="ffffff"/>
                    </a:solidFill>
                    <a:latin typeface="Verdana"/>
                    <a:ea typeface="ヒラギノ角ゴ Pro W3"/>
                  </a:rPr>
                  <a:t>RRM1 high</a:t>
                </a: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7" name="Group 33"/>
            <p:cNvGrpSpPr/>
            <p:nvPr/>
          </p:nvGrpSpPr>
          <p:grpSpPr>
            <a:xfrm>
              <a:off x="3427920" y="3067560"/>
              <a:ext cx="228240" cy="2741040"/>
              <a:chOff x="3427920" y="3067560"/>
              <a:chExt cx="228240" cy="2741040"/>
            </a:xfrm>
          </p:grpSpPr>
          <p:sp>
            <p:nvSpPr>
              <p:cNvPr id="368" name="Straight Connector 26"/>
              <p:cNvSpPr/>
              <p:nvPr/>
            </p:nvSpPr>
            <p:spPr>
              <a:xfrm>
                <a:off x="3427920" y="3067560"/>
                <a:ext cx="0" cy="27410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Straight Connector 28"/>
              <p:cNvSpPr/>
              <p:nvPr/>
            </p:nvSpPr>
            <p:spPr>
              <a:xfrm>
                <a:off x="3427920" y="3067560"/>
                <a:ext cx="2282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Straight Connector 29"/>
              <p:cNvSpPr/>
              <p:nvPr/>
            </p:nvSpPr>
            <p:spPr>
              <a:xfrm>
                <a:off x="3427920" y="3981240"/>
                <a:ext cx="2282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Straight Connector 30"/>
              <p:cNvSpPr/>
              <p:nvPr/>
            </p:nvSpPr>
            <p:spPr>
              <a:xfrm>
                <a:off x="3427920" y="4894920"/>
                <a:ext cx="2282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Straight Connector 32"/>
              <p:cNvSpPr/>
              <p:nvPr/>
            </p:nvSpPr>
            <p:spPr>
              <a:xfrm>
                <a:off x="3427920" y="5808600"/>
                <a:ext cx="2282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3" name="AutoShape 93"/>
            <p:cNvGrpSpPr/>
            <p:nvPr/>
          </p:nvGrpSpPr>
          <p:grpSpPr>
            <a:xfrm>
              <a:off x="5582160" y="3747240"/>
              <a:ext cx="3180960" cy="414000"/>
              <a:chOff x="5582160" y="3747240"/>
              <a:chExt cx="3180960" cy="414000"/>
            </a:xfrm>
          </p:grpSpPr>
          <p:pic>
            <p:nvPicPr>
              <p:cNvPr id="374" name="AutoShape 93" descr=""/>
              <p:cNvPicPr/>
              <p:nvPr/>
            </p:nvPicPr>
            <p:blipFill>
              <a:blip r:embed="rId8"/>
              <a:stretch/>
            </p:blipFill>
            <p:spPr>
              <a:xfrm>
                <a:off x="5582160" y="3747240"/>
                <a:ext cx="3180960" cy="414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5" name=""/>
              <p:cNvSpPr/>
              <p:nvPr/>
            </p:nvSpPr>
            <p:spPr>
              <a:xfrm>
                <a:off x="5647320" y="3810960"/>
                <a:ext cx="305424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500" spc="-1" strike="noStrike">
                    <a:solidFill>
                      <a:srgbClr val="ffffff"/>
                    </a:solidFill>
                    <a:latin typeface="Verdana"/>
                    <a:ea typeface="ヒラギノ角ゴ Pro W3"/>
                  </a:rPr>
                  <a:t>Gemcitabine + Docetaxel</a:t>
                </a: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6" name="Line 198"/>
            <p:cNvSpPr/>
            <p:nvPr/>
          </p:nvSpPr>
          <p:spPr>
            <a:xfrm>
              <a:off x="5179680" y="3922560"/>
              <a:ext cx="3808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7" name="AutoShape 93"/>
            <p:cNvGrpSpPr/>
            <p:nvPr/>
          </p:nvGrpSpPr>
          <p:grpSpPr>
            <a:xfrm>
              <a:off x="5661360" y="4661280"/>
              <a:ext cx="3254040" cy="414000"/>
              <a:chOff x="5661360" y="4661280"/>
              <a:chExt cx="3254040" cy="414000"/>
            </a:xfrm>
          </p:grpSpPr>
          <p:pic>
            <p:nvPicPr>
              <p:cNvPr id="378" name="AutoShape 93" descr=""/>
              <p:cNvPicPr/>
              <p:nvPr/>
            </p:nvPicPr>
            <p:blipFill>
              <a:blip r:embed="rId9"/>
              <a:stretch/>
            </p:blipFill>
            <p:spPr>
              <a:xfrm>
                <a:off x="5661360" y="4661280"/>
                <a:ext cx="3254040" cy="414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9" name=""/>
              <p:cNvSpPr/>
              <p:nvPr/>
            </p:nvSpPr>
            <p:spPr>
              <a:xfrm>
                <a:off x="5723640" y="4725000"/>
                <a:ext cx="313020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500" spc="-1" strike="noStrike">
                    <a:solidFill>
                      <a:srgbClr val="ffffff"/>
                    </a:solidFill>
                    <a:latin typeface="Verdana"/>
                    <a:ea typeface="ヒラギノ角ゴ Pro W3"/>
                  </a:rPr>
                  <a:t>Docetaxel + Carboplatin</a:t>
                </a: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0" name="Line 198"/>
            <p:cNvSpPr/>
            <p:nvPr/>
          </p:nvSpPr>
          <p:spPr>
            <a:xfrm>
              <a:off x="5256000" y="4836240"/>
              <a:ext cx="3808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1" name="AutoShape 93"/>
            <p:cNvGrpSpPr/>
            <p:nvPr/>
          </p:nvGrpSpPr>
          <p:grpSpPr>
            <a:xfrm>
              <a:off x="5661360" y="5495760"/>
              <a:ext cx="3254040" cy="468720"/>
              <a:chOff x="5661360" y="5495760"/>
              <a:chExt cx="3254040" cy="468720"/>
            </a:xfrm>
          </p:grpSpPr>
          <p:pic>
            <p:nvPicPr>
              <p:cNvPr id="382" name="AutoShape 93" descr=""/>
              <p:cNvPicPr/>
              <p:nvPr/>
            </p:nvPicPr>
            <p:blipFill>
              <a:blip r:embed="rId10"/>
              <a:stretch/>
            </p:blipFill>
            <p:spPr>
              <a:xfrm>
                <a:off x="5661360" y="5495760"/>
                <a:ext cx="3254040" cy="46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3" name=""/>
              <p:cNvSpPr/>
              <p:nvPr/>
            </p:nvSpPr>
            <p:spPr>
              <a:xfrm>
                <a:off x="5731920" y="5571000"/>
                <a:ext cx="3113640" cy="32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500" spc="-1" strike="noStrike">
                    <a:solidFill>
                      <a:srgbClr val="ffffff"/>
                    </a:solidFill>
                    <a:latin typeface="Verdana"/>
                    <a:ea typeface="ヒラギノ角ゴ Pro W3"/>
                  </a:rPr>
                  <a:t>Docetaxel + Vinorelbine</a:t>
                </a: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4" name="Line 198"/>
            <p:cNvSpPr/>
            <p:nvPr/>
          </p:nvSpPr>
          <p:spPr>
            <a:xfrm>
              <a:off x="5256000" y="5730840"/>
              <a:ext cx="3808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0" y="4208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Predictive Markers for Adjuvant Thera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447480" y="3076560"/>
            <a:ext cx="2457720" cy="100872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dic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ecific Treat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st a Mark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5"/>
          <p:cNvSpPr/>
          <p:nvPr/>
        </p:nvSpPr>
        <p:spPr>
          <a:xfrm>
            <a:off x="5724360" y="1341360"/>
            <a:ext cx="0" cy="2016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6"/>
          <p:cNvSpPr/>
          <p:nvPr/>
        </p:nvSpPr>
        <p:spPr>
          <a:xfrm>
            <a:off x="5724360" y="1917720"/>
            <a:ext cx="1872000" cy="71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7"/>
          <p:cNvSpPr/>
          <p:nvPr/>
        </p:nvSpPr>
        <p:spPr>
          <a:xfrm>
            <a:off x="5724360" y="1917720"/>
            <a:ext cx="187200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 rot="16200000">
            <a:off x="4921920" y="2178000"/>
            <a:ext cx="123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rvi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6577920" y="1517760"/>
            <a:ext cx="14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rker (+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6654600" y="213372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rker (-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6440040" y="3343320"/>
            <a:ext cx="77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12"/>
          <p:cNvSpPr/>
          <p:nvPr/>
        </p:nvSpPr>
        <p:spPr>
          <a:xfrm>
            <a:off x="5724360" y="3357720"/>
            <a:ext cx="2016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30"/>
          <p:cNvSpPr/>
          <p:nvPr/>
        </p:nvSpPr>
        <p:spPr>
          <a:xfrm>
            <a:off x="3666600" y="2263680"/>
            <a:ext cx="1596600" cy="398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 Tre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14"/>
          <p:cNvSpPr/>
          <p:nvPr/>
        </p:nvSpPr>
        <p:spPr>
          <a:xfrm>
            <a:off x="5724360" y="4300560"/>
            <a:ext cx="0" cy="2016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15"/>
          <p:cNvSpPr/>
          <p:nvPr/>
        </p:nvSpPr>
        <p:spPr>
          <a:xfrm>
            <a:off x="5724360" y="4876920"/>
            <a:ext cx="1872000" cy="1008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16"/>
          <p:cNvSpPr/>
          <p:nvPr/>
        </p:nvSpPr>
        <p:spPr>
          <a:xfrm>
            <a:off x="5724360" y="4876920"/>
            <a:ext cx="19432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17"/>
          <p:cNvSpPr/>
          <p:nvPr/>
        </p:nvSpPr>
        <p:spPr>
          <a:xfrm rot="16200000">
            <a:off x="4921920" y="5137200"/>
            <a:ext cx="123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rvi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18"/>
          <p:cNvSpPr/>
          <p:nvPr/>
        </p:nvSpPr>
        <p:spPr>
          <a:xfrm>
            <a:off x="6577920" y="4476600"/>
            <a:ext cx="14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rker (+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9"/>
          <p:cNvSpPr/>
          <p:nvPr/>
        </p:nvSpPr>
        <p:spPr>
          <a:xfrm>
            <a:off x="6951240" y="524340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rker (-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0"/>
          <p:cNvSpPr/>
          <p:nvPr/>
        </p:nvSpPr>
        <p:spPr>
          <a:xfrm>
            <a:off x="6440040" y="6302520"/>
            <a:ext cx="77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21"/>
          <p:cNvSpPr/>
          <p:nvPr/>
        </p:nvSpPr>
        <p:spPr>
          <a:xfrm>
            <a:off x="5724360" y="6323040"/>
            <a:ext cx="2016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31"/>
          <p:cNvSpPr/>
          <p:nvPr/>
        </p:nvSpPr>
        <p:spPr>
          <a:xfrm>
            <a:off x="3878640" y="5229360"/>
            <a:ext cx="1101240" cy="398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e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33"/>
          <p:cNvSpPr/>
          <p:nvPr/>
        </p:nvSpPr>
        <p:spPr>
          <a:xfrm>
            <a:off x="2914560" y="3284640"/>
            <a:ext cx="365040" cy="504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 Narrow"/>
              </a:rPr>
              <a:t>DNA Synthesis &amp; Repair Genes RRM1 and ERCC1 in Lung Cancer (N = 187)</a:t>
            </a:r>
            <a:endParaRPr b="0" lang="en-US" sz="32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386" name="Text Box 6"/>
          <p:cNvSpPr/>
          <p:nvPr/>
        </p:nvSpPr>
        <p:spPr>
          <a:xfrm>
            <a:off x="457200" y="1981080"/>
            <a:ext cx="80643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 anchorCtr="1">
            <a:spAutoFit/>
          </a:bodyPr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66ff33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 Narrow"/>
              </a:rPr>
              <a:t>Automated quantitative determination of RRM1, ERCC1 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Arial Narrow"/>
              </a:rPr>
              <a:t>&amp; P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66ff33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 Narrow"/>
              </a:rPr>
              <a:t>RRM1 &amp; ERCC1 determinants of survival after surgical treatment  in early stage NSCL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 Box 7"/>
          <p:cNvSpPr/>
          <p:nvPr/>
        </p:nvSpPr>
        <p:spPr>
          <a:xfrm>
            <a:off x="6248520" y="643104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 anchorCtr="1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Zheng Z et al. NEJM 356:800-8, 200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8" name="Text Box 3"/>
          <p:cNvGrpSpPr/>
          <p:nvPr/>
        </p:nvGrpSpPr>
        <p:grpSpPr>
          <a:xfrm>
            <a:off x="231840" y="1432080"/>
            <a:ext cx="1882800" cy="3998880"/>
            <a:chOff x="231840" y="1432080"/>
            <a:chExt cx="1882800" cy="3998880"/>
          </a:xfrm>
        </p:grpSpPr>
        <p:pic>
          <p:nvPicPr>
            <p:cNvPr id="389" name="Text Box 3" descr=""/>
            <p:cNvPicPr/>
            <p:nvPr/>
          </p:nvPicPr>
          <p:blipFill>
            <a:blip r:embed="rId1"/>
            <a:stretch/>
          </p:blipFill>
          <p:spPr>
            <a:xfrm>
              <a:off x="231840" y="1432080"/>
              <a:ext cx="1882800" cy="399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260280" y="1472040"/>
              <a:ext cx="1828800" cy="3915360"/>
            </a:xfrm>
            <a:prstGeom prst="rect">
              <a:avLst/>
            </a:prstGeom>
            <a:solidFill>
              <a:srgbClr val="575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NSCL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tage 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pT1(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Arial"/>
                  <a:ea typeface="Arial"/>
                </a:rPr>
                <a:t>&gt;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cm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pT2N0M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R0 resecti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PS 0-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N=5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1" name="Text Box 4"/>
          <p:cNvGrpSpPr/>
          <p:nvPr/>
        </p:nvGrpSpPr>
        <p:grpSpPr>
          <a:xfrm>
            <a:off x="6016680" y="1438200"/>
            <a:ext cx="2590920" cy="2925720"/>
            <a:chOff x="6016680" y="1438200"/>
            <a:chExt cx="2590920" cy="2925720"/>
          </a:xfrm>
        </p:grpSpPr>
        <p:pic>
          <p:nvPicPr>
            <p:cNvPr id="392" name="Text Box 4" descr=""/>
            <p:cNvPicPr/>
            <p:nvPr/>
          </p:nvPicPr>
          <p:blipFill>
            <a:blip r:embed="rId2"/>
            <a:stretch/>
          </p:blipFill>
          <p:spPr>
            <a:xfrm>
              <a:off x="6016680" y="1438200"/>
              <a:ext cx="2590920" cy="29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6039000" y="1465200"/>
              <a:ext cx="2539800" cy="2873160"/>
            </a:xfrm>
            <a:prstGeom prst="rect">
              <a:avLst/>
            </a:prstGeom>
            <a:solidFill>
              <a:srgbClr val="575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Assignmen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isplatin-Gemcitabine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V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Observati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4" name="Text Box 5"/>
          <p:cNvGrpSpPr/>
          <p:nvPr/>
        </p:nvGrpSpPr>
        <p:grpSpPr>
          <a:xfrm>
            <a:off x="3346560" y="2408400"/>
            <a:ext cx="1401480" cy="438120"/>
            <a:chOff x="3346560" y="2408400"/>
            <a:chExt cx="1401480" cy="438120"/>
          </a:xfrm>
        </p:grpSpPr>
        <p:pic>
          <p:nvPicPr>
            <p:cNvPr id="395" name="Text Box 5" descr=""/>
            <p:cNvPicPr/>
            <p:nvPr/>
          </p:nvPicPr>
          <p:blipFill>
            <a:blip r:embed="rId3"/>
            <a:stretch/>
          </p:blipFill>
          <p:spPr>
            <a:xfrm>
              <a:off x="3346560" y="2408400"/>
              <a:ext cx="1401480" cy="4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3371760" y="2435400"/>
              <a:ext cx="1349640" cy="383400"/>
            </a:xfrm>
            <a:prstGeom prst="rect">
              <a:avLst/>
            </a:prstGeom>
            <a:solidFill>
              <a:srgbClr val="575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urger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7" name="Line 6"/>
          <p:cNvSpPr/>
          <p:nvPr/>
        </p:nvSpPr>
        <p:spPr>
          <a:xfrm>
            <a:off x="4067280" y="3051000"/>
            <a:ext cx="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8" name="Text Box 7"/>
          <p:cNvGrpSpPr/>
          <p:nvPr/>
        </p:nvGrpSpPr>
        <p:grpSpPr>
          <a:xfrm>
            <a:off x="3249720" y="3328920"/>
            <a:ext cx="1719000" cy="730440"/>
            <a:chOff x="3249720" y="3328920"/>
            <a:chExt cx="1719000" cy="730440"/>
          </a:xfrm>
        </p:grpSpPr>
        <p:pic>
          <p:nvPicPr>
            <p:cNvPr id="399" name="Text Box 7" descr=""/>
            <p:cNvPicPr/>
            <p:nvPr/>
          </p:nvPicPr>
          <p:blipFill>
            <a:blip r:embed="rId4"/>
            <a:stretch/>
          </p:blipFill>
          <p:spPr>
            <a:xfrm>
              <a:off x="3249720" y="3328920"/>
              <a:ext cx="1719000" cy="73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3276720" y="3355920"/>
              <a:ext cx="1668240" cy="672840"/>
            </a:xfrm>
            <a:prstGeom prst="rect">
              <a:avLst/>
            </a:prstGeom>
            <a:solidFill>
              <a:srgbClr val="575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ecimen Collec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1" name="Text Box 8"/>
          <p:cNvGrpSpPr/>
          <p:nvPr/>
        </p:nvGrpSpPr>
        <p:grpSpPr>
          <a:xfrm>
            <a:off x="2944800" y="4614840"/>
            <a:ext cx="2163600" cy="725400"/>
            <a:chOff x="2944800" y="4614840"/>
            <a:chExt cx="2163600" cy="725400"/>
          </a:xfrm>
        </p:grpSpPr>
        <p:pic>
          <p:nvPicPr>
            <p:cNvPr id="402" name="Text Box 8" descr=""/>
            <p:cNvPicPr/>
            <p:nvPr/>
          </p:nvPicPr>
          <p:blipFill>
            <a:blip r:embed="rId5"/>
            <a:stretch/>
          </p:blipFill>
          <p:spPr>
            <a:xfrm>
              <a:off x="2944800" y="4614840"/>
              <a:ext cx="216360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2968560" y="4638600"/>
              <a:ext cx="2113200" cy="672840"/>
            </a:xfrm>
            <a:prstGeom prst="rect">
              <a:avLst/>
            </a:prstGeom>
            <a:solidFill>
              <a:srgbClr val="575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  <a:ea typeface="Arial"/>
                </a:rPr>
                <a:t>ERCC1 &amp; RRM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AQUA testin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4" name="Text Box 9"/>
          <p:cNvGrpSpPr/>
          <p:nvPr/>
        </p:nvGrpSpPr>
        <p:grpSpPr>
          <a:xfrm>
            <a:off x="3108240" y="1494000"/>
            <a:ext cx="1927440" cy="438120"/>
            <a:chOff x="3108240" y="1494000"/>
            <a:chExt cx="1927440" cy="438120"/>
          </a:xfrm>
        </p:grpSpPr>
        <p:pic>
          <p:nvPicPr>
            <p:cNvPr id="405" name="Text Box 9" descr=""/>
            <p:cNvPicPr/>
            <p:nvPr/>
          </p:nvPicPr>
          <p:blipFill>
            <a:blip r:embed="rId6"/>
            <a:stretch/>
          </p:blipFill>
          <p:spPr>
            <a:xfrm>
              <a:off x="3108240" y="1494000"/>
              <a:ext cx="1927440" cy="4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3133800" y="1521000"/>
              <a:ext cx="1876320" cy="383400"/>
            </a:xfrm>
            <a:prstGeom prst="rect">
              <a:avLst/>
            </a:prstGeom>
            <a:solidFill>
              <a:srgbClr val="575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rollment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7" name="Line 10"/>
          <p:cNvSpPr/>
          <p:nvPr/>
        </p:nvSpPr>
        <p:spPr>
          <a:xfrm>
            <a:off x="4038480" y="2060640"/>
            <a:ext cx="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Line 11"/>
          <p:cNvSpPr/>
          <p:nvPr/>
        </p:nvSpPr>
        <p:spPr>
          <a:xfrm>
            <a:off x="4067280" y="4270320"/>
            <a:ext cx="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Rectangle 12"/>
          <p:cNvSpPr/>
          <p:nvPr/>
        </p:nvSpPr>
        <p:spPr>
          <a:xfrm>
            <a:off x="2811600" y="1374840"/>
            <a:ext cx="2438280" cy="4267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Rectangle 13"/>
          <p:cNvSpPr/>
          <p:nvPr/>
        </p:nvSpPr>
        <p:spPr>
          <a:xfrm>
            <a:off x="0" y="152280"/>
            <a:ext cx="9144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 Narrow"/>
                <a:ea typeface="Arial"/>
              </a:rPr>
              <a:t>S0720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  <a:ea typeface="Arial"/>
              </a:rPr>
              <a:t>: Biomarker-Directed Adjuvant Therapy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 Narrow"/>
                <a:ea typeface="Arial"/>
              </a:rPr>
              <a:t>of Stage I NSCL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14"/>
          <p:cNvSpPr/>
          <p:nvPr/>
        </p:nvSpPr>
        <p:spPr>
          <a:xfrm>
            <a:off x="3124080" y="5638680"/>
            <a:ext cx="601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ERCC1: Excision Repair Cross-Complementing Group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RM1:  Ribonucleotide Reductase M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AutoShape 17"/>
          <p:cNvSpPr/>
          <p:nvPr/>
        </p:nvSpPr>
        <p:spPr>
          <a:xfrm rot="16200000">
            <a:off x="2384280" y="2612520"/>
            <a:ext cx="149400" cy="606600"/>
          </a:xfrm>
          <a:prstGeom prst="downArrow">
            <a:avLst>
              <a:gd name="adj1" fmla="val 50000"/>
              <a:gd name="adj2" fmla="val 101506"/>
            </a:avLst>
          </a:prstGeom>
          <a:solidFill>
            <a:srgbClr val="66ff33"/>
          </a:solidFill>
          <a:ln w="1260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AutoShape 18"/>
          <p:cNvSpPr/>
          <p:nvPr/>
        </p:nvSpPr>
        <p:spPr>
          <a:xfrm rot="16200000">
            <a:off x="5557680" y="2590560"/>
            <a:ext cx="149040" cy="606600"/>
          </a:xfrm>
          <a:prstGeom prst="downArrow">
            <a:avLst>
              <a:gd name="adj1" fmla="val 50000"/>
              <a:gd name="adj2" fmla="val 101751"/>
            </a:avLst>
          </a:prstGeom>
          <a:solidFill>
            <a:srgbClr val="66ff33"/>
          </a:solidFill>
          <a:ln w="1260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Text Box 21"/>
          <p:cNvSpPr/>
          <p:nvPr/>
        </p:nvSpPr>
        <p:spPr>
          <a:xfrm>
            <a:off x="4267080" y="6431040"/>
            <a:ext cx="475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Zheng, Bepler. NEJM 2007 (Moffitt SPORE); Simon. JCO 200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5" name=""/>
          <p:cNvGraphicFramePr/>
          <p:nvPr/>
        </p:nvGraphicFramePr>
        <p:xfrm>
          <a:off x="590400" y="2162160"/>
          <a:ext cx="7831440" cy="3081240"/>
        </p:xfrm>
        <a:graphic>
          <a:graphicData uri="http://schemas.openxmlformats.org/drawingml/2006/table">
            <a:tbl>
              <a:tblPr/>
              <a:tblGrid>
                <a:gridCol w="3654720"/>
                <a:gridCol w="4176720"/>
              </a:tblGrid>
              <a:tr h="309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RM1 </a:t>
                      </a: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Verdana"/>
                        </a:rPr>
                        <a:t>&gt;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40.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RCC1 </a:t>
                      </a: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Verdana"/>
                        </a:rPr>
                        <a:t>&gt;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66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Active Monitor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ll Other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RRM1&lt; 40.5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RCC1 &lt; 66.0 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Cisplatin-Gemcitabi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416" name="AutoShape 10"/>
          <p:cNvSpPr/>
          <p:nvPr/>
        </p:nvSpPr>
        <p:spPr>
          <a:xfrm>
            <a:off x="2209680" y="3733920"/>
            <a:ext cx="160560" cy="900000"/>
          </a:xfrm>
          <a:prstGeom prst="downArrow">
            <a:avLst>
              <a:gd name="adj1" fmla="val 50000"/>
              <a:gd name="adj2" fmla="val 140135"/>
            </a:avLst>
          </a:prstGeom>
          <a:solidFill>
            <a:srgbClr val="3366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AutoShape 11"/>
          <p:cNvSpPr/>
          <p:nvPr/>
        </p:nvSpPr>
        <p:spPr>
          <a:xfrm>
            <a:off x="6095880" y="3733920"/>
            <a:ext cx="160560" cy="900000"/>
          </a:xfrm>
          <a:prstGeom prst="downArrow">
            <a:avLst>
              <a:gd name="adj1" fmla="val 50000"/>
              <a:gd name="adj2" fmla="val 140135"/>
            </a:avLst>
          </a:prstGeom>
          <a:solidFill>
            <a:srgbClr val="3366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S0720: Pharmacogenomic-Directed Adjuvant Therapy of NSCLC</a:t>
            </a:r>
            <a:endParaRPr b="0" lang="en-US" sz="32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419" name="Text Box 13"/>
          <p:cNvSpPr/>
          <p:nvPr/>
        </p:nvSpPr>
        <p:spPr>
          <a:xfrm>
            <a:off x="439560" y="1600200"/>
            <a:ext cx="8128080" cy="581400"/>
          </a:xfrm>
          <a:prstGeom prst="rect">
            <a:avLst/>
          </a:prstGeom>
          <a:solidFill>
            <a:srgbClr val="0066ff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ig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14"/>
          <p:cNvSpPr/>
          <p:nvPr/>
        </p:nvSpPr>
        <p:spPr>
          <a:xfrm>
            <a:off x="1008000" y="6035760"/>
            <a:ext cx="690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Primary Endpoint: Feasibility measured as % of patients i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whom treatment assignment can be made (&gt;75% = succes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Text Box 15"/>
          <p:cNvSpPr/>
          <p:nvPr/>
        </p:nvSpPr>
        <p:spPr>
          <a:xfrm>
            <a:off x="1153440" y="5334120"/>
            <a:ext cx="26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od Prognosi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 benefit from Che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 Box 16"/>
          <p:cNvSpPr/>
          <p:nvPr/>
        </p:nvSpPr>
        <p:spPr>
          <a:xfrm>
            <a:off x="5109480" y="5334120"/>
            <a:ext cx="276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or Prognosi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re benefit from Che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26"/>
          <p:cNvSpPr/>
          <p:nvPr/>
        </p:nvSpPr>
        <p:spPr>
          <a:xfrm>
            <a:off x="76320" y="228600"/>
            <a:ext cx="89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ts val="40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Methodolo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609480" y="2057400"/>
          <a:ext cx="8001000" cy="258444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38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H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QU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T-PC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38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p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p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or intensi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8ff"/>
                    </a:solidFill>
                  </a:tcPr>
                </a:tc>
              </a:tr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pi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f1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pi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f1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f1ff"/>
                    </a:solidFill>
                  </a:tcPr>
                </a:tc>
              </a:tr>
              <a:tr h="38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onomic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8ff"/>
                    </a:solidFill>
                  </a:tcPr>
                </a:tc>
              </a:tr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er variabil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f1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mated/quantitati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f1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ati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f1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bo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bil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bo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bil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roduci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8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Summary</a:t>
            </a: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426" name="TextBox 2"/>
          <p:cNvSpPr/>
          <p:nvPr/>
        </p:nvSpPr>
        <p:spPr>
          <a:xfrm>
            <a:off x="304920" y="1523880"/>
            <a:ext cx="8628120" cy="24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15000"/>
              </a:lnSpc>
              <a:spcBef>
                <a:spcPts val="165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CC1 and RRM1 expression levels are promising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dictive biomarkers for cisplatin and gemcitabine efficac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15000"/>
              </a:lnSpc>
              <a:spcBef>
                <a:spcPts val="165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til the results from validated studies become available,  ERCC1 and RRM1 are experimental tools and should no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used in routine clinical practi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4"/>
          <p:cNvSpPr/>
          <p:nvPr/>
        </p:nvSpPr>
        <p:spPr>
          <a:xfrm>
            <a:off x="0" y="304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RCC1: Mechanism of A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Box 5"/>
          <p:cNvSpPr/>
          <p:nvPr/>
        </p:nvSpPr>
        <p:spPr>
          <a:xfrm>
            <a:off x="914400" y="1295280"/>
            <a:ext cx="731520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1. DNA strand break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2. Recruitment of  DNA  repair protein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3. DNA unwind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4. Continued recruitment of repair proteins, including ERCC1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5. Double incision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6. Excision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7. Filling in the gap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Box 6"/>
          <p:cNvSpPr/>
          <p:nvPr/>
        </p:nvSpPr>
        <p:spPr>
          <a:xfrm>
            <a:off x="5709600" y="6477120"/>
            <a:ext cx="329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lmar A et al. Lung Cancer 64:131-139, 20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00"/>
                </a:solidFill>
                <a:latin typeface="Arial Narrow"/>
              </a:rPr>
              <a:t>ERCC1 Protein Expression Is a Predictive Marker for Adjuvant Cisplatin Chemotherapy in IALT</a:t>
            </a:r>
            <a:endParaRPr b="0" lang="en-US" sz="31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2971800" y="1523880"/>
            <a:ext cx="3581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ffect of adjuvant chemo on survival in patients with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ERCC1 negativ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tumo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2971800" y="4114800"/>
            <a:ext cx="3505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ffect of adjuvant chemo on survival in patients with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ERCC1 positiv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tumo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3200400" y="5410080"/>
            <a:ext cx="304812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djusted HR = 1.14, 95%CI [0.84-1.55],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.40</a:t>
            </a:r>
            <a:r>
              <a:rPr b="0" lang="fr-FR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3124080" y="2743200"/>
            <a:ext cx="312444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djusted HR = 0.65, 95%CI [0.50-0.86],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.002</a:t>
            </a:r>
            <a:r>
              <a:rPr b="0" lang="fr-FR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459360" y="6324480"/>
            <a:ext cx="268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Olaussen. NEJM 200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0" y="158760"/>
            <a:ext cx="91440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228600" y="1371600"/>
          <a:ext cx="8686800" cy="4732200"/>
        </p:xfrm>
        <a:graphic>
          <a:graphicData uri="http://schemas.openxmlformats.org/drawingml/2006/table">
            <a:tbl>
              <a:tblPr/>
              <a:tblGrid>
                <a:gridCol w="1219320"/>
                <a:gridCol w="914400"/>
                <a:gridCol w="1066680"/>
                <a:gridCol w="1752480"/>
                <a:gridCol w="1447920"/>
                <a:gridCol w="1219320"/>
                <a:gridCol w="1066680"/>
              </a:tblGrid>
              <a:tr h="824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fere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# of p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ethod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ponse r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ime to progress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verall survival (median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azard rati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</a:tr>
              <a:tr h="915840"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wa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H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RCC1+:  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RCC1-:  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.8 mt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4 mth (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=0.014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.5 mt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5.1 mt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=0.001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5840"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ji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 (ci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H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RCC1+:  42.9%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RCC1-: 100%  (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=0.013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 mt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1.5 mth (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=0.43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7.4 mt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.9 mth (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=0.52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</a:tr>
              <a:tr h="916200"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ffff"/>
                          </a:solidFill>
                          <a:latin typeface="Arial"/>
                          <a:ea typeface="Arial"/>
                        </a:rPr>
                        <a:t>Kond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ffff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ffff"/>
                          </a:solidFill>
                          <a:latin typeface="Arial"/>
                          <a:ea typeface="Arial"/>
                        </a:rPr>
                        <a:t>RT-PC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ffff"/>
                          </a:solidFill>
                          <a:latin typeface="Arial"/>
                          <a:ea typeface="Arial"/>
                        </a:rPr>
                        <a:t>ERCC1 high: 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ffff"/>
                          </a:solidFill>
                          <a:latin typeface="Arial"/>
                          <a:ea typeface="Arial"/>
                        </a:rPr>
                        <a:t>ERCC1 low: 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ffff"/>
                          </a:solidFill>
                          <a:latin typeface="Arial"/>
                          <a:ea typeface="Arial"/>
                        </a:rPr>
                        <a:t>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ffff"/>
                          </a:solidFill>
                          <a:latin typeface="Arial"/>
                          <a:ea typeface="Arial"/>
                        </a:rPr>
                        <a:t>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ffff"/>
                          </a:solidFill>
                          <a:latin typeface="Arial"/>
                          <a:ea typeface="Arial"/>
                        </a:rPr>
                        <a:t>66.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ffff"/>
                          </a:solidFill>
                          <a:latin typeface="Arial"/>
                          <a:ea typeface="Arial"/>
                        </a:rPr>
                        <a:t>42.75 (</a:t>
                      </a:r>
                      <a:r>
                        <a:rPr b="0" i="1" lang="en-US" sz="1600" spc="-1" strike="noStrike">
                          <a:solidFill>
                            <a:srgbClr val="00ffff"/>
                          </a:solidFill>
                          <a:latin typeface="Arial"/>
                          <a:ea typeface="Arial"/>
                        </a:rPr>
                        <a:t>p</a:t>
                      </a:r>
                      <a:r>
                        <a:rPr b="0" lang="en-US" sz="1600" spc="-1" strike="noStrike">
                          <a:solidFill>
                            <a:srgbClr val="00ffff"/>
                          </a:solidFill>
                          <a:latin typeface="Arial"/>
                          <a:ea typeface="Arial"/>
                        </a:rPr>
                        <a:t>=0.053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60280"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lausse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89 (ci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H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RCC1+: 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RCC1-: 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=0.0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 mt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 mt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14 (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=0.4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65 (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=0.002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198d"/>
                    </a:solidFill>
                  </a:tcPr>
                </a:tc>
              </a:tr>
            </a:tbl>
          </a:graphicData>
        </a:graphic>
      </p:graphicFrame>
      <p:sp>
        <p:nvSpPr>
          <p:cNvPr id="158" name="TextBox 4"/>
          <p:cNvSpPr/>
          <p:nvPr/>
        </p:nvSpPr>
        <p:spPr>
          <a:xfrm>
            <a:off x="474840" y="304920"/>
            <a:ext cx="788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RCC1 as predictive marker in adjuva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isplatin- or carboplatin-based chemo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Box 4"/>
          <p:cNvSpPr/>
          <p:nvPr/>
        </p:nvSpPr>
        <p:spPr>
          <a:xfrm>
            <a:off x="5385600" y="6477120"/>
            <a:ext cx="338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lmar A  et al.  Lung Cancer 64:131-139, 20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215640"/>
            <a:ext cx="91440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"/>
                <a:ea typeface="Arial"/>
              </a:rPr>
              <a:t>ITACA: International Tailored Adjuvant Chemotherapy Trial</a:t>
            </a:r>
            <a:endParaRPr b="0" lang="en-US" sz="32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161" name="Text Box 49"/>
          <p:cNvSpPr/>
          <p:nvPr/>
        </p:nvSpPr>
        <p:spPr>
          <a:xfrm>
            <a:off x="468360" y="6275520"/>
            <a:ext cx="83516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 anchorCtr="1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ffffff"/>
                </a:solidFill>
                <a:latin typeface="Arial"/>
                <a:ea typeface="Arial"/>
              </a:rPr>
              <a:t>* Control arm – Investigator choice of a DDP-based double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2" name="Group 56"/>
          <p:cNvGrpSpPr/>
          <p:nvPr/>
        </p:nvGrpSpPr>
        <p:grpSpPr>
          <a:xfrm>
            <a:off x="642960" y="1214280"/>
            <a:ext cx="7674120" cy="4845600"/>
            <a:chOff x="642960" y="1214280"/>
            <a:chExt cx="7674120" cy="4845600"/>
          </a:xfrm>
        </p:grpSpPr>
        <p:sp>
          <p:nvSpPr>
            <p:cNvPr id="163" name="Text Box 3"/>
            <p:cNvSpPr/>
            <p:nvPr/>
          </p:nvSpPr>
          <p:spPr>
            <a:xfrm>
              <a:off x="642960" y="3522600"/>
              <a:ext cx="194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RCC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Line 4"/>
            <p:cNvSpPr/>
            <p:nvPr/>
          </p:nvSpPr>
          <p:spPr>
            <a:xfrm>
              <a:off x="1697400" y="2946600"/>
              <a:ext cx="0" cy="14400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Text Box 5"/>
            <p:cNvSpPr/>
            <p:nvPr/>
          </p:nvSpPr>
          <p:spPr>
            <a:xfrm>
              <a:off x="1762200" y="2808000"/>
              <a:ext cx="107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Hig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Rectangle 6"/>
            <p:cNvSpPr/>
            <p:nvPr/>
          </p:nvSpPr>
          <p:spPr>
            <a:xfrm>
              <a:off x="1769040" y="41752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Low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Rectangle 7"/>
            <p:cNvSpPr/>
            <p:nvPr/>
          </p:nvSpPr>
          <p:spPr>
            <a:xfrm>
              <a:off x="2803320" y="2226960"/>
              <a:ext cx="47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Rectangle 8"/>
            <p:cNvSpPr/>
            <p:nvPr/>
          </p:nvSpPr>
          <p:spPr>
            <a:xfrm>
              <a:off x="2798640" y="4753080"/>
              <a:ext cx="47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Line 9"/>
            <p:cNvSpPr/>
            <p:nvPr/>
          </p:nvSpPr>
          <p:spPr>
            <a:xfrm>
              <a:off x="3325680" y="1728720"/>
              <a:ext cx="0" cy="14400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Rectangle 10"/>
            <p:cNvSpPr/>
            <p:nvPr/>
          </p:nvSpPr>
          <p:spPr>
            <a:xfrm>
              <a:off x="3425040" y="294300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Low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Line 11"/>
            <p:cNvSpPr/>
            <p:nvPr/>
          </p:nvSpPr>
          <p:spPr>
            <a:xfrm>
              <a:off x="3325680" y="4110480"/>
              <a:ext cx="0" cy="14400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Rectangle 12"/>
            <p:cNvSpPr/>
            <p:nvPr/>
          </p:nvSpPr>
          <p:spPr>
            <a:xfrm>
              <a:off x="3425040" y="532476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Low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Rectangle 13"/>
            <p:cNvSpPr/>
            <p:nvPr/>
          </p:nvSpPr>
          <p:spPr>
            <a:xfrm>
              <a:off x="3433320" y="1595160"/>
              <a:ext cx="68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Hig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Rectangle 14"/>
            <p:cNvSpPr/>
            <p:nvPr/>
          </p:nvSpPr>
          <p:spPr>
            <a:xfrm>
              <a:off x="3418920" y="3981600"/>
              <a:ext cx="68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Hig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Line 15"/>
            <p:cNvSpPr/>
            <p:nvPr/>
          </p:nvSpPr>
          <p:spPr>
            <a:xfrm>
              <a:off x="4212000" y="1800000"/>
              <a:ext cx="28764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Line 16"/>
            <p:cNvSpPr/>
            <p:nvPr/>
          </p:nvSpPr>
          <p:spPr>
            <a:xfrm>
              <a:off x="4214880" y="3095640"/>
              <a:ext cx="28476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Line 17"/>
            <p:cNvSpPr/>
            <p:nvPr/>
          </p:nvSpPr>
          <p:spPr>
            <a:xfrm>
              <a:off x="4212000" y="4255200"/>
              <a:ext cx="28764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18"/>
            <p:cNvSpPr/>
            <p:nvPr/>
          </p:nvSpPr>
          <p:spPr>
            <a:xfrm>
              <a:off x="4214880" y="5550840"/>
              <a:ext cx="28476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Text Box 19"/>
            <p:cNvSpPr/>
            <p:nvPr/>
          </p:nvSpPr>
          <p:spPr>
            <a:xfrm>
              <a:off x="4589640" y="1618920"/>
              <a:ext cx="129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9999ff"/>
                  </a:solidFill>
                  <a:latin typeface="Arial"/>
                  <a:ea typeface="Arial"/>
                </a:rPr>
                <a:t>Profile 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Rectangle 20"/>
            <p:cNvSpPr/>
            <p:nvPr/>
          </p:nvSpPr>
          <p:spPr>
            <a:xfrm>
              <a:off x="4600440" y="2911320"/>
              <a:ext cx="108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9999ff"/>
                  </a:solidFill>
                  <a:latin typeface="Arial"/>
                  <a:ea typeface="Arial"/>
                </a:rPr>
                <a:t>Profile 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Rectangle 21"/>
            <p:cNvSpPr/>
            <p:nvPr/>
          </p:nvSpPr>
          <p:spPr>
            <a:xfrm>
              <a:off x="4600440" y="4070520"/>
              <a:ext cx="108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9999ff"/>
                  </a:solidFill>
                  <a:latin typeface="Arial"/>
                  <a:ea typeface="Arial"/>
                </a:rPr>
                <a:t>Profile 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Rectangle 22"/>
            <p:cNvSpPr/>
            <p:nvPr/>
          </p:nvSpPr>
          <p:spPr>
            <a:xfrm>
              <a:off x="4600440" y="5370840"/>
              <a:ext cx="108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9999ff"/>
                  </a:solidFill>
                  <a:latin typeface="Arial"/>
                  <a:ea typeface="Arial"/>
                </a:rPr>
                <a:t>Profile 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23"/>
            <p:cNvSpPr/>
            <p:nvPr/>
          </p:nvSpPr>
          <p:spPr>
            <a:xfrm flipV="1">
              <a:off x="5770080" y="1390320"/>
              <a:ext cx="361080" cy="376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Line 24"/>
            <p:cNvSpPr/>
            <p:nvPr/>
          </p:nvSpPr>
          <p:spPr>
            <a:xfrm>
              <a:off x="5769360" y="1758600"/>
              <a:ext cx="371880" cy="3621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Text Box 31"/>
            <p:cNvSpPr/>
            <p:nvPr/>
          </p:nvSpPr>
          <p:spPr>
            <a:xfrm>
              <a:off x="6226560" y="1214280"/>
              <a:ext cx="173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cc00"/>
                  </a:solidFill>
                  <a:latin typeface="Arial"/>
                  <a:ea typeface="Arial"/>
                </a:rPr>
                <a:t>Taxa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Rectangle 32"/>
            <p:cNvSpPr/>
            <p:nvPr/>
          </p:nvSpPr>
          <p:spPr>
            <a:xfrm>
              <a:off x="6239160" y="2366640"/>
              <a:ext cx="147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cc00"/>
                  </a:solidFill>
                  <a:latin typeface="Arial"/>
                  <a:ea typeface="Arial"/>
                </a:rPr>
                <a:t>Pemetrexe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Rectangle 33"/>
            <p:cNvSpPr/>
            <p:nvPr/>
          </p:nvSpPr>
          <p:spPr>
            <a:xfrm>
              <a:off x="6237720" y="3668760"/>
              <a:ext cx="110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cc00"/>
                  </a:solidFill>
                  <a:latin typeface="Arial"/>
                  <a:ea typeface="Arial"/>
                </a:rPr>
                <a:t>Cis/Ge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Rectangle 34"/>
            <p:cNvSpPr/>
            <p:nvPr/>
          </p:nvSpPr>
          <p:spPr>
            <a:xfrm>
              <a:off x="6238080" y="5023080"/>
              <a:ext cx="10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cc00"/>
                  </a:solidFill>
                  <a:latin typeface="Arial"/>
                  <a:ea typeface="Arial"/>
                </a:rPr>
                <a:t>Cis/Pe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Text Box 35"/>
            <p:cNvSpPr/>
            <p:nvPr/>
          </p:nvSpPr>
          <p:spPr>
            <a:xfrm>
              <a:off x="6221520" y="1938240"/>
              <a:ext cx="122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trol*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Rectangle 36"/>
            <p:cNvSpPr/>
            <p:nvPr/>
          </p:nvSpPr>
          <p:spPr>
            <a:xfrm>
              <a:off x="6228000" y="3079800"/>
              <a:ext cx="108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trol*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Rectangle 37"/>
            <p:cNvSpPr/>
            <p:nvPr/>
          </p:nvSpPr>
          <p:spPr>
            <a:xfrm>
              <a:off x="6240600" y="4461120"/>
              <a:ext cx="108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trol*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Rectangle 38"/>
            <p:cNvSpPr/>
            <p:nvPr/>
          </p:nvSpPr>
          <p:spPr>
            <a:xfrm>
              <a:off x="6240600" y="5691600"/>
              <a:ext cx="108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trol*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Line 39"/>
            <p:cNvSpPr/>
            <p:nvPr/>
          </p:nvSpPr>
          <p:spPr>
            <a:xfrm>
              <a:off x="7618680" y="2085840"/>
              <a:ext cx="359640" cy="0"/>
            </a:xfrm>
            <a:prstGeom prst="line">
              <a:avLst/>
            </a:prstGeom>
            <a:ln w="2844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Line 40"/>
            <p:cNvSpPr/>
            <p:nvPr/>
          </p:nvSpPr>
          <p:spPr>
            <a:xfrm>
              <a:off x="7965000" y="2072160"/>
              <a:ext cx="0" cy="3841200"/>
            </a:xfrm>
            <a:prstGeom prst="line">
              <a:avLst/>
            </a:prstGeom>
            <a:ln w="3816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Line 41"/>
            <p:cNvSpPr/>
            <p:nvPr/>
          </p:nvSpPr>
          <p:spPr>
            <a:xfrm>
              <a:off x="7605000" y="5880600"/>
              <a:ext cx="359640" cy="0"/>
            </a:xfrm>
            <a:prstGeom prst="line">
              <a:avLst/>
            </a:prstGeom>
            <a:ln w="3816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Line 42"/>
            <p:cNvSpPr/>
            <p:nvPr/>
          </p:nvSpPr>
          <p:spPr>
            <a:xfrm>
              <a:off x="7813440" y="1433160"/>
              <a:ext cx="503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Line 43"/>
            <p:cNvSpPr/>
            <p:nvPr/>
          </p:nvSpPr>
          <p:spPr>
            <a:xfrm>
              <a:off x="8317080" y="1433160"/>
              <a:ext cx="0" cy="37497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Line 44"/>
            <p:cNvSpPr/>
            <p:nvPr/>
          </p:nvSpPr>
          <p:spPr>
            <a:xfrm>
              <a:off x="7813440" y="5173560"/>
              <a:ext cx="503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Line 45"/>
            <p:cNvSpPr/>
            <p:nvPr/>
          </p:nvSpPr>
          <p:spPr>
            <a:xfrm>
              <a:off x="7813440" y="2558880"/>
              <a:ext cx="503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Line 46"/>
            <p:cNvSpPr/>
            <p:nvPr/>
          </p:nvSpPr>
          <p:spPr>
            <a:xfrm>
              <a:off x="7813440" y="3853800"/>
              <a:ext cx="503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Line 47"/>
            <p:cNvSpPr/>
            <p:nvPr/>
          </p:nvSpPr>
          <p:spPr>
            <a:xfrm>
              <a:off x="7605000" y="3288600"/>
              <a:ext cx="359640" cy="0"/>
            </a:xfrm>
            <a:prstGeom prst="line">
              <a:avLst/>
            </a:prstGeom>
            <a:ln w="2844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48"/>
            <p:cNvSpPr/>
            <p:nvPr/>
          </p:nvSpPr>
          <p:spPr>
            <a:xfrm>
              <a:off x="7605000" y="4659480"/>
              <a:ext cx="359640" cy="0"/>
            </a:xfrm>
            <a:prstGeom prst="line">
              <a:avLst/>
            </a:prstGeom>
            <a:ln w="2844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Line 23"/>
            <p:cNvSpPr/>
            <p:nvPr/>
          </p:nvSpPr>
          <p:spPr>
            <a:xfrm flipV="1">
              <a:off x="5772240" y="2578320"/>
              <a:ext cx="361080" cy="376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Line 24"/>
            <p:cNvSpPr/>
            <p:nvPr/>
          </p:nvSpPr>
          <p:spPr>
            <a:xfrm>
              <a:off x="5771880" y="2946600"/>
              <a:ext cx="371880" cy="3621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Line 23"/>
            <p:cNvSpPr/>
            <p:nvPr/>
          </p:nvSpPr>
          <p:spPr>
            <a:xfrm flipV="1">
              <a:off x="5779800" y="3872880"/>
              <a:ext cx="361080" cy="376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Line 24"/>
            <p:cNvSpPr/>
            <p:nvPr/>
          </p:nvSpPr>
          <p:spPr>
            <a:xfrm>
              <a:off x="5779440" y="4241160"/>
              <a:ext cx="371880" cy="3621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Line 23"/>
            <p:cNvSpPr/>
            <p:nvPr/>
          </p:nvSpPr>
          <p:spPr>
            <a:xfrm flipV="1">
              <a:off x="5774040" y="5166360"/>
              <a:ext cx="361080" cy="376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Line 24"/>
            <p:cNvSpPr/>
            <p:nvPr/>
          </p:nvSpPr>
          <p:spPr>
            <a:xfrm>
              <a:off x="5773680" y="5534640"/>
              <a:ext cx="371880" cy="3621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99"/>
          <p:cNvSpPr/>
          <p:nvPr/>
        </p:nvSpPr>
        <p:spPr>
          <a:xfrm>
            <a:off x="152280" y="2111400"/>
            <a:ext cx="8844120" cy="37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Freeform 186"/>
          <p:cNvSpPr/>
          <p:nvPr/>
        </p:nvSpPr>
        <p:spPr>
          <a:xfrm>
            <a:off x="420840" y="2638440"/>
            <a:ext cx="339480" cy="1519200"/>
          </a:xfrm>
          <a:prstGeom prst="pie">
            <a:avLst/>
          </a:prstGeom>
          <a:noFill/>
          <a:ln w="28440">
            <a:solidFill>
              <a:srgbClr val="ffffff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1" name="AutoShape 93"/>
          <p:cNvGrpSpPr/>
          <p:nvPr/>
        </p:nvGrpSpPr>
        <p:grpSpPr>
          <a:xfrm>
            <a:off x="5052960" y="3179880"/>
            <a:ext cx="2281320" cy="414360"/>
            <a:chOff x="5052960" y="3179880"/>
            <a:chExt cx="2281320" cy="414360"/>
          </a:xfrm>
        </p:grpSpPr>
        <p:pic>
          <p:nvPicPr>
            <p:cNvPr id="212" name="AutoShape 93" descr=""/>
            <p:cNvPicPr/>
            <p:nvPr/>
          </p:nvPicPr>
          <p:blipFill>
            <a:blip r:embed="rId1"/>
            <a:stretch/>
          </p:blipFill>
          <p:spPr>
            <a:xfrm>
              <a:off x="5052960" y="3179880"/>
              <a:ext cx="228132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5116680" y="3245040"/>
              <a:ext cx="215244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500" spc="-1" strike="noStrike">
                  <a:solidFill>
                    <a:srgbClr val="ffffff"/>
                  </a:solidFill>
                  <a:latin typeface="Verdana"/>
                  <a:ea typeface="ヒラギノ角ゴ Pro W3"/>
                </a:rPr>
                <a:t>Erlotinib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4" name="AutoShape 94"/>
          <p:cNvGrpSpPr/>
          <p:nvPr/>
        </p:nvGrpSpPr>
        <p:grpSpPr>
          <a:xfrm>
            <a:off x="6450120" y="5349960"/>
            <a:ext cx="2286000" cy="407880"/>
            <a:chOff x="6450120" y="5349960"/>
            <a:chExt cx="2286000" cy="407880"/>
          </a:xfrm>
        </p:grpSpPr>
        <p:pic>
          <p:nvPicPr>
            <p:cNvPr id="215" name="AutoShape 94" descr=""/>
            <p:cNvPicPr/>
            <p:nvPr/>
          </p:nvPicPr>
          <p:blipFill>
            <a:blip r:embed="rId2"/>
            <a:stretch/>
          </p:blipFill>
          <p:spPr>
            <a:xfrm>
              <a:off x="6450120" y="5349960"/>
              <a:ext cx="2286000" cy="40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6515280" y="5413680"/>
              <a:ext cx="2153880" cy="28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500" spc="-1" strike="noStrike">
                  <a:solidFill>
                    <a:srgbClr val="ffffff"/>
                  </a:solidFill>
                  <a:latin typeface="Verdana"/>
                  <a:ea typeface="ヒラギノ角ゴ Pro W3"/>
                </a:rPr>
                <a:t>CDDP-Pemetrexed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7" name="AutoShape 95"/>
          <p:cNvGrpSpPr/>
          <p:nvPr/>
        </p:nvGrpSpPr>
        <p:grpSpPr>
          <a:xfrm>
            <a:off x="6394320" y="3935520"/>
            <a:ext cx="2279880" cy="409320"/>
            <a:chOff x="6394320" y="3935520"/>
            <a:chExt cx="2279880" cy="409320"/>
          </a:xfrm>
        </p:grpSpPr>
        <p:pic>
          <p:nvPicPr>
            <p:cNvPr id="218" name="AutoShape 95" descr=""/>
            <p:cNvPicPr/>
            <p:nvPr/>
          </p:nvPicPr>
          <p:blipFill>
            <a:blip r:embed="rId3"/>
            <a:stretch/>
          </p:blipFill>
          <p:spPr>
            <a:xfrm>
              <a:off x="6394320" y="3935520"/>
              <a:ext cx="2279880" cy="40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6459480" y="3998520"/>
              <a:ext cx="2152800" cy="28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500" spc="-1" strike="noStrike">
                  <a:solidFill>
                    <a:srgbClr val="ffffff"/>
                  </a:solidFill>
                  <a:latin typeface="Verdana"/>
                  <a:ea typeface="ヒラギノ角ゴ Pro W3"/>
                </a:rPr>
                <a:t>Observation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0" name="Line 196"/>
          <p:cNvSpPr/>
          <p:nvPr/>
        </p:nvSpPr>
        <p:spPr>
          <a:xfrm>
            <a:off x="6048360" y="5560920"/>
            <a:ext cx="3808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Line 197"/>
          <p:cNvSpPr/>
          <p:nvPr/>
        </p:nvSpPr>
        <p:spPr>
          <a:xfrm>
            <a:off x="5943600" y="4133880"/>
            <a:ext cx="4572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198"/>
          <p:cNvSpPr/>
          <p:nvPr/>
        </p:nvSpPr>
        <p:spPr>
          <a:xfrm>
            <a:off x="4648320" y="3413160"/>
            <a:ext cx="3808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Freeform 195"/>
          <p:cNvSpPr/>
          <p:nvPr/>
        </p:nvSpPr>
        <p:spPr>
          <a:xfrm>
            <a:off x="4422600" y="4129200"/>
            <a:ext cx="366840" cy="1423800"/>
          </a:xfrm>
          <a:prstGeom prst="pie">
            <a:avLst/>
          </a:prstGeom>
          <a:noFill/>
          <a:ln w="28440">
            <a:solidFill>
              <a:srgbClr val="ffffff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Freeform 193"/>
          <p:cNvSpPr/>
          <p:nvPr/>
        </p:nvSpPr>
        <p:spPr>
          <a:xfrm>
            <a:off x="2836800" y="3500280"/>
            <a:ext cx="366840" cy="1324080"/>
          </a:xfrm>
          <a:prstGeom prst="pie">
            <a:avLst/>
          </a:prstGeom>
          <a:noFill/>
          <a:ln w="28440">
            <a:solidFill>
              <a:srgbClr val="ffffff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AutoShape 97"/>
          <p:cNvGrpSpPr/>
          <p:nvPr/>
        </p:nvGrpSpPr>
        <p:grpSpPr>
          <a:xfrm>
            <a:off x="4834080" y="5349960"/>
            <a:ext cx="1298520" cy="414360"/>
            <a:chOff x="4834080" y="5349960"/>
            <a:chExt cx="1298520" cy="414360"/>
          </a:xfrm>
        </p:grpSpPr>
        <p:pic>
          <p:nvPicPr>
            <p:cNvPr id="226" name="AutoShape 97" descr=""/>
            <p:cNvPicPr/>
            <p:nvPr/>
          </p:nvPicPr>
          <p:blipFill>
            <a:blip r:embed="rId4"/>
            <a:stretch/>
          </p:blipFill>
          <p:spPr>
            <a:xfrm>
              <a:off x="4834080" y="5349960"/>
              <a:ext cx="129852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4896000" y="5416560"/>
              <a:ext cx="117468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500" spc="-1" strike="noStrike">
                  <a:solidFill>
                    <a:srgbClr val="ffffff"/>
                  </a:solidFill>
                  <a:latin typeface="Verdana"/>
                  <a:ea typeface="ヒラギノ角ゴ Pro W3"/>
                </a:rPr>
                <a:t>ERCC1-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8" name="AutoShape 98"/>
          <p:cNvGrpSpPr/>
          <p:nvPr/>
        </p:nvGrpSpPr>
        <p:grpSpPr>
          <a:xfrm>
            <a:off x="4821120" y="3935520"/>
            <a:ext cx="1305000" cy="409320"/>
            <a:chOff x="4821120" y="3935520"/>
            <a:chExt cx="1305000" cy="409320"/>
          </a:xfrm>
        </p:grpSpPr>
        <p:pic>
          <p:nvPicPr>
            <p:cNvPr id="229" name="AutoShape 98" descr=""/>
            <p:cNvPicPr/>
            <p:nvPr/>
          </p:nvPicPr>
          <p:blipFill>
            <a:blip r:embed="rId5"/>
            <a:stretch/>
          </p:blipFill>
          <p:spPr>
            <a:xfrm>
              <a:off x="4821120" y="3935520"/>
              <a:ext cx="1305000" cy="40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4889520" y="3998520"/>
              <a:ext cx="1173240" cy="28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500" spc="-1" strike="noStrike">
                  <a:solidFill>
                    <a:srgbClr val="ffffff"/>
                  </a:solidFill>
                  <a:latin typeface="Verdana"/>
                  <a:ea typeface="ヒラギノ角ゴ Pro W3"/>
                </a:rPr>
                <a:t>ERCC1+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1" name="AutoShape 99"/>
          <p:cNvGrpSpPr/>
          <p:nvPr/>
        </p:nvGrpSpPr>
        <p:grpSpPr>
          <a:xfrm>
            <a:off x="3267000" y="4478400"/>
            <a:ext cx="1341360" cy="695160"/>
            <a:chOff x="3267000" y="4478400"/>
            <a:chExt cx="1341360" cy="695160"/>
          </a:xfrm>
        </p:grpSpPr>
        <p:pic>
          <p:nvPicPr>
            <p:cNvPr id="232" name="AutoShape 99" descr=""/>
            <p:cNvPicPr/>
            <p:nvPr/>
          </p:nvPicPr>
          <p:blipFill>
            <a:blip r:embed="rId6"/>
            <a:stretch/>
          </p:blipFill>
          <p:spPr>
            <a:xfrm>
              <a:off x="3267000" y="4478400"/>
              <a:ext cx="1341360" cy="6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3325680" y="4535280"/>
              <a:ext cx="1222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500" spc="-1" strike="noStrike">
                  <a:solidFill>
                    <a:srgbClr val="ffffff"/>
                  </a:solidFill>
                  <a:latin typeface="Verdana"/>
                  <a:ea typeface="ヒラギノ角ゴ Pro W3"/>
                </a:rPr>
                <a:t>EGFR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500" spc="-1" strike="noStrike">
                  <a:solidFill>
                    <a:srgbClr val="ffffff"/>
                  </a:solidFill>
                  <a:latin typeface="Verdana"/>
                  <a:ea typeface="ヒラギノ角ゴ Pro W3"/>
                </a:rPr>
                <a:t>wt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4" name="AutoShape 100"/>
          <p:cNvGrpSpPr/>
          <p:nvPr/>
        </p:nvGrpSpPr>
        <p:grpSpPr>
          <a:xfrm>
            <a:off x="731880" y="3746520"/>
            <a:ext cx="2481120" cy="903240"/>
            <a:chOff x="731880" y="3746520"/>
            <a:chExt cx="2481120" cy="903240"/>
          </a:xfrm>
        </p:grpSpPr>
        <p:pic>
          <p:nvPicPr>
            <p:cNvPr id="235" name="AutoShape 100" descr=""/>
            <p:cNvPicPr/>
            <p:nvPr/>
          </p:nvPicPr>
          <p:blipFill>
            <a:blip r:embed="rId7"/>
            <a:stretch/>
          </p:blipFill>
          <p:spPr>
            <a:xfrm>
              <a:off x="731880" y="3746520"/>
              <a:ext cx="248112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809640" y="3829320"/>
              <a:ext cx="2322360" cy="74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Verdana"/>
                  <a:ea typeface="ヒラギノ角ゴ Pro W3"/>
                </a:rPr>
                <a:t>Experimental Ar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Verdana"/>
                  <a:ea typeface="ヒラギノ角ゴ Pro W3"/>
                </a:rPr>
                <a:t>Customize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7" name="AutoShape 184"/>
          <p:cNvSpPr/>
          <p:nvPr/>
        </p:nvSpPr>
        <p:spPr>
          <a:xfrm>
            <a:off x="800280" y="2174760"/>
            <a:ext cx="2792160" cy="865440"/>
          </a:xfrm>
          <a:prstGeom prst="roundRect">
            <a:avLst>
              <a:gd name="adj" fmla="val 2876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Control Ar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ff"/>
                </a:solidFill>
                <a:latin typeface="Arial"/>
                <a:ea typeface="ヒラギノ角ゴ Pro W3"/>
              </a:rPr>
              <a:t>CDDP-Pemetrex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AutoShape 185"/>
          <p:cNvGrpSpPr/>
          <p:nvPr/>
        </p:nvGrpSpPr>
        <p:grpSpPr>
          <a:xfrm>
            <a:off x="3267000" y="3162240"/>
            <a:ext cx="1341360" cy="699840"/>
            <a:chOff x="3267000" y="3162240"/>
            <a:chExt cx="1341360" cy="699840"/>
          </a:xfrm>
        </p:grpSpPr>
        <p:pic>
          <p:nvPicPr>
            <p:cNvPr id="239" name="AutoShape 185" descr=""/>
            <p:cNvPicPr/>
            <p:nvPr/>
          </p:nvPicPr>
          <p:blipFill>
            <a:blip r:embed="rId8"/>
            <a:stretch/>
          </p:blipFill>
          <p:spPr>
            <a:xfrm>
              <a:off x="3267000" y="3162240"/>
              <a:ext cx="1341360" cy="6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3335400" y="3228840"/>
              <a:ext cx="120312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500" spc="-1" strike="noStrike">
                  <a:solidFill>
                    <a:srgbClr val="ffffff"/>
                  </a:solidFill>
                  <a:latin typeface="Verdana"/>
                  <a:ea typeface="ヒラギノ角ゴ Pro W3"/>
                </a:rPr>
                <a:t>EGFR</a:t>
              </a:r>
              <a:br>
                <a:rPr sz="1500"/>
              </a:br>
              <a:r>
                <a:rPr b="1" lang="fr-FR" sz="1500" spc="-1" strike="noStrike">
                  <a:solidFill>
                    <a:srgbClr val="ffffff"/>
                  </a:solidFill>
                  <a:latin typeface="Verdana"/>
                  <a:ea typeface="ヒラギノ角ゴ Pro W3"/>
                </a:rPr>
                <a:t>mutated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41" name="Picture 201" descr="Rvert"/>
          <p:cNvPicPr/>
          <p:nvPr/>
        </p:nvPicPr>
        <p:blipFill>
          <a:blip r:embed="rId9"/>
          <a:stretch/>
        </p:blipFill>
        <p:spPr>
          <a:xfrm>
            <a:off x="133200" y="3181320"/>
            <a:ext cx="551160" cy="51768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14475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 Narrow"/>
              </a:rPr>
              <a:t>TASTE design</a:t>
            </a:r>
            <a:endParaRPr b="0" lang="en-US" sz="28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243" name="Rectangle 23"/>
          <p:cNvSpPr/>
          <p:nvPr/>
        </p:nvSpPr>
        <p:spPr>
          <a:xfrm>
            <a:off x="0" y="6172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  <a:ea typeface="Arial"/>
              </a:rPr>
              <a:t>Non-SCC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SCLC Stage II and IIIA (non-N2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Box 21"/>
          <p:cNvSpPr/>
          <p:nvPr/>
        </p:nvSpPr>
        <p:spPr>
          <a:xfrm>
            <a:off x="0" y="320760"/>
            <a:ext cx="91440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  <a:ea typeface="Arial"/>
              </a:rPr>
              <a:t>French Adjuvant Trial: Tailored Post Surgical Therapy in Early Stage NSCLC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20"/>
          <p:cNvGrpSpPr/>
          <p:nvPr/>
        </p:nvGrpSpPr>
        <p:grpSpPr>
          <a:xfrm>
            <a:off x="1068120" y="2206800"/>
            <a:ext cx="7167960" cy="4108320"/>
            <a:chOff x="1068120" y="2206800"/>
            <a:chExt cx="7167960" cy="4108320"/>
          </a:xfrm>
        </p:grpSpPr>
        <p:sp>
          <p:nvSpPr>
            <p:cNvPr id="246" name="Line 8"/>
            <p:cNvSpPr/>
            <p:nvPr/>
          </p:nvSpPr>
          <p:spPr>
            <a:xfrm flipV="1">
              <a:off x="4741920" y="3985920"/>
              <a:ext cx="996480" cy="65808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Text Box 15"/>
            <p:cNvSpPr/>
            <p:nvPr/>
          </p:nvSpPr>
          <p:spPr>
            <a:xfrm>
              <a:off x="1068120" y="2401200"/>
              <a:ext cx="371160" cy="256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Line 20"/>
            <p:cNvSpPr/>
            <p:nvPr/>
          </p:nvSpPr>
          <p:spPr>
            <a:xfrm>
              <a:off x="4741920" y="5293800"/>
              <a:ext cx="1074240" cy="5000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Text Box 22"/>
            <p:cNvSpPr/>
            <p:nvPr/>
          </p:nvSpPr>
          <p:spPr>
            <a:xfrm>
              <a:off x="5045400" y="3513960"/>
              <a:ext cx="349920" cy="25275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Line 24"/>
            <p:cNvSpPr/>
            <p:nvPr/>
          </p:nvSpPr>
          <p:spPr>
            <a:xfrm flipV="1">
              <a:off x="1533960" y="2745000"/>
              <a:ext cx="934200" cy="10328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Line 25"/>
            <p:cNvSpPr/>
            <p:nvPr/>
          </p:nvSpPr>
          <p:spPr>
            <a:xfrm>
              <a:off x="1533960" y="3890520"/>
              <a:ext cx="934200" cy="10328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2" name="Rounded Rectangle 11"/>
            <p:cNvGrpSpPr/>
            <p:nvPr/>
          </p:nvGrpSpPr>
          <p:grpSpPr>
            <a:xfrm>
              <a:off x="1914120" y="3606480"/>
              <a:ext cx="755640" cy="419760"/>
              <a:chOff x="1914120" y="3606480"/>
              <a:chExt cx="755640" cy="419760"/>
            </a:xfrm>
          </p:grpSpPr>
          <p:pic>
            <p:nvPicPr>
              <p:cNvPr id="253" name="Rounded Rectangle 11" descr=""/>
              <p:cNvPicPr/>
              <p:nvPr/>
            </p:nvPicPr>
            <p:blipFill>
              <a:blip r:embed="rId1"/>
              <a:stretch/>
            </p:blipFill>
            <p:spPr>
              <a:xfrm>
                <a:off x="1914120" y="3606480"/>
                <a:ext cx="755640" cy="419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4" name=""/>
              <p:cNvSpPr/>
              <p:nvPr/>
            </p:nvSpPr>
            <p:spPr>
              <a:xfrm>
                <a:off x="1938960" y="3630240"/>
                <a:ext cx="707040" cy="37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ffff"/>
                    </a:solidFill>
                    <a:latin typeface="Arial Narrow"/>
                  </a:rPr>
                  <a:t>1 : 2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5" name="Rounded Rectangle 12"/>
            <p:cNvGrpSpPr/>
            <p:nvPr/>
          </p:nvGrpSpPr>
          <p:grpSpPr>
            <a:xfrm>
              <a:off x="5888880" y="3460680"/>
              <a:ext cx="2347200" cy="943200"/>
              <a:chOff x="5888880" y="3460680"/>
              <a:chExt cx="2347200" cy="943200"/>
            </a:xfrm>
          </p:grpSpPr>
          <p:pic>
            <p:nvPicPr>
              <p:cNvPr id="256" name="Rounded Rectangle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5888880" y="3460680"/>
                <a:ext cx="2347200" cy="943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7" name=""/>
              <p:cNvSpPr/>
              <p:nvPr/>
            </p:nvSpPr>
            <p:spPr>
              <a:xfrm>
                <a:off x="5939640" y="3514680"/>
                <a:ext cx="2245320" cy="83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Low </a:t>
                </a:r>
                <a:r>
                  <a:rPr b="0" i="1" lang="en-US" sz="17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RCC1</a:t>
                </a:r>
                <a:r>
                  <a:rPr b="0" lang="en-US" sz="17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mRNA (docetaxel and cisplatin)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8" name="Rounded Rectangle 15"/>
            <p:cNvGrpSpPr/>
            <p:nvPr/>
          </p:nvGrpSpPr>
          <p:grpSpPr>
            <a:xfrm>
              <a:off x="2548080" y="4507560"/>
              <a:ext cx="2066760" cy="943200"/>
              <a:chOff x="2548080" y="4507560"/>
              <a:chExt cx="2066760" cy="943200"/>
            </a:xfrm>
          </p:grpSpPr>
          <p:pic>
            <p:nvPicPr>
              <p:cNvPr id="259" name="Rounded Rectangl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2548080" y="4507560"/>
                <a:ext cx="2066760" cy="943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"/>
              <p:cNvSpPr/>
              <p:nvPr/>
            </p:nvSpPr>
            <p:spPr>
              <a:xfrm>
                <a:off x="2598480" y="4561200"/>
                <a:ext cx="1964880" cy="83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xperimental arm </a:t>
                </a:r>
                <a:r>
                  <a:rPr b="0" i="1" lang="en-US" sz="17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(ERCC1 </a:t>
                </a:r>
                <a:r>
                  <a:rPr b="0" lang="en-US" sz="17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mRNA level)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1" name="Rounded Rectangle 16"/>
            <p:cNvGrpSpPr/>
            <p:nvPr/>
          </p:nvGrpSpPr>
          <p:grpSpPr>
            <a:xfrm>
              <a:off x="2554200" y="2206800"/>
              <a:ext cx="2066760" cy="943200"/>
              <a:chOff x="2554200" y="2206800"/>
              <a:chExt cx="2066760" cy="943200"/>
            </a:xfrm>
          </p:grpSpPr>
          <p:pic>
            <p:nvPicPr>
              <p:cNvPr id="262" name="Rounded Rectangle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2554200" y="2206800"/>
                <a:ext cx="2066760" cy="943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" name=""/>
              <p:cNvSpPr/>
              <p:nvPr/>
            </p:nvSpPr>
            <p:spPr>
              <a:xfrm>
                <a:off x="2603520" y="2261160"/>
                <a:ext cx="1964880" cy="83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trol arm (docetaxel and cisplatin)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4" name="Rounded Rectangle 17"/>
            <p:cNvGrpSpPr/>
            <p:nvPr/>
          </p:nvGrpSpPr>
          <p:grpSpPr>
            <a:xfrm>
              <a:off x="5968440" y="5371920"/>
              <a:ext cx="2249640" cy="943200"/>
              <a:chOff x="5968440" y="5371920"/>
              <a:chExt cx="2249640" cy="943200"/>
            </a:xfrm>
          </p:grpSpPr>
          <p:pic>
            <p:nvPicPr>
              <p:cNvPr id="265" name="Rounded Rectangle 17" descr=""/>
              <p:cNvPicPr/>
              <p:nvPr/>
            </p:nvPicPr>
            <p:blipFill>
              <a:blip r:embed="rId5"/>
              <a:stretch/>
            </p:blipFill>
            <p:spPr>
              <a:xfrm>
                <a:off x="5968440" y="5371920"/>
                <a:ext cx="2249640" cy="943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6" name=""/>
              <p:cNvSpPr/>
              <p:nvPr/>
            </p:nvSpPr>
            <p:spPr>
              <a:xfrm>
                <a:off x="6017760" y="5425920"/>
                <a:ext cx="2151720" cy="83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High </a:t>
                </a:r>
                <a:r>
                  <a:rPr b="0" i="1" lang="en-US" sz="17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RCC1</a:t>
                </a:r>
                <a:r>
                  <a:rPr b="0" lang="en-US" sz="17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mRNA (docetaxel and gemcitabine)</a:t>
                </a:r>
                <a:endParaRPr b="0" lang="en-US" sz="1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7" name="TextBox 18"/>
            <p:cNvSpPr/>
            <p:nvPr/>
          </p:nvSpPr>
          <p:spPr>
            <a:xfrm>
              <a:off x="2805480" y="3545640"/>
              <a:ext cx="1486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imary endpoint: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response ra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8" name="TextBox 19"/>
          <p:cNvSpPr/>
          <p:nvPr/>
        </p:nvSpPr>
        <p:spPr>
          <a:xfrm>
            <a:off x="0" y="14828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Genotypic International Lung Trial (GIL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Box 21"/>
          <p:cNvSpPr/>
          <p:nvPr/>
        </p:nvSpPr>
        <p:spPr>
          <a:xfrm>
            <a:off x="0" y="304920"/>
            <a:ext cx="90676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00"/>
                </a:solidFill>
                <a:latin typeface="Arial"/>
              </a:rPr>
              <a:t>Customizing Chemotherapy by </a:t>
            </a:r>
            <a:r>
              <a:rPr b="1" i="1" lang="en-US" sz="3100" spc="-1" strike="noStrike">
                <a:solidFill>
                  <a:srgbClr val="ffff00"/>
                </a:solidFill>
                <a:latin typeface="Arial"/>
              </a:rPr>
              <a:t>ERCC1</a:t>
            </a:r>
            <a:r>
              <a:rPr b="1" lang="en-US" sz="3100" spc="-1" strike="noStrike">
                <a:solidFill>
                  <a:srgbClr val="ffff00"/>
                </a:solidFill>
                <a:latin typeface="Arial"/>
              </a:rPr>
              <a:t> mRNA Profiling in Advanced NSCLC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Box 22"/>
          <p:cNvSpPr/>
          <p:nvPr/>
        </p:nvSpPr>
        <p:spPr>
          <a:xfrm>
            <a:off x="6626880" y="6431040"/>
            <a:ext cx="23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bo M et al. J Clin Oncol 200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0" y="158760"/>
            <a:ext cx="91440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838080" y="1600200"/>
          <a:ext cx="7543800" cy="4195800"/>
        </p:xfrm>
        <a:graphic>
          <a:graphicData uri="http://schemas.openxmlformats.org/drawingml/2006/table">
            <a:tbl>
              <a:tblPr/>
              <a:tblGrid>
                <a:gridCol w="1905120"/>
                <a:gridCol w="990720"/>
                <a:gridCol w="1218960"/>
                <a:gridCol w="1600200"/>
                <a:gridCol w="1828800"/>
              </a:tblGrid>
              <a:tr h="86724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utcom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  <a:tc>
                  <a:txBody>
                    <a:bodyPr lIns="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ntro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n = 141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  <a:tc>
                  <a:txBody>
                    <a:bodyPr lIns="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enotypic Group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n = 225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  <a:tc>
                  <a:txBody>
                    <a:bodyPr lIns="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ow Genotypic Group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n = 129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  <a:tc>
                  <a:txBody>
                    <a:bodyPr lIns="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igh Genotypic Group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n = 96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</a:tr>
              <a:tr h="38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  <a:tc>
                  <a:txBody>
                    <a:bodyPr lIns="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  <a:tc>
                  <a:txBody>
                    <a:bodyPr lIns="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  <a:tc>
                  <a:txBody>
                    <a:bodyPr lIns="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757f8"/>
                    </a:solidFill>
                  </a:tcPr>
                </a:tc>
              </a:tr>
              <a:tr h="408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ponse rat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39.3</a:t>
                      </a:r>
                      <a:r>
                        <a:rPr b="0" lang="en-US" sz="1600" spc="-1" strike="noStrike" baseline="30000">
                          <a:solidFill>
                            <a:srgbClr val="00ffff"/>
                          </a:solidFill>
                          <a:latin typeface="Arial Narrow"/>
                        </a:rPr>
                        <a:t>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51.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ffff"/>
                          </a:solidFill>
                          <a:latin typeface="Arial Narrow"/>
                        </a:rPr>
                        <a:t>53.2</a:t>
                      </a:r>
                      <a:r>
                        <a:rPr b="0" lang="en-US" sz="1600" spc="-1" strike="noStrike" baseline="30000">
                          <a:solidFill>
                            <a:srgbClr val="00ffff"/>
                          </a:solidFill>
                          <a:latin typeface="Arial Narrow"/>
                        </a:rPr>
                        <a:t>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7.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tent to treat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7.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7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50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3.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urviv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edian, month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9.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8.9-10.74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9.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8.7-10.9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0.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7.86-12.83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9.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8.17-10.8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year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0.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year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GB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year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8.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ast death at 27 months; longest alive at 33 months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3" name="TextBox 6"/>
          <p:cNvSpPr/>
          <p:nvPr/>
        </p:nvSpPr>
        <p:spPr>
          <a:xfrm>
            <a:off x="2160" y="6211800"/>
            <a:ext cx="2425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rol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otypic (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= .02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30000">
                <a:solidFill>
                  <a:srgbClr val="ffffff"/>
                </a:solidFill>
                <a:latin typeface="Arial"/>
              </a:rPr>
              <a:t>†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rol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low genotypic (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= .03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Box 4"/>
          <p:cNvSpPr/>
          <p:nvPr/>
        </p:nvSpPr>
        <p:spPr>
          <a:xfrm>
            <a:off x="0" y="380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GILT: Efficacy Resul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8T14:50:18Z</dcterms:created>
  <dc:creator>Research To Practice</dc:creator>
  <dc:description/>
  <cp:keywords/>
  <dc:language>en-US</dc:language>
  <cp:lastModifiedBy>Mac Pro E703803Y4PC</cp:lastModifiedBy>
  <cp:lastPrinted>2011-04-21T13:26:07Z</cp:lastPrinted>
  <dcterms:modified xsi:type="dcterms:W3CDTF">2011-05-11T15:13:57Z</dcterms:modified>
  <cp:revision>150</cp:revision>
  <dc:subject/>
  <dc:title>PowerPoint Presentation</dc:title>
</cp:coreProperties>
</file>