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hdr"/>
          </p:nvPr>
        </p:nvSpPr>
        <p:spPr>
          <a:xfrm>
            <a:off x="0" y="0"/>
            <a:ext cx="68580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8832 Post-IASLC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9839A79-7752-4879-8068-99949A13F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20307E6-CE2B-43BF-9AD8-B30DF84CC1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2960" y="4416120"/>
            <a:ext cx="50320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6AA86C0-55C7-4D46-A2F6-931DC0A5DB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64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2960" y="4416120"/>
            <a:ext cx="50320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8"/>
          <p:cNvSpPr/>
          <p:nvPr/>
        </p:nvSpPr>
        <p:spPr>
          <a:xfrm>
            <a:off x="0" y="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8832 Post-IASLC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884760" y="8827920"/>
            <a:ext cx="2971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32B993B-7CCE-4D89-A7F8-970C2951AD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411800"/>
            <a:ext cx="520848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C8B0E81-9E37-49D8-B229-2CF19CB8B7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BE734AE-8D6F-4D2E-8C4D-1B57B96CC6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59F4BC8-5907-44F2-AE63-EE33628EAA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3CD306A-4BCC-4019-9F5D-1856697BE4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0" y="0"/>
            <a:ext cx="6858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8832 Post-IASLC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FA0E80B-1A6C-4F2A-BCE4-37C3C4A69F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95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C66E8A9-83DB-48D8-B7EF-19E7C54AC9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0" y="0"/>
            <a:ext cx="6858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8832 Post-IASLC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73B42C1-7584-45A8-BAB9-99F19C4742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95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90CB929-0B7C-4151-9248-30685C08B6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12760" y="696960"/>
            <a:ext cx="4645080" cy="3484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3DDE045-47E8-4F7B-9DD8-E7F303DB2A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12760" y="696960"/>
            <a:ext cx="4645080" cy="3484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2960" y="4416120"/>
            <a:ext cx="50320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8"/>
          <p:cNvSpPr/>
          <p:nvPr/>
        </p:nvSpPr>
        <p:spPr>
          <a:xfrm>
            <a:off x="0" y="0"/>
            <a:ext cx="6858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8832 Post-IASLC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B72BADE-E305-4B91-961A-8A41010713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20" y="392544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2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120" y="39254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0280" y="39254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9000" y="12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5520" y="12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2120" y="39254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9000" y="39254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5520" y="39254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2120" y="12985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0280" y="12985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6320" y="231480"/>
            <a:ext cx="897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2985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2120" y="39254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2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0280" y="39254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2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20" y="392544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2120" y="12985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37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37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37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37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37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37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37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5080" y="117144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reatment Paradigms in Advanced Stage IIIB/IV Non-small Cell Lung Cance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133200" y="2543040"/>
            <a:ext cx="8839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 A. Socinski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fessor of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disciplinary Thoracic Oncology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eberger Comprehensive Cancer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versity of North Caroli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552600"/>
            <a:ext cx="914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Overall Survival Time: I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111320" y="662796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65120" y="1652760"/>
          <a:ext cx="6421680" cy="3747960"/>
        </p:xfrm>
        <a:graphic>
          <a:graphicData uri="http://schemas.openxmlformats.org/drawingml/2006/table">
            <a:tbl>
              <a:tblPr/>
              <a:tblGrid>
                <a:gridCol w="2629080"/>
                <a:gridCol w="1695240"/>
                <a:gridCol w="474840"/>
                <a:gridCol w="162252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CT + </a:t>
                      </a: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etuxim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(n=557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8bcff"/>
                          </a:solidFill>
                          <a:latin typeface="Arial"/>
                          <a:ea typeface="Times New Roman"/>
                        </a:rPr>
                        <a:t>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8bcff"/>
                          </a:solidFill>
                          <a:latin typeface="Arial"/>
                          <a:ea typeface="Times New Roman"/>
                        </a:rPr>
                        <a:t>(n=56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. of  ev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dian OS, month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5% CI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.4–12.4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.1–10.9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5% CI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0.762–0.996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year survival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539640"/>
            <a:ext cx="914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Subgroup Analyses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ucasians I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74840" y="1668600"/>
          <a:ext cx="6413400" cy="3647880"/>
        </p:xfrm>
        <a:graphic>
          <a:graphicData uri="http://schemas.openxmlformats.org/drawingml/2006/table">
            <a:tbl>
              <a:tblPr/>
              <a:tblGrid>
                <a:gridCol w="2574720"/>
                <a:gridCol w="2208240"/>
                <a:gridCol w="1630440"/>
              </a:tblGrid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CT + </a:t>
                      </a: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etuxim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(n=46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8bcff"/>
                          </a:solidFill>
                          <a:latin typeface="Arial"/>
                          <a:ea typeface="Times New Roman"/>
                        </a:rPr>
                        <a:t>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8bcff"/>
                          </a:solidFill>
                          <a:latin typeface="Arial"/>
                          <a:ea typeface="Times New Roman"/>
                        </a:rPr>
                        <a:t>(n=48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. of ev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dian 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5% CI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.2 – 12.0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8.2 – 10.1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5% CI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03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0.694–0.928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year survival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rst-line……….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quamous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ersus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n-Squamou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rst-line……….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quamous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532440" y="3422520"/>
            <a:ext cx="187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pla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x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3707640" y="3448080"/>
            <a:ext cx="2010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pla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mcita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6658920" y="3462480"/>
            <a:ext cx="1738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e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tuxi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0" name="Straight Arrow Connector 7"/>
          <p:cNvCxnSpPr/>
          <p:nvPr/>
        </p:nvCxnSpPr>
        <p:spPr>
          <a:xfrm flipH="1">
            <a:off x="1645560" y="2049840"/>
            <a:ext cx="2429640" cy="12675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1" name="Straight Arrow Connector 9"/>
          <p:cNvCxnSpPr/>
          <p:nvPr/>
        </p:nvCxnSpPr>
        <p:spPr>
          <a:xfrm flipH="1">
            <a:off x="4571280" y="2077920"/>
            <a:ext cx="13320" cy="1253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2" name="Straight Arrow Connector 11"/>
          <p:cNvCxnSpPr/>
          <p:nvPr/>
        </p:nvCxnSpPr>
        <p:spPr>
          <a:xfrm>
            <a:off x="5223960" y="2103120"/>
            <a:ext cx="2116800" cy="12279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3" name="Straight Arrow Connector 8"/>
          <p:cNvCxnSpPr/>
          <p:nvPr/>
        </p:nvCxnSpPr>
        <p:spPr>
          <a:xfrm flipV="1">
            <a:off x="3619080" y="2424960"/>
            <a:ext cx="816840" cy="6483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4" name="Straight Arrow Connector 10"/>
          <p:cNvCxnSpPr/>
          <p:nvPr/>
        </p:nvCxnSpPr>
        <p:spPr>
          <a:xfrm>
            <a:off x="3631680" y="3556080"/>
            <a:ext cx="839160" cy="800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5" name="TextBox 11"/>
          <p:cNvSpPr/>
          <p:nvPr/>
        </p:nvSpPr>
        <p:spPr>
          <a:xfrm>
            <a:off x="0" y="139680"/>
            <a:ext cx="91440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hase III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ab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P/C vs P/C Study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cinski MA et al. ASCO 2010, LBA# 75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Straight Arrow Connector 8"/>
          <p:cNvCxnSpPr/>
          <p:nvPr/>
        </p:nvCxnSpPr>
        <p:spPr>
          <a:xfrm>
            <a:off x="2425680" y="3289320"/>
            <a:ext cx="534240" cy="2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7" name="AutoShape 13"/>
          <p:cNvSpPr/>
          <p:nvPr/>
        </p:nvSpPr>
        <p:spPr>
          <a:xfrm>
            <a:off x="216000" y="2362320"/>
            <a:ext cx="2166840" cy="1901880"/>
          </a:xfrm>
          <a:prstGeom prst="roundRect">
            <a:avLst>
              <a:gd name="adj" fmla="val 9963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hemo-na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S 0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tage IIIb/IV NSCL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1,0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380880" y="4495680"/>
            <a:ext cx="4496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atification fac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age (IIIb vs I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ge (&lt;70 vs &gt;7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tology (squamous vs nonsquamo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graphic reg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3"/>
          <p:cNvSpPr/>
          <p:nvPr/>
        </p:nvSpPr>
        <p:spPr>
          <a:xfrm>
            <a:off x="4508640" y="1600200"/>
            <a:ext cx="4343400" cy="1752480"/>
          </a:xfrm>
          <a:prstGeom prst="roundRect">
            <a:avLst>
              <a:gd name="adj" fmla="val 9963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ab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-Paclitaxel 100 mg/m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1, 8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arboplatin AUC 6 d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o Premed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5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2959200" y="3098880"/>
            <a:ext cx="685800" cy="457200"/>
          </a:xfrm>
          <a:prstGeom prst="roundRect">
            <a:avLst>
              <a:gd name="adj" fmla="val 9963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1: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3"/>
          <p:cNvSpPr/>
          <p:nvPr/>
        </p:nvSpPr>
        <p:spPr>
          <a:xfrm>
            <a:off x="4548240" y="3697200"/>
            <a:ext cx="4260960" cy="2011320"/>
          </a:xfrm>
          <a:prstGeom prst="roundRect">
            <a:avLst>
              <a:gd name="adj" fmla="val 9963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aclitaxel 200 mg/m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arboplatin AUC 6 d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With Premedication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examethasone + Antihist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5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4"/>
          <p:cNvSpPr/>
          <p:nvPr/>
        </p:nvSpPr>
        <p:spPr>
          <a:xfrm>
            <a:off x="609480" y="1371600"/>
            <a:ext cx="75438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Chart 1"/>
          <p:cNvGraphicFramePr/>
          <p:nvPr/>
        </p:nvGraphicFramePr>
        <p:xfrm>
          <a:off x="1450800" y="2276640"/>
          <a:ext cx="651672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0800" y="2276640"/>
                    <a:ext cx="651672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Box 5"/>
          <p:cNvSpPr/>
          <p:nvPr/>
        </p:nvSpPr>
        <p:spPr>
          <a:xfrm>
            <a:off x="1981080" y="1514520"/>
            <a:ext cx="25146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sponse Ratio = 1.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1.082 – 1.59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= 0.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4419720" y="1522440"/>
            <a:ext cx="2666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sponse Ratio = 1.2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1.060 – 1.49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= 0.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 rot="10800000">
            <a:off x="831960" y="2826360"/>
            <a:ext cx="48528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ent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28600" y="152280"/>
            <a:ext cx="891540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mary Endpoint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 Responses – All Hist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7619760" y="2428920"/>
            <a:ext cx="953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n = 521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7162560" y="2809800"/>
            <a:ext cx="953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n = 531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520" y="6470640"/>
            <a:ext cx="7318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th permission, Socinski MA et al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2010;Abstract LBA75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Chart 1"/>
          <p:cNvGraphicFramePr/>
          <p:nvPr/>
        </p:nvGraphicFramePr>
        <p:xfrm>
          <a:off x="630360" y="1722600"/>
          <a:ext cx="8466120" cy="419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722600"/>
                    <a:ext cx="846612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3"/>
          <p:cNvSpPr/>
          <p:nvPr/>
        </p:nvSpPr>
        <p:spPr>
          <a:xfrm rot="10800000">
            <a:off x="81000" y="2427120"/>
            <a:ext cx="46980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ercent Respons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 Responses by Histology*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1600200" y="920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quam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5410080" y="920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nsquam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901800" y="149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&lt; 0.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2793960" y="149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0.06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4584600" y="14922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= 0.8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5981760" y="14922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= 0.06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1295280" y="5987880"/>
            <a:ext cx="152640" cy="15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2666880" y="5987880"/>
            <a:ext cx="15264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1602000" y="59119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 = 2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2897640" y="59119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 = 2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5181480" y="5987880"/>
            <a:ext cx="152640" cy="15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6553080" y="5987880"/>
            <a:ext cx="15264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5490000" y="59119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 = 29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6785280" y="59119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 = 3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326880" y="6154560"/>
            <a:ext cx="304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00"/>
                </a:solidFill>
                <a:latin typeface="Arial"/>
              </a:rPr>
              <a:t>* Not a pre-specified endpoi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8520" y="6470640"/>
            <a:ext cx="7318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th permission, Socinski MA et al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2010;Abstract LBA75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320" y="8856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iming of 2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line Therapy in Advanced NSCLC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3" name="Group 304"/>
          <p:cNvGrpSpPr/>
          <p:nvPr/>
        </p:nvGrpSpPr>
        <p:grpSpPr>
          <a:xfrm>
            <a:off x="73080" y="1060560"/>
            <a:ext cx="8969400" cy="5006160"/>
            <a:chOff x="73080" y="1060560"/>
            <a:chExt cx="8969400" cy="5006160"/>
          </a:xfrm>
        </p:grpSpPr>
        <p:sp>
          <p:nvSpPr>
            <p:cNvPr id="164" name="AutoShape 5"/>
            <p:cNvSpPr/>
            <p:nvPr/>
          </p:nvSpPr>
          <p:spPr>
            <a:xfrm>
              <a:off x="2067120" y="2316240"/>
              <a:ext cx="2342880" cy="1401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112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latinum-based doublet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4 cyc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Bevacizumab – ATLA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AutoShape 6"/>
            <p:cNvSpPr/>
            <p:nvPr/>
          </p:nvSpPr>
          <p:spPr>
            <a:xfrm>
              <a:off x="4716720" y="1847880"/>
              <a:ext cx="315720" cy="2306520"/>
            </a:xfrm>
            <a:custGeom>
              <a:avLst/>
              <a:gdLst>
                <a:gd name="textAreaLeft" fmla="*/ 15120 w 315720"/>
                <a:gd name="textAreaRight" fmla="*/ 300600 w 315720"/>
                <a:gd name="textAreaTop" fmla="*/ 15120 h 2306520"/>
                <a:gd name="textAreaBottom" fmla="*/ 2291400 h 2306520"/>
              </a:gdLst>
              <a:ahLst/>
              <a:rect l="textAreaLeft" t="textAreaTop" r="textAreaRight" b="textAreaBottom"/>
              <a:pathLst>
                <a:path w="21600" h="157646">
                  <a:moveTo>
                    <a:pt x="3600" y="0"/>
                  </a:moveTo>
                  <a:arcTo wR="3600" hR="3600" stAng="16200000" swAng="-5400000"/>
                  <a:lnTo>
                    <a:pt x="0" y="154046"/>
                  </a:lnTo>
                  <a:arcTo wR="3600" hR="3600" stAng="10800000" swAng="-5400000"/>
                  <a:lnTo>
                    <a:pt x="18000" y="1576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Z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AutoShape 12"/>
            <p:cNvSpPr/>
            <p:nvPr/>
          </p:nvSpPr>
          <p:spPr>
            <a:xfrm>
              <a:off x="5734080" y="3347280"/>
              <a:ext cx="3290760" cy="2719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</a:rPr>
                <a:t>Delayed 2</a:t>
              </a:r>
              <a:r>
                <a:rPr b="1" lang="en-US" sz="1800" spc="-1" strike="noStrike" u="sng" baseline="30000">
                  <a:solidFill>
                    <a:srgbClr val="ffcc00"/>
                  </a:solidFill>
                  <a:uFillTx/>
                  <a:latin typeface="Arial"/>
                  <a:ea typeface="Arial"/>
                </a:rPr>
                <a:t>nd</a:t>
              </a:r>
              <a:r>
                <a:rPr b="1" lang="en-US" sz="18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</a:rPr>
                <a:t> line therap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Docetaxel (Fidia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MD Choice (JME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MD Choice (SATUR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MD Choice (ATLA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AutoShape 13"/>
            <p:cNvSpPr/>
            <p:nvPr/>
          </p:nvSpPr>
          <p:spPr>
            <a:xfrm>
              <a:off x="5661000" y="1060560"/>
              <a:ext cx="3381480" cy="2719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00"/>
                  </a:solidFill>
                  <a:uFillTx/>
                  <a:latin typeface="Arial"/>
                  <a:ea typeface="Arial"/>
                </a:rPr>
                <a:t>Immediate 2</a:t>
              </a:r>
              <a:r>
                <a:rPr b="1" lang="en-US" sz="1800" spc="-1" strike="noStrike" u="sng" baseline="30000">
                  <a:solidFill>
                    <a:srgbClr val="ffff00"/>
                  </a:solidFill>
                  <a:uFillTx/>
                  <a:latin typeface="Arial"/>
                  <a:ea typeface="Arial"/>
                </a:rPr>
                <a:t>nd</a:t>
              </a:r>
              <a:r>
                <a:rPr b="1" lang="en-US" sz="1800" spc="-1" strike="noStrike" u="sng">
                  <a:solidFill>
                    <a:srgbClr val="ffff00"/>
                  </a:solidFill>
                  <a:uFillTx/>
                  <a:latin typeface="Arial"/>
                  <a:ea typeface="Arial"/>
                </a:rPr>
                <a:t> line therap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Docetaxel (Fidia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Pemetrexed (JME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Erlotinib (SATUR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Erlotinib (ATLA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16"/>
            <p:cNvSpPr/>
            <p:nvPr/>
          </p:nvSpPr>
          <p:spPr>
            <a:xfrm>
              <a:off x="73080" y="2490840"/>
              <a:ext cx="1708200" cy="1014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112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hemotherapy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aïve stage IV NSCL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255"/>
            <p:cNvSpPr/>
            <p:nvPr/>
          </p:nvSpPr>
          <p:spPr>
            <a:xfrm>
              <a:off x="1785960" y="3008160"/>
              <a:ext cx="276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56"/>
            <p:cNvSpPr/>
            <p:nvPr/>
          </p:nvSpPr>
          <p:spPr>
            <a:xfrm>
              <a:off x="4422960" y="3008160"/>
              <a:ext cx="276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1" name="AutoShape 257"/>
            <p:cNvCxnSpPr/>
            <p:nvPr/>
          </p:nvCxnSpPr>
          <p:spPr>
            <a:xfrm flipV="1">
              <a:off x="5060880" y="2586960"/>
              <a:ext cx="308880" cy="41796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72" name="AutoShape 258"/>
            <p:cNvCxnSpPr/>
            <p:nvPr/>
          </p:nvCxnSpPr>
          <p:spPr>
            <a:xfrm>
              <a:off x="5060520" y="2994120"/>
              <a:ext cx="267120" cy="46584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73" name="Text Box 302"/>
          <p:cNvSpPr/>
          <p:nvPr/>
        </p:nvSpPr>
        <p:spPr>
          <a:xfrm>
            <a:off x="228600" y="5773680"/>
            <a:ext cx="8628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is “maintenance”, “sequential”, prolonged duration or ju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ier use of effective second-line therap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13"/>
          <p:cNvSpPr/>
          <p:nvPr/>
        </p:nvSpPr>
        <p:spPr>
          <a:xfrm>
            <a:off x="2127240" y="4343400"/>
            <a:ext cx="207648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arly PD or D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tients drop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Straight Arrow Connector 15"/>
          <p:cNvCxnSpPr>
            <a:endCxn id="174" idx="0"/>
          </p:cNvCxnSpPr>
          <p:nvPr/>
        </p:nvCxnSpPr>
        <p:spPr>
          <a:xfrm>
            <a:off x="3161880" y="3784680"/>
            <a:ext cx="3960" cy="559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77480"/>
            <a:ext cx="9051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of maintenance efficac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33360" y="1359000"/>
          <a:ext cx="8594640" cy="4606920"/>
        </p:xfrm>
        <a:graphic>
          <a:graphicData uri="http://schemas.openxmlformats.org/drawingml/2006/table">
            <a:tbl>
              <a:tblPr/>
              <a:tblGrid>
                <a:gridCol w="1596960"/>
                <a:gridCol w="619200"/>
                <a:gridCol w="1571400"/>
                <a:gridCol w="2384640"/>
                <a:gridCol w="2422440"/>
              </a:tblGrid>
              <a:tr h="39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auth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i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ediate vs. Delayed Docetax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5.7 vs. 2.7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0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2.3 vs. 9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08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ulean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etrexed vs. 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4.3 vs. 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50,p&lt;0.0001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3.4 vs.1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9,p=0.012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quamou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5.5 vs.1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0, p=0.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puzz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 v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2.3 vs.1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71, P&lt;0.0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 12 vs.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81, p=0.00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./Placebo v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./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3.71 vs. 4.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1, p=0.0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 14.3 vs 13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92, p=0.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</a:tbl>
          </a:graphicData>
        </a:graphic>
      </p:graphicFrame>
      <p:sp>
        <p:nvSpPr>
          <p:cNvPr id="178" name="TextBox 6"/>
          <p:cNvSpPr/>
          <p:nvPr/>
        </p:nvSpPr>
        <p:spPr>
          <a:xfrm>
            <a:off x="4418280" y="6093000"/>
            <a:ext cx="387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bbreviations: Bev=bevacizumab, HR=hazard ra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3200400" y="6369120"/>
            <a:ext cx="58514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idias et al Vol 27 Number 4 JCO Feb 2009.pp591-598; Ciuleanu et al The Lancet 2009 Oct 24; 374 1432-40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Miller et al Journal of Clinical Oncology. 2009;27(18s):(suppl; abstr LBA8002).Cappuzzo et al Lancet Oncology [epub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/20/10]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77480"/>
            <a:ext cx="9051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of maintenance efficac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61800" y="1371600"/>
          <a:ext cx="8595000" cy="4606920"/>
        </p:xfrm>
        <a:graphic>
          <a:graphicData uri="http://schemas.openxmlformats.org/drawingml/2006/table">
            <a:tbl>
              <a:tblPr/>
              <a:tblGrid>
                <a:gridCol w="1567080"/>
                <a:gridCol w="630000"/>
                <a:gridCol w="1570320"/>
                <a:gridCol w="2355840"/>
                <a:gridCol w="2471760"/>
              </a:tblGrid>
              <a:tr h="39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auth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i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ediate vs. Delayed Docetax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5.7 vs. 2.7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0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2.3 vs. 9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08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ulean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etrexed vs. 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4.3 vs. 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50,p&lt;0.0001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3.4 vs.1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9,p=0.012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quamou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5.5 vs.1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0, p=0.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puzz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 v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2.3 vs.1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71, P&lt;0.0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 12 vs.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81, p=0.00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./Placebo v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./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3.71 vs. 4.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1, p=0.0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 14.3 vs 13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92, p=0.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6"/>
          <p:cNvSpPr/>
          <p:nvPr/>
        </p:nvSpPr>
        <p:spPr>
          <a:xfrm>
            <a:off x="4418280" y="6093000"/>
            <a:ext cx="387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bbreviations: Bev=bevacizumab, HR=hazard ra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14"/>
          <p:cNvSpPr/>
          <p:nvPr/>
        </p:nvSpPr>
        <p:spPr>
          <a:xfrm>
            <a:off x="3200400" y="6369120"/>
            <a:ext cx="58514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idias et al Vol 27 Number 4 JCO Feb 2009.pp591-598; Ciuleanu et al The Lancet 2009 Oct 24; 374 1432-40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Miller et al Journal of Clinical Oncology. 2009;27(18s):(suppl; abstr LBA8002).Cappuzzo et al Lancet Oncology [epub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/20/10]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rst-line……….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quamous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ersus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n-Squamou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33360" y="1447920"/>
          <a:ext cx="8594640" cy="4606920"/>
        </p:xfrm>
        <a:graphic>
          <a:graphicData uri="http://schemas.openxmlformats.org/drawingml/2006/table">
            <a:tbl>
              <a:tblPr/>
              <a:tblGrid>
                <a:gridCol w="1587600"/>
                <a:gridCol w="630000"/>
                <a:gridCol w="1541520"/>
                <a:gridCol w="2374920"/>
                <a:gridCol w="2460600"/>
              </a:tblGrid>
              <a:tr h="39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auth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i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ediate vs. Delayed Docetax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5.7 vs. 2.7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0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2.3 vs. 9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08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ulean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etrexed vs. 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4.3 vs. 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50,p&lt;0.0001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3.4 vs.1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9,p=0.012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quamou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5.5 vs.1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0, p=0.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puzz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 v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2.3 vs.1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71, P&lt;0.0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 12 vs.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81, p=0.00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./Placebo v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./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3.71 vs. 4.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1, p=0.0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 14.3 vs 13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92, p=0.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</a:tbl>
          </a:graphicData>
        </a:graphic>
      </p:graphicFrame>
      <p:sp>
        <p:nvSpPr>
          <p:cNvPr id="185" name="TextBox 6"/>
          <p:cNvSpPr/>
          <p:nvPr/>
        </p:nvSpPr>
        <p:spPr>
          <a:xfrm>
            <a:off x="4418280" y="6093000"/>
            <a:ext cx="387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bbreviations: Bev=bevacizumab, HR=hazard ra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14"/>
          <p:cNvSpPr/>
          <p:nvPr/>
        </p:nvSpPr>
        <p:spPr>
          <a:xfrm>
            <a:off x="3200400" y="6369120"/>
            <a:ext cx="58514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idias et al Vol 27 Number 4 JCO Feb 2009.pp591-598; Ciuleanu et al The Lancet 2009 Oct 24; 374 1432-40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Miller et al Journal of Clinical Oncology. 2009;27(18s):(suppl; abstr LBA8002).Cappuzzo et al Lancet Oncology [epub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/20/10]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0" y="177840"/>
            <a:ext cx="905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of maintenance effica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of Modern Day “Maintenance” T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447920"/>
          <a:ext cx="8458200" cy="4539960"/>
        </p:xfrm>
        <a:graphic>
          <a:graphicData uri="http://schemas.openxmlformats.org/drawingml/2006/table">
            <a:tbl>
              <a:tblPr/>
              <a:tblGrid>
                <a:gridCol w="1498320"/>
                <a:gridCol w="1625760"/>
                <a:gridCol w="838080"/>
                <a:gridCol w="1384560"/>
                <a:gridCol w="1282680"/>
                <a:gridCol w="1828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S (H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H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i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etax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S p=0.0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p=0.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t only in non-squamo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1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L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1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n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0%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S 2 p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ORTC 080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fitini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ted ear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0" name="TextBox 3"/>
          <p:cNvSpPr/>
          <p:nvPr/>
        </p:nvSpPr>
        <p:spPr>
          <a:xfrm>
            <a:off x="96480" y="6095880"/>
            <a:ext cx="1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Unicode MS"/>
              </a:rPr>
              <a:t>*p&lt;0.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rst-line………..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n-Squamou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61440" y="3484440"/>
            <a:ext cx="190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spla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metrex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861640" y="3511440"/>
            <a:ext cx="334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platin/paclitax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vacizu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338160" y="3537000"/>
            <a:ext cx="273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apy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 geno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GFR, EML4-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" name="Straight Arrow Connector 7"/>
          <p:cNvCxnSpPr/>
          <p:nvPr/>
        </p:nvCxnSpPr>
        <p:spPr>
          <a:xfrm flipH="1">
            <a:off x="1515240" y="2896200"/>
            <a:ext cx="2521800" cy="587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10"/>
          <p:cNvCxnSpPr/>
          <p:nvPr/>
        </p:nvCxnSpPr>
        <p:spPr>
          <a:xfrm>
            <a:off x="4388400" y="2923920"/>
            <a:ext cx="13320" cy="5482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12"/>
          <p:cNvCxnSpPr/>
          <p:nvPr/>
        </p:nvCxnSpPr>
        <p:spPr>
          <a:xfrm>
            <a:off x="4871880" y="2923920"/>
            <a:ext cx="2221560" cy="523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rst-line………..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n-Squamou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61440" y="3484440"/>
            <a:ext cx="190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spla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metrex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2861640" y="3511440"/>
            <a:ext cx="334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platin/paclitax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vacizu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6338160" y="3537000"/>
            <a:ext cx="273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apy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 Geno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GFR, EML4-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" name="Straight Arrow Connector 7"/>
          <p:cNvCxnSpPr/>
          <p:nvPr/>
        </p:nvCxnSpPr>
        <p:spPr>
          <a:xfrm flipH="1">
            <a:off x="1515240" y="2896200"/>
            <a:ext cx="2521800" cy="587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Straight Arrow Connector 10"/>
          <p:cNvCxnSpPr/>
          <p:nvPr/>
        </p:nvCxnSpPr>
        <p:spPr>
          <a:xfrm>
            <a:off x="4388400" y="2923920"/>
            <a:ext cx="13320" cy="5482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" name="Straight Arrow Connector 12"/>
          <p:cNvCxnSpPr/>
          <p:nvPr/>
        </p:nvCxnSpPr>
        <p:spPr>
          <a:xfrm>
            <a:off x="4871880" y="2923920"/>
            <a:ext cx="2221560" cy="523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Box 8"/>
          <p:cNvSpPr/>
          <p:nvPr/>
        </p:nvSpPr>
        <p:spPr>
          <a:xfrm>
            <a:off x="813240" y="3981600"/>
            <a:ext cx="7564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Where does anti-EGFR MoAb therapy fit 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06000"/>
            <a:ext cx="8975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ase III Trial: Cisplatin/Pemetrexed vs Cisplatin/Gemcitabine in Advanced NSCL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66720" y="6465960"/>
            <a:ext cx="7716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Scagliotti GV et al: </a:t>
            </a:r>
            <a:r>
              <a:rPr b="1" i="1" lang="en-US" sz="1300" spc="-1" strike="noStrike">
                <a:solidFill>
                  <a:srgbClr val="ffff00"/>
                </a:solidFill>
                <a:latin typeface="Arial"/>
              </a:rPr>
              <a:t>J Clin Oncol. 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26 (21), 2008: 3543-3551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53"/>
          <p:cNvSpPr/>
          <p:nvPr/>
        </p:nvSpPr>
        <p:spPr>
          <a:xfrm>
            <a:off x="223920" y="3475080"/>
            <a:ext cx="30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AutoShape 6"/>
          <p:cNvCxnSpPr>
            <a:stCxn id="67" idx="3"/>
            <a:endCxn id="68" idx="1"/>
          </p:cNvCxnSpPr>
          <p:nvPr/>
        </p:nvCxnSpPr>
        <p:spPr>
          <a:xfrm>
            <a:off x="3450960" y="2909520"/>
            <a:ext cx="494280" cy="133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9" name="AutoShape 7"/>
          <p:cNvCxnSpPr>
            <a:stCxn id="68" idx="3"/>
            <a:endCxn id="70" idx="1"/>
          </p:cNvCxnSpPr>
          <p:nvPr/>
        </p:nvCxnSpPr>
        <p:spPr>
          <a:xfrm flipV="1">
            <a:off x="4351320" y="2258280"/>
            <a:ext cx="559080" cy="6642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1" name="AutoShape 10"/>
          <p:cNvCxnSpPr>
            <a:stCxn id="68" idx="3"/>
            <a:endCxn id="72" idx="1"/>
          </p:cNvCxnSpPr>
          <p:nvPr/>
        </p:nvCxnSpPr>
        <p:spPr>
          <a:xfrm>
            <a:off x="4351320" y="2922480"/>
            <a:ext cx="565920" cy="6739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73" name="Rectangle 54"/>
          <p:cNvSpPr/>
          <p:nvPr/>
        </p:nvSpPr>
        <p:spPr>
          <a:xfrm>
            <a:off x="5286240" y="2739960"/>
            <a:ext cx="28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ry 3 weeks up to 6 cyc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328680" y="2413080"/>
            <a:ext cx="3109680" cy="992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420840" y="2414520"/>
            <a:ext cx="28573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emotherapy-naïv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ge IIIB/IV NSCL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=17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983120" y="1754280"/>
            <a:ext cx="35416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Cisplatin 75 mg/m</a:t>
            </a:r>
            <a:r>
              <a:rPr b="1" lang="en-US" sz="16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 d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Pemetrexed 500 mg/m</a:t>
            </a:r>
            <a:r>
              <a:rPr b="1" lang="en-US" sz="16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 d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=86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4923000" y="1776240"/>
            <a:ext cx="3563640" cy="965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4929120" y="3081240"/>
            <a:ext cx="3567240" cy="102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4976640" y="3107520"/>
            <a:ext cx="36529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splatin 75 mg/m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d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mcitabine 1250 mg/m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d1, 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=8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3957480" y="1717560"/>
            <a:ext cx="381240" cy="2408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371520" y="4759200"/>
            <a:ext cx="843912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edian survival, CP=10.3 m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edian survival, CG=10.3 m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djusted HR=0.94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8477640" y="1996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61"/>
          <p:cNvSpPr/>
          <p:nvPr/>
        </p:nvSpPr>
        <p:spPr>
          <a:xfrm>
            <a:off x="8534160" y="3321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29680"/>
            <a:ext cx="8975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platin/Pemetrexed vs Cisplatin/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mcitabine in Advanced NSCLC: Resul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66720" y="6362640"/>
            <a:ext cx="7716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Scagliotti GV et al: </a:t>
            </a:r>
            <a:r>
              <a:rPr b="1" i="1" lang="en-US" sz="1300" spc="-1" strike="noStrike">
                <a:solidFill>
                  <a:srgbClr val="ffff00"/>
                </a:solidFill>
                <a:latin typeface="Arial"/>
              </a:rPr>
              <a:t>J Clin Oncol. 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26 (21), 2008: 3543-3551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9720" y="1550880"/>
            <a:ext cx="7386840" cy="293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30000"/>
              </a:lnSpc>
              <a:spcBef>
                <a:spcPts val="1789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patients with nonsquamous histology, the median survival with CP and CG = 11.8 and 10.4 months, respectively; HR (CP vs CG) = 0.8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1789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patients with squamous histology, the median survival with CP and CG = 9.4 and 10.8 months, respectively; HR (CP vs CG) = 1.2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695160" y="1927080"/>
            <a:ext cx="2370240" cy="961920"/>
          </a:xfrm>
          <a:prstGeom prst="roundRect">
            <a:avLst>
              <a:gd name="adj" fmla="val 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rst-line 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tage IIIB/IV NSCL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(N=87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4330800" y="1452600"/>
            <a:ext cx="3535200" cy="780480"/>
          </a:xfrm>
          <a:prstGeom prst="roundRect">
            <a:avLst>
              <a:gd name="adj" fmla="val 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aclitaxel/carboplat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no crossover allowed)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4321080" y="2478240"/>
            <a:ext cx="3537000" cy="1054800"/>
          </a:xfrm>
          <a:prstGeom prst="roundRect">
            <a:avLst>
              <a:gd name="adj" fmla="val 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Paclitaxel/carboplatin + Bevacizuma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15 mg/kg every 3 wks until P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0480"/>
            <a:ext cx="9144000" cy="91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COG 4599: Phase III Trial of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clitaxel/Carboplati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Bevacizumab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676440" y="6465960"/>
            <a:ext cx="78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ndler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 Engl J Med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6;355:2542; A. Sandler, MD, personal communic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47640" y="3441600"/>
            <a:ext cx="781524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 eligibility cri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emotherapy-n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ïve stage IIIB/I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nsqua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NSCL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 CNS metast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 uncontrolled hyperten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 history of thrombotic or hemorrhagic disor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 history of or current gros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hemoptys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½ 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p bright red bloo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CLC NOS permitted (20% of patients enrolled as NSCLC N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" name="AutoShape 8"/>
          <p:cNvCxnSpPr>
            <a:stCxn id="83" idx="3"/>
            <a:endCxn id="84" idx="1"/>
          </p:cNvCxnSpPr>
          <p:nvPr/>
        </p:nvCxnSpPr>
        <p:spPr>
          <a:xfrm flipV="1">
            <a:off x="3078000" y="1853640"/>
            <a:ext cx="1240560" cy="5655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0" name="AutoShape 9"/>
          <p:cNvCxnSpPr>
            <a:stCxn id="83" idx="3"/>
            <a:endCxn id="85" idx="1"/>
          </p:cNvCxnSpPr>
          <p:nvPr/>
        </p:nvCxnSpPr>
        <p:spPr>
          <a:xfrm>
            <a:off x="3078000" y="2419200"/>
            <a:ext cx="1231200" cy="5976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91" name="Text Box 11"/>
          <p:cNvSpPr/>
          <p:nvPr/>
        </p:nvSpPr>
        <p:spPr>
          <a:xfrm>
            <a:off x="674640" y="5850000"/>
            <a:ext cx="81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S=central nervous system; NOS=not otherwise specified; PC=paclitaxel/carboplatin; PCB=paclitaxel/carboplatin + bevacizuma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7765920" y="15638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7505640" y="2843280"/>
            <a:ext cx="14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C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19440"/>
            <a:ext cx="9059760" cy="91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COG 4599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: Key Outcom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27040" y="1041480"/>
            <a:ext cx="8345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R: 15% for PC versus 35% for PCB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0.00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all survival PC, PCB: 10.3 months, 12.3 months; HR=0.79,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0.003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on-free survival: Favored PCB (HR=0.62,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0.000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865160" y="2436840"/>
          <a:ext cx="5454720" cy="3395520"/>
        </p:xfrm>
        <a:graphic>
          <a:graphicData uri="http://schemas.openxmlformats.org/drawingml/2006/table">
            <a:tbl>
              <a:tblPr/>
              <a:tblGrid>
                <a:gridCol w="1871640"/>
                <a:gridCol w="1252800"/>
                <a:gridCol w="1320840"/>
                <a:gridCol w="1009440"/>
              </a:tblGrid>
              <a:tr h="642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xic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N=44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C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(N=42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morrh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</a:tr>
              <a:tr h="338040">
                <a:tc>
                  <a:txBody>
                    <a:bodyPr lIns="90000" rIns="90000" anchor="ctr">
                      <a:noAutofit/>
                    </a:bodyPr>
                    <a:p>
                      <a:pPr marL="6480" indent="2880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yperten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6"/>
                    </a:solidFill>
                  </a:tcPr>
                </a:tc>
              </a:tr>
              <a:tr h="53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ous Thrombo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</a:tr>
              <a:tr h="53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erial Thrombosis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ath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</a:tr>
              <a:tr h="338040">
                <a:tc>
                  <a:txBody>
                    <a:bodyPr lIns="90000" rIns="90000" anchor="ctr">
                      <a:noAutofit/>
                    </a:bodyPr>
                    <a:p>
                      <a:pPr marL="117360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mopty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anchor="ctr">
                      <a:noAutofit/>
                    </a:bodyPr>
                    <a:p>
                      <a:pPr marL="117360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 Blee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 Box 7"/>
          <p:cNvSpPr/>
          <p:nvPr/>
        </p:nvSpPr>
        <p:spPr>
          <a:xfrm>
            <a:off x="668160" y="6313320"/>
            <a:ext cx="771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ndler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 Engl J Med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6;355:2542; Sandler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SCO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2005 (abstr 4); A. Sandler, MD, personal communic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92"/>
          <p:cNvSpPr/>
          <p:nvPr/>
        </p:nvSpPr>
        <p:spPr>
          <a:xfrm>
            <a:off x="658800" y="6048360"/>
            <a:ext cx="734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I=gastrointestinal; ND=not done; NS=not significan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8856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LEX Phase III Trial: Cisplatin/Vinorelbin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± Cetuximab in EGFR+ Advanced NSCLC</a:t>
            </a:r>
            <a:br>
              <a:rPr sz="32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irker R et al. ASCO 2008, abstr # 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34880" y="4581360"/>
            <a:ext cx="82454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mary endpoint: 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ary endpoints: 1- and 2-year survival rate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-month and 12-month PFS rates, response rate, safety, quality of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495360" y="6116760"/>
            <a:ext cx="83455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rker R et al. Lancet 373: 1525-1531,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17"/>
          <p:cNvGrpSpPr/>
          <p:nvPr/>
        </p:nvGrpSpPr>
        <p:grpSpPr>
          <a:xfrm>
            <a:off x="1100160" y="1844640"/>
            <a:ext cx="6729480" cy="2612880"/>
            <a:chOff x="1100160" y="1844640"/>
            <a:chExt cx="6729480" cy="2612880"/>
          </a:xfrm>
        </p:grpSpPr>
        <p:sp>
          <p:nvSpPr>
            <p:cNvPr id="103" name="AutoShape 4"/>
            <p:cNvSpPr/>
            <p:nvPr/>
          </p:nvSpPr>
          <p:spPr>
            <a:xfrm>
              <a:off x="1100160" y="2573280"/>
              <a:ext cx="2471760" cy="1147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112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age IIIB or I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GFR-expressing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hemotherapy-naïv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SCL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4199040" y="1844640"/>
              <a:ext cx="417240" cy="2612880"/>
            </a:xfrm>
            <a:custGeom>
              <a:avLst/>
              <a:gdLst>
                <a:gd name="textAreaLeft" fmla="*/ 20160 w 417240"/>
                <a:gd name="textAreaRight" fmla="*/ 397080 w 417240"/>
                <a:gd name="textAreaTop" fmla="*/ 20160 h 2612880"/>
                <a:gd name="textAreaBottom" fmla="*/ 2592720 h 2612880"/>
              </a:gdLst>
              <a:ahLst/>
              <a:rect l="textAreaLeft" t="textAreaTop" r="textAreaRight" b="textAreaBottom"/>
              <a:pathLst>
                <a:path w="21600" h="135168">
                  <a:moveTo>
                    <a:pt x="3600" y="0"/>
                  </a:moveTo>
                  <a:arcTo wR="3600" hR="3600" stAng="16200000" swAng="-5400000"/>
                  <a:lnTo>
                    <a:pt x="0" y="131568"/>
                  </a:lnTo>
                  <a:arcTo wR="3600" hR="3600" stAng="10800000" swAng="-5400000"/>
                  <a:lnTo>
                    <a:pt x="18000" y="1351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marL="285840" indent="-285840"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5202360" y="2046240"/>
              <a:ext cx="2627280" cy="11001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isplatin/Vinorelb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etuxima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=5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AutoShape 7"/>
            <p:cNvSpPr/>
            <p:nvPr/>
          </p:nvSpPr>
          <p:spPr>
            <a:xfrm>
              <a:off x="5202360" y="3230640"/>
              <a:ext cx="2622600" cy="1071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splatin/Vinorelb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=5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" name="AutoShape 8"/>
            <p:cNvCxnSpPr>
              <a:stCxn id="104" idx="3"/>
              <a:endCxn id="105" idx="1"/>
            </p:cNvCxnSpPr>
            <p:nvPr/>
          </p:nvCxnSpPr>
          <p:spPr>
            <a:xfrm flipV="1">
              <a:off x="4616280" y="2596320"/>
              <a:ext cx="586800" cy="55476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08" name="AutoShape 9"/>
            <p:cNvCxnSpPr>
              <a:stCxn id="104" idx="3"/>
              <a:endCxn id="106" idx="1"/>
            </p:cNvCxnSpPr>
            <p:nvPr/>
          </p:nvCxnSpPr>
          <p:spPr>
            <a:xfrm>
              <a:off x="4616280" y="3150720"/>
              <a:ext cx="586800" cy="61668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09" name="Line 15"/>
            <p:cNvSpPr/>
            <p:nvPr/>
          </p:nvSpPr>
          <p:spPr>
            <a:xfrm>
              <a:off x="3570120" y="3141720"/>
              <a:ext cx="552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49:58Z</dcterms:created>
  <dc:creator>Research To Practice</dc:creator>
  <dc:description/>
  <cp:keywords/>
  <dc:language>en-US</dc:language>
  <cp:lastModifiedBy>Mac Pro E703803Y4PC</cp:lastModifiedBy>
  <cp:lastPrinted>2007-09-24T21:37:34Z</cp:lastPrinted>
  <dcterms:modified xsi:type="dcterms:W3CDTF">2011-05-20T17:31:10Z</dcterms:modified>
  <cp:revision>1526</cp:revision>
  <dc:subject/>
  <dc:title>PowerPoint Presentation</dc:title>
</cp:coreProperties>
</file>