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E641-4940-4518-B8CC-80B2B1C3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411D-2BC3-4E4D-887D-C37F6939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A66-9ADD-4576-9F81-CF26476CB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BD4-83CF-4499-BC48-20C3A771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1F3A-D18E-4227-B720-A79A16820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6FA-5D0F-4908-B1F5-CF97B63037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4AA-670A-4744-83F7-99252FD2A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5D7-1588-4A5C-B586-D6BAA4DBC3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28C8-0E8C-4225-AFC2-D310B987E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952-256A-4931-A480-F2F1F7622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A7C-A7D3-48DD-802C-50EBF057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948-A308-4B6A-8A11-C8A8D114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A99-D33E-409A-BFE2-B94778F8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790-B837-43D1-AD63-4A968145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375-9788-4F3C-BC9E-D6736EAF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1FA-CEFC-4457-88C2-9C801A69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089-EFBF-4DD8-97BA-C9120FC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52E-90CB-4B6E-AD41-AC9BED4E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02B-5B15-41D6-A746-3D7DB789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F18-5154-4526-B650-1142D7C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E211-8FCC-4FDF-A109-AC4638A0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EA16-B98F-4E7A-9B0D-6AA9C552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52C-A32A-4741-BAD9-8460295B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80F-F81D-4097-90FB-54C5EFB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BE9-5BAC-4F46-9A80-077AC79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116-6831-4567-B7FA-C815A0A1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AD50-BD57-4AE7-89EE-84269F16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AC70-7F3B-4250-95C4-08EBD43C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278F-E8F5-48C5-962A-D9AE0879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C5E5-CBD4-464F-983E-6FFDB7C7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A738-4255-4971-B00E-A3951899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352E-8A6F-47E0-9124-065B20D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1B06-B61B-472E-81D8-078A85AE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077-192A-4DA5-A0D7-33F5EA4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989B-866C-47F5-B0C2-4CE68460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E6DE-9B62-4D87-A235-01DB0CEF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54EF-B2DE-42F2-A1CF-AECDDF7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C1FD-3208-4FFE-ADDC-71B95FB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3757-60AD-496D-8350-3FD3E446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45A7-7E09-49B5-AB54-E9AC81F2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21ED-7A93-4DDF-8A20-47EB37D6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0DC-C7D1-4D5C-90B5-64A996D0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FE1-0C78-43A2-9F7A-9565ABC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14E-34A7-4C67-8F29-4B922F66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C4C-7BF6-48EF-A819-6116989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0CB-EFCD-4CFF-9469-2BFA6EE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B1B-42E4-4703-A74F-F5F84C8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147-B510-4F29-8771-E1221DCF13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5DC2-E2E1-44A3-9271-4400F9185D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2F1-07E6-4CA4-B7B4-0D9D400B1F2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6ED-862E-426C-829E-35F06BFDC5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76320" y="6446880"/>
            <a:ext cx="1295280" cy="33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C1EE-2570-4939-9138-4E620697BB8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E11F-CCF2-4EE7-801E-279B077889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emory_background2"/>
          <p:cNvPicPr/>
          <p:nvPr/>
        </p:nvPicPr>
        <p:blipFill>
          <a:blip r:embed="rId1"/>
          <a:srcRect l="0" t="7579" r="16085" b="166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28600" y="312408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lter J Curran Jr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ship Cancer Institute of Emory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lanta, 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oup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adiation Therapy Onc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304920" y="6029280"/>
            <a:ext cx="20494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Role of Consolidation RT for Extensive- Stage Small Cell Lung Cancer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TOG 0937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andomized Phase II Study Comparing PCI vs PCI and Consolidative Extra-Cranial RT for ED-SCL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 (2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RT (45 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0">
              <a:lnSpc>
                <a:spcPct val="6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:  1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"/>
          <p:cNvSpPr/>
          <p:nvPr/>
        </p:nvSpPr>
        <p:spPr>
          <a:xfrm>
            <a:off x="5029200" y="2438280"/>
            <a:ext cx="914400" cy="91440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 flipH="1">
            <a:off x="2285640" y="2514600"/>
            <a:ext cx="762120" cy="838080"/>
          </a:xfrm>
          <a:prstGeom prst="line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Agree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, 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the chest and/or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gree,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Disagree or In Between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s with extensive-stage SCLC should recei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tion therapy to the ch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/or the brain after initial response to chemo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228600"/>
            <a:ext cx="758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RTC 08993-22993 Stud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 Trial of PCI in E-SC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804000" y="1773360"/>
            <a:ext cx="1979640" cy="122400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-30 G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-12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6804000" y="3357720"/>
            <a:ext cx="1979640" cy="1079280"/>
          </a:xfrm>
          <a:prstGeom prst="flowChartAlternateProcess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5076720" y="2744640"/>
            <a:ext cx="1322640" cy="792360"/>
          </a:xfrm>
          <a:prstGeom prst="flowChartDecision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7"/>
          <p:cNvCxnSpPr>
            <a:endCxn id="142" idx="1"/>
          </p:cNvCxnSpPr>
          <p:nvPr/>
        </p:nvCxnSpPr>
        <p:spPr>
          <a:xfrm flipV="1">
            <a:off x="6399360" y="2385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8"/>
          <p:cNvCxnSpPr>
            <a:endCxn id="143" idx="1"/>
          </p:cNvCxnSpPr>
          <p:nvPr/>
        </p:nvCxnSpPr>
        <p:spPr>
          <a:xfrm>
            <a:off x="6399360" y="3141360"/>
            <a:ext cx="405360" cy="756360"/>
          </a:xfrm>
          <a:prstGeom prst="bentConnector3">
            <a:avLst>
              <a:gd name="adj1" fmla="val 4977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AutoShape 10"/>
          <p:cNvSpPr/>
          <p:nvPr/>
        </p:nvSpPr>
        <p:spPr>
          <a:xfrm>
            <a:off x="3117960" y="2960640"/>
            <a:ext cx="1682640" cy="397080"/>
          </a:xfrm>
          <a:prstGeom prst="flowChartTerminator">
            <a:avLst/>
          </a:prstGeom>
          <a:solidFill>
            <a:srgbClr val="4f81bd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1"/>
          <p:cNvCxnSpPr>
            <a:stCxn id="147" idx="3"/>
          </p:cNvCxnSpPr>
          <p:nvPr/>
        </p:nvCxnSpPr>
        <p:spPr>
          <a:xfrm flipV="1">
            <a:off x="4800240" y="3141360"/>
            <a:ext cx="361080" cy="18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AutoShape 12"/>
          <p:cNvCxnSpPr>
            <a:stCxn id="150" idx="3"/>
            <a:endCxn id="147" idx="1"/>
          </p:cNvCxnSpPr>
          <p:nvPr/>
        </p:nvCxnSpPr>
        <p:spPr>
          <a:xfrm>
            <a:off x="2592360" y="2850840"/>
            <a:ext cx="526320" cy="30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Text Box 13"/>
          <p:cNvSpPr/>
          <p:nvPr/>
        </p:nvSpPr>
        <p:spPr>
          <a:xfrm>
            <a:off x="469440" y="5473800"/>
            <a:ext cx="63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: Performance score and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556000" y="382428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700360" y="3824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5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2556000" y="4400640"/>
            <a:ext cx="424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700360" y="44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2895480" y="2286000"/>
            <a:ext cx="1970280" cy="38736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No 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28"/>
          <p:cNvCxnSpPr>
            <a:stCxn id="150" idx="3"/>
            <a:endCxn id="156" idx="1"/>
          </p:cNvCxnSpPr>
          <p:nvPr/>
        </p:nvCxnSpPr>
        <p:spPr>
          <a:xfrm flipV="1">
            <a:off x="2592360" y="2479320"/>
            <a:ext cx="303840" cy="37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29"/>
          <p:cNvSpPr/>
          <p:nvPr/>
        </p:nvSpPr>
        <p:spPr>
          <a:xfrm>
            <a:off x="395280" y="2239920"/>
            <a:ext cx="2197080" cy="122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63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hemotherap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(4-6 cycle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3635280" y="2097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3564000" y="2096640"/>
            <a:ext cx="718920" cy="7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45720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62"/>
          <p:cNvSpPr/>
          <p:nvPr/>
        </p:nvSpPr>
        <p:spPr>
          <a:xfrm>
            <a:off x="4572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of Symptomat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ain Metast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80880" y="1676520"/>
            <a:ext cx="83822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irradiation group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4.4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14.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mulative risks of symptomatic brain metastases — control group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 month incidence: 32%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onth incidence: 40.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zard ratio for irradiation group: 0.27 (95% CI 0.16 - 0.44)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&lt; 0.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85"/>
          <p:cNvSpPr/>
          <p:nvPr/>
        </p:nvSpPr>
        <p:spPr>
          <a:xfrm>
            <a:off x="15228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Survival by Assigned 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80880" y="1676520"/>
            <a:ext cx="8382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dian overall survival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6.7 mos vs 5.4 mo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0.003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zard ratio for irradiation group: 0.68 (95% CI 0.52 - 0.8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rvival rate at 1 year: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rradiation vs control group: 27.1% vs 13.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040" y="6400800"/>
            <a:ext cx="2596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man et al. NEJM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ized Version of this Dat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 and PCI: My Opinion On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8224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-SCLC Patient with CR or Near-CR to 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gative MR of Brain Pre- and Post-Che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ignificant Neuro-Cognitive Dys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CI: 25 Gy in ten 2.5 Gy f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OLIDATIVE THORACIC RT?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D-SCL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 with Timing of RT—Awfully Late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for Pts with Oligometastatic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with Hemi-Body RT (Bonner et 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n the Setting of a Clinical Trial (Ho H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6400" indent="-406440">
              <a:lnSpc>
                <a:spcPct val="60000"/>
              </a:lnSpc>
              <a:spcBef>
                <a:spcPts val="7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–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 it or not, there is one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9840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-ANALYSIS OF  TRT TIMING 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ried et al. Lung Cancer 20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24280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 Trials Published since 1985:  1524 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rly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te T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9 Weeks from Chemo Day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R of Early vs Late RT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2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0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60000"/>
              </a:lnSpc>
              <a:spcBef>
                <a:spcPts val="799"/>
              </a:spcBef>
              <a:spcAft>
                <a:spcPts val="2401"/>
              </a:spcAft>
              <a:buClr>
                <a:srgbClr val="1f497d"/>
              </a:buClr>
              <a:buFont typeface="Arial"/>
              <a:buChar char="•"/>
              <a:tabLst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5.2% Higher 2-Yr Survival Rate with Early 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2:45:28Z</dcterms:created>
  <dc:creator>Research To Practice</dc:creator>
  <dc:description/>
  <cp:keywords/>
  <dc:language>en-US</dc:language>
  <cp:lastModifiedBy>Mac Pro E703803Y4PC</cp:lastModifiedBy>
  <cp:lastPrinted>2011-02-10T20:29:23Z</cp:lastPrinted>
  <dcterms:modified xsi:type="dcterms:W3CDTF">2011-05-16T11:35:29Z</dcterms:modified>
  <cp:revision>1086</cp:revision>
  <dc:subject/>
  <dc:title>PowerPoint Presentation</dc:title>
</cp:coreProperties>
</file>