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EC14-5742-42A0-AB64-B210A5DED8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0"/>
                </a:solidFill>
                <a:latin typeface="Arial Narrow"/>
              </a:rPr>
              <a:t>Click to move the slide</a:t>
            </a:r>
            <a:endParaRPr b="1" lang="en-US" sz="3600" spc="-1" strike="noStrike">
              <a:solidFill>
                <a:srgbClr val="ffcc6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EAD7-4DA0-41D3-A9D3-1757AFA894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428CDCF0-D593-470C-BAF5-BB51B82555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42611B75-3161-49CA-8A59-42362CE415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1480" y="457200"/>
            <a:ext cx="826776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407960"/>
            <a:ext cx="803916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000" y="3034800"/>
            <a:ext cx="803916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57200"/>
            <a:ext cx="826776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407960"/>
            <a:ext cx="392292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4480" y="1407960"/>
            <a:ext cx="392292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000" y="3034800"/>
            <a:ext cx="392292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14480" y="3034800"/>
            <a:ext cx="392292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1480" y="457200"/>
            <a:ext cx="826776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407960"/>
            <a:ext cx="258840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3360" y="1407960"/>
            <a:ext cx="258840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1360" y="1407960"/>
            <a:ext cx="258840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5000" y="3034800"/>
            <a:ext cx="258840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3360" y="3034800"/>
            <a:ext cx="258840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1360" y="3034800"/>
            <a:ext cx="258840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1480" y="457200"/>
            <a:ext cx="826776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5000" y="1407960"/>
            <a:ext cx="803916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1480" y="457200"/>
            <a:ext cx="826776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5000" y="1407960"/>
            <a:ext cx="803916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1480" y="457200"/>
            <a:ext cx="826776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000" y="1407960"/>
            <a:ext cx="392292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14480" y="1407960"/>
            <a:ext cx="392292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57200"/>
            <a:ext cx="826776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01480" y="457200"/>
            <a:ext cx="826776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1480" y="457200"/>
            <a:ext cx="826776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000" y="1407960"/>
            <a:ext cx="392292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4480" y="1407960"/>
            <a:ext cx="392292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5000" y="3034800"/>
            <a:ext cx="392292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1480" y="457200"/>
            <a:ext cx="826776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407960"/>
            <a:ext cx="392292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14480" y="1407960"/>
            <a:ext cx="392292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14480" y="3034800"/>
            <a:ext cx="392292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1480" y="457200"/>
            <a:ext cx="826776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407960"/>
            <a:ext cx="392292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14480" y="1407960"/>
            <a:ext cx="392292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000" y="3034800"/>
            <a:ext cx="8039160" cy="14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000" y="1407960"/>
            <a:ext cx="803916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171360" indent="-171360">
              <a:spcAft>
                <a:spcPts val="1400"/>
              </a:spcAft>
              <a:buClr>
                <a:srgbClr val="fdcc6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506160" indent="-212760">
              <a:spcAft>
                <a:spcPts val="1400"/>
              </a:spcAft>
              <a:buClr>
                <a:srgbClr val="fdcc6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758880" indent="-164520">
              <a:spcAft>
                <a:spcPts val="1400"/>
              </a:spcAft>
              <a:buClr>
                <a:srgbClr val="fdcc60"/>
              </a:buClr>
              <a:buSzPct val="81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3" marL="1018440" indent="-171360">
              <a:spcAft>
                <a:spcPts val="1400"/>
              </a:spcAft>
              <a:buClr>
                <a:srgbClr val="fdcc6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4" marL="1222920" indent="-163080">
              <a:spcAft>
                <a:spcPts val="1400"/>
              </a:spcAft>
              <a:buClr>
                <a:srgbClr val="fdcc6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5" marL="1222920" indent="-163080">
              <a:spcAft>
                <a:spcPts val="1400"/>
              </a:spcAft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6" marL="1222920" indent="-163080">
              <a:spcAft>
                <a:spcPts val="1400"/>
              </a:spcAft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501480" y="457200"/>
            <a:ext cx="826776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0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ffcc6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53920" y="131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Is Cisplatin/Irinotecan the Preferred First-line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Treatment Approach in ES-SCLC?</a:t>
            </a:r>
            <a:endParaRPr b="1" lang="en-US" sz="3200" spc="-1" strike="noStrike">
              <a:solidFill>
                <a:srgbClr val="ffcc6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40000" y="296064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Mark A. Socinski, M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Professor of Medicin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Lineberger Comprehensive Cancer Center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niversity of North Carolin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88880" y="344520"/>
            <a:ext cx="82677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Conclusions</a:t>
            </a:r>
            <a:endParaRPr b="1" lang="en-US" sz="3600" spc="-1" strike="noStrike">
              <a:solidFill>
                <a:srgbClr val="ffcc60"/>
              </a:solidFill>
              <a:latin typeface="Arial Narrow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91760" y="1406160"/>
            <a:ext cx="804708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799"/>
              </a:spcAft>
              <a:buClr>
                <a:srgbClr val="fdcc6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rinotecan/Platinum is a reasonable choice for the first-line treatment of good PS with ES-SCLC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31840" indent="-231840">
              <a:spcAft>
                <a:spcPts val="799"/>
              </a:spcAft>
              <a:buClr>
                <a:srgbClr val="fdcc6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t does not appear to be significantly more efficaciou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31840" indent="-231840">
              <a:spcAft>
                <a:spcPts val="799"/>
              </a:spcAft>
              <a:buClr>
                <a:srgbClr val="fdcc6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schedule may be preferable and favored for/by some patien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31840" indent="-231840"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88880" y="344520"/>
            <a:ext cx="82677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Standard of Care in ES-SCLC-2009</a:t>
            </a:r>
            <a:endParaRPr b="1" lang="en-US" sz="3200" spc="-1" strike="noStrike">
              <a:solidFill>
                <a:srgbClr val="ffcc6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799"/>
              </a:spcAft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hemotherapy- Cisplatin/carboplatin + VP-16     (4 cycles) (but many others work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31840" indent="-231840">
              <a:spcAft>
                <a:spcPts val="799"/>
              </a:spcAft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T- PCI and TRT in “selected cases”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31840" indent="-231840">
              <a:spcAft>
                <a:spcPts val="799"/>
              </a:spcAft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esponse rates- overall- 60-90%; CR rate 10-35%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31840" indent="-231840">
              <a:spcAft>
                <a:spcPts val="799"/>
              </a:spcAft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edian survival- 9-11 month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31840" indent="-231840">
              <a:spcAft>
                <a:spcPts val="799"/>
              </a:spcAft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1-year survival rate - 25-35%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31840" indent="-231840">
              <a:spcAft>
                <a:spcPts val="799"/>
              </a:spcAft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2-year survival rate - 5-10%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Line 4"/>
          <p:cNvSpPr/>
          <p:nvPr/>
        </p:nvSpPr>
        <p:spPr>
          <a:xfrm>
            <a:off x="609480" y="1523880"/>
            <a:ext cx="80438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8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Unicode MS"/>
              </a:rPr>
              <a:t>Strategies in ES-SCLC</a:t>
            </a:r>
            <a:endParaRPr b="1" lang="en-US" sz="3600" spc="-1" strike="noStrike">
              <a:solidFill>
                <a:srgbClr val="ffcc60"/>
              </a:solidFill>
              <a:latin typeface="Arial Narrow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533520" y="1828800"/>
            <a:ext cx="571500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Webdings"/>
                <a:ea typeface="Webdings"/>
              </a:rPr>
              <a:t>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adig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Increase Duration of  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Initial Dose Esca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Maintenance 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“High Dose” Therapy with GF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Modified Schedule (Weekl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Incorporation of New Ag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Incorporation of “Targeted” Ag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624640" y="1805040"/>
            <a:ext cx="351936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Webdings"/>
                <a:ea typeface="Webdings"/>
              </a:rPr>
              <a:t>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ff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Neg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Neg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Neg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Neg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Neg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Positive/Neg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>
            <a:off x="914400" y="2286000"/>
            <a:ext cx="1752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7"/>
          <p:cNvSpPr/>
          <p:nvPr/>
        </p:nvSpPr>
        <p:spPr>
          <a:xfrm>
            <a:off x="5900760" y="2347920"/>
            <a:ext cx="1447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372960" y="311040"/>
            <a:ext cx="84265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isplatin + Irinotecan Randomized Trials in Patients with E-SCL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Group 16"/>
          <p:cNvGrpSpPr/>
          <p:nvPr/>
        </p:nvGrpSpPr>
        <p:grpSpPr>
          <a:xfrm>
            <a:off x="101520" y="1682640"/>
            <a:ext cx="4289400" cy="4832640"/>
            <a:chOff x="101520" y="1682640"/>
            <a:chExt cx="4289400" cy="4832640"/>
          </a:xfrm>
        </p:grpSpPr>
        <p:sp>
          <p:nvSpPr>
            <p:cNvPr id="57" name="Rectangle 6"/>
            <p:cNvSpPr/>
            <p:nvPr/>
          </p:nvSpPr>
          <p:spPr>
            <a:xfrm>
              <a:off x="276480" y="2743200"/>
              <a:ext cx="456840" cy="37720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AutoShape 7"/>
            <p:cNvSpPr/>
            <p:nvPr/>
          </p:nvSpPr>
          <p:spPr>
            <a:xfrm rot="19910400">
              <a:off x="809280" y="3778200"/>
              <a:ext cx="291960" cy="307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Text Box 8"/>
            <p:cNvSpPr/>
            <p:nvPr/>
          </p:nvSpPr>
          <p:spPr>
            <a:xfrm>
              <a:off x="1190520" y="2971800"/>
              <a:ext cx="3178080" cy="100764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rino 60 mg/m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d 1, 8, 1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 60 mg/m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d 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Q4 wks x 6 cycl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Text Box 9"/>
            <p:cNvSpPr/>
            <p:nvPr/>
          </p:nvSpPr>
          <p:spPr>
            <a:xfrm>
              <a:off x="1190520" y="5337360"/>
              <a:ext cx="3178080" cy="100872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 100 mg/m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d 1 to 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 80 mg/m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d 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Q3 wks x 6 cycl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0"/>
            <p:cNvSpPr/>
            <p:nvPr/>
          </p:nvSpPr>
          <p:spPr>
            <a:xfrm>
              <a:off x="101520" y="1682640"/>
              <a:ext cx="428940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7280" indent="-287280" algn="ctr">
                <a:lnSpc>
                  <a:spcPts val="1998"/>
                </a:lnSpc>
                <a:spcBef>
                  <a:spcPts val="649"/>
                </a:spcBef>
                <a:tabLst>
                  <a:tab algn="l" pos="0"/>
                  <a:tab algn="l" pos="46609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00"/>
                  </a:solidFill>
                  <a:latin typeface="Arial"/>
                </a:rPr>
                <a:t>JCOG 9511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marL="287280" indent="-287280" algn="ctr">
                <a:lnSpc>
                  <a:spcPts val="1998"/>
                </a:lnSpc>
                <a:spcBef>
                  <a:spcPts val="499"/>
                </a:spcBef>
                <a:tabLst>
                  <a:tab algn="l" pos="0"/>
                  <a:tab algn="l" pos="46609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00"/>
                  </a:solidFill>
                  <a:latin typeface="Arial Narrow"/>
                </a:rPr>
                <a:t>Noda et al. NEJM 346:85, 200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87280" indent="-287280">
                <a:lnSpc>
                  <a:spcPct val="90000"/>
                </a:lnSpc>
                <a:spcBef>
                  <a:spcPts val="499"/>
                </a:spcBef>
                <a:buClr>
                  <a:srgbClr val="ffff00"/>
                </a:buClr>
                <a:buFont typeface="Arial Narrow"/>
                <a:buChar char="•"/>
                <a:tabLst>
                  <a:tab algn="l" pos="46609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AutoShape 13"/>
            <p:cNvSpPr/>
            <p:nvPr/>
          </p:nvSpPr>
          <p:spPr>
            <a:xfrm flipV="1" rot="1689600">
              <a:off x="846000" y="5028120"/>
              <a:ext cx="291960" cy="307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Text Box 2"/>
          <p:cNvSpPr/>
          <p:nvPr/>
        </p:nvSpPr>
        <p:spPr>
          <a:xfrm>
            <a:off x="5796000" y="3009960"/>
            <a:ext cx="3144960" cy="100872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rino 65 mg/m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 1,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30 mg/m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 1,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3 wks x 4 cyc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5780160" y="5378400"/>
            <a:ext cx="3144600" cy="100872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 120 mg/m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 1 to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60 mg/m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3 wks x 4 cyc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4707000" y="1363680"/>
            <a:ext cx="4290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 algn="ctr">
              <a:lnSpc>
                <a:spcPts val="2398"/>
              </a:lnSpc>
              <a:spcBef>
                <a:spcPts val="649"/>
              </a:spcBef>
              <a:tabLst>
                <a:tab algn="l" pos="0"/>
                <a:tab algn="l" pos="4660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North American/Australian Stud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ctr">
              <a:lnSpc>
                <a:spcPts val="1998"/>
              </a:lnSpc>
              <a:spcBef>
                <a:spcPts val="499"/>
              </a:spcBef>
              <a:tabLst>
                <a:tab algn="l" pos="0"/>
                <a:tab algn="l" pos="4660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 Narrow"/>
              </a:rPr>
              <a:t>Hanna et al.  JCO 24:2038, 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 Narrow"/>
              <a:buChar char="•"/>
              <a:tabLst>
                <a:tab algn="l" pos="4660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4881600" y="2781360"/>
            <a:ext cx="457200" cy="377172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14"/>
          <p:cNvSpPr/>
          <p:nvPr/>
        </p:nvSpPr>
        <p:spPr>
          <a:xfrm flipV="1" rot="1689600">
            <a:off x="5389200" y="5137560"/>
            <a:ext cx="291960" cy="231840"/>
          </a:xfrm>
          <a:prstGeom prst="rightArrow">
            <a:avLst>
              <a:gd name="adj1" fmla="val 50000"/>
              <a:gd name="adj2" fmla="val 3148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5394960" y="434196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: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14"/>
          <p:cNvSpPr/>
          <p:nvPr/>
        </p:nvSpPr>
        <p:spPr>
          <a:xfrm flipV="1" rot="20283600">
            <a:off x="5402160" y="3652920"/>
            <a:ext cx="292320" cy="231840"/>
          </a:xfrm>
          <a:prstGeom prst="rightArrow">
            <a:avLst>
              <a:gd name="adj1" fmla="val 50000"/>
              <a:gd name="adj2" fmla="val 3152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46040" y="2387520"/>
          <a:ext cx="8159760" cy="2119320"/>
        </p:xfrm>
        <a:graphic>
          <a:graphicData uri="http://schemas.openxmlformats.org/drawingml/2006/table">
            <a:tbl>
              <a:tblPr/>
              <a:tblGrid>
                <a:gridCol w="2001960"/>
                <a:gridCol w="1442880"/>
                <a:gridCol w="1443240"/>
                <a:gridCol w="1463400"/>
                <a:gridCol w="1808280"/>
              </a:tblGrid>
              <a:tr h="819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JCOG 951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N Amer / Au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Surviv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Irino + 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Etop + C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Irino + 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Etop + C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</a:tr>
              <a:tr h="380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Median (95% c.i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8 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4 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3 m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2 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</a:tr>
              <a:tr h="538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% 1 y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% 2 y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.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.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.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.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9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70d17"/>
                    </a:solidFill>
                  </a:tcPr>
                </a:tc>
              </a:tr>
            </a:tbl>
          </a:graphicData>
        </a:graphic>
      </p:graphicFrame>
      <p:sp>
        <p:nvSpPr>
          <p:cNvPr id="71" name="TextBox 22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mparison of Survival Outcom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503640" y="246240"/>
            <a:ext cx="812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Meta-analysis of RCTs Comparing Irinotecan/Platinum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Etoposide/Platinum in Untreated EC-SCL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4640760" y="638964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Jiang et al. J Thorac Oncology 5:867-73,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760320" y="1390680"/>
            <a:ext cx="5911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217800" indent="-217800">
              <a:lnSpc>
                <a:spcPct val="100000"/>
              </a:lnSpc>
              <a:spcAft>
                <a:spcPts val="799"/>
              </a:spcAft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6 trials analyzed: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Aft>
                <a:spcPts val="799"/>
              </a:spcAft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Lara et al.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Aft>
                <a:spcPts val="799"/>
              </a:spcAft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Hermes et al.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Aft>
                <a:spcPts val="799"/>
              </a:spcAft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Schmittel et al.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Aft>
                <a:spcPts val="799"/>
              </a:spcAft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Pan et al.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Aft>
                <a:spcPts val="799"/>
              </a:spcAft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Hanna et al.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Aft>
                <a:spcPts val="799"/>
              </a:spcAft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Noda et a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7800" indent="-217800">
              <a:lnSpc>
                <a:spcPct val="100000"/>
              </a:lnSpc>
              <a:spcAft>
                <a:spcPts val="799"/>
              </a:spcAft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1, 476 patie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7800" indent="-217800">
              <a:lnSpc>
                <a:spcPct val="100000"/>
              </a:lnSpc>
              <a:spcAft>
                <a:spcPts val="799"/>
              </a:spcAft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69% ma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7800" indent="-217800">
              <a:lnSpc>
                <a:spcPct val="100000"/>
              </a:lnSpc>
              <a:spcAft>
                <a:spcPts val="799"/>
              </a:spcAft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16% PS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7800" indent="-217800">
              <a:lnSpc>
                <a:spcPct val="100000"/>
              </a:lnSpc>
              <a:spcAft>
                <a:spcPts val="799"/>
              </a:spcAft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Median age 61 y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1788480" y="293760"/>
            <a:ext cx="535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ORR - Meta-analysis of IP Vs E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3800520" y="6377040"/>
            <a:ext cx="51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Jiang et al. J Thorac Oncology 5:867-73,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264600" y="2016000"/>
            <a:ext cx="2751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RR favors IP vs 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HR = 1.10, p = 0.04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ut……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Excluding the Cb t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RR not significan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ifferent (HR = 1.1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p = 0.06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606840" y="1168560"/>
          <a:ext cx="4786200" cy="4611600"/>
        </p:xfrm>
        <a:graphic>
          <a:graphicData uri="http://schemas.openxmlformats.org/drawingml/2006/table">
            <a:tbl>
              <a:tblPr/>
              <a:tblGrid>
                <a:gridCol w="2814480"/>
                <a:gridCol w="197172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Study I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c3a2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RR (95% C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c3a2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DD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Lara (200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1.05 (0.92, 1.2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8e8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Pan (2006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1.09 (0.75, 1.5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Hanna (2006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1.10 (0.85, 1.4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8e8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Noda (200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1.25 (1.04, 1.5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Subtotal (I-squared =  0.0%,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p = 0.49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cc6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1.10 (0.99, 1.21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cc6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CB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Schmittel (2006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1.20 (0.83, 1.7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Sub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1.20 (0.83, 1.7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Overall (I-squared = 0.0%,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p = 0.64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cc6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1.10 (1.00, 1.21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cc6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2"/>
          <p:cNvSpPr/>
          <p:nvPr/>
        </p:nvSpPr>
        <p:spPr>
          <a:xfrm>
            <a:off x="4851720" y="643572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Jiang et al. J Thorac Oncol 5: 867-73,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47520" y="363600"/>
            <a:ext cx="909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Overall Survival – Meta-analysis of IP Vs EP in ES-SCL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118440" y="1735200"/>
            <a:ext cx="2751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S favors IP vs 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HR = 0.81, p = 0.04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ut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Excluding the Cb t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S not significan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ifferent (HR = 0.85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p = 0.16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606840" y="1168560"/>
          <a:ext cx="4929120" cy="4241520"/>
        </p:xfrm>
        <a:graphic>
          <a:graphicData uri="http://schemas.openxmlformats.org/drawingml/2006/table">
            <a:tbl>
              <a:tblPr/>
              <a:tblGrid>
                <a:gridCol w="2967120"/>
                <a:gridCol w="196200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Study I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c3a2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HR (95% C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c3a2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DD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Lara (200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0.94 (0.81, 1.0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8e8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Hanna (2006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0.96 (0.76, 1.2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Noda (200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0.60 (0.49, 0.8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Subtotal (I-squared =  69.1%,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p = 0.04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cc6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0.85 (0.67, 1.07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cc60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CB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Hemmes (2008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0.70 (0.53, 0.9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8e8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Subtota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0.70 (0.53, 0.9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Overall (I-squared = 66.7%,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   p = 0.02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cc6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0.81 (0.66, 0.9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cc6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88880" y="250560"/>
            <a:ext cx="826776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Phase III – IP Vs EP in ES-SCLC</a:t>
            </a:r>
            <a:br>
              <a:rPr sz="3600"/>
            </a:br>
            <a:endParaRPr b="1" lang="en-US" sz="3600" spc="-1" strike="noStrike">
              <a:solidFill>
                <a:srgbClr val="ffcc60"/>
              </a:solidFill>
              <a:latin typeface="Arial Narrow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47560" y="879120"/>
            <a:ext cx="804888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799"/>
              </a:spcAft>
              <a:buClr>
                <a:srgbClr val="fdcc6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andomized phase III trial comparing cisplatin (80 mg/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) with either irinotecan (80 mg/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d1, 8) or etoposide (100 mg/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d1-3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31840" indent="-231840">
              <a:spcAft>
                <a:spcPts val="799"/>
              </a:spcAft>
              <a:buClr>
                <a:srgbClr val="fdcc6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405 PS 0-1 ES-SCLC pts (76% male, med age 60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31840" indent="-231840">
              <a:spcAft>
                <a:spcPts val="799"/>
              </a:spcAft>
              <a:buClr>
                <a:srgbClr val="fdcc6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uperiority design (but if not achieved, non-inferiority tested…and achieved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31840" indent="-231840">
              <a:spcAft>
                <a:spcPts val="799"/>
              </a:spcAft>
              <a:buClr>
                <a:srgbClr val="fdcc6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esul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2286000" y="310500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835440" y="3975120"/>
          <a:ext cx="4824000" cy="2052360"/>
        </p:xfrm>
        <a:graphic>
          <a:graphicData uri="http://schemas.openxmlformats.org/drawingml/2006/table">
            <a:tbl>
              <a:tblPr/>
              <a:tblGrid>
                <a:gridCol w="1608840"/>
                <a:gridCol w="1608120"/>
                <a:gridCol w="1607040"/>
              </a:tblGrid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c3a2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I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c3a2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E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c3a26"/>
                    </a:solidFill>
                  </a:tcPr>
                </a:tc>
              </a:tr>
              <a:tr h="51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RR (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39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46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MST (m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10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9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8e8"/>
                    </a:solidFill>
                  </a:tcPr>
                </a:tc>
              </a:tr>
              <a:tr h="51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1 yr (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41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70d17"/>
                          </a:solidFill>
                          <a:latin typeface="Arial Narrow"/>
                        </a:rPr>
                        <a:t>38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ecd"/>
                    </a:solidFill>
                  </a:tcPr>
                </a:tc>
              </a:tr>
            </a:tbl>
          </a:graphicData>
        </a:graphic>
      </p:graphicFrame>
      <p:sp>
        <p:nvSpPr>
          <p:cNvPr id="87" name="TextBox 7"/>
          <p:cNvSpPr/>
          <p:nvPr/>
        </p:nvSpPr>
        <p:spPr>
          <a:xfrm>
            <a:off x="4897080" y="6353280"/>
            <a:ext cx="39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Zatloukal et al. Ann Oncol 21:1810-16,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13:32:20Z</dcterms:created>
  <dc:creator>Research To Practice</dc:creator>
  <dc:description/>
  <cp:keywords/>
  <dc:language>en-US</dc:language>
  <cp:lastModifiedBy>Mac Pro E703803Y4PC</cp:lastModifiedBy>
  <cp:lastPrinted>2011-02-11T16:17:33Z</cp:lastPrinted>
  <dcterms:modified xsi:type="dcterms:W3CDTF">2011-05-18T20:22:50Z</dcterms:modified>
  <cp:revision>3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ategory">
    <vt:lpwstr>Content and Content Development</vt:lpwstr>
  </property>
  <property fmtid="{D5CDD505-2E9C-101B-9397-08002B2CF9AE}" pid="3" name="ContentType">
    <vt:lpwstr>Document</vt:lpwstr>
  </property>
  <property fmtid="{D5CDD505-2E9C-101B-9397-08002B2CF9AE}" pid="4" name="ContentTypeId">
    <vt:lpwstr>0x010100ED8F6667A719504E917DACE92AA12C18</vt:lpwstr>
  </property>
  <property fmtid="{D5CDD505-2E9C-101B-9397-08002B2CF9AE}" pid="5" name="Sub Category">
    <vt:lpwstr>Content and Content Development: Other Versions of Slide Set</vt:lpwstr>
  </property>
</Properties>
</file>