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BDFC-732D-430A-B25C-D0D5CCFB0407}" type="slidenum">
              <a:rPr b="0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0704-007F-4FF1-A288-898226940F08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1ED5-487B-4326-8E13-2928DA97A1A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B31F-B503-4088-AB07-C5B9360BCAA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90AF-5606-4926-81DF-F4560314C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8156-E912-49A9-8A7A-A5B672066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22F4-6420-4FA0-83CF-54DFA033D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3C2A-DA45-4013-8CA8-3C8D52762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4275-D9D3-41FB-B5CC-221B0E9098B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E071-C56F-4234-A834-1C4DC0EAE2B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3D84-AD10-496E-9CFB-7613B5B5B79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268B-FEAB-4996-943B-A950ABB179C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BEB-B812-47C1-B1EC-E18975B1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DB7-A40A-4FE3-A4EE-CF3FAE44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6DE-08A6-4119-8303-B8ED9A9B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4B3-CBA4-41E1-8B53-88DDF188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92B-171C-4C9A-9E22-35142F37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D73-B4B9-4BE7-828B-1E1E7060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32E2-7E2B-4E80-A87E-58044B88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6C3-6415-4E87-B906-17A25F3B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C3B-9A29-418B-879E-3D03BC7F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6CB-CC87-4FD0-B242-EF6768C8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CF4B-C591-44F8-917C-56411302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CF5-CF12-4E6E-ACB4-B8F2FF23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9DB8-5459-4AAD-9722-E78DE8396A4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0F92-9B83-469E-AF97-8A4DCEF363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calgb.org/Private/COOP_Groups/CALGB/member_news/broadcasts/2010/30506_07212010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JUVANT SYSTEMIC TREATMENT IN NSCLC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inter Lung Cancer Conferenc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011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ROGERIO LILENBAUM M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MOUNT SINAI CANCER CENT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MIAMI BEACH, F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00"/>
          <p:cNvSpPr/>
          <p:nvPr/>
        </p:nvSpPr>
        <p:spPr>
          <a:xfrm>
            <a:off x="0" y="465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Adjuvant Chemotherapy for NSCLC </a:t>
            </a:r>
            <a:br>
              <a:rPr sz="2900"/>
            </a:b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Chemotherapy Benefits BR.10 High-Risk </a:t>
            </a:r>
            <a:br>
              <a:rPr sz="2900"/>
            </a:b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but </a:t>
            </a:r>
            <a:r>
              <a:rPr b="1" i="1" lang="en-US" sz="29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 Low-Risk Patients: 15-Gene Signature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Text Box 367"/>
          <p:cNvSpPr/>
          <p:nvPr/>
        </p:nvSpPr>
        <p:spPr>
          <a:xfrm>
            <a:off x="458640" y="6297480"/>
            <a:ext cx="44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sao MS et al. ASCO 2008;Abstract 7510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Rectangle 367"/>
          <p:cNvSpPr/>
          <p:nvPr/>
        </p:nvSpPr>
        <p:spPr>
          <a:xfrm>
            <a:off x="380880" y="1989000"/>
            <a:ext cx="8382240" cy="339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vel 15-gene signature may identify early stage non-small cell lung cancer patients who are most likely to benefit from chemotherapy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igh-risk patients (n=67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4440" indent="-17460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6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 0.33 (95% CI 0.17 - 0.63)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0005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ow-risk patients (n=66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4440" indent="-17460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6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 3.67 (95% CI 1.22 - 11.06)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0133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25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st for interactio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0.000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6"/>
          <p:cNvSpPr/>
          <p:nvPr/>
        </p:nvSpPr>
        <p:spPr>
          <a:xfrm>
            <a:off x="4573440" y="6238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juvant Chemotherapy for NSCLC</a:t>
            </a:r>
            <a:br>
              <a:rPr sz="3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olecular Profiling: CALGB 30506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1675440" y="5851440"/>
            <a:ext cx="580428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EMPORARY SUSPENSION OF CALGB 30506: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7/21/2010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0" y="1447920"/>
            <a:ext cx="9144000" cy="538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54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Duke Scientist Suspended Over Rhodes Scholar Clai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New York Times: July 20, 2010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this week’s letter to Dr. Harold E. Varmus, the director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f the National Cancer Institute, more than two dozen biostatisticians and oncology researchers from academic institutions recommended ending the studies pending further outside review. “Recently, published and peer-reviewed re-analyses of the work done by Potti and Nevins revealed serious errors that questioned the validity of the prediction models upon which these ongoing clinical trials are based”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0"/>
          <p:cNvSpPr/>
          <p:nvPr/>
        </p:nvSpPr>
        <p:spPr>
          <a:xfrm>
            <a:off x="647640" y="2065320"/>
            <a:ext cx="786924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ected tumors 2 cm-6 cm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 flipH="1">
            <a:off x="2361960" y="4308480"/>
            <a:ext cx="1274760" cy="471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5791320" y="4308480"/>
            <a:ext cx="1028520" cy="428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Picture 11" descr="im1"/>
          <p:cNvPicPr/>
          <p:nvPr/>
        </p:nvPicPr>
        <p:blipFill>
          <a:blip r:embed="rId1"/>
          <a:srcRect l="14035" t="8216" r="21987" b="13164"/>
          <a:stretch/>
        </p:blipFill>
        <p:spPr>
          <a:xfrm>
            <a:off x="3886200" y="3165480"/>
            <a:ext cx="175248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6"/>
          <p:cNvSpPr/>
          <p:nvPr/>
        </p:nvSpPr>
        <p:spPr>
          <a:xfrm>
            <a:off x="4573440" y="6238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228600" y="4917960"/>
            <a:ext cx="4114800" cy="568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4800600" y="4917960"/>
            <a:ext cx="3944880" cy="567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juvant Chemotherapy for NSCLC</a:t>
            </a:r>
            <a:br>
              <a:rPr sz="3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olecular Profiling: CALGB 30506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1373400" y="4946760"/>
            <a:ext cx="1823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5869440" y="4946760"/>
            <a:ext cx="2178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otherap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spective Biomarker Adj T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1371600"/>
          <a:ext cx="8686800" cy="4438800"/>
        </p:xfrm>
        <a:graphic>
          <a:graphicData uri="http://schemas.openxmlformats.org/drawingml/2006/table">
            <a:tbl>
              <a:tblPr/>
              <a:tblGrid>
                <a:gridCol w="1479600"/>
                <a:gridCol w="1380960"/>
                <a:gridCol w="3654720"/>
                <a:gridCol w="21715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ag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erap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rker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/>
                    </a:solidFill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30506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I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/- Chemotherap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gen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OG 0720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I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/- Chemotherap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is/Gem)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CC1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RRM1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CA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I-IIIA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splatin/Pemetrexed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CC1/TS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I-IIIA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splatin / Erlotinib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CC1/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FR mut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T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I-IIIA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tinum / Docetaxel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CA1/ RAP80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R.19 - Schem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066680"/>
            <a:ext cx="3200400" cy="5486400"/>
          </a:xfrm>
          <a:prstGeom prst="rect">
            <a:avLst/>
          </a:prstGeom>
          <a:solidFill>
            <a:srgbClr val="ffff66"/>
          </a:solidFill>
          <a:ln w="5724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Pts with completely resected stage IB,II, and IIIA NSCLC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Stratified by                   - stage                        - histology            - post-op RT        - sex                      - adjuvant  chemotherap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6324480" y="1143000"/>
            <a:ext cx="2286000" cy="1828800"/>
          </a:xfrm>
          <a:prstGeom prst="rect">
            <a:avLst/>
          </a:prstGeom>
          <a:solidFill>
            <a:srgbClr val="ffff66"/>
          </a:solidFill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Gefitinib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50 mg po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aily x 2 y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6324480" y="3886200"/>
            <a:ext cx="2286000" cy="1828800"/>
          </a:xfrm>
          <a:prstGeom prst="rect">
            <a:avLst/>
          </a:prstGeom>
          <a:solidFill>
            <a:srgbClr val="ffff66"/>
          </a:solidFill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lacebo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0 mg po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aily x 2 y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 flipV="1">
            <a:off x="3505320" y="1981080"/>
            <a:ext cx="2590560" cy="1371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3505320" y="3657600"/>
            <a:ext cx="2743200" cy="1143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4191120" y="3276720"/>
            <a:ext cx="2590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ndomized 1:1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15228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R.19 - Disease-Free Surviva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Rectangle 822"/>
          <p:cNvSpPr/>
          <p:nvPr/>
        </p:nvSpPr>
        <p:spPr>
          <a:xfrm>
            <a:off x="684360" y="1528920"/>
            <a:ext cx="5454360" cy="269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50000"/>
              </a:lnSpc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disease-free surviva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15880">
              <a:lnSpc>
                <a:spcPct val="14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fitinib arm (n=251): 4.2 yea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15880">
              <a:lnSpc>
                <a:spcPct val="14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cebo arm (n=252): N.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15880">
              <a:lnSpc>
                <a:spcPct val="14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 1.22 (95% CI 0.93 - 1.61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15880">
              <a:lnSpc>
                <a:spcPct val="14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ratified log rank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152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Rectangle 823"/>
          <p:cNvSpPr/>
          <p:nvPr/>
        </p:nvSpPr>
        <p:spPr>
          <a:xfrm>
            <a:off x="459360" y="6297480"/>
            <a:ext cx="546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ss GD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10;Abstract LBA7005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15228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R.19 - Overall Surviva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Rectangle 828"/>
          <p:cNvSpPr/>
          <p:nvPr/>
        </p:nvSpPr>
        <p:spPr>
          <a:xfrm>
            <a:off x="228960" y="6248520"/>
            <a:ext cx="546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ss GD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10;Abstract LBA7005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Rectangle 829"/>
          <p:cNvSpPr/>
          <p:nvPr/>
        </p:nvSpPr>
        <p:spPr>
          <a:xfrm>
            <a:off x="758880" y="1447920"/>
            <a:ext cx="747072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50000"/>
              </a:lnSpc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n overall surviva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5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fitinib arm (n=251): 5.1 yea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5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cebo arm (n=252): N.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5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 1.23 (95% CI 0.94 - 1.64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30360" indent="-173160">
              <a:lnSpc>
                <a:spcPct val="150000"/>
              </a:lnSpc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ratified log rank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136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30492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verall Survival by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EGFR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utation Status and Treatmen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457200" y="2362320"/>
            <a:ext cx="4191120" cy="23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ctr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HR Gef/placebo: 1.21 (0.84, 1.73)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ctr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Log rank: </a:t>
            </a:r>
            <a:r>
              <a:rPr b="1" i="1" lang="en-CA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=0.30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ctr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Median (95% C.I.)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ctr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Arial"/>
              </a:rPr>
              <a:t>    –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Placebo: NR (5.1, inf.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ctr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Arial"/>
              </a:rPr>
              <a:t>    –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Gefitinib: 5.0 yrs (4.3, inf.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4861080" y="2362320"/>
            <a:ext cx="4127400" cy="23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HR Gef/placebo: 1.58 (0.83, 3.00)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Log rank: </a:t>
            </a:r>
            <a:r>
              <a:rPr b="1" i="1" lang="en-CA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=0.160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Median (95% C.I.)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Arial"/>
              </a:rPr>
              <a:t> –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Placebo: 5.1 yrs (4.4, inf.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Arial"/>
              </a:rPr>
              <a:t> –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Gefitinib: 3.7 yrs (2.6, inf.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Rectangle 778"/>
          <p:cNvSpPr/>
          <p:nvPr/>
        </p:nvSpPr>
        <p:spPr>
          <a:xfrm>
            <a:off x="228960" y="6248520"/>
            <a:ext cx="546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ss GD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c AS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10;Abstract LBA7005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Rectangle 781"/>
          <p:cNvSpPr/>
          <p:nvPr/>
        </p:nvSpPr>
        <p:spPr>
          <a:xfrm>
            <a:off x="453960" y="1905120"/>
            <a:ext cx="154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ffffff"/>
                </a:solidFill>
                <a:uFillTx/>
                <a:latin typeface="Arial"/>
              </a:rPr>
              <a:t>Wild Typ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Rectangle 782"/>
          <p:cNvSpPr/>
          <p:nvPr/>
        </p:nvSpPr>
        <p:spPr>
          <a:xfrm>
            <a:off x="4876920" y="1905120"/>
            <a:ext cx="329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ffffff"/>
                </a:solidFill>
                <a:uFillTx/>
                <a:latin typeface="Arial"/>
              </a:rPr>
              <a:t>Sensitizing Mut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0" r="846" b="2873"/>
          <a:stretch/>
        </p:blipFill>
        <p:spPr>
          <a:xfrm>
            <a:off x="152280" y="152280"/>
            <a:ext cx="8839440" cy="6497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6"/>
          <p:cNvSpPr/>
          <p:nvPr/>
        </p:nvSpPr>
        <p:spPr>
          <a:xfrm>
            <a:off x="4573440" y="6238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DIANT: Randomized Double-Blind Trial of Adjuvant Erlotinib in NSCLC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2971800"/>
            <a:ext cx="1676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2f5fe"/>
                </a:solidFill>
                <a:latin typeface="Verdana"/>
              </a:rPr>
              <a:t>Erlotinib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2"/>
          <p:cNvSpPr/>
          <p:nvPr/>
        </p:nvSpPr>
        <p:spPr>
          <a:xfrm>
            <a:off x="3835440" y="3794040"/>
            <a:ext cx="495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3835440" y="2241720"/>
            <a:ext cx="495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2832120" y="3073320"/>
            <a:ext cx="7491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36600" y="4789440"/>
            <a:ext cx="3083040" cy="102276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cified regimen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-16344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isplatin and docetaxel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-16344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isplatin and vinorelbine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-16344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isplatin and gemcitabine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711600" y="4789440"/>
            <a:ext cx="5280120" cy="113076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>
              <a:spcBef>
                <a:spcPts val="499"/>
              </a:spcBef>
              <a:tabLst>
                <a:tab algn="l" pos="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mary end point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verall surviva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177840">
              <a:spcBef>
                <a:spcPts val="499"/>
              </a:spcBef>
              <a:tabLst>
                <a:tab algn="l" pos="0"/>
                <a:tab algn="l" pos="228600"/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ary end points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ease-free survival, safet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[bleeding and arterial thromboembolic events (ATEs)]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468360" y="2109960"/>
            <a:ext cx="2779560" cy="1928520"/>
          </a:xfrm>
          <a:prstGeom prst="rect">
            <a:avLst/>
          </a:prstGeom>
          <a:solidFill>
            <a:srgbClr val="043264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igibility (proposed)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ected IB (&gt; 4 cm) - III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≥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bectomy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previous chemotherapy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planned XRT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CVA/TI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28600" indent="-228600">
              <a:lnSpc>
                <a:spcPct val="7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ATE in 12 months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804240" y="4226040"/>
            <a:ext cx="182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7880" indent="-407880"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 = 1500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583080" y="1690560"/>
            <a:ext cx="415800" cy="2767320"/>
          </a:xfrm>
          <a:prstGeom prst="rect">
            <a:avLst/>
          </a:prstGeom>
          <a:solidFill>
            <a:srgbClr val="0000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NDOMI Z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73040" y="203040"/>
            <a:ext cx="82263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65" name="Group 11"/>
          <p:cNvGrpSpPr/>
          <p:nvPr/>
        </p:nvGrpSpPr>
        <p:grpSpPr>
          <a:xfrm>
            <a:off x="4362480" y="1922400"/>
            <a:ext cx="2958840" cy="639720"/>
            <a:chOff x="4362480" y="1922400"/>
            <a:chExt cx="2958840" cy="639720"/>
          </a:xfrm>
        </p:grpSpPr>
        <p:sp>
          <p:nvSpPr>
            <p:cNvPr id="166" name="AutoShape 12"/>
            <p:cNvSpPr/>
            <p:nvPr/>
          </p:nvSpPr>
          <p:spPr>
            <a:xfrm>
              <a:off x="4362480" y="2023920"/>
              <a:ext cx="2958840" cy="434520"/>
            </a:xfrm>
            <a:prstGeom prst="roundRect">
              <a:avLst>
                <a:gd name="adj" fmla="val 16667"/>
              </a:avLst>
            </a:prstGeom>
            <a:solidFill>
              <a:srgbClr val="043264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ffff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6984720" y="1949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pic>
          <p:nvPicPr>
            <p:cNvPr id="168" name="Picture 14" descr=""/>
            <p:cNvPicPr/>
            <p:nvPr/>
          </p:nvPicPr>
          <p:blipFill>
            <a:blip r:embed="rId1"/>
            <a:stretch/>
          </p:blipFill>
          <p:spPr>
            <a:xfrm>
              <a:off x="5110200" y="1922400"/>
              <a:ext cx="1828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5"/>
            <p:cNvSpPr/>
            <p:nvPr/>
          </p:nvSpPr>
          <p:spPr>
            <a:xfrm>
              <a:off x="4520880" y="2104920"/>
              <a:ext cx="41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Tx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70" name="AutoShape 16"/>
          <p:cNvSpPr/>
          <p:nvPr/>
        </p:nvSpPr>
        <p:spPr>
          <a:xfrm>
            <a:off x="4362480" y="3573360"/>
            <a:ext cx="4038480" cy="435240"/>
          </a:xfrm>
          <a:prstGeom prst="roundRect">
            <a:avLst>
              <a:gd name="adj" fmla="val 16667"/>
            </a:avLst>
          </a:prstGeom>
          <a:solidFill>
            <a:srgbClr val="06468c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4495680" y="375444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x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4571640" y="3335400"/>
            <a:ext cx="26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v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7196040" y="3227400"/>
            <a:ext cx="193680" cy="466560"/>
          </a:xfrm>
          <a:prstGeom prst="rect">
            <a:avLst/>
          </a:prstGeom>
          <a:solidFill>
            <a:srgbClr val="3399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7683840" y="368928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 1 yr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5" name="Picture 21" descr=""/>
          <p:cNvPicPr/>
          <p:nvPr/>
        </p:nvPicPr>
        <p:blipFill>
          <a:blip r:embed="rId2"/>
          <a:stretch/>
        </p:blipFill>
        <p:spPr>
          <a:xfrm>
            <a:off x="5084640" y="3373560"/>
            <a:ext cx="1828800" cy="874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2"/>
          <p:cNvSpPr/>
          <p:nvPr/>
        </p:nvSpPr>
        <p:spPr>
          <a:xfrm>
            <a:off x="7640640" y="3227400"/>
            <a:ext cx="193680" cy="466560"/>
          </a:xfrm>
          <a:prstGeom prst="rect">
            <a:avLst/>
          </a:prstGeom>
          <a:solidFill>
            <a:srgbClr val="3399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7873920" y="3451320"/>
            <a:ext cx="406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6959520" y="362592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Rectangle 26"/>
          <p:cNvSpPr/>
          <p:nvPr/>
        </p:nvSpPr>
        <p:spPr>
          <a:xfrm>
            <a:off x="1647720" y="233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Rectangle 27"/>
          <p:cNvSpPr/>
          <p:nvPr/>
        </p:nvSpPr>
        <p:spPr>
          <a:xfrm>
            <a:off x="0" y="257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B - IIIA Resectable NSCLC: 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E1505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8493120" y="6415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Relapse Patterns:  NSCL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63680" y="6299280"/>
            <a:ext cx="57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ld 1984; Pairolero 1984; Martini 1980; Thomas 199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75560" y="1447920"/>
            <a:ext cx="8456400" cy="42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st (%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t (%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I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1N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2N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II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1-2N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IIIA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568440"/>
                <a:tab algn="l" pos="3772080"/>
                <a:tab algn="l" pos="4343400"/>
                <a:tab algn="l" pos="6515280"/>
                <a:tab algn="l" pos="7143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005280" y="2022480"/>
            <a:ext cx="2987640" cy="399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ctable NSCLC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008160" y="2668680"/>
            <a:ext cx="2989440" cy="399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ger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503600" y="244620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4503600" y="307980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4495680" y="374004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425680" y="395604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1263600" y="4761000"/>
            <a:ext cx="2313000" cy="399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iz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2422440" y="518472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V="1">
            <a:off x="1246320" y="5393880"/>
            <a:ext cx="2336760" cy="972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26640" bIns="-2664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3571920" y="538632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>
            <a:off x="1258920" y="539748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350280" y="5618160"/>
            <a:ext cx="19731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GE-A3 ASCI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3033720" y="5630760"/>
            <a:ext cx="1086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ceb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1778040" y="4164120"/>
            <a:ext cx="1285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chem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2882880" y="3289320"/>
            <a:ext cx="3241800" cy="426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hological stage IB, II, III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Line 17"/>
          <p:cNvSpPr/>
          <p:nvPr/>
        </p:nvSpPr>
        <p:spPr>
          <a:xfrm>
            <a:off x="2422440" y="454968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0" y="304920"/>
            <a:ext cx="914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ase 3 Study – MAGRIT</a:t>
            </a:r>
            <a:br>
              <a:rPr sz="36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-A3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juvant Non-Small Cell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c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mun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ap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Line 19"/>
          <p:cNvSpPr/>
          <p:nvPr/>
        </p:nvSpPr>
        <p:spPr>
          <a:xfrm>
            <a:off x="4471920" y="374004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Line 20"/>
          <p:cNvSpPr/>
          <p:nvPr/>
        </p:nvSpPr>
        <p:spPr>
          <a:xfrm>
            <a:off x="6342120" y="4876920"/>
            <a:ext cx="0" cy="44424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5180040" y="5329080"/>
            <a:ext cx="2311200" cy="538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iz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6338880" y="585468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 flipV="1">
            <a:off x="5162400" y="6063840"/>
            <a:ext cx="2338560" cy="972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26640" bIns="-2664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5176800" y="6067440"/>
            <a:ext cx="0" cy="21420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237920" y="6327720"/>
            <a:ext cx="19731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GE-A3 ASCI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6950160" y="6300720"/>
            <a:ext cx="1086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ceb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Line 27"/>
          <p:cNvSpPr/>
          <p:nvPr/>
        </p:nvSpPr>
        <p:spPr>
          <a:xfrm>
            <a:off x="6323040" y="395280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Rectangle 28"/>
          <p:cNvSpPr/>
          <p:nvPr/>
        </p:nvSpPr>
        <p:spPr>
          <a:xfrm>
            <a:off x="4906800" y="4164120"/>
            <a:ext cx="2826000" cy="704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 to 4 cycles of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tinum-based chem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Line 29"/>
          <p:cNvSpPr/>
          <p:nvPr/>
        </p:nvSpPr>
        <p:spPr>
          <a:xfrm>
            <a:off x="7499520" y="6072120"/>
            <a:ext cx="0" cy="21456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36360" bIns="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Line 30"/>
          <p:cNvSpPr/>
          <p:nvPr/>
        </p:nvSpPr>
        <p:spPr>
          <a:xfrm>
            <a:off x="2421000" y="3963960"/>
            <a:ext cx="389736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36360" bIns="-36360" anchor="ctr">
            <a:noAutofit/>
          </a:bodyPr>
          <a:p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Rectangle 31"/>
          <p:cNvSpPr/>
          <p:nvPr/>
        </p:nvSpPr>
        <p:spPr>
          <a:xfrm>
            <a:off x="74880" y="1355760"/>
            <a:ext cx="299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 = 2270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S as primary endpoi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2518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juvant Therapy for NSCLC: Treatment Princ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71400" y="164160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juvant cisplatin-based chemotherapy is the standard of care for patients with resected stage II/IIA NSCL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chemotherapy for tumor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≥ 4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practice, selection of patients must take into consideration benefit of therapy vs. overall health status and wishes of the pati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f targeted therapies in the adjuvant setting is under investiga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ter selection of patients will soon optimize adjuvant therapy in NSCL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050840" y="1749600"/>
            <a:ext cx="2301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537240" y="1521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a-Analysis of Overall Survival by Tria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Oval 4"/>
          <p:cNvSpPr/>
          <p:nvPr/>
        </p:nvSpPr>
        <p:spPr>
          <a:xfrm>
            <a:off x="5226120" y="5715000"/>
            <a:ext cx="12189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Rectangle 30"/>
          <p:cNvSpPr/>
          <p:nvPr/>
        </p:nvSpPr>
        <p:spPr>
          <a:xfrm>
            <a:off x="230040" y="5972040"/>
            <a:ext cx="464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Rectangle 37"/>
          <p:cNvSpPr/>
          <p:nvPr/>
        </p:nvSpPr>
        <p:spPr>
          <a:xfrm>
            <a:off x="500400" y="2195640"/>
            <a:ext cx="1837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LPI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(MTC+VD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Rectangle 52"/>
          <p:cNvSpPr/>
          <p:nvPr/>
        </p:nvSpPr>
        <p:spPr>
          <a:xfrm>
            <a:off x="425520" y="2133720"/>
            <a:ext cx="1542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Rectangle 54"/>
          <p:cNvSpPr/>
          <p:nvPr/>
        </p:nvSpPr>
        <p:spPr>
          <a:xfrm>
            <a:off x="501480" y="2690640"/>
            <a:ext cx="139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NITA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(NVB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Rectangle 55"/>
          <p:cNvSpPr/>
          <p:nvPr/>
        </p:nvSpPr>
        <p:spPr>
          <a:xfrm>
            <a:off x="2406600" y="2514600"/>
            <a:ext cx="477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Rectangle 56"/>
          <p:cNvSpPr/>
          <p:nvPr/>
        </p:nvSpPr>
        <p:spPr>
          <a:xfrm>
            <a:off x="498240" y="4465800"/>
            <a:ext cx="431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BLT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(NVB / VDS / MTC+VDS / MTC+IFM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Rectangle 59"/>
          <p:cNvSpPr/>
          <p:nvPr/>
        </p:nvSpPr>
        <p:spPr>
          <a:xfrm>
            <a:off x="499320" y="3809880"/>
            <a:ext cx="32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ALT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(NVB / VDS / VLB / VP1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Rectangle 62"/>
          <p:cNvSpPr/>
          <p:nvPr/>
        </p:nvSpPr>
        <p:spPr>
          <a:xfrm>
            <a:off x="502560" y="3246480"/>
            <a:ext cx="14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JBR10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(NVB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Rectangle 63"/>
          <p:cNvSpPr/>
          <p:nvPr/>
        </p:nvSpPr>
        <p:spPr>
          <a:xfrm>
            <a:off x="230040" y="5972040"/>
            <a:ext cx="464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Rectangle 64"/>
          <p:cNvSpPr/>
          <p:nvPr/>
        </p:nvSpPr>
        <p:spPr>
          <a:xfrm>
            <a:off x="501120" y="1569960"/>
            <a:ext cx="297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Trials </a:t>
            </a:r>
            <a:r>
              <a:rPr b="1" lang="fr-FR" sz="1800" spc="-1" strike="noStrike" u="sng">
                <a:solidFill>
                  <a:srgbClr val="ffff00"/>
                </a:solidFill>
                <a:uFillTx/>
                <a:latin typeface="Arial"/>
              </a:rPr>
              <a:t>(Associated drug(s))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790720" y="5715000"/>
            <a:ext cx="356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hemotherapy effect:   </a:t>
            </a: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=0.004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502560" y="4952880"/>
            <a:ext cx="727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6143040" y="1523880"/>
            <a:ext cx="2541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Hazard Ratio (95% CI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Rectangle 73"/>
          <p:cNvSpPr/>
          <p:nvPr/>
        </p:nvSpPr>
        <p:spPr>
          <a:xfrm>
            <a:off x="6486480" y="214776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95 (0.81, 1.12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Rectangle 74"/>
          <p:cNvSpPr/>
          <p:nvPr/>
        </p:nvSpPr>
        <p:spPr>
          <a:xfrm>
            <a:off x="6485040" y="264312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82 (0.68, 0.98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Rectangle 75"/>
          <p:cNvSpPr/>
          <p:nvPr/>
        </p:nvSpPr>
        <p:spPr>
          <a:xfrm>
            <a:off x="6485040" y="441972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.00 (0.72, 1.38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Rectangle 76"/>
          <p:cNvSpPr/>
          <p:nvPr/>
        </p:nvSpPr>
        <p:spPr>
          <a:xfrm>
            <a:off x="6486480" y="320040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71 (0.54, 0.94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Rectangle 77"/>
          <p:cNvSpPr/>
          <p:nvPr/>
        </p:nvSpPr>
        <p:spPr>
          <a:xfrm>
            <a:off x="6486480" y="376380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91 (0.80, 1.03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Rectangle 78"/>
          <p:cNvSpPr/>
          <p:nvPr/>
        </p:nvSpPr>
        <p:spPr>
          <a:xfrm>
            <a:off x="6486480" y="495288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89 (0.82, 0.9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3960" y="304560"/>
            <a:ext cx="69087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JUVANT CHEMOTHERAP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12949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juvant cisplatin-based chemotherapy  improves survival for stage II and III NSCL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sues for further clinical research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e-dependent benef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 and PS-dependent benef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term morbidity/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ecular-based selectio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eta-analysis: CT Effect &amp; Stag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480060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T may be detrimental for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ge 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but stage IA patients were generally not given cisplatin+vinorelbine (13% of stage IA patients versus ~43% for other stage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Oval 5"/>
          <p:cNvSpPr/>
          <p:nvPr/>
        </p:nvSpPr>
        <p:spPr>
          <a:xfrm>
            <a:off x="6324480" y="2133720"/>
            <a:ext cx="609840" cy="4572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3581280" y="2133720"/>
            <a:ext cx="533520" cy="3808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688320" y="1600200"/>
            <a:ext cx="1169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Categor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974320" y="1600200"/>
            <a:ext cx="223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# Deaths/# Entered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6022440" y="1600200"/>
            <a:ext cx="2541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Hazard Ratio (95% CI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797040" y="2050920"/>
            <a:ext cx="18396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687600" y="2171880"/>
            <a:ext cx="1095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age I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687600" y="2743200"/>
            <a:ext cx="1095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age IB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686880" y="3352680"/>
            <a:ext cx="994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age II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686880" y="3924360"/>
            <a:ext cx="1058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age III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3610440" y="217188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02/347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3515040" y="2743200"/>
            <a:ext cx="1194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509/1,371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3515040" y="3352680"/>
            <a:ext cx="1194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880/1,616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3515040" y="3924360"/>
            <a:ext cx="1194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865/1,247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6364440" y="217188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.41 (0.96, 2.09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6364440" y="274320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92 (0.78, 1.10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Rectangle 22"/>
          <p:cNvSpPr/>
          <p:nvPr/>
        </p:nvSpPr>
        <p:spPr>
          <a:xfrm>
            <a:off x="6364440" y="335268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83 (0.73, 0.95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Rectangle 23"/>
          <p:cNvSpPr/>
          <p:nvPr/>
        </p:nvSpPr>
        <p:spPr>
          <a:xfrm>
            <a:off x="6364440" y="3924360"/>
            <a:ext cx="185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0.83 (0.73, 0.95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Do We Identify High-Risk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ge IA Patients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tients with tumor size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≥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 cm may be candidates for postsurgical treatment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stology: no specific histological characteristics have been identified to date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sence and extent of lymphovascular inva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igh rate of uptake on PET sca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95200" y="612792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mada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S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4; 23:615 (abstr 7002); Harpole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nc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;76:787; Harpole.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ncer 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995;55:51.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09600" y="50292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T=positron emission tomography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nical Trial Patients vs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al World Clinical Popul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76360" y="1523880"/>
          <a:ext cx="8084880" cy="4507200"/>
        </p:xfrm>
        <a:graphic>
          <a:graphicData uri="http://schemas.openxmlformats.org/drawingml/2006/table">
            <a:tbl>
              <a:tblPr/>
              <a:tblGrid>
                <a:gridCol w="2695320"/>
                <a:gridCol w="2721240"/>
                <a:gridCol w="266832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  <a:ea typeface="Arial"/>
                        </a:rPr>
                        <a:t>Study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  <a:ea typeface="Arial"/>
                        </a:rPr>
                        <a:t>Median Age 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  <a:ea typeface="Arial"/>
                        </a:rPr>
                        <a:t>(2 arms)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  <a:ea typeface="Arial"/>
                        </a:rPr>
                        <a:t>Pts PS2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04072">
                        <a:alpha val="50000"/>
                      </a:srgbClr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ALT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.10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LGB 9633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-62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ITA 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EST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-63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 Population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-48%*</a:t>
                      </a:r>
                      <a:endParaRPr b="0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51"/>
                    </a:solidFill>
                  </a:tcPr>
                </a:tc>
              </a:tr>
            </a:tbl>
          </a:graphicData>
        </a:graphic>
      </p:graphicFrame>
      <p:sp>
        <p:nvSpPr>
          <p:cNvPr id="105" name="TextBox 4"/>
          <p:cNvSpPr/>
          <p:nvPr/>
        </p:nvSpPr>
        <p:spPr>
          <a:xfrm>
            <a:off x="459720" y="632448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Lilenbaum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T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2008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CE Meta-analysis: Late Deaths Among Adjuvant Chemotherapy Recipi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33520" y="54100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5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cess non-cancer deaths (1.4%) on pooled chemo arm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fter 5 year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5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wide range of causes: PEs, MIs, infections, and “other”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5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60440" y="62974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gnon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 Clin Onc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2008.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09480" y="1477800"/>
            <a:ext cx="291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5 trials, 4,584 pati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1981080"/>
          <a:ext cx="7925040" cy="3213360"/>
        </p:xfrm>
        <a:graphic>
          <a:graphicData uri="http://schemas.openxmlformats.org/drawingml/2006/table">
            <a:tbl>
              <a:tblPr/>
              <a:tblGrid>
                <a:gridCol w="3522960"/>
                <a:gridCol w="1360440"/>
                <a:gridCol w="1360440"/>
                <a:gridCol w="1681200"/>
              </a:tblGrid>
              <a:tr h="60984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n-cancer deaths / person years by period</a:t>
                      </a:r>
                      <a:endParaRPr b="0" lang="en-US" sz="17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s 0-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s 4-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s ≥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482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 / 4,35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 / 1,399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/ 61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therap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 / 4,6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 / 1,61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/ 70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0" bIns="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cer deaths by perio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47304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motherap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Adjuvant Chemotherapy for NSCLC</a:t>
            </a:r>
            <a:br>
              <a:rPr sz="2900"/>
            </a:b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Molecular Profiling: ERCC1 and Survival in IALT</a:t>
            </a:r>
            <a:endParaRPr b="0" lang="en-US" sz="2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25360" y="6232680"/>
            <a:ext cx="8461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Olaussen KA, et al. 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N Engl J Med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2006;355:983-991; Le Chevalier T, et al. </a:t>
            </a:r>
            <a:br>
              <a:rPr sz="1500"/>
            </a:br>
            <a:r>
              <a:rPr b="0" i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J Clin Oncol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2008(May 20 suppl);Abstract 7507.</a:t>
            </a:r>
            <a:endParaRPr b="0" lang="en-US" sz="1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685800" y="1219320"/>
            <a:ext cx="7772400" cy="49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ence of ERCC1 expression associated with survival benefit in response to adjuvant chemotherapy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89040" indent="-231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=0.65, 95% CI: 0.50 - 0.86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002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juvant chemotherapy was not associated with a prolonged survival benefit in patients with tumors positive for ERCC1 expressio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89040" indent="-231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=1.14, 95% CI: 0.84 - 1.55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4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patients who did not receive adjuvant chemotherapy, those with ERCC1-positive tumors survived longer than those with ERCC1-negative tumor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89040" indent="-231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R=0.66, 95% CI: 0.49 - 0.90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009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174600" indent="-1746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s persist at 7.5 year follow-up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89040" indent="-231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RCC1-negative: HR 0.76, (95% CI 0.59 - 0.98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89040" indent="-231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RCC1-positive: HR 1.2 (95% CI 0.91 - 1.59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14:47:51Z</dcterms:created>
  <dc:creator>Research To Practice</dc:creator>
  <dc:description/>
  <cp:keywords/>
  <dc:language>en-US</dc:language>
  <cp:lastModifiedBy>Mac Pro E703803Y4PC</cp:lastModifiedBy>
  <cp:lastPrinted>2011-04-19T17:02:01Z</cp:lastPrinted>
  <dcterms:modified xsi:type="dcterms:W3CDTF">2011-05-11T16:41:09Z</dcterms:modified>
  <cp:revision>1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ID">
    <vt:lpwstr>ece8ed369a0544a78ef6abfb82de03bf</vt:lpwstr>
  </property>
</Properties>
</file>