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1FFD-C8A7-45C7-BBBF-DBB13BCB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2537-9BA9-40E5-A08C-6DA4C2B0D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300-A9EC-4FAE-AE68-FE23CA67C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76EA-E4BC-4CFE-A936-57C714CB5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6000" y="679320"/>
            <a:ext cx="4627440" cy="3470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76520"/>
            <a:ext cx="502920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A9BF-CD79-47FF-85AD-7B3BAAF5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CAB-BF8F-4EA7-B984-2CC246DE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6E2-FEFD-4919-B9C6-114638305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7C59-1C45-484F-88BE-95C59674E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801-2069-4BE5-BBA2-2152BAA6C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9D49-7E4F-4EA4-A224-25998FC6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9F0-0930-4D56-AFBA-5847013B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1D07-7153-4396-8967-CDD03FE8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D625-EBDE-49A5-BFC9-5F9EF9BD4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826-6B71-445D-9EEE-B997A2178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F47A-0E54-4841-8440-2E567A1547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D60-C2B1-45F5-8CA0-A064D3FA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3CBD-810C-4239-92AF-1976D65DE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7F73-69DF-4747-A8A9-074DF9DC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D29A-4CE7-4219-9A7D-CB9B5FD87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1DC6-0F70-4052-B10E-86C206828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7F0-AFDE-4092-9CD9-7E043FDD3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8160" cy="31338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F0CE-C53A-437A-8782-6A08D54E1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BF1C-99D0-4AD5-8706-656231A82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DF2-9A38-47F9-AA67-3CD8760BE7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174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8520-66FF-429A-B491-D165C769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951-F998-4494-9656-BD6BF2ED2C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C15-6740-448F-B9BF-D6AE3704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61A-EAD2-4AD0-B568-1745B5F1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789-01DA-4DAD-94FE-90BC3DDB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AAA-5321-4673-B4FD-27B6E43E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F3E-E67B-4A2C-B92E-4094925A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0F5B-C5D4-49AE-BC70-62AE49C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2F14-1478-439B-853B-55732278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7AB1-0A14-4D05-959B-9C6F8863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492-D719-4209-BCE7-F0C673C3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3149-D70C-4BBD-A385-24D4260E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AD6-234B-494B-901A-16BC0D2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D85-BB56-46ED-A435-552E5BB0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1E1A-640F-4854-A3E3-012C037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A317-C1D3-4545-97B4-76D4445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23B4-1B00-45F9-952B-7E5DC37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9F92-A806-4BA8-900A-1414E483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F782-B1FD-45CB-95E0-434DA5A1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BD8C-6C99-4A75-9F3E-5450EE70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F77C-C5A6-48A0-B04A-8DC97C8B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F548-85C3-472E-AD32-194F829A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9C77-8B89-4331-96A6-9D14A7DB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E671-5602-4F0B-8478-D0C3148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D78-0CF6-419D-82D2-FFCD684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B3D4-8207-4F13-BD1B-D0FCD5E5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AB71-89DB-495D-AB5D-7C820356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2EB5-94B9-459D-BF4A-1FC652A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D756-9F70-4090-9894-1CB1E36E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0EB3-3F9D-4766-B682-7319EEA2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F5FE-7222-41FD-BEA6-2D8D8F56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2413-F71A-4F8B-AFC8-506E41F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D743D-DECE-4C4D-8E26-9B70A2EC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93ACF-A73E-4E1B-9515-762F1AA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AF2B-CAFB-4341-AEBB-C5CD2C7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F80-A34A-447B-A8D5-B4356D9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1D8F-0559-4A7C-9584-223F9846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57C1-CC97-4DAE-8A03-6F365B3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899E-A237-40AC-914B-212C900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D324F-02A2-4150-8624-3DF9B5F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2619-7A30-458A-96B9-7D746E0E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0F08-46F6-4BAF-A596-A35D4F4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6BF9-A744-4FDF-ACEC-9C27D080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72B9-3CDA-4094-A592-87302DCC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1D71-8448-4A2F-9730-19D2FAB6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4F2FD-6AE6-4F35-9D40-302AE71D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751-722C-44CA-A219-24B1CF5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048A-B738-4638-B1F6-329DD99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61F4-A4C0-446D-AC63-891ECE6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14E7-BFA4-420F-A711-848CD967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AD97-2625-43F2-848A-A042E5D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38667-9775-4B53-80D5-2B5613E0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40C1-12D3-4F56-9196-36DA08E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E8BF-9FFD-43A1-BB27-6C37FFD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E99A-6A49-411A-A0E9-F0BA579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E8422-A236-409B-89F8-52A77273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CA02-E4C3-4198-BD21-968B0816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E5F-0619-4373-82D7-96A455B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8E62-7550-4109-9746-734AEE96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9B9C-D72B-4378-AED8-3F00719B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DFA7-81B4-4FAC-857C-279DBD44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2E5F9-9E25-427A-91BD-C23256E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57A3-E9C4-4F91-A419-3C7BFE3B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183F-9AFB-420E-BECE-0D014ABD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FD762-C422-4D4C-9D2A-EBBA20E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CC1C-79EF-4993-8778-5B47CAA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4766-D7BB-4AAD-A547-1392E07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C011-FA54-451B-82AC-D2308C27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695-4251-4C99-8744-61D9CBA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A7A98-4E69-467F-AEBE-13A5A20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2FF5-1787-4D59-BD5A-ABFD41F2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3609C-61E6-4F5D-B4F6-BD8399E6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CD56-4D77-4314-8333-8E791950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70A87-1C7A-4664-BA80-67516C2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6A22-02A9-4C24-84ED-223DD2E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B1D81-75A8-431F-BBEA-B472F19E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9542-9BFC-42AE-8ADB-235C631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28BD-92BA-4BAC-B9B7-22370858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17AC-52B8-4BCB-90B8-ACB93D3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6CD-9CE7-47EE-8866-530C8D5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D867-6093-4246-94D8-10145C6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4F50-4F4D-4655-BACA-17754F2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7322F-64C3-4EF0-992F-151566FF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E9A2C-60AC-4C36-B6E1-7A1486DC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90FC-4068-4A38-AFC6-136531AB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2251-5B07-4931-8353-8315D287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5FDB8-9F73-41A7-86FE-873D0218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E6D0-676D-41D5-A550-0856D6A4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09ED-A9E2-482E-8FB9-783F4E4D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E7A6C-DD1C-46D7-8391-17C02706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DBA-3B2E-4241-9B51-D01B0DF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4A45-87E7-4465-96CD-5E592F6C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D10C4-A60E-46C4-B967-6366EFE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9004-7E85-49DC-896C-6ED633AD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D7C6-E1E2-45FA-BA0A-11D9C1D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8920B-E9DB-406D-8A48-8644361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037B-D2F1-4B65-B15C-9B9803FD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7AD94-07C7-40E4-952D-55FB2299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086B-4E01-4A2A-A0B2-A19C6255ABA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608C-50E3-4681-B6A9-AB9D11FAF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8DD6-5E03-4684-873C-F955C651CC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8527-C358-4C37-9739-B8A84531D17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D09-D4B3-4742-84FC-8B29AF7151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28600" y="1384200"/>
            <a:ext cx="8686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6587-426F-4137-8AD9-50B2D436A8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3DB-C0B2-4A62-8617-90452D7BCE0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5E8A-FEB2-4DEA-9154-2267D8B6A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modality Treatment of Locally Advanced NSCLC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ett E. Vok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niversity of Chica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9801 Design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2760" y="1538280"/>
            <a:ext cx="44280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713960" y="1984320"/>
            <a:ext cx="25689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 (Standard 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701720" y="3840120"/>
            <a:ext cx="2573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 (Ind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T/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888080" y="1908000"/>
            <a:ext cx="37224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915440" y="3824280"/>
            <a:ext cx="3559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3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IV/3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for a total of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902120" y="5322960"/>
            <a:ext cx="365760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50 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V/1h/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 IV/30 min/w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6600 cGy (total) (d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654960" y="4738680"/>
            <a:ext cx="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939960" y="252864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939960" y="3138480"/>
            <a:ext cx="83808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642960" y="304920"/>
            <a:ext cx="795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urrent Questions in Stage III NSCL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69920" y="1447920"/>
            <a:ext cx="8763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4"/>
          <p:cNvSpPr/>
          <p:nvPr/>
        </p:nvSpPr>
        <p:spPr>
          <a:xfrm>
            <a:off x="236520" y="1828800"/>
            <a:ext cx="8686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576360" y="2286000"/>
            <a:ext cx="7924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hemoradiotherapy plat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cycle number (consolid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new cytotoxics (at   systemically active dos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al radiotherapy dose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on of targeted therap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ions of predictive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236520" y="228600"/>
            <a:ext cx="867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 (PI: R. Govindan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838080" y="1905120"/>
            <a:ext cx="791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49840" y="2870280"/>
            <a:ext cx="4012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4671720" y="2870280"/>
            <a:ext cx="4082040" cy="1618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platin AUC 5  q3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 w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RT – 70 G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tuximab 400mg/m² lo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250mg/m² wee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"/>
          <p:cNvSpPr/>
          <p:nvPr/>
        </p:nvSpPr>
        <p:spPr>
          <a:xfrm flipH="1">
            <a:off x="2209320" y="1523880"/>
            <a:ext cx="20322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376880" y="1523880"/>
            <a:ext cx="19476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2075040" y="3886200"/>
            <a:ext cx="0" cy="1447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58000" y="44956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968480" y="5342040"/>
            <a:ext cx="50418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metrexed 500mg/m² q3week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1"/>
          <p:cNvSpPr/>
          <p:nvPr/>
        </p:nvSpPr>
        <p:spPr>
          <a:xfrm>
            <a:off x="152280" y="1357200"/>
            <a:ext cx="883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7960" y="15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During Chemoradi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" y="1913040"/>
          <a:ext cx="8153280" cy="31924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eatment Delivery (Post Chemoradiation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09480" y="1752480"/>
          <a:ext cx="8153280" cy="364176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 and Carbopla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metrexed, Carboplatin and Cetuxi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9639d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four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3d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296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677880" y="1981080"/>
            <a:ext cx="78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2 months (95% CI: 7.4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.4 months (95% CI: 13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% (95% CI 43-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 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1% (95% CI 38-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600200" y="5334120"/>
            <a:ext cx="5850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dian follow-up: 23 months (as of 7-23-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0: p≤0.35 versus H1: p≥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 = survival probability at 18 months reg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by Histolog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0920" y="182880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1.8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 month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95% CI: 17-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 Month Overall Survi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% (95% CI: 34-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SC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6% (95% CI: 44-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ALGB 30407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76000" y="1752120"/>
            <a:ext cx="80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metrexed, carboplatin and thoracic radiation with or without cetuximab produced a median survival of 22 month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regimens met the pre-defined threshold (median survival of 20.9 months) to be considered worthy for further developm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nds toward better outcomes observed with non-squamous NSCLC in this stud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ities related to concurrent chemoradiation are similar to previous stud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11000" y="151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n-squamous NSCL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LAIM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555480" y="220968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677960" y="289548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600200" y="4403880"/>
            <a:ext cx="947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rm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405160" y="2590920"/>
            <a:ext cx="40640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75 mg/m² q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500 mg/m² q 3 week x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2471760" y="4162320"/>
            <a:ext cx="438624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isplatin 50 mg/m² d1, 8 q4 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oposide 50 mg/m²  d1-5 q4week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RT – 66 Gy in 33 f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1150920" y="388620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0"/>
          <p:cNvSpPr/>
          <p:nvPr/>
        </p:nvSpPr>
        <p:spPr>
          <a:xfrm flipV="1">
            <a:off x="1150920" y="3276360"/>
            <a:ext cx="50796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2949480" y="167652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"/>
          <p:cNvSpPr/>
          <p:nvPr/>
        </p:nvSpPr>
        <p:spPr>
          <a:xfrm>
            <a:off x="6942240" y="4406760"/>
            <a:ext cx="182880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inum based doublets x 2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6672240" y="2666880"/>
            <a:ext cx="1895400" cy="55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metrexed x 4 cyc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1930320" y="5673600"/>
            <a:ext cx="6299280" cy="778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Primary objective: survival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Superiority design</a:t>
            </a:r>
            <a:br>
              <a:rPr sz="1500"/>
            </a:br>
            <a:r>
              <a:rPr b="1" lang="en-US" sz="1500" spc="-1" strike="noStrike">
                <a:solidFill>
                  <a:srgbClr val="232a2d"/>
                </a:solidFill>
                <a:latin typeface="Arial"/>
              </a:rPr>
              <a:t>80% Powered to detect Hazard Ratio = 0.74 - Sample Size 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2" descr="Africa Asia Europe Globe"/>
          <p:cNvPicPr/>
          <p:nvPr/>
        </p:nvPicPr>
        <p:blipFill>
          <a:blip r:embed="rId1"/>
          <a:stretch/>
        </p:blipFill>
        <p:spPr>
          <a:xfrm>
            <a:off x="846000" y="228600"/>
            <a:ext cx="935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gration of Cetuximab: RTOG 0324</a:t>
            </a:r>
            <a:endParaRPr b="1" lang="en-US" sz="3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241200" y="2505240"/>
            <a:ext cx="3810240" cy="2012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4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 to XRT then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 7 during XRT (63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45mg/m² week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1468440" y="5016600"/>
            <a:ext cx="115236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1467000" y="3796920"/>
            <a:ext cx="1083960" cy="1219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380880" y="632448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lumenschein et al. ASCO abstract 7516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4813200" y="2695680"/>
            <a:ext cx="4114800" cy="17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tuximab 25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ly 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boplatin AUC 6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litaxel 200mg/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21 days starting 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eek 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ight Arrow 12"/>
          <p:cNvSpPr/>
          <p:nvPr/>
        </p:nvSpPr>
        <p:spPr>
          <a:xfrm>
            <a:off x="4203720" y="3228840"/>
            <a:ext cx="533520" cy="484200"/>
          </a:xfrm>
          <a:prstGeom prst="rightArrow">
            <a:avLst>
              <a:gd name="adj1" fmla="val 50000"/>
              <a:gd name="adj2" fmla="val 44497"/>
            </a:avLst>
          </a:prstGeom>
          <a:solidFill>
            <a:srgbClr val="da1f28"/>
          </a:solidFill>
          <a:ln w="2556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4889520" y="21621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o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93840" y="2009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urren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"/>
          <p:cNvSpPr/>
          <p:nvPr/>
        </p:nvSpPr>
        <p:spPr>
          <a:xfrm>
            <a:off x="169920" y="13716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terogeneity of N2 disease</a:t>
            </a:r>
            <a:endParaRPr b="1" lang="en-US" sz="44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o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s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ngle no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croscopic involv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5 or 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olume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d Progno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station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lti-nod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tracapsular exten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ion 4L or 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lky dise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 (invasion of mediastinal structure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ip metasta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838080" y="6324480"/>
            <a:ext cx="44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Kassis Thorac Surg Clin 18 (2008) 333-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066680" y="4495680"/>
            <a:ext cx="22431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formance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ight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ulmonary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-morbid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69920" y="114300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Future Directions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RTOG 0617- Schema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522000" y="2286000"/>
            <a:ext cx="4352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1117440" y="2133720"/>
            <a:ext cx="42674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117440" y="3200400"/>
            <a:ext cx="42674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1150920" y="4648320"/>
            <a:ext cx="57636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2949480" y="16002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Randomized Phase III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3"/>
          <p:cNvSpPr/>
          <p:nvPr/>
        </p:nvSpPr>
        <p:spPr>
          <a:xfrm>
            <a:off x="6197760" y="4648320"/>
            <a:ext cx="2234880" cy="120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8"/>
          <p:cNvSpPr/>
          <p:nvPr/>
        </p:nvSpPr>
        <p:spPr>
          <a:xfrm>
            <a:off x="6062760" y="2743200"/>
            <a:ext cx="2166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plat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117440" y="419112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60 Gy in 6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117440" y="5486400"/>
            <a:ext cx="426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pl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clitax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tuxim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RT – 74 Gy in 7.5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ight Brace 35"/>
          <p:cNvSpPr/>
          <p:nvPr/>
        </p:nvSpPr>
        <p:spPr>
          <a:xfrm>
            <a:off x="5656320" y="2590920"/>
            <a:ext cx="135000" cy="129528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280"/>
              <a:gd name="textAreaBottom" fmla="*/ 12913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ight Brace 36"/>
          <p:cNvSpPr/>
          <p:nvPr/>
        </p:nvSpPr>
        <p:spPr>
          <a:xfrm>
            <a:off x="5656320" y="4724280"/>
            <a:ext cx="135000" cy="1295640"/>
          </a:xfrm>
          <a:custGeom>
            <a:avLst/>
            <a:gdLst>
              <a:gd name="textAreaLeft" fmla="*/ 0 w 135000"/>
              <a:gd name="textAreaRight" fmla="*/ 48600 w 135000"/>
              <a:gd name="textAreaTop" fmla="*/ 3960 h 1295640"/>
              <a:gd name="textAreaBottom" fmla="*/ 12916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74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Dominance of Systemic Failure</a:t>
            </a:r>
            <a:br>
              <a:rPr sz="2300"/>
            </a:br>
            <a:r>
              <a:rPr b="1" lang="en-US" sz="2300" spc="-1" strike="noStrike">
                <a:solidFill>
                  <a:srgbClr val="ffff00"/>
                </a:solidFill>
                <a:latin typeface="Arial"/>
              </a:rPr>
              <a:t>Stage III Sites of Relapse in CALGB 39801 (n = 213) </a:t>
            </a:r>
            <a:br>
              <a:rPr sz="23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Vokes et al JCO,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0" y="120024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284640" y="1676520"/>
            <a:ext cx="2438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prog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304920" y="3124080"/>
            <a:ext cx="189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540160" y="312408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nd di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978440" y="312408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7213680" y="3124080"/>
            <a:ext cx="17604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ss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060720" y="4452840"/>
            <a:ext cx="311472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relap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168560" y="5824440"/>
            <a:ext cx="21668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and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606840" y="5824440"/>
            <a:ext cx="196380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ain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5842080" y="5824440"/>
            <a:ext cx="257328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, but not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1252080" y="2133720"/>
            <a:ext cx="2032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5722920" y="2133720"/>
            <a:ext cx="2031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6"/>
          <p:cNvSpPr/>
          <p:nvPr/>
        </p:nvSpPr>
        <p:spPr>
          <a:xfrm flipH="1">
            <a:off x="6197760" y="5029200"/>
            <a:ext cx="947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7"/>
          <p:cNvSpPr/>
          <p:nvPr/>
        </p:nvSpPr>
        <p:spPr>
          <a:xfrm flipH="1">
            <a:off x="2103120" y="4952880"/>
            <a:ext cx="949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1270080" y="21337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754760" y="210492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2120760" y="4938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7132680" y="501984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3827520" y="254808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5316480" y="2543040"/>
            <a:ext cx="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3624120" y="3976560"/>
            <a:ext cx="0" cy="4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5638680" y="3981600"/>
            <a:ext cx="0" cy="428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6"/>
          <p:cNvSpPr/>
          <p:nvPr/>
        </p:nvSpPr>
        <p:spPr>
          <a:xfrm>
            <a:off x="4640400" y="5334120"/>
            <a:ext cx="0" cy="423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bined Modality Therapy Approach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omitant chemotherapy can be sensitizing or system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69920" y="2438280"/>
            <a:ext cx="250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duc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218040" y="2438280"/>
            <a:ext cx="250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comitant CT/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324480" y="2438280"/>
            <a:ext cx="2811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solidation 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260820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5656320" y="3200400"/>
            <a:ext cx="812880" cy="0"/>
          </a:xfrm>
          <a:prstGeom prst="line">
            <a:avLst/>
          </a:prstGeom>
          <a:ln w="540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169920" y="2004840"/>
            <a:ext cx="880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62000" y="162000"/>
            <a:ext cx="881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duction versus Concomitant Therapy Meta-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Hazard Ratio (HR): Survival and P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171360" y="88416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1135080" y="1157400"/>
          <a:ext cx="6858000" cy="4329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Survival HR (95% CI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ion-Free Survival HR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5% CI)</a:t>
                      </a: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GB 88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2 (0.73 to 1.7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8 (0.70 to 1.6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 (0.61 to 0.9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6 to 1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5 to 0.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67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7 (0.41 to 1.8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2 (0.38 to 1.7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 (0.60 to 1.0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63 to 1.1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8 (0.69 to 1.3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8 (0.92 to 1.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4 (0.74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0 (0.79 to 1.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1015920" y="556272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04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T + concurrent CT effect p = 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0" y="412920"/>
            <a:ext cx="91440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duction versus Concomitant Therapy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eta-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Hazard Ratio (HR):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Local Progression and Distant Pro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71360" y="1447920"/>
            <a:ext cx="8990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38040" y="6477120"/>
            <a:ext cx="661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Lucida Sans Unicode"/>
              </a:rPr>
              <a:t>Auperin, A. et al. J Clin Oncol; 28:2181-2190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5920" y="5518080"/>
            <a:ext cx="541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R &gt;1 favors RT + sequential C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RT + concurrent CT effect p = 0.01</a:t>
            </a:r>
            <a:br>
              <a:rPr sz="1400"/>
            </a:b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RT + concurrent CT effect p = 0.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135080" y="1677960"/>
          <a:ext cx="6858000" cy="3808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68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Progression HR (95% CI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 Progression HR (95% CI)</a:t>
                      </a:r>
                      <a:r>
                        <a:rPr b="1" lang="en-US" sz="17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JLC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48 to 1.0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6 (0.88 to 1.7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TOG 9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2 (0.64 to 1.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69 to 1.25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MA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kara 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9 (0.19 to 2.5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5 (0.43 to 3.0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T-GFPC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 (0.35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 (0.60 to 1.56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RTC 089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 (0.54 to 1.6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 (0.63 to 1.6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7 (0.62 to 0.9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 (0.86 to 1.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05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Induction (Consolidation) plus Concurrent Chemoradiation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es systemic and locoregional cancer compartments comprehensive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livers more cycles of chemotherap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llows for use of more than one regi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wo models: SWOG   (CT/X      CT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LGB (CT       CT/X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6"/>
          <p:cNvSpPr/>
          <p:nvPr/>
        </p:nvSpPr>
        <p:spPr>
          <a:xfrm>
            <a:off x="6095880" y="4343400"/>
            <a:ext cx="474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"/>
          <p:cNvSpPr/>
          <p:nvPr/>
        </p:nvSpPr>
        <p:spPr>
          <a:xfrm>
            <a:off x="5943600" y="4952880"/>
            <a:ext cx="47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128320" y="1295280"/>
            <a:ext cx="5107320" cy="136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lIns="45720" r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hem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splatin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,8,29,36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toposide 5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IV d 1-5 &amp; 29-33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ncurrent RT 59.4 Gy (1.8 Gy/f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442800" y="2988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HOG LUN 01-24/USO 02-033 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73200" y="3417840"/>
            <a:ext cx="23414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Stratification Variabl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PS 0-1 v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IIIA vs II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alibri"/>
              </a:rPr>
              <a:t>CR vs. non-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530280" y="5721480"/>
            <a:ext cx="4192560" cy="533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cetaxel 75 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q 3 wk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 flipH="1">
            <a:off x="3179880" y="4390560"/>
            <a:ext cx="891720" cy="90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4707000" y="2666880"/>
            <a:ext cx="0" cy="587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5489280" y="4428000"/>
            <a:ext cx="790920" cy="97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5181480" y="5686560"/>
            <a:ext cx="3505320" cy="55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908520" y="3465360"/>
            <a:ext cx="175392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andom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>
            <a:off x="4584600" y="44467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5888160" y="344016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7651800" y="215568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3994200" y="486576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6"/>
          <p:cNvSpPr/>
          <p:nvPr/>
        </p:nvSpPr>
        <p:spPr>
          <a:xfrm>
            <a:off x="6486480" y="4822920"/>
            <a:ext cx="9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338040" y="114300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0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1960" y="555120"/>
            <a:ext cx="802332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Overall Survival (ITT)</a:t>
            </a:r>
            <a:endParaRPr b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47880" y="1752480"/>
            <a:ext cx="60958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ocetaxel: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1.5 months (17.0-34.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2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bservation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dian: 24.1 months (18.0-34.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 year survival rate: 27.6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-value: 0.94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0"/>
          <p:cNvSpPr/>
          <p:nvPr/>
        </p:nvSpPr>
        <p:spPr>
          <a:xfrm>
            <a:off x="5291280" y="6377040"/>
            <a:ext cx="360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anna et al JCO 26: 5755-5760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338040" y="1295280"/>
            <a:ext cx="8805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5:59:06Z</dcterms:created>
  <dc:creator>Research To Practice</dc:creator>
  <dc:description/>
  <cp:keywords/>
  <dc:language>en-US</dc:language>
  <cp:lastModifiedBy>Mac Pro E703803Y4PC</cp:lastModifiedBy>
  <cp:lastPrinted>2011-05-10T16:55:25Z</cp:lastPrinted>
  <dcterms:modified xsi:type="dcterms:W3CDTF">2011-05-11T16:49:21Z</dcterms:modified>
  <cp:revision>227</cp:revision>
  <dc:subject/>
  <dc:title>PowerPoint Presentation</dc:title>
</cp:coreProperties>
</file>