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051-44DC-4A17-8BA9-7098F4DC1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1CAD-04CE-45B1-B2ED-AAD8F0CEF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0B2-7D63-437C-A7D9-E8CB85AD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080E-251F-469F-97B6-C7302EAED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D38-A756-46B0-9240-782C1D81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039-5AED-4A0F-A2E5-0CF32ABF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0B4-1DDA-455F-AB2A-07C03CCE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1CB-DFA3-4436-B14D-979BB3A8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DA8-19E3-47DF-8A82-5F035886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98D-C0BC-42EF-A7B6-9496617C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225-A414-486A-A9C5-9553CC31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5ED-3B7E-4480-B21A-054BCF87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DE9-EA74-404C-85CA-165B70DC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C91-D969-4EC3-81C9-579E852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C30-28D2-4E28-AC98-68D82CB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EED-591C-4337-9FA4-13D77DD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D82D-2C47-44C4-BFF0-CFDA28FA19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A7C9-C4E7-4162-92C7-692AC6CEF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36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gical treatment of N2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rvey I Pass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YU Langone Medical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w York, New Y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7010640" cy="2266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5905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 and repeat FDG-PET after induction chemotherapy, as well as complete resection specimens of both mediastinal LNs and primary tumor  were available in 30 patients with mediastinoscopy-proven N2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logic response grading was performed by means of conventional morphometric procedu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stinal response grading combined with the percentage decrease of maximum standardized uptake value (SUVmax) on the primary tumor was correlated with survi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791320" y="63673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57200" y="624852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J Clin Onco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;26:1128-3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3_3_Pass_Slide10"/>
          <p:cNvPicPr/>
          <p:nvPr/>
        </p:nvPicPr>
        <p:blipFill>
          <a:blip r:embed="rId1"/>
          <a:stretch/>
        </p:blipFill>
        <p:spPr>
          <a:xfrm>
            <a:off x="762120" y="685800"/>
            <a:ext cx="73911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…how to get the best assess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EBUS first to document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just biopsy the PET-positive ones…get all of them as possible bilater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, then reassess by mediastinos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clearance or a “significant?” change, operate if it is to be a lobectom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uld patients with limited N2 disea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 offered surgery after chemotherapy and/or chemoradiation therap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is no standard definition of limited lymph node disea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believe that lobectomy is justified if there has been mediastinal downstaging (or near downstaging – selected on an individual basi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avoid right pneumonectomies at this time because I think they do have higher risk, and there is marginal data on long-term results (especially in adenocarcinoma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y biggest problem with this whole deal is the inability to “do the whole algorithm” for mediastinal downstaging as a justification for resec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at Is Limited N2 at Presentation and Do These Definitions Merit Surgical Resection After Induction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olitary lymph node that is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91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or more stations with only microscopic involvement, or all stations &gt;3 c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4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resect all the disease even if it would take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CN survey says: 5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that easy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Initial Multidisciplinary Surgical Opin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N2 alone or N3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T/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only N2, then where and how mu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2, 4 vs 5, 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vel 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lky and multis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is the patient lik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al comorbid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tolerate chemoradiation to “potentially curative dose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 it take a pneumonectomy or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this initial presentation without a biopsy ye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so, the surgeon must make the call about whether he/she will consider them for surgery after in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itial EBUS…..post treatment mediastinoscopy/otomy/V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the patient is being treated, what does the surgeon think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oing to be the mortality of this oper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 I really helping the patient if there is residual mediastinal disease/disease in the primary and can this be quantitated/determined accurately before the patient goes to the operating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I (or should I) do a pneumonect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914400"/>
          <a:ext cx="8229600" cy="5070600"/>
        </p:xfrm>
        <a:graphic>
          <a:graphicData uri="http://schemas.openxmlformats.org/drawingml/2006/table">
            <a:tbl>
              <a:tblPr/>
              <a:tblGrid>
                <a:gridCol w="1523880"/>
                <a:gridCol w="1270080"/>
                <a:gridCol w="1359000"/>
                <a:gridCol w="1359000"/>
                <a:gridCol w="1358640"/>
                <a:gridCol w="1359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SWOG 8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LC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EORT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T 0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=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TOG 0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(Carbo/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 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combinations and surg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DDP + etopo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arbo + tax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X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5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7.2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7% (1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7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% (3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4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-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025720" y="1295280"/>
            <a:ext cx="4638600" cy="5410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160" y="12600"/>
            <a:ext cx="91090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960480"/>
          <a:ext cx="8077320" cy="5448240"/>
        </p:xfrm>
        <a:graphic>
          <a:graphicData uri="http://schemas.openxmlformats.org/drawingml/2006/table">
            <a:tbl>
              <a:tblPr/>
              <a:tblGrid>
                <a:gridCol w="2286000"/>
                <a:gridCol w="2210040"/>
                <a:gridCol w="2133360"/>
                <a:gridCol w="1447920"/>
              </a:tblGrid>
              <a:tr h="68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Postoperative ev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Resection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4851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Induction therapy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(N = 525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No. of resections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 valu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ronchosc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62 (3.34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 (6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0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chanical ventilation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&gt; 48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 (0.5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57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Reintub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86 (3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2 (4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Tracheosto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2 (1.2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7 (1.3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87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ARD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8 (1.4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77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12 (4.3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5 (4.76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Empye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3 (0.4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2 (0.38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65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Seps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5 (0.7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 (0.1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12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Blood transfus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84 (7.92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3 (17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&lt;.0001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ostoperative outcom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0-d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9 (1.83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2 (2.2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46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Discharge morta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81 (1.67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9 (1.7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n length of stay (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6.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 SD 5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0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Length of stay &gt; 14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34 (6.89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 (5.90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93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Composite of major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  morbid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47 (9.21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5 (10.5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.33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72"/>
          <p:cNvSpPr/>
          <p:nvPr/>
        </p:nvSpPr>
        <p:spPr>
          <a:xfrm>
            <a:off x="0" y="9216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toperative events and outcomes in resectio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nd inductio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27"/>
          <p:cNvSpPr/>
          <p:nvPr/>
        </p:nvSpPr>
        <p:spPr>
          <a:xfrm>
            <a:off x="609480" y="647712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ns NR 3rd et al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Thorac Cardovasc Sur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0;139(4):991-6.e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52480" y="990720"/>
          <a:ext cx="5664240" cy="5317920"/>
        </p:xfrm>
        <a:graphic>
          <a:graphicData uri="http://schemas.openxmlformats.org/drawingml/2006/table">
            <a:tbl>
              <a:tblPr/>
              <a:tblGrid>
                <a:gridCol w="1676520"/>
                <a:gridCol w="1270080"/>
                <a:gridCol w="1359000"/>
                <a:gridCol w="13586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We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Mans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Gaiss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News Gothic MT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8c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Induction chem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141 (45G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N=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4e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Mediastinal downstag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e9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verall survi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3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mediastinal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56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S residual mediastinal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1% (5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bd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Operative mort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Pneumonectomy mor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f5887"/>
                          </a:solidFill>
                          <a:latin typeface="News Gothic MT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ustification for Pneumonectom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alibri"/>
              </a:rPr>
              <a:t>We digress on pneumonectomies…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cial Points (to 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doing a lobectomy, the mortality is low (~ 3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nly winners are those with mediastinal nodal downstaging (doubling of surviv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what if it is not COMPLETELY downstaged and you only find, say, 10% viable in the nodes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the hell can you estimate 10% in the no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1:21:32Z</dcterms:created>
  <dc:creator>Research To Practice</dc:creator>
  <dc:description/>
  <cp:keywords/>
  <dc:language>en-US</dc:language>
  <cp:lastModifiedBy>Mac Pro E703803Y4PC</cp:lastModifiedBy>
  <cp:lastPrinted>2011-04-20T19:59:52Z</cp:lastPrinted>
  <dcterms:modified xsi:type="dcterms:W3CDTF">2011-06-08T18:05:24Z</dcterms:modified>
  <cp:revision>51</cp:revision>
  <dc:subject/>
  <dc:title>PowerPoint Presentation</dc:title>
</cp:coreProperties>
</file>