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AA5C-EA73-44B9-A240-609355404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CC60-E2B4-47E5-A781-1F536FC3B3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22E1-4944-46A4-8058-9ED43B92D8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7ADC-EF08-4EC8-B31F-5DF22145AE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63DA-B3C2-4517-9873-0C78E12381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6F9D-7CB3-45D0-A486-C8DF83FFFB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0F9E-25C8-4FE0-9E3C-2631140C99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81FFA-32DF-4E72-960E-36CCDCABDD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94CF-5A93-47AD-B23A-4912F07AE9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58711-53AA-4859-822C-2D6A506B30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B7F8-214D-4CC7-8580-6C47A7E1DD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6B3BB-F24C-4F8F-976C-0EB7BB2838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4B8B-EF0F-48D2-880C-A48DBC064F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15DA0-49B2-4B3E-A99C-D985135445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E08D-E15B-4B9D-B208-DC610EFD2F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9B476-C053-447D-AFDB-B07CF42AFD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718A-CA11-4C6D-B7B9-BE003A8561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A92E-1874-4638-AE54-D91E602257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1BE7-4071-4598-ADD3-AE2F27B65F5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F391-0988-45A2-B6F3-80F4754F1D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4A9B-7CD6-475C-A17E-E2D6B37AA5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43E1-2E33-49E5-B23C-FA6968127C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E79C-D087-43EC-AD50-0376732D87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AE1A-D25D-442B-A452-3F9A2EFC2A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0DDE-C82D-446A-9173-92C7266FC2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2F51-6267-4BD4-81F3-5030D288D9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C5E3-D986-45C6-A848-0409E1DF85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76A1-9E27-4DF2-804E-AE4311701E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1172-70C6-41FE-BFC5-7177C120B7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BA2-DA77-43D5-BADD-C9FA8A7A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662-2DBE-46BA-9B3D-4340CCE8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620C-4F7A-4797-99BF-383AE6EA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2AF-079E-41F2-924B-C1E65CCA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2DC6-A95D-49E3-B651-41EFFD76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F9D8-AE47-4794-B639-9DAE2E8B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8BD6-BAEE-426A-854C-2E50234D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867E-D845-453E-9591-2F07B076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47A6-1326-4212-B89D-D957B53F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1F39-47F9-4ED2-9BBC-AFE6FF8C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7DD2-E6AF-4D06-A5B6-A2D8822F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9C9-9FC5-41EA-B88A-F9CA30CE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BD10-B275-4F1B-8550-EA700D4900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inter Lung Cancer Conference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iami 2011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3505320"/>
            <a:ext cx="831852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ogerio Lilenbaum, MD, FAC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rector, Thoracic Oncology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Mount Sinai Cancer Ce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ami Beach, F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257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INVITE trial in advanced NSCLC elderly (&gt;70 yrs) pts with PS </a:t>
            </a:r>
            <a:r>
              <a:rPr b="1" lang="it-IT" sz="3600" spc="-1" strike="noStrike" u="sng">
                <a:solidFill>
                  <a:srgbClr val="ffff00"/>
                </a:solidFill>
                <a:uFillTx/>
                <a:latin typeface="Times New Roman"/>
              </a:rPr>
              <a:t>&lt;</a:t>
            </a:r>
            <a:r>
              <a:rPr b="1" lang="it-IT" sz="3600" spc="-1" strike="noStrike">
                <a:solidFill>
                  <a:srgbClr val="ffff00"/>
                </a:solidFill>
                <a:latin typeface="Times New Roman"/>
              </a:rPr>
              <a:t> 2</a:t>
            </a: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1676520"/>
          <a:ext cx="8305560" cy="1366560"/>
        </p:xfrm>
        <a:graphic>
          <a:graphicData uri="http://schemas.openxmlformats.org/drawingml/2006/table">
            <a:tbl>
              <a:tblPr/>
              <a:tblGrid>
                <a:gridCol w="973080"/>
                <a:gridCol w="703080"/>
                <a:gridCol w="914400"/>
                <a:gridCol w="914400"/>
                <a:gridCol w="838440"/>
                <a:gridCol w="914400"/>
                <a:gridCol w="1143000"/>
                <a:gridCol w="990360"/>
                <a:gridCol w="914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m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S 2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CR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I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SI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 3-5 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C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sh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NR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F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7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48"/>
          <p:cNvSpPr/>
          <p:nvPr/>
        </p:nvSpPr>
        <p:spPr>
          <a:xfrm>
            <a:off x="533520" y="3660840"/>
            <a:ext cx="35812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R for Gef vs Vnr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FS:  1.19 (0.85, 1.69)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S:    0.98 (0.66, 1.47)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Rectangle 49"/>
          <p:cNvSpPr/>
          <p:nvPr/>
        </p:nvSpPr>
        <p:spPr>
          <a:xfrm>
            <a:off x="4191120" y="3508200"/>
            <a:ext cx="259848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R for Vnr vs Gef for 54 FISH (+)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FS:  3.13 (1.45, 6.73)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S:    2.88 (1.21, 6.83)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380880" y="6095880"/>
            <a:ext cx="7239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800" spc="-1" strike="noStrike">
                <a:solidFill>
                  <a:srgbClr val="ffc000"/>
                </a:solidFill>
                <a:latin typeface="Arial"/>
              </a:rPr>
              <a:t>Crino et al. IASLC 2007. 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800" spc="-1" strike="noStrike">
                <a:solidFill>
                  <a:srgbClr val="ffc000"/>
                </a:solidFill>
                <a:latin typeface="Arial"/>
              </a:rPr>
              <a:t>Crino L </a:t>
            </a:r>
            <a:r>
              <a:rPr b="0" lang="en-US" sz="1600" spc="-1" strike="noStrike">
                <a:solidFill>
                  <a:srgbClr val="ffc000"/>
                </a:solidFill>
                <a:latin typeface="Arial"/>
              </a:rPr>
              <a:t>et al.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c000"/>
                </a:solidFill>
                <a:uFillTx/>
                <a:latin typeface="Arial"/>
              </a:rPr>
              <a:t>J Clin Oncol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2008;26(26):4253-60.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57200" y="46483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clusions: 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fitinib and vinorelbine similar efficacy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fitinib better tolerated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doxical benefit for VNR in FISH (+) pts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2374560" y="3124080"/>
            <a:ext cx="435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800" spc="-1" strike="noStrike">
                <a:solidFill>
                  <a:srgbClr val="ffc000"/>
                </a:solidFill>
                <a:latin typeface="Arial"/>
              </a:rPr>
              <a:t>*PSI – Pulmonary symptom improvement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re is a paucity of data for patients over the age of 75 and particularly over the age of 80. These patients tend to be managed with BSC or single-agent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MBINED RESULTS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WOG 0027 and LUN06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219320"/>
          <a:ext cx="8229600" cy="5443560"/>
        </p:xfrm>
        <a:graphic>
          <a:graphicData uri="http://schemas.openxmlformats.org/drawingml/2006/table">
            <a:tbl>
              <a:tblPr/>
              <a:tblGrid>
                <a:gridCol w="2900520"/>
                <a:gridCol w="2330280"/>
                <a:gridCol w="29988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WOG 0027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ients &lt; age 80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WOG 0027 and LUN06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l patients </a:t>
                      </a: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&gt;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age 80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umber of patient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4 (41.2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9 (21.5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dian age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 (80-87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 0-1/2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/12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 (17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(8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D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 (27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 (44.9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dian survival 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 0-1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 month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 month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 2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month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month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year survival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 0-1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 2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rade 2/4 toxicities 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7/91 (96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/49 (78%)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lèche vers la droite 27"/>
          <p:cNvSpPr/>
          <p:nvPr/>
        </p:nvSpPr>
        <p:spPr>
          <a:xfrm>
            <a:off x="2676600" y="3162240"/>
            <a:ext cx="434880" cy="3812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9360">
            <a:solidFill>
              <a:srgbClr val="81c65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Flèche vers la droite 28"/>
          <p:cNvSpPr/>
          <p:nvPr/>
        </p:nvSpPr>
        <p:spPr>
          <a:xfrm>
            <a:off x="3551400" y="2286000"/>
            <a:ext cx="436320" cy="38088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ffff"/>
          </a:solidFill>
          <a:ln w="9360">
            <a:solidFill>
              <a:srgbClr val="81c65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Flèche vers la droite 29"/>
          <p:cNvSpPr/>
          <p:nvPr/>
        </p:nvSpPr>
        <p:spPr>
          <a:xfrm>
            <a:off x="3551400" y="4014720"/>
            <a:ext cx="436320" cy="38124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ffffff"/>
          </a:solidFill>
          <a:ln w="9360">
            <a:solidFill>
              <a:srgbClr val="81c65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Flèche vers la droite 30"/>
          <p:cNvSpPr/>
          <p:nvPr/>
        </p:nvSpPr>
        <p:spPr>
          <a:xfrm>
            <a:off x="6215040" y="2975040"/>
            <a:ext cx="436680" cy="38088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ffffff"/>
          </a:solidFill>
          <a:ln w="9360">
            <a:solidFill>
              <a:srgbClr val="81c65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Flèche vers la droite 31"/>
          <p:cNvSpPr/>
          <p:nvPr/>
        </p:nvSpPr>
        <p:spPr>
          <a:xfrm>
            <a:off x="6215040" y="3792600"/>
            <a:ext cx="436680" cy="38088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ffffff"/>
          </a:solidFill>
          <a:ln w="9360">
            <a:solidFill>
              <a:srgbClr val="81c65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ekly paclitaxel combined with carboplatin versus single-agent therapy in patients aged 70 to 89: IFCT-Randomized Phase III Study in Advanced NSCL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ZoneTexte 8"/>
          <p:cNvSpPr/>
          <p:nvPr/>
        </p:nvSpPr>
        <p:spPr>
          <a:xfrm>
            <a:off x="3418920" y="5530680"/>
            <a:ext cx="53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*Choice of  the center at the beginning of the study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** In case of PD or excessive toxicity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1" name="Rectangle à coins arrondis 22"/>
          <p:cNvGrpSpPr/>
          <p:nvPr/>
        </p:nvGrpSpPr>
        <p:grpSpPr>
          <a:xfrm>
            <a:off x="476280" y="1822320"/>
            <a:ext cx="2254320" cy="3249720"/>
            <a:chOff x="476280" y="1822320"/>
            <a:chExt cx="2254320" cy="3249720"/>
          </a:xfrm>
        </p:grpSpPr>
        <p:pic>
          <p:nvPicPr>
            <p:cNvPr id="92" name="Rectangle à coins arrondis 22" descr=""/>
            <p:cNvPicPr/>
            <p:nvPr/>
          </p:nvPicPr>
          <p:blipFill>
            <a:blip r:embed="rId1"/>
            <a:stretch/>
          </p:blipFill>
          <p:spPr>
            <a:xfrm>
              <a:off x="476280" y="1822320"/>
              <a:ext cx="2254320" cy="32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96880" y="1919520"/>
              <a:ext cx="2016720" cy="30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4" name="Rectangle 23"/>
          <p:cNvSpPr/>
          <p:nvPr/>
        </p:nvSpPr>
        <p:spPr>
          <a:xfrm>
            <a:off x="596880" y="1981080"/>
            <a:ext cx="201600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000090"/>
                </a:solidFill>
                <a:latin typeface="Times New Roman"/>
              </a:rPr>
              <a:t>NSCLC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000090"/>
                </a:solidFill>
                <a:latin typeface="Times New Roman"/>
              </a:rPr>
              <a:t>Stage III-IV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000090"/>
                </a:solidFill>
                <a:latin typeface="Times New Roman"/>
              </a:rPr>
              <a:t>Age  70-89 years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000090"/>
                </a:solidFill>
                <a:latin typeface="Times New Roman"/>
              </a:rPr>
              <a:t>PS 0-2 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000090"/>
                </a:solidFill>
                <a:latin typeface="Times New Roman"/>
              </a:rPr>
              <a:t>n = 451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5" name="Rectangle à coins arrondis 20"/>
          <p:cNvGrpSpPr/>
          <p:nvPr/>
        </p:nvGrpSpPr>
        <p:grpSpPr>
          <a:xfrm>
            <a:off x="3889440" y="1981080"/>
            <a:ext cx="2492280" cy="1444680"/>
            <a:chOff x="3889440" y="1981080"/>
            <a:chExt cx="2492280" cy="1444680"/>
          </a:xfrm>
        </p:grpSpPr>
        <p:pic>
          <p:nvPicPr>
            <p:cNvPr id="96" name="Rectangle à coins arrondis 20" descr=""/>
            <p:cNvPicPr/>
            <p:nvPr/>
          </p:nvPicPr>
          <p:blipFill>
            <a:blip r:embed="rId2"/>
            <a:stretch/>
          </p:blipFill>
          <p:spPr>
            <a:xfrm>
              <a:off x="3889440" y="1981080"/>
              <a:ext cx="24922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992040" y="2058120"/>
              <a:ext cx="2292840" cy="12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3987720" y="2057400"/>
            <a:ext cx="230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Vinorelbine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r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mcitabine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9" name="Rectangle à coins arrondis 18"/>
          <p:cNvGrpSpPr/>
          <p:nvPr/>
        </p:nvGrpSpPr>
        <p:grpSpPr>
          <a:xfrm>
            <a:off x="3902040" y="3828960"/>
            <a:ext cx="2475000" cy="1243080"/>
            <a:chOff x="3902040" y="3828960"/>
            <a:chExt cx="2475000" cy="1243080"/>
          </a:xfrm>
        </p:grpSpPr>
        <p:pic>
          <p:nvPicPr>
            <p:cNvPr id="100" name="Rectangle à coins arrondis 18" descr=""/>
            <p:cNvPicPr/>
            <p:nvPr/>
          </p:nvPicPr>
          <p:blipFill>
            <a:blip r:embed="rId3"/>
            <a:stretch/>
          </p:blipFill>
          <p:spPr>
            <a:xfrm>
              <a:off x="3902040" y="3828960"/>
              <a:ext cx="247500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996000" y="3896280"/>
              <a:ext cx="229572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2" name="Rectangle 19"/>
          <p:cNvSpPr/>
          <p:nvPr/>
        </p:nvSpPr>
        <p:spPr>
          <a:xfrm>
            <a:off x="4032360" y="3895560"/>
            <a:ext cx="22921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arboplatin +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clitaxel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3" name="Rectangle à coins arrondis 16"/>
          <p:cNvGrpSpPr/>
          <p:nvPr/>
        </p:nvGrpSpPr>
        <p:grpSpPr>
          <a:xfrm>
            <a:off x="6632640" y="3005280"/>
            <a:ext cx="2262240" cy="1182600"/>
            <a:chOff x="6632640" y="3005280"/>
            <a:chExt cx="2262240" cy="1182600"/>
          </a:xfrm>
        </p:grpSpPr>
        <p:pic>
          <p:nvPicPr>
            <p:cNvPr id="104" name="Rectangle à coins arrondis 16" descr=""/>
            <p:cNvPicPr/>
            <p:nvPr/>
          </p:nvPicPr>
          <p:blipFill>
            <a:blip r:embed="rId4"/>
            <a:stretch/>
          </p:blipFill>
          <p:spPr>
            <a:xfrm>
              <a:off x="6632640" y="3005280"/>
              <a:ext cx="226224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727680" y="3074400"/>
              <a:ext cx="2081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6" name="Rectangle 17"/>
          <p:cNvSpPr/>
          <p:nvPr/>
        </p:nvSpPr>
        <p:spPr>
          <a:xfrm>
            <a:off x="6727680" y="3182760"/>
            <a:ext cx="207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15120" bIns="1512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Erlotinib**</a:t>
            </a:r>
            <a:br>
              <a:rPr sz="2400"/>
            </a:b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150 mg/d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ZoneTexte 25"/>
          <p:cNvSpPr/>
          <p:nvPr/>
        </p:nvSpPr>
        <p:spPr>
          <a:xfrm>
            <a:off x="3126240" y="2050920"/>
            <a:ext cx="47628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ZoneTexte 24"/>
          <p:cNvSpPr/>
          <p:nvPr/>
        </p:nvSpPr>
        <p:spPr>
          <a:xfrm>
            <a:off x="764280" y="5181480"/>
            <a:ext cx="654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tratification by centre, PS 0-1 vs 2, age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80 vs &gt;80 and stage III vs IV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Text Box 31"/>
          <p:cNvSpPr/>
          <p:nvPr/>
        </p:nvSpPr>
        <p:spPr>
          <a:xfrm>
            <a:off x="232200" y="6338880"/>
            <a:ext cx="598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permission from Quoix et al. ASCO 2010;Abstract 2.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Times New Roman"/>
              </a:rPr>
              <a:t>Response rate at 6 weeks (ITT)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Text Box 48"/>
          <p:cNvSpPr/>
          <p:nvPr/>
        </p:nvSpPr>
        <p:spPr>
          <a:xfrm>
            <a:off x="769680" y="5181480"/>
            <a:ext cx="657252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*Main causes: deaths (20 in arm A and 23 in arm B),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reduced general condition (respectively 7 and 4), toxicity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0 and 4 cases respectively and withdrawal of consent (6 cases)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232200" y="6338880"/>
            <a:ext cx="598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permission from Quoix et al. ASCO 2010;Abstract 2.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1341360"/>
          <a:ext cx="7848720" cy="3535560"/>
        </p:xfrm>
        <a:graphic>
          <a:graphicData uri="http://schemas.openxmlformats.org/drawingml/2006/table">
            <a:tbl>
              <a:tblPr/>
              <a:tblGrid>
                <a:gridCol w="2286000"/>
                <a:gridCol w="1981080"/>
                <a:gridCol w="2133720"/>
                <a:gridCol w="1447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Agent Arm A (2 = 211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uble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m B (n = 210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PR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23 (10.9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61 (29.05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&lt;10</a:t>
                      </a:r>
                      <a:r>
                        <a:rPr b="0" lang="en-US" sz="1800" spc="-1" strike="noStrike" baseline="30000">
                          <a:solidFill>
                            <a:srgbClr val="0c354c"/>
                          </a:solidFill>
                          <a:latin typeface="Arial"/>
                        </a:rPr>
                        <a:t>-5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</a:tr>
              <a:tr h="45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ST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96 (45.5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81 (38.57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0.18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DCR (PR + ST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119 (56.4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142 (67.62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0.02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PD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46 (21.8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15 (7.14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&lt;10</a:t>
                      </a:r>
                      <a:r>
                        <a:rPr b="0" lang="en-US" sz="1800" spc="-1" strike="noStrike" baseline="30000">
                          <a:solidFill>
                            <a:srgbClr val="0c354c"/>
                          </a:solidFill>
                          <a:latin typeface="Arial"/>
                        </a:rPr>
                        <a:t>-4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Not reported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15 (7.11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20 (9.53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0.47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9bff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Withdrawal before 1</a:t>
                      </a:r>
                      <a:r>
                        <a:rPr b="0" lang="en-US" sz="1800" spc="-1" strike="noStrike" baseline="30000">
                          <a:solidFill>
                            <a:srgbClr val="0c354c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 evaluation*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31 (14.7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33 (15.7%)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c354c"/>
                          </a:solidFill>
                          <a:latin typeface="Arial"/>
                        </a:rPr>
                        <a:t>0.88</a:t>
                      </a:r>
                      <a:endParaRPr b="0" i="1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c354c"/>
                      </a:solidFill>
                    </a:lnL>
                    <a:lnR w="5760">
                      <a:solidFill>
                        <a:srgbClr val="0c354c"/>
                      </a:solidFill>
                    </a:lnR>
                    <a:lnT w="5760">
                      <a:solidFill>
                        <a:srgbClr val="0c354c"/>
                      </a:solidFill>
                    </a:lnT>
                    <a:lnB w="5760">
                      <a:solidFill>
                        <a:srgbClr val="0c354c"/>
                      </a:solidFill>
                    </a:lnB>
                    <a:solidFill>
                      <a:srgbClr val="e9f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oneTexte 18"/>
          <p:cNvSpPr/>
          <p:nvPr/>
        </p:nvSpPr>
        <p:spPr>
          <a:xfrm>
            <a:off x="3192840" y="314496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oublet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ZoneTexte 20"/>
          <p:cNvSpPr/>
          <p:nvPr/>
        </p:nvSpPr>
        <p:spPr>
          <a:xfrm>
            <a:off x="2003040" y="425592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ingle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Object 7" descr=""/>
          <p:cNvPicPr/>
          <p:nvPr/>
        </p:nvPicPr>
        <p:blipFill>
          <a:blip r:embed="rId1"/>
          <a:stretch/>
        </p:blipFill>
        <p:spPr>
          <a:xfrm>
            <a:off x="1817640" y="890640"/>
            <a:ext cx="6488280" cy="4510080"/>
          </a:xfrm>
          <a:prstGeom prst="rect">
            <a:avLst/>
          </a:prstGeom>
          <a:ln w="0">
            <a:noFill/>
          </a:ln>
        </p:spPr>
      </p:pic>
      <p:sp>
        <p:nvSpPr>
          <p:cNvPr id="117" name="Connecteur droit 23"/>
          <p:cNvSpPr/>
          <p:nvPr/>
        </p:nvSpPr>
        <p:spPr>
          <a:xfrm>
            <a:off x="3352680" y="1295280"/>
            <a:ext cx="322560" cy="0"/>
          </a:xfrm>
          <a:prstGeom prst="line">
            <a:avLst/>
          </a:prstGeom>
          <a:ln w="25560">
            <a:solidFill>
              <a:srgbClr val="4fa3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Connecteur droit 24"/>
          <p:cNvSpPr/>
          <p:nvPr/>
        </p:nvSpPr>
        <p:spPr>
          <a:xfrm>
            <a:off x="3467160" y="2286000"/>
            <a:ext cx="3222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ZoneTexte 27"/>
          <p:cNvSpPr/>
          <p:nvPr/>
        </p:nvSpPr>
        <p:spPr>
          <a:xfrm>
            <a:off x="3534120" y="34750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alibri"/>
              </a:rPr>
              <a:t>Doublet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ZoneTexte 28"/>
          <p:cNvSpPr/>
          <p:nvPr/>
        </p:nvSpPr>
        <p:spPr>
          <a:xfrm>
            <a:off x="2382480" y="398160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alibri"/>
              </a:rPr>
              <a:t>Single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4700520"/>
          <a:ext cx="8153640" cy="914400"/>
        </p:xfrm>
        <a:graphic>
          <a:graphicData uri="http://schemas.openxmlformats.org/drawingml/2006/table">
            <a:tbl>
              <a:tblPr/>
              <a:tblGrid>
                <a:gridCol w="1257480"/>
                <a:gridCol w="861840"/>
                <a:gridCol w="862200"/>
                <a:gridCol w="861840"/>
                <a:gridCol w="862200"/>
                <a:gridCol w="861840"/>
                <a:gridCol w="862200"/>
                <a:gridCol w="861840"/>
                <a:gridCol w="8622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Months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8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3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3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Singl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2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5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Doublet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2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0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2" name="ZoneTexte 30"/>
          <p:cNvSpPr/>
          <p:nvPr/>
        </p:nvSpPr>
        <p:spPr>
          <a:xfrm>
            <a:off x="1752480" y="976320"/>
            <a:ext cx="249480" cy="447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PFS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probabi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t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y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ZoneTexte 7"/>
          <p:cNvSpPr/>
          <p:nvPr/>
        </p:nvSpPr>
        <p:spPr>
          <a:xfrm>
            <a:off x="3793320" y="976320"/>
            <a:ext cx="41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Median: 6.1 months (95% CI 5.5-6.9)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-year PFS: 15.4% (95% CI 10.8-20.8)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ZoneTexte 8"/>
          <p:cNvSpPr/>
          <p:nvPr/>
        </p:nvSpPr>
        <p:spPr>
          <a:xfrm>
            <a:off x="3793680" y="1944720"/>
            <a:ext cx="39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Median: 3.0 months (95% CI 2.6-3.9)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-year PFS: 2.3% (95% CI 0.8-5.3)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p &lt; 10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-6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Titre 1"/>
          <p:cNvSpPr/>
          <p:nvPr/>
        </p:nvSpPr>
        <p:spPr>
          <a:xfrm>
            <a:off x="457200" y="122400"/>
            <a:ext cx="83818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PFS (ITT) </a:t>
            </a: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6" name="Rectangle 13"/>
          <p:cNvGrpSpPr/>
          <p:nvPr/>
        </p:nvGrpSpPr>
        <p:grpSpPr>
          <a:xfrm>
            <a:off x="8285040" y="871560"/>
            <a:ext cx="487440" cy="3840120"/>
            <a:chOff x="8285040" y="871560"/>
            <a:chExt cx="487440" cy="3840120"/>
          </a:xfrm>
        </p:grpSpPr>
        <p:pic>
          <p:nvPicPr>
            <p:cNvPr id="127" name="Rectangle 13" descr=""/>
            <p:cNvPicPr/>
            <p:nvPr/>
          </p:nvPicPr>
          <p:blipFill>
            <a:blip r:embed="rId2"/>
            <a:stretch/>
          </p:blipFill>
          <p:spPr>
            <a:xfrm>
              <a:off x="8285040" y="871560"/>
              <a:ext cx="48744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8305920" y="890640"/>
              <a:ext cx="45720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9" name="Rectangle 14"/>
          <p:cNvGrpSpPr/>
          <p:nvPr/>
        </p:nvGrpSpPr>
        <p:grpSpPr>
          <a:xfrm>
            <a:off x="590400" y="878040"/>
            <a:ext cx="1251000" cy="3840120"/>
            <a:chOff x="590400" y="878040"/>
            <a:chExt cx="1251000" cy="3840120"/>
          </a:xfrm>
        </p:grpSpPr>
        <p:pic>
          <p:nvPicPr>
            <p:cNvPr id="130" name="Rectangle 14" descr=""/>
            <p:cNvPicPr/>
            <p:nvPr/>
          </p:nvPicPr>
          <p:blipFill>
            <a:blip r:embed="rId3"/>
            <a:stretch/>
          </p:blipFill>
          <p:spPr>
            <a:xfrm>
              <a:off x="590400" y="878040"/>
              <a:ext cx="125100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09480" y="895320"/>
              <a:ext cx="121932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2" name="Text Box 31"/>
          <p:cNvSpPr/>
          <p:nvPr/>
        </p:nvSpPr>
        <p:spPr>
          <a:xfrm>
            <a:off x="232200" y="6338880"/>
            <a:ext cx="598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permission from Quoix et al. ASCO 2010;Abstract 2.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Connecteur droit 5"/>
          <p:cNvSpPr/>
          <p:nvPr/>
        </p:nvSpPr>
        <p:spPr>
          <a:xfrm>
            <a:off x="4572000" y="1295280"/>
            <a:ext cx="990720" cy="1800"/>
          </a:xfrm>
          <a:prstGeom prst="line">
            <a:avLst/>
          </a:prstGeom>
          <a:ln w="25560">
            <a:solidFill>
              <a:srgbClr val="4fa3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Connecteur droit 7"/>
          <p:cNvSpPr/>
          <p:nvPr/>
        </p:nvSpPr>
        <p:spPr>
          <a:xfrm>
            <a:off x="4572000" y="1752480"/>
            <a:ext cx="990720" cy="1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ZoneTexte 9"/>
          <p:cNvSpPr/>
          <p:nvPr/>
        </p:nvSpPr>
        <p:spPr>
          <a:xfrm>
            <a:off x="5715000" y="10778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Doublet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ZoneTexte 10"/>
          <p:cNvSpPr/>
          <p:nvPr/>
        </p:nvSpPr>
        <p:spPr>
          <a:xfrm>
            <a:off x="5715000" y="1535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ingle agent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7" name="Object 2" descr=""/>
          <p:cNvPicPr/>
          <p:nvPr/>
        </p:nvPicPr>
        <p:blipFill>
          <a:blip r:embed="rId1"/>
          <a:stretch/>
        </p:blipFill>
        <p:spPr>
          <a:xfrm>
            <a:off x="2019240" y="838080"/>
            <a:ext cx="6629400" cy="514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990720" y="5251320"/>
          <a:ext cx="7657920" cy="914400"/>
        </p:xfrm>
        <a:graphic>
          <a:graphicData uri="http://schemas.openxmlformats.org/drawingml/2006/table">
            <a:tbl>
              <a:tblPr/>
              <a:tblGrid>
                <a:gridCol w="1181160"/>
                <a:gridCol w="733320"/>
                <a:gridCol w="885600"/>
                <a:gridCol w="809640"/>
                <a:gridCol w="809640"/>
                <a:gridCol w="887400"/>
                <a:gridCol w="911520"/>
                <a:gridCol w="903240"/>
                <a:gridCol w="5364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Months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8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3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3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Singl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2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1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Doublet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22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5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78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4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3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1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400" spc="-1" strike="noStrike">
                          <a:solidFill>
                            <a:srgbClr val="0f5887"/>
                          </a:solidFill>
                          <a:latin typeface="Times New Roman"/>
                        </a:rPr>
                        <a:t>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ZoneTexte 8"/>
          <p:cNvSpPr/>
          <p:nvPr/>
        </p:nvSpPr>
        <p:spPr>
          <a:xfrm>
            <a:off x="5248800" y="35272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alibri"/>
              </a:rPr>
              <a:t>Doublet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ZoneTexte 16"/>
          <p:cNvSpPr/>
          <p:nvPr/>
        </p:nvSpPr>
        <p:spPr>
          <a:xfrm>
            <a:off x="2896920" y="38973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Calibri"/>
              </a:rPr>
              <a:t>Single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ZoneTexte 14"/>
          <p:cNvSpPr/>
          <p:nvPr/>
        </p:nvSpPr>
        <p:spPr>
          <a:xfrm>
            <a:off x="990720" y="838080"/>
            <a:ext cx="1218960" cy="43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u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r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r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t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y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ZoneTexte 12"/>
          <p:cNvSpPr/>
          <p:nvPr/>
        </p:nvSpPr>
        <p:spPr>
          <a:xfrm>
            <a:off x="4209120" y="1004760"/>
            <a:ext cx="390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MST = 10.3 months (95% CI 8.3-13.3)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1-year survival 45.1% (95% CI 38.2-51.8)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Connecteur droit 15"/>
          <p:cNvSpPr/>
          <p:nvPr/>
        </p:nvSpPr>
        <p:spPr>
          <a:xfrm>
            <a:off x="3733920" y="1297080"/>
            <a:ext cx="40140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Connecteur droit 16"/>
          <p:cNvSpPr/>
          <p:nvPr/>
        </p:nvSpPr>
        <p:spPr>
          <a:xfrm>
            <a:off x="3733920" y="2057400"/>
            <a:ext cx="401400" cy="0"/>
          </a:xfrm>
          <a:prstGeom prst="line">
            <a:avLst/>
          </a:prstGeom>
          <a:ln w="25560">
            <a:solidFill>
              <a:srgbClr val="1c6f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ZoneTexte 11"/>
          <p:cNvSpPr/>
          <p:nvPr/>
        </p:nvSpPr>
        <p:spPr>
          <a:xfrm>
            <a:off x="4232160" y="1739880"/>
            <a:ext cx="410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MST = 6.2 months (95% CI 5.3-7.4)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1-year survival 26.9% (95% CI 21-33.1)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p = 0.00004</a:t>
            </a:r>
            <a:endParaRPr b="0" i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Titre 1"/>
          <p:cNvSpPr/>
          <p:nvPr/>
        </p:nvSpPr>
        <p:spPr>
          <a:xfrm>
            <a:off x="495360" y="122400"/>
            <a:ext cx="81532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Overall survival (ITT)</a:t>
            </a: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58"/>
          <p:cNvSpPr/>
          <p:nvPr/>
        </p:nvSpPr>
        <p:spPr>
          <a:xfrm>
            <a:off x="990720" y="5181480"/>
            <a:ext cx="1028520" cy="76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31"/>
          <p:cNvSpPr/>
          <p:nvPr/>
        </p:nvSpPr>
        <p:spPr>
          <a:xfrm>
            <a:off x="232200" y="6338880"/>
            <a:ext cx="598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permission from Quoix et al. ASCO 2010;Abstract 2.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132840"/>
            <a:ext cx="802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Times New Roman"/>
              </a:rPr>
              <a:t>Exploratory subgroup analysi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232200" y="6338880"/>
            <a:ext cx="598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permission from Quoix et al. ASCO 2010;Abstract 2.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15000" cy="45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28600" y="3032280"/>
            <a:ext cx="1668600" cy="2093400"/>
          </a:xfrm>
          <a:prstGeom prst="rect">
            <a:avLst/>
          </a:prstGeom>
          <a:solidFill>
            <a:srgbClr val="dee1f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Gill Sans"/>
                <a:ea typeface="ヒラギノ角ゴ Pro W3"/>
              </a:rPr>
              <a:t>150 patients with newly diagnosed metastatic NSCLC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3216240" y="3962520"/>
            <a:ext cx="312840" cy="349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3565440" y="2139840"/>
            <a:ext cx="2363760" cy="1302120"/>
          </a:xfrm>
          <a:prstGeom prst="rect">
            <a:avLst/>
          </a:prstGeom>
          <a:solidFill>
            <a:srgbClr val="dee1f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"/>
                <a:ea typeface="ヒラギノ角ゴ Pro W3"/>
              </a:rPr>
              <a:t>Early palliative care integrated with standard oncology care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3557520" y="4363920"/>
            <a:ext cx="2379600" cy="692280"/>
          </a:xfrm>
          <a:prstGeom prst="rect">
            <a:avLst/>
          </a:prstGeom>
          <a:solidFill>
            <a:srgbClr val="dee1f6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"/>
                <a:ea typeface="ヒラギノ角ゴ Pro W3"/>
              </a:rPr>
              <a:t>Standard oncology care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1946160" y="3917880"/>
            <a:ext cx="7574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1843200" y="3111480"/>
            <a:ext cx="98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eline Data Collection</a:t>
            </a: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2774880" y="2181240"/>
            <a:ext cx="381240" cy="3434040"/>
          </a:xfrm>
          <a:prstGeom prst="rect">
            <a:avLst/>
          </a:prstGeom>
          <a:solidFill>
            <a:srgbClr val="0099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Gill Sans"/>
                <a:ea typeface="ヒラギノ角ゴ Pro W3"/>
              </a:rPr>
              <a:t>RANDOMIZED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Line 14"/>
          <p:cNvSpPr/>
          <p:nvPr/>
        </p:nvSpPr>
        <p:spPr>
          <a:xfrm flipV="1">
            <a:off x="3224160" y="3546000"/>
            <a:ext cx="312840" cy="3207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ARLY PALLIATIVE CARE – ADVANCED NSCLC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345360" y="1863720"/>
            <a:ext cx="2590560" cy="1607040"/>
          </a:xfrm>
          <a:prstGeom prst="rect">
            <a:avLst/>
          </a:prstGeom>
          <a:solidFill>
            <a:srgbClr val="e9edf4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et with palliative care within 3 weeks of signing consent and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monthly thereafter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6340320" y="3917880"/>
            <a:ext cx="2590920" cy="1607040"/>
          </a:xfrm>
          <a:prstGeom prst="rect">
            <a:avLst/>
          </a:prstGeom>
          <a:solidFill>
            <a:srgbClr val="e9edf4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et with palliative care only when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equeste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by patient, family or oncology clinician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5977080" y="2668680"/>
            <a:ext cx="3096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Line 10"/>
          <p:cNvSpPr/>
          <p:nvPr/>
        </p:nvSpPr>
        <p:spPr>
          <a:xfrm>
            <a:off x="5986440" y="4726080"/>
            <a:ext cx="3096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620280" y="6248520"/>
            <a:ext cx="29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mel et al. NEJM 2010.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urvival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71400" y="1641600"/>
            <a:ext cx="77724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an survival: Early palliative care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.6 months; standard care, 8.9 month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0.02)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rolling for age, gender and PS, adjusted HR (early palliative care versus standard care) = 0.59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0.01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- Representation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Clinical Tria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9400" y="1536480"/>
            <a:ext cx="821196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65% of lung cancer patients are </a:t>
            </a:r>
            <a:r>
              <a:rPr b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6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50% of lung cancer patients are </a:t>
            </a:r>
            <a:r>
              <a:rPr b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7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Elderly representation on US tria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Study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%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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7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E5592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15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9509/9305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19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E1594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20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GB 973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27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COG 4599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26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25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: Treatment Princip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580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e alone should not be a criterion for selection of therapy in advanced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dicated chemotherapy trials in patients aged 70 to 75 with PS 0-1 are no longer nece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dicated studies are urgently needed in octogenar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timal use of targeted agents in elderly patients still a “moving targe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tter assessment of comorbidities and general “frailty index” is an important research go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050840" y="1749600"/>
            <a:ext cx="2301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537240" y="1521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75880" y="457200"/>
            <a:ext cx="7124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: Obstac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1400" y="1641240"/>
            <a:ext cx="77724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clinical practice, elderly patients, often excluded from clinical trials, receive untested or inferior treatments, based on several long-held but undocumented belief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lderly have less aggressive canc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lderly do not want aggressive therap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lderly cannot tolerate aggressive therap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lderly have different wishes with respect to prolongation of life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79560" y="1704960"/>
            <a:ext cx="2301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537240" y="1521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ultiple retrospective and prospective subset analyses indicate that elderly patients (mostly between 70-75 years of age), with a PS 0-1, tend to fare as well as younger patients with carboplatin-based doublets in 1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line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28600" y="2244600"/>
            <a:ext cx="89154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TAL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4                 277                           164                170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R (%)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                  17                              30                  11                                      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T (mo)        8.8                 6.7                             10                  8.6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Y (%)            37                  32                              40                  32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LDERLY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77                 78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56                65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R (%)         36                  21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22                 19  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T (mo)        8.0                 5.8                             11                 9.4 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43080"/>
                <a:tab algn="ctr" pos="1479600"/>
                <a:tab algn="ctr" pos="2685960"/>
                <a:tab algn="ctr" pos="3822840"/>
                <a:tab algn="ctr" pos="5143680"/>
                <a:tab algn="ctr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Y (%)            35                  31                              NR               NR</a:t>
            </a:r>
            <a:endParaRPr b="0" i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995560" y="1430280"/>
            <a:ext cx="14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CALGB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507000" y="1433520"/>
            <a:ext cx="20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SWEDISH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430360" y="2035080"/>
            <a:ext cx="62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P                P                        CG              G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0" y="27468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Prospective Subset Analyses of Elderly Patients:</a:t>
            </a:r>
            <a:endParaRPr b="0" i="1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Combination vs Single Agents</a:t>
            </a:r>
            <a:endParaRPr b="0" i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22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ral clinical trials in elderly patients included PS 2 patients as a combined “special population” elig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2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se trials showed a distinct difference in outcome between age and P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LDERLY PATIENTS WITH ADVANCED NSCLC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re is little data regarding the efficacy and safety of biological agents in the elderly cohor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imes New Roman"/>
              </a:rPr>
              <a:t>Outcomes for Elderly Advanced NSCLC Patients Treated with Bevacizumab in Combination with Carboplatin and Paclitaxel: Analysis of ECOG 4599 Study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1633680"/>
          <a:ext cx="7772400" cy="4386240"/>
        </p:xfrm>
        <a:graphic>
          <a:graphicData uri="http://schemas.openxmlformats.org/drawingml/2006/table">
            <a:tbl>
              <a:tblPr/>
              <a:tblGrid>
                <a:gridCol w="1555920"/>
                <a:gridCol w="1552320"/>
                <a:gridCol w="1555920"/>
                <a:gridCol w="1552320"/>
                <a:gridCol w="1555920"/>
              </a:tblGrid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derly (</a:t>
                      </a:r>
                      <a:r>
                        <a:rPr b="0" lang="en-US" sz="2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&gt;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70)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0" i="1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n-Elderly (&lt; 70)</a:t>
                      </a:r>
                      <a:endParaRPr b="0" i="1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C</a:t>
                      </a:r>
                      <a:endParaRPr b="0" i="1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CB</a:t>
                      </a:r>
                      <a:endParaRPr b="0" i="1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C</a:t>
                      </a:r>
                      <a:endParaRPr b="0" i="1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CB</a:t>
                      </a:r>
                      <a:endParaRPr b="0" i="1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R+PR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D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9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9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an PFS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9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9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P = 0.063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4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2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P &lt; 0.001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-Yr Survival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3%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an survival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1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3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 = 0.4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6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8 m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P = 0.0027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52"/>
          <p:cNvSpPr/>
          <p:nvPr/>
        </p:nvSpPr>
        <p:spPr>
          <a:xfrm>
            <a:off x="5425200" y="643248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malingam et al. JCO 2008.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Text Box 53"/>
          <p:cNvSpPr/>
          <p:nvPr/>
        </p:nvSpPr>
        <p:spPr>
          <a:xfrm>
            <a:off x="593640" y="640080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*Median Age “Elderly”: 74 </a:t>
            </a:r>
            <a:endParaRPr b="0" i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oxicity on PCB Arm: Elderly vs Non-Elderl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03440" y="1523880"/>
          <a:ext cx="7754760" cy="4595760"/>
        </p:xfrm>
        <a:graphic>
          <a:graphicData uri="http://schemas.openxmlformats.org/drawingml/2006/table">
            <a:tbl>
              <a:tblPr/>
              <a:tblGrid>
                <a:gridCol w="2396880"/>
                <a:gridCol w="1901880"/>
                <a:gridCol w="1768320"/>
                <a:gridCol w="1687680"/>
              </a:tblGrid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ade 3/4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&gt;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70 yrs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 70 yrs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utropenia    (Gr 4)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2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lena/GI Bleed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5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9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5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52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teinuria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9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3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01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tor Neuropathy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5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6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5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orst Grade 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7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0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 0.001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Ds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3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6%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8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4:26:26Z</dcterms:created>
  <dc:creator>Research To Practice</dc:creator>
  <dc:description/>
  <cp:keywords/>
  <dc:language>en-US</dc:language>
  <cp:lastModifiedBy>Mac Pro E703803Y4PC</cp:lastModifiedBy>
  <dcterms:modified xsi:type="dcterms:W3CDTF">2011-05-11T16:15:51Z</dcterms:modified>
  <cp:revision>121</cp:revision>
  <dc:subject/>
  <dc:title>PowerPoint Presentation</dc:title>
</cp:coreProperties>
</file>