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F58D73-D0CD-4BAE-AE35-563BF0D4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A7FF3D-062B-47CE-86F7-D9A88CEFE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78A4A1-150A-4002-880A-0D7AC3E91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2036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7840"/>
            <a:ext cx="264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568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784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0360"/>
            <a:ext cx="401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7840"/>
            <a:ext cx="82296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20360"/>
            <a:ext cx="8229600" cy="447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0" rIns="109800" tIns="0" bIns="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SzPct val="80000"/>
              <a:buFont typeface="Arial Rounded MT 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339480" indent="-339480">
              <a:lnSpc>
                <a:spcPct val="95000"/>
              </a:lnSpc>
              <a:spcBef>
                <a:spcPts val="2438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Chemobiologic Treatment of Advanced Squamous Carcinoma </a:t>
            </a:r>
            <a:endParaRPr b="0" lang="en-US" sz="3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42864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Karen Kelly M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Professor of Medicin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University of California, Davis, Sacramento, C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rial Outcome in Squamous Cell CA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1523880"/>
          <a:ext cx="8305560" cy="4523040"/>
        </p:xfrm>
        <a:graphic>
          <a:graphicData uri="http://schemas.openxmlformats.org/drawingml/2006/table">
            <a:tbl>
              <a:tblPr/>
              <a:tblGrid>
                <a:gridCol w="1904760"/>
                <a:gridCol w="2286000"/>
                <a:gridCol w="411480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ia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5328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vaciz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ociated with increased risk of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vere pulmonary 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4/13 pt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rafe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CAP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deat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es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risk of hemopt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diran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2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increased toxicity or 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gitumu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VIGO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 b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reased toxicity and no benef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tuxim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ase 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L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histology specific findin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0" rIns="0" tIns="0" bIns="54720" anchor="b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RIDGE: Phase II Trial of Paclitaxel and Carboplatin + Bevacizumab in Untreated Squamous Cell NSCLC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800600" cy="3129120"/>
          </a:xfrm>
          <a:prstGeom prst="rect">
            <a:avLst/>
          </a:prstGeom>
          <a:ln w="38160">
            <a:solidFill>
              <a:srgbClr val="b8b8ff"/>
            </a:solidFill>
            <a:miter/>
          </a:ln>
        </p:spPr>
      </p:pic>
      <p:sp>
        <p:nvSpPr>
          <p:cNvPr id="153" name="TextBox 3"/>
          <p:cNvSpPr/>
          <p:nvPr/>
        </p:nvSpPr>
        <p:spPr>
          <a:xfrm>
            <a:off x="5274720" y="6477120"/>
            <a:ext cx="38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nsworth JD, et al.  J Thorac Oncol 6:109-114,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Brace 4"/>
          <p:cNvSpPr/>
          <p:nvPr/>
        </p:nvSpPr>
        <p:spPr>
          <a:xfrm>
            <a:off x="5257800" y="2133720"/>
            <a:ext cx="533520" cy="34290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3429000"/>
              <a:gd name="textAreaBottom" fmla="*/ 34153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5868720" y="3124080"/>
            <a:ext cx="29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3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 PH:  3.2%  (1 p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S:  6.2  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cles of Bev:   6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13600" y="594360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fffd"/>
                </a:solidFill>
                <a:latin typeface="Arial"/>
              </a:rPr>
              <a:t>Phase II:Gemcitabine and Cisplatin + Axitinib in Squamous Cell NS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1"/>
          <p:cNvSpPr/>
          <p:nvPr/>
        </p:nvSpPr>
        <p:spPr>
          <a:xfrm>
            <a:off x="7632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mcitabine/Carboplat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niparib in Untreated Stage IV Squamous NSC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133720" y="2363760"/>
            <a:ext cx="706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 flipV="1">
            <a:off x="2743200" y="2819160"/>
            <a:ext cx="1295280" cy="9903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Rounded Rectangle 16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3367080" cy="1722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327560" y="2286000"/>
            <a:ext cx="2987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iparib 5.6 mg/kg I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y 1, 4, 8, and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emcitab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spla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2743200" y="3962520"/>
            <a:ext cx="1295280" cy="12952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Rounded Rectangle 17"/>
          <p:cNvGrpSpPr/>
          <p:nvPr/>
        </p:nvGrpSpPr>
        <p:grpSpPr>
          <a:xfrm>
            <a:off x="4191120" y="4718160"/>
            <a:ext cx="3429000" cy="1149120"/>
            <a:chOff x="4191120" y="4718160"/>
            <a:chExt cx="3429000" cy="1149120"/>
          </a:xfrm>
        </p:grpSpPr>
        <p:pic>
          <p:nvPicPr>
            <p:cNvPr id="164" name="Rounded Rectangle 17" descr=""/>
            <p:cNvPicPr/>
            <p:nvPr/>
          </p:nvPicPr>
          <p:blipFill>
            <a:blip r:embed="rId2"/>
            <a:stretch/>
          </p:blipFill>
          <p:spPr>
            <a:xfrm>
              <a:off x="4191120" y="4718160"/>
              <a:ext cx="342900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99120" y="4777560"/>
              <a:ext cx="321192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TextBox 18"/>
          <p:cNvSpPr/>
          <p:nvPr/>
        </p:nvSpPr>
        <p:spPr>
          <a:xfrm>
            <a:off x="1982880" y="557676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8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citumumab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lly human IgG1 monoclonal antibody to EGF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s antitumor activity when combined with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mcitabine/cisplatin or pemetrexed/cisplatin i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SCLC xenograf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in human study:  DLT grade 3 headach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nausea, vomiting, and fever (2 pt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P2D 800 mg  weekly or every 2 week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-2 pts; SD-16 p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5254200" y="6429240"/>
            <a:ext cx="37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uenen B et al. Clin Cancer Res 15:1915-1923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4"/>
          <p:cNvSpPr/>
          <p:nvPr/>
        </p:nvSpPr>
        <p:spPr>
          <a:xfrm flipV="1">
            <a:off x="2004840" y="2133720"/>
            <a:ext cx="565200" cy="103176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1884240" y="3429000"/>
            <a:ext cx="685800" cy="11430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 flipV="1">
            <a:off x="7142040" y="1752120"/>
            <a:ext cx="30492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52480" y="1822320"/>
            <a:ext cx="36036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7066080" y="2286000"/>
            <a:ext cx="380880" cy="22860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7907040" y="1643040"/>
            <a:ext cx="1081440" cy="337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MC-11F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Rounded Rectangle 15"/>
          <p:cNvGrpSpPr/>
          <p:nvPr/>
        </p:nvGrpSpPr>
        <p:grpSpPr>
          <a:xfrm>
            <a:off x="2576520" y="4041720"/>
            <a:ext cx="4797360" cy="1219320"/>
            <a:chOff x="2576520" y="4041720"/>
            <a:chExt cx="4797360" cy="1219320"/>
          </a:xfrm>
        </p:grpSpPr>
        <p:pic>
          <p:nvPicPr>
            <p:cNvPr id="177" name="Rounded Rectangle 15" descr=""/>
            <p:cNvPicPr/>
            <p:nvPr/>
          </p:nvPicPr>
          <p:blipFill>
            <a:blip r:embed="rId1"/>
            <a:stretch/>
          </p:blipFill>
          <p:spPr>
            <a:xfrm>
              <a:off x="2576520" y="4041720"/>
              <a:ext cx="47973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641680" y="4105440"/>
              <a:ext cx="46706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rm B:  CIS + GE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splatin 75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-60 min IV), D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emcitabine 1250 mg/m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30 min IV), D1, 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ounded Rectangle 16"/>
          <p:cNvGrpSpPr/>
          <p:nvPr/>
        </p:nvGrpSpPr>
        <p:grpSpPr>
          <a:xfrm>
            <a:off x="2563920" y="1444680"/>
            <a:ext cx="4584600" cy="1530360"/>
            <a:chOff x="2563920" y="1444680"/>
            <a:chExt cx="4584600" cy="1530360"/>
          </a:xfrm>
        </p:grpSpPr>
        <p:pic>
          <p:nvPicPr>
            <p:cNvPr id="180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2563920" y="1444680"/>
              <a:ext cx="45846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644920" y="1522440"/>
              <a:ext cx="44226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ffffff"/>
                  </a:solidFill>
                  <a:uFillTx/>
                  <a:latin typeface="Arial"/>
                  <a:ea typeface="Arial"/>
                </a:rPr>
                <a:t>Arm A:  IMC-11F8 + CIS + GEM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C-11F8 800 mg (50-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splatin 75 mg/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-60 min IV), D1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mcitabine 1250 mg m</a:t>
              </a:r>
              <a:r>
                <a:rPr b="0" lang="en-US" sz="17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  <a:ea typeface="Arial"/>
                </a:rPr>
                <a:t> (30 min IV), D1, 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Box 21"/>
          <p:cNvSpPr/>
          <p:nvPr/>
        </p:nvSpPr>
        <p:spPr>
          <a:xfrm>
            <a:off x="76320" y="304920"/>
            <a:ext cx="89154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SQUIRE:  phase III, 1</a:t>
            </a:r>
            <a:r>
              <a:rPr b="1" lang="en-US" sz="31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line NSCLC, squamou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131760" y="21337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47 patients Stage 4 NSCLC Squamous ECOG PS 0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4"/>
          <p:cNvSpPr/>
          <p:nvPr/>
        </p:nvSpPr>
        <p:spPr>
          <a:xfrm>
            <a:off x="7426800" y="1384200"/>
            <a:ext cx="47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5"/>
          <p:cNvSpPr/>
          <p:nvPr/>
        </p:nvSpPr>
        <p:spPr>
          <a:xfrm>
            <a:off x="7439400" y="2322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6"/>
          <p:cNvSpPr/>
          <p:nvPr/>
        </p:nvSpPr>
        <p:spPr>
          <a:xfrm>
            <a:off x="2095200" y="2260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7"/>
          <p:cNvSpPr/>
          <p:nvPr/>
        </p:nvSpPr>
        <p:spPr>
          <a:xfrm>
            <a:off x="2093760" y="4175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35080" y="533520"/>
            <a:ext cx="87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he Clinical Lung Cancer Genome Pro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297360" y="1447920"/>
            <a:ext cx="864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ed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ion between 13 centers in Europe, Australia and 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: to perform genomic analysis on clinically annotated lung canc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700 fresh frozen 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900 DNA 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hundred have had genomic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INGS:  FGFR1 amplification in squamous cell lung cancer associa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FGFR1 depend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GFR1 –amplified cancers have a poor pro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729240" y="6400800"/>
            <a:ext cx="37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ss J, et al.  Sci Transl Med 2:Epub Dec 15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201840" y="38088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33520" y="1371600"/>
            <a:ext cx="8421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mous cell carcinoma is a common hist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ype of lung canc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quamous cell specific treatments are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insight into the biology of squamous c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cinoma is required to identify drug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Histological  Subtypes of Lung Cancer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219320"/>
          <a:ext cx="8381880" cy="3984480"/>
        </p:xfrm>
        <a:graphic>
          <a:graphicData uri="http://schemas.openxmlformats.org/drawingml/2006/table">
            <a:tbl>
              <a:tblPr/>
              <a:tblGrid>
                <a:gridCol w="1981080"/>
                <a:gridCol w="2667240"/>
                <a:gridCol w="3733560"/>
              </a:tblGrid>
              <a:tr h="343440"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Mark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lecular 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95876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K7+, CK20-, TTF1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:  mutation: 10%-40%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SH +: 45%-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 +: 60%-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 mutations 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50%-70%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ML4–ALK: 1-1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4440"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 cel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TF1–, CK5+, CK6+, P6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GF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s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mplification: 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HC+:  very comm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60%-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3K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tation: 2%, amplification: 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A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mutation: very r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  <p:sp>
        <p:nvSpPr>
          <p:cNvPr id="87" name="TextBox 4"/>
          <p:cNvSpPr/>
          <p:nvPr/>
        </p:nvSpPr>
        <p:spPr>
          <a:xfrm>
            <a:off x="5443920" y="6353280"/>
            <a:ext cx="35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er CJ et al. J Clin Oncol 28:5311-5320,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Lung Cancer Incidence by Histolog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1998-2002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371200" y="642924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lden DR et al. J Thorac Oncol 3:819-831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1371600"/>
          <a:ext cx="8686800" cy="5037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2057400"/>
                <a:gridCol w="1447560"/>
                <a:gridCol w="213372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gridSpan="2"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90000" rIns="90000" tIns="91440" bIns="914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QUAM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  <a:tc>
                  <a:txBody>
                    <a:bodyPr lIns="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DENOCARCIN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5af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re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51300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ew Treatments for Lung Canc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2000-2010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057400"/>
          <a:ext cx="6476760" cy="3367080"/>
        </p:xfrm>
        <a:graphic>
          <a:graphicData uri="http://schemas.openxmlformats.org/drawingml/2006/table">
            <a:tbl>
              <a:tblPr/>
              <a:tblGrid>
                <a:gridCol w="3047760"/>
                <a:gridCol w="342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eno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quamous Cell Carcino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ff"/>
                    </a:solidFill>
                  </a:tcPr>
                </a:tc>
              </a:tr>
              <a:tr h="37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irst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evacizuma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cond and Third L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metrex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emetrex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rl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izotin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emetrexed in Squamous Carcinoma</a:t>
            </a:r>
            <a:endParaRPr b="0" lang="en-US" sz="3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486400" y="6324480"/>
            <a:ext cx="34750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Scagliotti, G. V. et al. J Clin Oncol; 26:3543-3551 200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1100" spc="-1" strike="noStrike">
                <a:solidFill>
                  <a:srgbClr val="ffffff"/>
                </a:solidFill>
                <a:latin typeface="Arial"/>
              </a:rPr>
              <a:t>Ciuleanu T et al. Lancet 374:1432-1440, 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ubtitle 3"/>
          <p:cNvSpPr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tients with squamous cell carcino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first-line treatment was 9.4 months with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CP and 10.8 months with CG, HR = 1.23 (95% CI: 1.00, 1.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with maintenance pemetrexed = 9.9 months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versus 10.8 months with placebo, HR = 1.07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6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66680">
              <a:lnSpc>
                <a:spcPct val="13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0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4087800" cy="3276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8"/>
          <p:cNvSpPr/>
          <p:nvPr/>
        </p:nvSpPr>
        <p:spPr>
          <a:xfrm>
            <a:off x="428760" y="196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eterogeneity of mRNA Expression Levels in NSCLC:  AC versus SC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8"/>
          <p:cNvSpPr/>
          <p:nvPr/>
        </p:nvSpPr>
        <p:spPr>
          <a:xfrm>
            <a:off x="1371600" y="1295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 (N=965)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649 AC, 316 SC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486400" y="2438280"/>
          <a:ext cx="2743200" cy="19684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(Reference &lt;2.33 for pemetrex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% Below Reference Lev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1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Adeno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45.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 Rounded MT Bold"/>
                        </a:rPr>
                        <a:t>NSCLC-SC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25.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oup 84"/>
          <p:cNvGrpSpPr/>
          <p:nvPr/>
        </p:nvGrpSpPr>
        <p:grpSpPr>
          <a:xfrm>
            <a:off x="2209680" y="2438280"/>
            <a:ext cx="1523520" cy="369720"/>
            <a:chOff x="2209680" y="2438280"/>
            <a:chExt cx="1523520" cy="369720"/>
          </a:xfrm>
        </p:grpSpPr>
        <p:grpSp>
          <p:nvGrpSpPr>
            <p:cNvPr id="101" name="Group 85"/>
            <p:cNvGrpSpPr/>
            <p:nvPr/>
          </p:nvGrpSpPr>
          <p:grpSpPr>
            <a:xfrm>
              <a:off x="2209680" y="2732040"/>
              <a:ext cx="1523520" cy="75960"/>
              <a:chOff x="2209680" y="2732040"/>
              <a:chExt cx="1523520" cy="75960"/>
            </a:xfrm>
          </p:grpSpPr>
          <p:sp>
            <p:nvSpPr>
              <p:cNvPr id="102" name="Line 86"/>
              <p:cNvSpPr/>
              <p:nvPr/>
            </p:nvSpPr>
            <p:spPr>
              <a:xfrm>
                <a:off x="2209680" y="2732040"/>
                <a:ext cx="152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87"/>
              <p:cNvSpPr/>
              <p:nvPr/>
            </p:nvSpPr>
            <p:spPr>
              <a:xfrm>
                <a:off x="220968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Line 88"/>
              <p:cNvSpPr/>
              <p:nvPr/>
            </p:nvSpPr>
            <p:spPr>
              <a:xfrm>
                <a:off x="3733200" y="2732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Text Box 89"/>
            <p:cNvSpPr/>
            <p:nvPr/>
          </p:nvSpPr>
          <p:spPr>
            <a:xfrm>
              <a:off x="2297160" y="24382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&lt;0.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TextBox 28"/>
          <p:cNvSpPr/>
          <p:nvPr/>
        </p:nvSpPr>
        <p:spPr>
          <a:xfrm>
            <a:off x="6245640" y="64008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dara D et al.  ASCO 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04920" y="152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rospective Analysis of ECOG 1594 by His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52280" y="581976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5fffd"/>
                </a:solidFill>
                <a:latin typeface="Arial"/>
              </a:rPr>
              <a:t>Histological subtypes did not influence overall survival and progression free survival in chemo-naïve patients treated with platin-based doublets involving paclitaxel, docetaxel or gemcitab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019920" y="650556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en H et al. J Thorac Oncol 4:S493, 2009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733320"/>
          <a:ext cx="8763120" cy="5040360"/>
        </p:xfrm>
        <a:graphic>
          <a:graphicData uri="http://schemas.openxmlformats.org/drawingml/2006/table">
            <a:tbl>
              <a:tblPr/>
              <a:tblGrid>
                <a:gridCol w="609480"/>
                <a:gridCol w="747720"/>
                <a:gridCol w="700200"/>
                <a:gridCol w="1066680"/>
                <a:gridCol w="727200"/>
                <a:gridCol w="949320"/>
                <a:gridCol w="712800"/>
                <a:gridCol w="963720"/>
                <a:gridCol w="699840"/>
                <a:gridCol w="1014480"/>
                <a:gridCol w="57168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uamo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22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enocarcino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64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rge Ce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7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n=19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m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di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5% C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3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9, 10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9, 9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7, 15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8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5, 17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3, 11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5, 11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5, 9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49, 11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5.6, 12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7.3, 12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6.6, 9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6, 16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4.9, 11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rowSpan="5"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FS (m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1, 4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4, in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8, 4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3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8, 5.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11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8, 5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4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6, 4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, 6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7, 5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b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3.0, 5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9, 4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9, 7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1.7, 3.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4e"/>
                    </a:solidFill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 val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.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 rot="10800000">
            <a:off x="190440" y="3080160"/>
            <a:ext cx="4852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6320" y="1080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hase III Trial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Paclitaxel + Carboplatin Compa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Cremophor-based Paclitaxel + Carboplatin as First-line Therapy in Advanced Non-small Cell Lung C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75248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55627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onsquam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838080" y="190512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&lt; 0.00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26668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8006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80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6400800" y="1905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= 0.06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4479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819520" y="6324480"/>
            <a:ext cx="152280" cy="152640"/>
          </a:xfrm>
          <a:prstGeom prst="rect">
            <a:avLst/>
          </a:prstGeom>
          <a:solidFill>
            <a:srgbClr val="c1d9f5"/>
          </a:solidFill>
          <a:ln w="93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75464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04992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334120" y="6324480"/>
            <a:ext cx="152280" cy="152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05720" y="6324480"/>
            <a:ext cx="152280" cy="152640"/>
          </a:xfrm>
          <a:prstGeom prst="rect">
            <a:avLst/>
          </a:prstGeom>
          <a:solidFill>
            <a:srgbClr val="c1d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564228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2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937560" y="624852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= 3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4983120" y="6505560"/>
            <a:ext cx="393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ermission, Socinski MA et al.  ASCO 2010 #75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Chart 1"/>
          <p:cNvGraphicFramePr/>
          <p:nvPr/>
        </p:nvGraphicFramePr>
        <p:xfrm>
          <a:off x="838080" y="2133720"/>
          <a:ext cx="83059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Char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83059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772400" y="2286000"/>
            <a:ext cx="152280" cy="152280"/>
          </a:xfrm>
          <a:prstGeom prst="rect">
            <a:avLst/>
          </a:prstGeom>
          <a:solidFill>
            <a:srgbClr val="ffff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2590920"/>
            <a:ext cx="152280" cy="152280"/>
          </a:xfrm>
          <a:prstGeom prst="rect">
            <a:avLst/>
          </a:prstGeom>
          <a:solidFill>
            <a:srgbClr val="88bf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2239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Na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2514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/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Nab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aclitaxel Phase II Tr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Advanced Squamous Carcinom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f the L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838080" y="2362320"/>
            <a:ext cx="7391520" cy="3382920"/>
            <a:chOff x="838080" y="2362320"/>
            <a:chExt cx="7391520" cy="3382920"/>
          </a:xfrm>
        </p:grpSpPr>
        <p:grpSp>
          <p:nvGrpSpPr>
            <p:cNvPr id="136" name="AutoShape 39"/>
            <p:cNvGrpSpPr/>
            <p:nvPr/>
          </p:nvGrpSpPr>
          <p:grpSpPr>
            <a:xfrm>
              <a:off x="2845080" y="4181400"/>
              <a:ext cx="3057840" cy="1563840"/>
              <a:chOff x="2845080" y="4181400"/>
              <a:chExt cx="3057840" cy="1563840"/>
            </a:xfrm>
          </p:grpSpPr>
          <p:pic>
            <p:nvPicPr>
              <p:cNvPr id="137" name="AutoShape 39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5080" y="4181400"/>
                <a:ext cx="3057840" cy="15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2927160" y="42660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ab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Paclitaxe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AutoShape 39"/>
            <p:cNvGrpSpPr/>
            <p:nvPr/>
          </p:nvGrpSpPr>
          <p:grpSpPr>
            <a:xfrm>
              <a:off x="2845080" y="2362320"/>
              <a:ext cx="3057840" cy="1557720"/>
              <a:chOff x="2845080" y="2362320"/>
              <a:chExt cx="3057840" cy="1557720"/>
            </a:xfrm>
          </p:grpSpPr>
          <p:pic>
            <p:nvPicPr>
              <p:cNvPr id="140" name="AutoShap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5080" y="2362320"/>
                <a:ext cx="3057840" cy="15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2927160" y="2440800"/>
                <a:ext cx="2894040" cy="14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emcitab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rboplati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AutoShape 39"/>
            <p:cNvGrpSpPr/>
            <p:nvPr/>
          </p:nvGrpSpPr>
          <p:grpSpPr>
            <a:xfrm>
              <a:off x="6493680" y="2891520"/>
              <a:ext cx="1735920" cy="1837440"/>
              <a:chOff x="6493680" y="2891520"/>
              <a:chExt cx="1735920" cy="1837440"/>
            </a:xfrm>
          </p:grpSpPr>
          <p:pic>
            <p:nvPicPr>
              <p:cNvPr id="143" name="AutoShap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6493680" y="2891520"/>
                <a:ext cx="1735920" cy="18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581880" y="2981520"/>
                <a:ext cx="1557360" cy="165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mar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dpoint: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2" marL="114480"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Rectangle 8"/>
            <p:cNvSpPr/>
            <p:nvPr/>
          </p:nvSpPr>
          <p:spPr>
            <a:xfrm>
              <a:off x="838080" y="3430080"/>
              <a:ext cx="862920" cy="62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Up Arrow 9"/>
            <p:cNvSpPr/>
            <p:nvPr/>
          </p:nvSpPr>
          <p:spPr>
            <a:xfrm flipV="1" rot="18360000">
              <a:off x="2214000" y="3827160"/>
              <a:ext cx="181800" cy="812160"/>
            </a:xfrm>
            <a:prstGeom prst="upArrow">
              <a:avLst>
                <a:gd name="adj1" fmla="val 50000"/>
                <a:gd name="adj2" fmla="val 55759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Up Arrow 10"/>
            <p:cNvSpPr/>
            <p:nvPr/>
          </p:nvSpPr>
          <p:spPr>
            <a:xfrm flipV="1" rot="14400000">
              <a:off x="2260800" y="3047040"/>
              <a:ext cx="183600" cy="812160"/>
            </a:xfrm>
            <a:prstGeom prst="upArrow">
              <a:avLst>
                <a:gd name="adj1" fmla="val 50000"/>
                <a:gd name="adj2" fmla="val 55683"/>
              </a:avLst>
            </a:prstGeom>
            <a:solidFill>
              <a:srgbClr val="00ff00"/>
            </a:solidFill>
            <a:ln w="0">
              <a:noFill/>
            </a:ln>
            <a:effectLst>
              <a:outerShdw dist="255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95000"/>
                </a:lnSpc>
                <a:buClr>
                  <a:srgbClr val="8cc63f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1"/>
          <p:cNvSpPr/>
          <p:nvPr/>
        </p:nvSpPr>
        <p:spPr>
          <a:xfrm>
            <a:off x="883080" y="434340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=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4:50:18Z</dcterms:created>
  <dc:creator>Research To Practice</dc:creator>
  <dc:description/>
  <cp:keywords/>
  <dc:language>en-US</dc:language>
  <cp:lastModifiedBy>Mac Pro E703803Y4PC</cp:lastModifiedBy>
  <dcterms:modified xsi:type="dcterms:W3CDTF">2011-05-11T16:02:22Z</dcterms:modified>
  <cp:revision>152</cp:revision>
  <dc:subject/>
  <dc:title>PowerPoint Presentation</dc:title>
</cp:coreProperties>
</file>