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D081-33B9-404C-8AE1-58B146651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929E-23DF-4249-83EC-BA7AEA5A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06CA-3579-43F0-9239-27830DFDC7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7A2C-CB32-40EC-949C-9847F7F278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BF12-0DF7-4AE9-9D15-31CE3CE6E1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1B0B-189C-468E-A590-F84B07D4A73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EE0F-ECA2-4707-ACAB-511D3D717DD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42FC-44D4-4FBF-A441-8AE89E87487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7581-E14A-436F-8FA3-86E2877A73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F39E-82A0-475C-90CF-356367783F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CA76-4B1D-4A43-8A53-4BBA99A537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5E7E-09ED-4B9D-94AB-6213DC7FDE5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783C-B977-47F4-947E-2870803A415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35A2-A79F-49CB-8C8B-BC07F8B0C17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B4A3-4DA3-4167-909E-8B720122150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EC09-22B6-4158-94D0-10E251314D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447920" y="2666880"/>
            <a:ext cx="6324480" cy="198144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828800" y="3048120"/>
            <a:ext cx="4800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Special Issues in </a:t>
            </a:r>
            <a:br>
              <a:rPr sz="3600"/>
            </a:b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Early Breast Canc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905120" y="2666880"/>
            <a:ext cx="2895480" cy="533520"/>
          </a:xfrm>
          <a:prstGeom prst="rect">
            <a:avLst/>
          </a:prstGeom>
          <a:solidFill>
            <a:srgbClr val="efc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905120" y="266688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2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offer zoledronic acid (or another bisphosphonate) a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ponent of adjuvant therapy to a woman with norm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ne health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AZURE: Adjuvant Zoledronic Acid versus Control in Stage II/III B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07880" y="5987880"/>
            <a:ext cx="85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eman RE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Abstract S4-5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3"/>
          <p:cNvSpPr/>
          <p:nvPr/>
        </p:nvSpPr>
        <p:spPr>
          <a:xfrm>
            <a:off x="1143000" y="3048120"/>
            <a:ext cx="6934320" cy="213336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5280" y="3200400"/>
          <a:ext cx="6629400" cy="1828800"/>
        </p:xfrm>
        <a:graphic>
          <a:graphicData uri="http://schemas.openxmlformats.org/drawingml/2006/table">
            <a:tbl>
              <a:tblPr/>
              <a:tblGrid>
                <a:gridCol w="3353040"/>
                <a:gridCol w="327636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atient subs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duction in recur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%  (HR = 0.9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ostmenopausal subse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4%  (HR = 0.76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80880" y="22096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Overall Survival with Adjuvant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Zoledronic Acid in Patients with Premenopausal Breast Cancer with Complete Endocrine Blockade: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Long-Term Results from ABCSG-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80880" y="39625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Gnant M et al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roc ASCO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2011;Abstract 520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ヒラギノ角ゴ Pro W3"/>
              </a:rPr>
              <a:t>Poster Discussion, Tuesday, June 7,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11:30 AM – 12:30 P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Key Maturing Trials of Adjuvant Bisphosphonat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211608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de7f3"/>
                </a:solidFill>
                <a:latin typeface="Arial"/>
              </a:rPr>
              <a:t>NSABP-B-34</a:t>
            </a:r>
            <a:r>
              <a:rPr b="1" lang="en-US" sz="25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odronate </a:t>
            </a:r>
            <a:r>
              <a:rPr b="0" i="1" lang="en-US" sz="2500" spc="-1" strike="noStrike">
                <a:solidFill>
                  <a:srgbClr val="cde7f3"/>
                </a:solidFill>
                <a:latin typeface="Arial"/>
              </a:rPr>
              <a:t>vs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placebo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11608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211608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de7f3"/>
                </a:solidFill>
                <a:latin typeface="Arial"/>
              </a:rPr>
              <a:t>SWOG-S0307</a:t>
            </a:r>
            <a:r>
              <a:rPr b="1" lang="en-US" sz="25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Zoledronate </a:t>
            </a:r>
            <a:r>
              <a:rPr b="0" i="1" lang="en-US" sz="2500" spc="-1" strike="noStrike">
                <a:solidFill>
                  <a:srgbClr val="cde7f3"/>
                </a:solidFill>
                <a:latin typeface="Arial"/>
              </a:rPr>
              <a:t>vs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clodronate </a:t>
            </a:r>
            <a:r>
              <a:rPr b="0" i="1" lang="en-US" sz="2500" spc="-1" strike="noStrike">
                <a:solidFill>
                  <a:srgbClr val="cde7f3"/>
                </a:solidFill>
                <a:latin typeface="Arial"/>
              </a:rPr>
              <a:t>v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11608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                                         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bandronat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407880" y="598788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ClinicalTrials.gov, June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19"/>
          <p:cNvGraphicFramePr/>
          <p:nvPr/>
        </p:nvGraphicFramePr>
        <p:xfrm>
          <a:off x="838080" y="1981080"/>
          <a:ext cx="7902720" cy="42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90272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. Do you offer zoledronic acid (or another bisphosphonate) as a component of adjuvant therapy to a woman with normal bone density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believe a complete axillary dissection may be avoided in patients with a positive sentinel lymph node biopsy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Outcomes of ALND versus Not in 891 Patients with Positive SLNB (ACOSOG-Z001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457200" y="5562720"/>
            <a:ext cx="85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Giuliano AE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Abstract CRA506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uliano AE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AM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305:569-75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3048120"/>
          <a:ext cx="7467840" cy="1904760"/>
        </p:xfrm>
        <a:graphic>
          <a:graphicData uri="http://schemas.openxmlformats.org/drawingml/2006/table">
            <a:tbl>
              <a:tblPr/>
              <a:tblGrid>
                <a:gridCol w="3810240"/>
                <a:gridCol w="365760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-yr in-breast recurrence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.7%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v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2.1% 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= 0.1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-yr nodal recurrence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0.6%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v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1.3% 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= 0.4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-yr overall survival rate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†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91.8%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v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92.5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19"/>
          <p:cNvGraphicFramePr/>
          <p:nvPr/>
        </p:nvGraphicFramePr>
        <p:xfrm>
          <a:off x="838080" y="1981080"/>
          <a:ext cx="7721640" cy="42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72164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. Do you believe it is appropriate to avoid a complete axillary dissection in some patients younger than age 70 with a positive sentinel lymph node biops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09-01T15:36:23Z</dcterms:modified>
  <cp:revision>394</cp:revision>
  <dc:subject/>
  <dc:title>PowerPoint Presentation</dc:title>
</cp:coreProperties>
</file>