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E51B-C5B6-444E-8FC8-5518BAA11A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1AF2-1726-4C50-9263-C65BBE365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A9C9-232C-419B-A412-816913F59B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1F88-5754-43AF-AF66-2FF16F9EFC7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0AD3-42B2-445A-88AF-A2BA7DE720F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C3BB-72AD-4E80-9CA6-600105A8D2A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F5D9-715C-4AE2-B97C-D209B72671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7421-3807-442E-A459-ECB83429C7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73E9-11C6-46CE-8E58-7E026089D8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6" descr="RTP09_SlideBackground"/>
          <p:cNvPicPr/>
          <p:nvPr/>
        </p:nvPicPr>
        <p:blipFill>
          <a:blip r:embed="rId2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</a:rPr>
              <a:t>Copyright © 2011 Research To Practice. All rights reserved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3"/>
          <p:cNvSpPr/>
          <p:nvPr/>
        </p:nvSpPr>
        <p:spPr>
          <a:xfrm>
            <a:off x="1447920" y="2743200"/>
            <a:ext cx="6324480" cy="1676520"/>
          </a:xfrm>
          <a:prstGeom prst="pie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1828800" y="3352680"/>
            <a:ext cx="5791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665"/>
                </a:solidFill>
                <a:latin typeface="Arial"/>
                <a:ea typeface="ヒラギノ角ゴ Pro W3"/>
              </a:rPr>
              <a:t>Rapid Fi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1905120" y="2743200"/>
            <a:ext cx="2895480" cy="533520"/>
          </a:xfrm>
          <a:prstGeom prst="rect">
            <a:avLst/>
          </a:prstGeom>
          <a:solidFill>
            <a:srgbClr val="efc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1905120" y="2743200"/>
            <a:ext cx="2895480" cy="518040"/>
          </a:xfrm>
          <a:prstGeom prst="rect">
            <a:avLst/>
          </a:prstGeom>
          <a:solidFill>
            <a:srgbClr val="da9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ODULE 7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most common endocrine treatment you use for a premenopausal woman who develops disease relapse while receiving tamoxifen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most common endocrine treatment you use for a postmenopausal woman who develops disease relapse while receiving a nonsteroidal AI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you generally change your approach to adjuvant chemotherapy for patients diagnosed with breast cancer during late pregnancy, relevant to the issue of possibly delaying therapy until after deliver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609480" y="1752480"/>
            <a:ext cx="83059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Arial"/>
                <a:ea typeface="ヒラギノ角ゴ Pro W3"/>
              </a:rPr>
              <a:t>313 Patients with Breast Cancer </a:t>
            </a:r>
            <a:br>
              <a:rPr sz="3200"/>
            </a:br>
            <a:r>
              <a:rPr b="1" lang="en-US" sz="3200" spc="-1" strike="noStrike">
                <a:solidFill>
                  <a:srgbClr val="efc53d"/>
                </a:solidFill>
                <a:latin typeface="Arial"/>
                <a:ea typeface="ヒラギノ角ゴ Pro W3"/>
              </a:rPr>
              <a:t>During Pregnancy — Results from a Prospective and Retrospective Registry </a:t>
            </a:r>
            <a:br>
              <a:rPr sz="3200"/>
            </a:br>
            <a:r>
              <a:rPr b="1" lang="en-US" sz="3200" spc="-1" strike="noStrike">
                <a:solidFill>
                  <a:srgbClr val="efc53d"/>
                </a:solidFill>
                <a:latin typeface="Arial"/>
                <a:ea typeface="ヒラギノ角ゴ Pro W3"/>
              </a:rPr>
              <a:t>(GBG-20/BIG02-0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609480" y="4114800"/>
            <a:ext cx="7467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Loibl S et al.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Proc SABCS </a:t>
            </a:r>
            <a:r>
              <a:rPr b="0" lang="en-US" sz="25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2010;Abstract S6-2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4T19:45:49Z</dcterms:created>
  <dc:creator>Research To Practice</dc:creator>
  <dc:description/>
  <cp:keywords/>
  <dc:language>en-US</dc:language>
  <cp:lastModifiedBy>Mac Pro E703803Y4PC</cp:lastModifiedBy>
  <cp:lastPrinted>2011-06-04T15:29:24Z</cp:lastPrinted>
  <dcterms:modified xsi:type="dcterms:W3CDTF">2011-10-04T17:26:03Z</dcterms:modified>
  <cp:revision>392</cp:revision>
  <dc:subject/>
  <dc:title>PowerPoint Presentation</dc:title>
</cp:coreProperties>
</file>