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media/image6.png" ContentType="image/png"/>
  <Override PartName="/ppt/media/image4.png" ContentType="image/png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72E2-FB0B-4BF5-8727-457584320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3081-79CE-4314-9CC4-DD236EEAB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AB62-B1AF-424B-B8C7-8EAE9B9E10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2041-3FF3-4435-9315-7E212B9743A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B09E-B9BE-438A-860D-36D18A6439D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7883-3AC4-40BC-A4E6-95A5119F685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83E0-9FDA-4DF4-98B5-FFF24AF1A6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A1C5-F34E-4303-ADAF-8D20C02EF69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213F-34F9-485D-99B0-9297FD71990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08A1-3780-49CC-BD95-6973CA2B109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4C80-F76A-4EC1-AD43-4753129830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A952-07EC-48C3-A912-9DD0C2AB6D6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BD3D-21B6-41D8-BDE2-419BBAB8AE5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2D5C-4C83-4F6B-8469-D64142F3FB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B8FE-2F4F-4CE4-9980-F66C916697E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462F-6D89-45EA-A23F-9DA19355364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F3B9-7EFA-47D8-B9D0-9252DC13AB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B4FC-A6ED-45AE-A7E0-705D948055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D12E-8CD9-40BA-A42A-937C5B4648C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F95B-2778-4E5E-BE76-FF3B76948E3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1B04-C303-454A-8702-CF8E56DC8AC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737C-53BD-4A47-BEA7-DF02C06893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4B38-BEC8-4EB9-B296-D62A7C6EE8D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397D-1E7C-460A-AAEF-C19CA8D7F30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B57D-62CD-4ED2-861A-AEBF2FD3E49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AF96-47C5-4345-8438-D77928908C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3351-6BC2-4769-AD32-44F1B8281B3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53F4-8F64-4E56-9421-34A1EFD87F7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F9B7-26B1-4476-9682-5A8DD156951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1447920" y="2362320"/>
            <a:ext cx="6324480" cy="2514600"/>
          </a:xfrm>
          <a:prstGeom prst="pi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828800" y="2971800"/>
            <a:ext cx="5791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665"/>
                </a:solidFill>
                <a:latin typeface="Arial"/>
                <a:ea typeface="ヒラギノ角ゴ Pro W3"/>
              </a:rPr>
              <a:t>Integration of Novel Agents into the Metastatic</a:t>
            </a:r>
            <a:r>
              <a:rPr b="1" lang="en-US" sz="2600" spc="-1" strike="noStrike" baseline="30000">
                <a:solidFill>
                  <a:srgbClr val="001665"/>
                </a:solidFill>
                <a:latin typeface="Arial"/>
                <a:ea typeface="ヒラギノ角ゴ Pro W3"/>
              </a:rPr>
              <a:t> </a:t>
            </a:r>
            <a:r>
              <a:rPr b="1" lang="en-US" sz="3600" spc="-1" strike="noStrike">
                <a:solidFill>
                  <a:srgbClr val="001665"/>
                </a:solidFill>
                <a:latin typeface="Arial"/>
                <a:ea typeface="ヒラギノ角ゴ Pro W3"/>
              </a:rPr>
              <a:t>Set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905120" y="2362320"/>
            <a:ext cx="2895480" cy="518040"/>
          </a:xfrm>
          <a:prstGeom prst="rect">
            <a:avLst/>
          </a:prstGeom>
          <a:solidFill>
            <a:srgbClr val="da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ODULE 5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c744"/>
                </a:solidFill>
                <a:latin typeface="Arial"/>
                <a:ea typeface="ＭＳ Ｐゴシック"/>
              </a:rPr>
              <a:t>Survival and PFS with Eribulin According to Age: EMBRACE Analysis</a:t>
            </a:r>
            <a:r>
              <a:rPr b="1" lang="en-US" sz="3000" spc="-1" strike="noStrike">
                <a:solidFill>
                  <a:srgbClr val="ecbb33"/>
                </a:solidFill>
                <a:latin typeface="Arial"/>
                <a:ea typeface="ＭＳ Ｐゴシック"/>
              </a:rPr>
              <a:t>  </a:t>
            </a:r>
            <a:endParaRPr b="1" lang="en-US" sz="30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37960" y="5987880"/>
            <a:ext cx="547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Twelves C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Proc ASC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2011;Abstract 1060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33"/>
          <p:cNvSpPr/>
          <p:nvPr/>
        </p:nvSpPr>
        <p:spPr>
          <a:xfrm>
            <a:off x="1066680" y="2362320"/>
            <a:ext cx="6858000" cy="320040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219320" y="2506680"/>
          <a:ext cx="6553080" cy="2903400"/>
        </p:xfrm>
        <a:graphic>
          <a:graphicData uri="http://schemas.openxmlformats.org/drawingml/2006/table">
            <a:tbl>
              <a:tblPr/>
              <a:tblGrid>
                <a:gridCol w="1752480"/>
                <a:gridCol w="1523880"/>
                <a:gridCol w="1600200"/>
                <a:gridCol w="1676520"/>
              </a:tblGrid>
              <a:tr h="5904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Age at  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 recruitm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ITT populatio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OS (mo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PFS (mo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416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256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&lt;5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6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1.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.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50-5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7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3.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.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</a:tr>
              <a:tr h="44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60-6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2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3.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.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≥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7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4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4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4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Should survival be the primary endpoint in trials evaluating systemic treatment for metastatic breast cancer (mBC)? </a:t>
            </a:r>
            <a:endParaRPr b="1" lang="en-US" sz="20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19" descr=""/>
          <p:cNvPicPr/>
          <p:nvPr/>
        </p:nvPicPr>
        <p:blipFill>
          <a:blip r:embed="rId1"/>
          <a:stretch/>
        </p:blipFill>
        <p:spPr>
          <a:xfrm>
            <a:off x="747720" y="1981080"/>
            <a:ext cx="8015400" cy="4230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c53d"/>
                </a:solidFill>
                <a:latin typeface="Arial"/>
              </a:rPr>
              <a:t>Should survival be a primary endpoint in trials evaluating systemic treatment for metastatic breast cancer (MBC)?</a:t>
            </a:r>
            <a:endParaRPr b="1" lang="en-US" sz="22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Do you or would you like to be able to use ixabepilone in mBC?</a:t>
            </a:r>
            <a:endParaRPr b="1" lang="en-US" sz="20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19" descr=""/>
          <p:cNvPicPr/>
          <p:nvPr/>
        </p:nvPicPr>
        <p:blipFill>
          <a:blip r:embed="rId1"/>
          <a:stretch/>
        </p:blipFill>
        <p:spPr>
          <a:xfrm>
            <a:off x="533520" y="1974960"/>
            <a:ext cx="7918200" cy="4243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Do you or would you like to be able to use ixabepilone in MBC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Do you or would you like to be able to use eribulin in mBC?</a:t>
            </a:r>
            <a:endParaRPr b="1" lang="en-US" sz="20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37960" y="5965920"/>
            <a:ext cx="434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rtes 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Lance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2011;377(9769):914-23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EMBRACE Trial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762 women with locally recurrent or metastatic </a:t>
            </a:r>
            <a:br>
              <a:rPr sz="2500"/>
            </a:b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breast cancer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2-5 prior chemo regimens, including anthracycline </a:t>
            </a:r>
            <a:br>
              <a:rPr sz="2500"/>
            </a:b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and taxan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Phase III: Eribulin vs treatment of physician’s choice (</a:t>
            </a:r>
            <a:r>
              <a:rPr b="0" lang="en-US" sz="2500" spc="-1" strike="noStrike">
                <a:solidFill>
                  <a:srgbClr val="c2e2f0"/>
                </a:solidFill>
                <a:latin typeface="Arial"/>
              </a:rPr>
              <a:t>vinorelbine, gemcitabine, capecitabine, taxanes, hormonal therapy, anthracyclines or other single-agent chemotherapy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EMBRACE Trial: Efficacy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Median OS = 13.1 vs 10.6 mos (HR = 0.81, </a:t>
            </a:r>
            <a:r>
              <a:rPr b="0" i="1" lang="en-US" sz="2400" spc="-1" strike="noStrike">
                <a:solidFill>
                  <a:srgbClr val="cde7f3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 = 0.041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Median PFS = 3.6 vs 2.2 mos (HR = 0.76, </a:t>
            </a:r>
            <a:r>
              <a:rPr b="0" i="1" lang="en-US" sz="2400" spc="-1" strike="noStrike">
                <a:solidFill>
                  <a:srgbClr val="cde7f3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 = 0.002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Objective response rate = 13% vs 7% (</a:t>
            </a:r>
            <a:r>
              <a:rPr b="0" i="1" lang="en-US" sz="2400" spc="-1" strike="noStrike">
                <a:solidFill>
                  <a:srgbClr val="cde7f3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 = 0.028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nical benefit rate = 28% vs 20%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37960" y="5965920"/>
            <a:ext cx="434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rtes 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Lance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2011;377(9769):914-23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3"/>
          <p:cNvSpPr/>
          <p:nvPr/>
        </p:nvSpPr>
        <p:spPr>
          <a:xfrm>
            <a:off x="380880" y="2057400"/>
            <a:ext cx="8458200" cy="373392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EMBRACE Trial: Toxicity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237960" y="5987880"/>
            <a:ext cx="434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rtes 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Lance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2011;377(9769):914-23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2209680"/>
          <a:ext cx="8153280" cy="3413160"/>
        </p:xfrm>
        <a:graphic>
          <a:graphicData uri="http://schemas.openxmlformats.org/drawingml/2006/table">
            <a:tbl>
              <a:tblPr/>
              <a:tblGrid>
                <a:gridCol w="2133360"/>
                <a:gridCol w="1524240"/>
                <a:gridCol w="1447560"/>
                <a:gridCol w="1524240"/>
                <a:gridCol w="1523880"/>
              </a:tblGrid>
              <a:tr h="414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Eribuli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TPC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All grade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Grade 3/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All grade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Grade 3/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Neutropeni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52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45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0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1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58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Anemi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9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3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4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58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Asthenia/fatigu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54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9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40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0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83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Peripheral neuropathy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5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9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6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9:45:49Z</dcterms:created>
  <dc:creator>Research To Practice</dc:creator>
  <dc:description/>
  <cp:keywords/>
  <dc:language>en-US</dc:language>
  <cp:lastModifiedBy>Mac Pro E703803Y4PC</cp:lastModifiedBy>
  <cp:lastPrinted>2011-06-04T15:29:24Z</cp:lastPrinted>
  <dcterms:modified xsi:type="dcterms:W3CDTF">2011-10-27T19:41:14Z</dcterms:modified>
  <cp:revision>399</cp:revision>
  <dc:subject/>
  <dc:title>PowerPoint Presentation</dc:title>
</cp:coreProperties>
</file>