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9E8-833D-4045-A2C8-17963DE7B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B20F-3185-4CC6-A265-AEEDCA7F7D1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4D0B-06A9-4E87-B862-E4FEE0FDB5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45FD-49A9-4870-BC34-05929A76636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C3CB-CC15-4A15-9766-9F0461D2C3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3963240" y="48006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onsensus or Controversy?</a:t>
            </a:r>
            <a:br>
              <a:rPr sz="24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nical investigators provide their perspective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on practical issues and research question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n the management of breast cancer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Saturday, June 4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7:00 PM – 9:00 PM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hicago, Illino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145160" y="5191200"/>
            <a:ext cx="31021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bert W Carlson, M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Crown, M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rles E Geyer Jr, M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yce O’Shaughnessy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859200" y="4038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371760" y="43434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726800" y="5191200"/>
            <a:ext cx="40287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 D Pegram, M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tine J Piccart-Gebhart, MD, Ph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hael Untch, MD, Ph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c P Winer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96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05120"/>
          <a:ext cx="7923240" cy="4111560"/>
        </p:xfrm>
        <a:graphic>
          <a:graphicData uri="http://schemas.openxmlformats.org/drawingml/2006/table">
            <a:tbl>
              <a:tblPr/>
              <a:tblGrid>
                <a:gridCol w="7923240"/>
              </a:tblGrid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1 –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HER2-Positive Early-Stage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2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pecial Issues in Early Breast Canc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3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Genomic Predictors of Response to Adjuvant 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4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riple-Negative and/or BRCA Mutation-Positive Breast Canc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5 –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Integration of Novel Agents into the Metastatic Set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6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HER2-Positive Advanced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dule 7 – 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apid-Fire CoC (</a:t>
                      </a:r>
                      <a:r>
                        <a:rPr b="0" i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ime permitting</a:t>
                      </a: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00:16:54Z</dcterms:created>
  <dc:creator>Research To Practice</dc:creator>
  <dc:description/>
  <cp:keywords/>
  <dc:language>en-US</dc:language>
  <cp:lastModifiedBy>Marie Philemon</cp:lastModifiedBy>
  <cp:lastPrinted>2011-06-02T12:39:26Z</cp:lastPrinted>
  <dcterms:modified xsi:type="dcterms:W3CDTF">2011-11-16T14:19:40Z</dcterms:modified>
  <cp:revision>241</cp:revision>
  <dc:subject/>
  <dc:title>PowerPoint Presentation</dc:title>
</cp:coreProperties>
</file>