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8CE-3955-4D04-A27D-73A896F5E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396-5B1C-4CCE-91B0-AF0EC4AF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F213-6543-4268-B141-F088937CE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45F-7A43-4C1E-B959-9B8BDF4259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E96-A048-4B27-910A-2F96C941C5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570-6E6C-46E5-8682-F22ABC4515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6F19-16A0-4AB1-96CB-1A51D549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1447920" y="23623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29718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</a:rPr>
              <a:t>Triple-Negative and/or BRCA Mutation-Positive Breast 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905120" y="23623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4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hat is your usual preferred first-line systemic approach to a younger patient with metastatic, symptomatic triple-negative breast cancer (TNBC) with a known BRCA mutation and without?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22860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mprovement in PFS with Addition of Bevacizumab (B) in E2100, AVADO and RIBBON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80880" y="1752480"/>
            <a:ext cx="8305920" cy="32767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905120"/>
          <a:ext cx="8001000" cy="2979720"/>
        </p:xfrm>
        <a:graphic>
          <a:graphicData uri="http://schemas.openxmlformats.org/drawingml/2006/table">
            <a:tbl>
              <a:tblPr/>
              <a:tblGrid>
                <a:gridCol w="3698640"/>
                <a:gridCol w="1359000"/>
                <a:gridCol w="1433520"/>
                <a:gridCol w="150984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sub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 in PFS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2100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DO*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7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BBON 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,2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mone receptor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ple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mo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134"/>
          <p:cNvSpPr/>
          <p:nvPr/>
        </p:nvSpPr>
        <p:spPr>
          <a:xfrm>
            <a:off x="457200" y="5149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7.5 mg/kg, 15 mg/k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ecitabine/B; taxane/B or anthracycline/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40"/>
          <p:cNvSpPr/>
          <p:nvPr/>
        </p:nvSpPr>
        <p:spPr>
          <a:xfrm>
            <a:off x="380880" y="6019920"/>
            <a:ext cx="685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’Shaughnessy J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SABC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9;Abstract 207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380880" y="2438280"/>
            <a:ext cx="8382240" cy="18288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590920"/>
          <a:ext cx="8076960" cy="1517400"/>
        </p:xfrm>
        <a:graphic>
          <a:graphicData uri="http://schemas.openxmlformats.org/drawingml/2006/table">
            <a:tbl>
              <a:tblPr/>
              <a:tblGrid>
                <a:gridCol w="2765160"/>
                <a:gridCol w="1382760"/>
                <a:gridCol w="1309680"/>
                <a:gridCol w="1309680"/>
                <a:gridCol w="13096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2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OS, 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, 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9"/>
          <p:cNvSpPr/>
          <p:nvPr/>
        </p:nvSpPr>
        <p:spPr>
          <a:xfrm>
            <a:off x="685800" y="53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hase III Trial of Iniparib (I) plus Gemcitabine (G)/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arboplatin (C) in Metastatic TN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152280" y="57150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’Shaughnessy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1007. Oral Session Monday, June 6, 9:30 AM to 12:3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04920" y="379440"/>
            <a:ext cx="766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reclinical Pharmacodynamic and Pathway Analysis of Three Presumed Inhibitors of Poly(ADP-ribose) Polymerase: ABT-888, AZD2281 and BSI-201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56680" y="601992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AC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4527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ABT-888 and AZD2281 are mediated by PARP1 or PARP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Iniparib (BSI-201) suppressed genes in the telomere pathway, suggesting PARP5/6 as potential targ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The Effect on pCR of Bevacizumab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nd/or Antimetabolites Added to Standard Neoadjuvant Chemotherapy: NSABP Protocol B-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4114800"/>
            <a:ext cx="79246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Bear HD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1;Abstract LBA1005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Oral Session Monday, June 6, 9:30 AM – 12:30 P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3"/>
          <p:cNvSpPr/>
          <p:nvPr/>
        </p:nvSpPr>
        <p:spPr>
          <a:xfrm>
            <a:off x="457200" y="2286000"/>
            <a:ext cx="8229600" cy="23623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6858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GEPARQUINTO: pCR Benefit of Neoadjuvant Chemo plus Bevacizumab in TNBC Subset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f Pati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451480"/>
            <a:ext cx="8763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n Minckwitz 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S4-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ber B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1006. Oral Session Monday, June 6, 9:3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 to 12:3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438280"/>
          <a:ext cx="7925040" cy="2052720"/>
        </p:xfrm>
        <a:graphic>
          <a:graphicData uri="http://schemas.openxmlformats.org/drawingml/2006/table">
            <a:tbl>
              <a:tblPr/>
              <a:tblGrid>
                <a:gridCol w="3505320"/>
                <a:gridCol w="1523880"/>
                <a:gridCol w="1447920"/>
                <a:gridCol w="1447920"/>
              </a:tblGrid>
              <a:tr h="4726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-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-doc + b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(n = 968; 959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NBC subset (n = 345; 339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8"/>
          <p:cNvSpPr/>
          <p:nvPr/>
        </p:nvSpPr>
        <p:spPr>
          <a:xfrm>
            <a:off x="534240" y="472428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S = not signific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38:13Z</dcterms:modified>
  <cp:revision>394</cp:revision>
  <dc:subject/>
  <dc:title>PowerPoint Presentation</dc:title>
</cp:coreProperties>
</file>