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DAEA-B3C6-452B-9507-E576934A0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C9B-9C10-4308-9D39-F82D58EE8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1988-C951-4142-B5B8-6AF0A0F411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1A56-A614-4B30-B10D-57BDB3A42F0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AA34-B086-4B9B-9C94-BE65BACA78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5A10-385A-4826-B7F9-C618F72500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86DE-379B-41CB-86A3-2CB452AF0B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B262-FFDB-4833-91DB-AE1536240F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2AAC-B48F-4F76-A392-B4DFDAA9414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>
            <a:off x="1447920" y="2590920"/>
            <a:ext cx="6324480" cy="251460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828800" y="320040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</a:rPr>
              <a:t>Genomic Predictors of Response to Adjuvant Chemothera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905120" y="259092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3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uld you offer/recommend a multigene assay (MammaPrint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Onco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for a patient with a node-positive tumor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19" descr=""/>
          <p:cNvPicPr/>
          <p:nvPr/>
        </p:nvPicPr>
        <p:blipFill>
          <a:blip r:embed="rId1"/>
          <a:stretch/>
        </p:blipFill>
        <p:spPr>
          <a:xfrm>
            <a:off x="736560" y="1981080"/>
            <a:ext cx="8178840" cy="4230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ould you offer/recommend a multigene assay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MammaPrint or Onco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DX) for a patient with a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de-positive tumor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228600" y="38088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bb33"/>
                </a:solidFill>
                <a:latin typeface="Arial"/>
                <a:ea typeface="ヒラギノ角ゴ Pro W3"/>
              </a:rPr>
              <a:t>SWOG-S1007 (RxPONDER): Invasive Breast Cancer and Recurrence Score</a:t>
            </a:r>
            <a:r>
              <a:rPr b="1" lang="en-US" sz="2600" spc="-1" strike="noStrike" baseline="30000">
                <a:solidFill>
                  <a:srgbClr val="ecbb33"/>
                </a:solidFill>
                <a:latin typeface="Arial"/>
                <a:ea typeface="ヒラギノ角ゴ Pro W3"/>
              </a:rPr>
              <a:t>®</a:t>
            </a:r>
            <a:r>
              <a:rPr b="1" lang="en-US" sz="2600" spc="-1" strike="noStrike">
                <a:solidFill>
                  <a:srgbClr val="ecbb33"/>
                </a:solidFill>
                <a:latin typeface="Arial"/>
                <a:ea typeface="ヒラギノ角ゴ Pro W3"/>
              </a:rPr>
              <a:t> (RS) ≤2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027"/>
          <p:cNvSpPr/>
          <p:nvPr/>
        </p:nvSpPr>
        <p:spPr>
          <a:xfrm>
            <a:off x="457200" y="5562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Clinicaltrials.gov, June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nzalez-Angulo AM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TPS104. Poster Session, Monday, June 6, 8:00 AM to 12:00 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685800" y="17524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ER- and/or PR-positive, HER2-negative invasive BC, 1-3 positive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Randomiz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Chemo + endocrine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Endocrine therapy a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rimary endpoint: Invasive D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arget enrollment: 4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Onco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X Recurrence Score (RS) impact your selection of a particular chemotherapy regimen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efc53d"/>
                </a:solidFill>
                <a:uFillTx/>
                <a:latin typeface="Arial"/>
              </a:rPr>
              <a:t>60 yo woman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: 1.0-cm sentinel node-negative, ER-positive, HER2-negative IDC. Which adjuvant chemotherapy treatment would you recommen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tterns of Ca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Breast Cancer, Research To Practice 201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3"/>
          <p:cNvSpPr/>
          <p:nvPr/>
        </p:nvSpPr>
        <p:spPr>
          <a:xfrm flipH="1">
            <a:off x="685080" y="1905120"/>
            <a:ext cx="7924680" cy="373356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2057400"/>
          <a:ext cx="7620120" cy="3425760"/>
        </p:xfrm>
        <a:graphic>
          <a:graphicData uri="http://schemas.openxmlformats.org/drawingml/2006/table">
            <a:tbl>
              <a:tblPr/>
              <a:tblGrid>
                <a:gridCol w="2590920"/>
                <a:gridCol w="1371600"/>
                <a:gridCol w="990720"/>
                <a:gridCol w="914400"/>
                <a:gridCol w="914400"/>
                <a:gridCol w="83808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hra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xa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uld orde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o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X</a:t>
                      </a:r>
                      <a:r>
                        <a:rPr b="0" i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8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ediate 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98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uld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rde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o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X (n = 1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19" descr=""/>
          <p:cNvPicPr/>
          <p:nvPr/>
        </p:nvPicPr>
        <p:blipFill>
          <a:blip r:embed="rId1"/>
          <a:stretch/>
        </p:blipFill>
        <p:spPr>
          <a:xfrm>
            <a:off x="797040" y="2081160"/>
            <a:ext cx="7889760" cy="4256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6680" y="1255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Onco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X Recurrence Score (RS) affect your choice of a particular chemotherapy regimen? (Eg, would you use a different chemotherapy regimen for a patient with an intermediate versus a high RS?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9-01T15:41:25Z</cp:lastPrinted>
  <dcterms:modified xsi:type="dcterms:W3CDTF">2011-10-14T12:21:23Z</dcterms:modified>
  <cp:revision>397</cp:revision>
  <dc:subject/>
  <dc:title>PowerPoint Presentation</dc:title>
</cp:coreProperties>
</file>