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6CA-8A69-4555-B092-EE7C63892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C047-9F68-455C-B785-04DD6153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2A49-8B9C-401D-9CDB-220C26BB8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BBA2-6360-4934-A18B-91504222D8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45C-0039-4351-89F5-331A30A70C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F1D-C89E-4B7F-ABA4-5E97DDCB3B2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134-F57B-4FC8-ACC9-C96060B9F4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F573-2CD8-4C63-9453-9638C9F631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B633-F78B-43B2-A477-0EEF73586B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3E0-DAD3-41E9-B4F8-BE8F704B7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DD5-5052-4E2A-9E47-4B771BCA19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B0E-9C04-4639-AD07-9BA15E09C7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EFB-248E-4D3F-BA9F-71F2628E72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7FE9-E1B0-4913-920F-318758D773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2C1-B42F-4597-A8BC-03D5888A6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672-E2D3-4164-AB3F-F34E7E4CEA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81D-A180-439E-994F-54482F9C4F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AE7-95E2-4D83-9CC4-580D7E9513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0A00-BB8E-4097-956D-BDE66E0111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B8C7-4D94-4F6B-ABB1-17F7883132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7FD5-41BF-49D1-A1CE-CCD4C5DE49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C6DD-867B-46A5-9711-77B4C05F1F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BF00-73E2-4BAF-895C-785FD1FF68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282F-9EBF-41AB-AFF1-F696C9EA3A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666880"/>
            <a:ext cx="6324480" cy="20574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27672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HER2-Positive Advanced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6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patients with HER2-positive metastatic disease generally be continued on some type of anti-HER2 therapy indefinitely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19"/>
          <p:cNvGraphicFramePr/>
          <p:nvPr/>
        </p:nvGraphicFramePr>
        <p:xfrm>
          <a:off x="914400" y="2006640"/>
          <a:ext cx="7469280" cy="41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06640"/>
                    <a:ext cx="74692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hould patients with HER2-positive metastatic disease generally be continued on some type of anti-HER2 therapy indefinitely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09480" y="1905120"/>
            <a:ext cx="8305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Trastuzumab Beyond Progression in Human Epidermal Growth Factor Receptor 2-Positive Advanced Breast Cancer: A German Breast Group 26/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Breast International Group 03-05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41148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Von Minckwitz G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J Clin Oncol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09;27(12):1999-2006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ld you use T-DM1 if it were available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 Study of Trastuzumab-DM1 (T-DM1) for the Treatment of HER2-Positive Metastatic Breast Cancer After Prior HER2-Directed 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112 heavily pretreated patients with HER2+ metastatic BC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# systemic agents in all settings: 8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# systemic agents in metastatic setting: 5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ORR = 25.9%; Median PFS = 4.6 mo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edian duration of response not reached (F/U ≥12 mos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Most AEs Grade 1/2; No dose-limiting cardiotoxicity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" y="6019920"/>
            <a:ext cx="79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ris HA 3r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29(4):398-4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RIANNE: A Phase III Study of First-Line Therapy for HER2-Positive Progressive, Recurrent Locally Advanced or Metastatic Breast Canc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rastuzumab + taxane (docetaxel or paclitaxel)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 + pertuzumab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 + placebo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Primary endpoint: PF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arget enrollment: 1,092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28600" y="5867280"/>
            <a:ext cx="79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s PA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02 (Trials in Progress Poster Session, Monday, June 6, 8 AM to 12 P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ILIA: A Phase III Study in HER2-Positive, Locally Advanced or Metastatic Breast Cancer Previously Treated with Trastuzumab-Based 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-DM1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Lapatinib + capecitabine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Primary endpoint: PFS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400"/>
              </a:spcAft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Target enrollment: 980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8600" y="5867280"/>
            <a:ext cx="79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ma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16 (Trials in Progress Poster Session, Monday, June 6, 8 AM to 12 P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9"/>
          <p:cNvGraphicFramePr/>
          <p:nvPr/>
        </p:nvGraphicFramePr>
        <p:xfrm>
          <a:off x="617400" y="1981080"/>
          <a:ext cx="768852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981080"/>
                    <a:ext cx="76885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you use T-DM1 if it were availabl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14T12:23:54Z</dcterms:modified>
  <cp:revision>394</cp:revision>
  <dc:subject/>
  <dc:title>PowerPoint Presentation</dc:title>
</cp:coreProperties>
</file>