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7.png" ContentType="image/png"/>
  <Override PartName="/ppt/media/image6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508-E0E7-49E4-A227-411776F96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900E-8A83-4C41-A3AB-955C05E5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3910-8287-47CB-9B83-D9B40461BF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14AA-FFD0-4CC1-A67C-A4F381DDCFE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1F19-D1A2-4FE7-AAFD-DBC5972C1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608B-24B5-409F-95E3-30511EAB0F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F350-22BD-4BA9-8206-5C6553DB6C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AFB8-FBD2-4D09-9C51-FDD1F3701B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C4F6-1FA4-43EA-B2AB-5A5902FE6E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72DC-EF80-4C38-9AD4-2098985A646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5449-3669-47A9-97AE-DFFE01714AD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2B9D-C3AB-47E5-9F15-438BA462BEE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B7EF-FC95-4B90-AE27-CAC4619544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EBCF-196F-4D8F-A806-58E48F89A3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711F-FCC1-4431-828A-791574D9014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4183-DA24-47F5-BB0A-72D4F1BE83D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9AB4-2E26-4689-AB07-3079DDE21E5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1447920" y="2666880"/>
            <a:ext cx="6324480" cy="198144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828800" y="3048120"/>
            <a:ext cx="4724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HER2-Positive </a:t>
            </a:r>
            <a:br>
              <a:rPr sz="3600"/>
            </a:br>
            <a:r>
              <a:rPr b="1" lang="en-US" sz="3600" spc="-1" strike="noStrike">
                <a:solidFill>
                  <a:srgbClr val="001665"/>
                </a:solidFill>
                <a:latin typeface="Arial"/>
                <a:ea typeface="ヒラギノ角ゴ Pro W3"/>
              </a:rPr>
              <a:t>Early-Stage Dis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905120" y="2666880"/>
            <a:ext cx="2895480" cy="518040"/>
          </a:xfrm>
          <a:prstGeom prst="rect">
            <a:avLst/>
          </a:prstGeom>
          <a:solidFill>
            <a:srgbClr val="da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ODULE 1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19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850160" cy="4167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re there situations in which you would us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eoadjuvan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trastuzumab/lapatinib/chemotherapy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your most common adjuvant treatment recommendation for a patient with ER-negative, HER2-positive early breast cancer and multiple positive nodes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19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370720" cy="4256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your most common adjuvant treatment recommendation for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younger patient (younger than age 60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th ER-negative, HER2-positive disease and multiple positive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28960" y="4843440"/>
            <a:ext cx="23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90840" y="27590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your most common adjuvant treatment recommendation for a patient with a small (5-mm) ER-negative, HER2-positive, node-negative breast tumor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914400" y="1523880"/>
            <a:ext cx="7315200" cy="41911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Locoregional and Distant Relapse in Node-Negative Breast Cancer (≤1 cm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07880" y="6064200"/>
            <a:ext cx="85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ncello G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east Cancer Res Trea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127:713-2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66680" y="1676520"/>
          <a:ext cx="7010640" cy="3886200"/>
        </p:xfrm>
        <a:graphic>
          <a:graphicData uri="http://schemas.openxmlformats.org/drawingml/2006/table">
            <a:tbl>
              <a:tblPr/>
              <a:tblGrid>
                <a:gridCol w="5410440"/>
                <a:gridCol w="1600200"/>
              </a:tblGrid>
              <a:tr h="64584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unohistochemical sub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64620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minal A (ER/PR+, HER2-ne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4476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minal B (ER/PR+, HER2-ne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4584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minal B (ER/PR+, HER2+++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b3d335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b3d335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4620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2+++ (ER-/PR-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13680">
                      <a:solidFill>
                        <a:srgbClr val="b3d335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b3d335"/>
                      </a:solidFill>
                    </a:lnT>
                    <a:lnB w="13680">
                      <a:solidFill>
                        <a:srgbClr val="b3d335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b3d335"/>
                      </a:solidFill>
                    </a:lnR>
                    <a:lnT w="13680">
                      <a:solidFill>
                        <a:srgbClr val="b3d335"/>
                      </a:solidFill>
                    </a:lnT>
                    <a:lnB w="13680">
                      <a:solidFill>
                        <a:srgbClr val="b3d335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657360">
                <a:tc>
                  <a:txBody>
                    <a:bodyPr lIns="87480" rIns="8748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ple-neg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b3d33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762"/>
                    </a:solidFill>
                  </a:tcPr>
                </a:tc>
                <a:tc>
                  <a:txBody>
                    <a:bodyPr lIns="87480" rIns="8748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b3d33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762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19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485200" cy="4230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your most common adjuvant treatment recommendation for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younger patient (younger than age 60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th a small (5-mm) ER-negative, HER2-positive, node-negative tumor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4680" y="3262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90720" y="49989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Ongoing Adjuvant Trials of Chemotherapy with Biologic Agents in HER2-Positive Breast Canc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24382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228600">
              <a:lnSpc>
                <a:spcPct val="9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•"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de7f3"/>
                </a:solidFill>
                <a:latin typeface="Arial"/>
              </a:rPr>
              <a:t>BETH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              Chemotherapy + H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H 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     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or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Chemotherapy + H + bev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H + bev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•"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de7f3"/>
                </a:solidFill>
                <a:latin typeface="Arial"/>
              </a:rPr>
              <a:t>ALTTO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            Chemotherapy (concurrent or sequential) +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     </a:t>
            </a:r>
            <a:br>
              <a:rPr sz="2100"/>
            </a:b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                        L alone 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or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H alone 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or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H </a:t>
            </a:r>
            <a:r>
              <a:rPr b="0" lang="en-US" sz="2100" spc="-1" strike="noStrike">
                <a:solidFill>
                  <a:srgbClr val="cde7f3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L </a:t>
            </a:r>
            <a:r>
              <a:rPr b="0" i="1" lang="en-US" sz="2100" spc="-1" strike="noStrike">
                <a:solidFill>
                  <a:srgbClr val="cde7f3"/>
                </a:solidFill>
                <a:latin typeface="Arial"/>
              </a:rPr>
              <a:t>or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 L + H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•"/>
              <a:tabLst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de7f3"/>
                </a:solidFill>
                <a:latin typeface="Arial"/>
              </a:rPr>
              <a:t>Dana Farber    </a:t>
            </a: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Paclitaxel + H (node-negative)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04920" y="6019920"/>
            <a:ext cx="85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ClinicalTrials.gov, June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your most common neoadjuvant treatment for younger patients with locally advanced ER-negative, HER2-positive breast cancer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53960" y="5756400"/>
            <a:ext cx="82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28600" y="58672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tch M et al.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S3-1.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anni L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 Abstract S3-2.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lga J et al.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SAB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Abstract S3-3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914400" y="1698480"/>
            <a:ext cx="693432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GEPARQUINTO</a:t>
            </a:r>
            <a:r>
              <a:rPr b="1" lang="en-US" sz="2000" spc="-1" strike="noStrike" baseline="30000">
                <a:solidFill>
                  <a:srgbClr val="efc53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cde7f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Trastuzumab/EC-docetaxel: 50.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Lapatinib/EC-docetaxel: 35.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NeoSphere</a:t>
            </a:r>
            <a:r>
              <a:rPr b="1" lang="en-US" sz="2000" spc="-1" strike="noStrike" baseline="30000">
                <a:solidFill>
                  <a:srgbClr val="efc53d"/>
                </a:solidFill>
                <a:latin typeface="Arial"/>
                <a:ea typeface="ヒラギノ角ゴ Pro W3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Docetaxel/trastuzumab/pertuzumab: 45.8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Docetaxel/trastuzumab: 29.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Docetaxel/pertuzumab: 24.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buClr>
                <a:srgbClr val="cde7f3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Trastuzumab/pertuzumab: 16.8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NeoALTTO</a:t>
            </a:r>
            <a:r>
              <a:rPr b="1" lang="en-US" sz="2000" spc="-1" strike="noStrike" baseline="30000">
                <a:solidFill>
                  <a:srgbClr val="efc53d"/>
                </a:solidFill>
                <a:latin typeface="Arial"/>
                <a:ea typeface="ヒラギノ角ゴ Pro W3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spcBef>
                <a:spcPts val="249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Paclitaxel/trastuzumab/lapatinib: 51.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spcBef>
                <a:spcPts val="249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Paclitaxel/trastuzumab: 29.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228600">
              <a:lnSpc>
                <a:spcPct val="105000"/>
              </a:lnSpc>
              <a:spcBef>
                <a:spcPts val="249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Paclitaxel/lapitinib: 24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Neoadjuvant Anti-HER2 T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45:49Z</dcterms:created>
  <dc:creator>Research To Practice</dc:creator>
  <dc:description/>
  <cp:keywords/>
  <dc:language>en-US</dc:language>
  <cp:lastModifiedBy>Mac Pro E703803Y4PC</cp:lastModifiedBy>
  <cp:lastPrinted>2011-06-04T15:29:24Z</cp:lastPrinted>
  <dcterms:modified xsi:type="dcterms:W3CDTF">2011-10-27T19:33:50Z</dcterms:modified>
  <cp:revision>400</cp:revision>
  <dc:subject/>
  <dc:title>PowerPoint Presentation</dc:title>
</cp:coreProperties>
</file>