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6832-941C-4500-A235-A4D9317C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FF1D-39F7-4A33-9990-F5419FB4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CB90-0D04-4E5E-BD6A-6E0DD500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F6A5-2F71-46D9-B90F-5DA774CB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EEFC-BA13-4953-8A5B-5BB99AD5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F956-E843-4789-8BD5-6A8DF7D1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59E5-AB13-4E1C-AD29-C0C8BBBB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912B-EBFC-4A8B-A609-382B3491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1252-BEF9-4113-BBD1-1845E595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3C7E-AACC-4F9D-9169-DEA5E93B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91B0-2DB4-4D1B-B0EA-3DE53DA0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3D05-2E01-4BF2-A25E-ACE42389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23D6-BA76-47DA-9A7C-ACF886BA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6256-8D87-434B-83D9-EEABB5B2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F846-6569-43E5-BD94-09B1846A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9F2B-EAA6-463D-AA9A-29119403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241B-74AF-4A5C-AB88-5631CAA8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CFE2-37DA-4386-9E0C-54D1437D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498A-B50B-4C43-8C3E-11836E5C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FCD8-48D2-4465-813F-CBA55226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5F74-3482-4DD8-8134-2DAD95ED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55D9-6C7A-4BA8-A377-AA1C9E6B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0C76-124E-4D36-BC0B-F3A91750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4533-A7E4-41B9-9553-8C123143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5D28-B466-46A3-A09C-1AA57BBD549D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40A5-981C-4B39-9E3B-F8A91683AEB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emetrexed is More Effective in Patients with Nonsquamous Non-Small-Cell Lung Cancer (NSCLC) Histology: An Analysis of Three Large, Randomized, Phase III Trial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Scagliotti G et 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Proc World Conference on Lung Cancer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 2009;Abstract B2.6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666000" y="6207120"/>
            <a:ext cx="7529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Scagliotti G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Proc World Conference on Lung Cancer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B2.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ase III studies indicate that nonsquamous tumor histology is a predictive factor for pemetrexed efficacy in treatment of advanced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e the reproducibility and consistency of the increased efficacy of pemetrexed observed in thre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or stud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reatment-By-Histology Interaction (THI) model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d to estimate the effect of histology on pemetrexed effica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666000" y="6207120"/>
            <a:ext cx="7529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Scagliotti G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Proc World Conference on Lung Cancer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B2.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tatistical Analysi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analyzed by squamous (Sq) and nonsquamous (NSq) cell histology for three Phase III studi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First Study (n = 571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pemetrexed vs docetaxel (P vs D)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ncologi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9;14:25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econd Study (n = 1,725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pemetrexed/cisplatin vs gemcitabine/cisplatin (P/C vs G/C)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8;26:354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hird Study (n = 663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Maintenance pemetrexed vs placebo (mx-P vs PBO)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ance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9;374:143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 model measures hazard ratio (HR) for histology effect in P arm relative to histology effect in control a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0ecd9"/>
                </a:solidFill>
                <a:latin typeface="Verdana"/>
              </a:rPr>
              <a:t>Efficacy of Pemetrexed by Tumor Histology and THI Interact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731880" y="6207120"/>
            <a:ext cx="7529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Scagliotti G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Proc World Conference on Lung Cancer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B2.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5960" y="1763640"/>
          <a:ext cx="8391600" cy="2557440"/>
        </p:xfrm>
        <a:graphic>
          <a:graphicData uri="http://schemas.openxmlformats.org/drawingml/2006/table">
            <a:tbl>
              <a:tblPr/>
              <a:tblGrid>
                <a:gridCol w="2106720"/>
                <a:gridCol w="985680"/>
                <a:gridCol w="997200"/>
                <a:gridCol w="1155600"/>
                <a:gridCol w="1042920"/>
                <a:gridCol w="1042920"/>
                <a:gridCol w="1060560"/>
              </a:tblGrid>
              <a:tr h="685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fficacy Paramete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 vs 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/C vs G/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Mx-P vs PB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stologic 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up (N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Sq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99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7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Sq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,25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473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sq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481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8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justed HR for 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2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I HR 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value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8 (0.001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9 (0.002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2 (0.033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Rectangle 190"/>
          <p:cNvSpPr/>
          <p:nvPr/>
        </p:nvSpPr>
        <p:spPr>
          <a:xfrm>
            <a:off x="950760" y="4992840"/>
            <a:ext cx="7715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THI HR&lt;1, efficacy of P relative to control arm is greater in patients with </a:t>
            </a:r>
            <a:br>
              <a:rPr sz="1500"/>
            </a:b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NSq histology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squamous tumor histology is predictive of the improved efficacy of pemetrexed in patients with advanced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eatment advantage of pemetrexed is consistent and reproducible across three different studies and lines of therap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metrexed should be considered as the preferred treatment regimen for patients with nonsquamous advanced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31880" y="6207120"/>
            <a:ext cx="7529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Scagliotti G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Proc World Conference on Lung Cancer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B2.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Office 2004 Test Drive User</cp:lastModifiedBy>
  <cp:lastPrinted>2009-10-09T12:11:54Z</cp:lastPrinted>
  <dcterms:modified xsi:type="dcterms:W3CDTF">2009-12-03T20:16:51Z</dcterms:modified>
  <cp:revision>183</cp:revision>
  <dc:subject/>
  <dc:title>Main Title Slide — Always use  Title Case on Slide Titles</dc:title>
</cp:coreProperties>
</file>