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AF64-445A-4FD7-82CB-D3C61EF50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F1EC-AA6F-4EBD-9946-295451C76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8783-73A6-4B49-85A6-5CF1352E6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7916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8312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484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7916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8312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D6FD-8FD3-452D-985B-DACA23048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5B526-7732-48D0-AA50-C4A4E9D19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325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9A491-4695-4493-99E4-EFDEF2537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B30F7-47B2-49BF-AAF8-1EEDC581F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D07E6-4CD0-4882-ADAC-473845C14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432DD-08F5-4B7C-89F8-EF312EBC5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500" spc="-1" strike="noStrike">
              <a:solidFill>
                <a:srgbClr val="00325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B14B6-A2E2-483B-A17C-B732749C6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7FA59-34BB-4CE7-89FC-BF3B43525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325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9134-E792-4661-86F6-1E960D26C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1C663-35F6-4505-B29A-C2B8A6C41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48141-09D3-4B9A-A7C4-9219422BC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45BFD-4FA3-4199-8793-D72DEA171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F4D9B-1101-4564-AA45-340DF25ED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7916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8312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484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7916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88312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829EC-53C0-486F-9CF5-CE637005C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1332-9F53-487D-8224-AD794EACE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D327-3033-4C6B-A7FC-E1C33229A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347E-C338-43AB-8705-84F31AA01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500" spc="-1" strike="noStrike">
              <a:solidFill>
                <a:srgbClr val="00325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8C98-D5D7-4D09-9631-7F7F1C2A0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938F-DC0F-49BE-836A-BCE98FEE0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DBD1-8479-497F-A57E-DF53BC94F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85FD-5541-4816-8D72-BDED021D1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444680"/>
          </a:xfrm>
          <a:prstGeom prst="rect">
            <a:avLst/>
          </a:prstGeom>
          <a:solidFill>
            <a:srgbClr val="002f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65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65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65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65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65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F0DCC-A51A-4151-BA10-B9F3D32C1C07}" type="slidenum">
              <a:rPr b="0" lang="en-GB" sz="1400" spc="-1" strike="noStrike">
                <a:solidFill>
                  <a:srgbClr val="ff65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4368960"/>
          </a:xfrm>
          <a:prstGeom prst="rect">
            <a:avLst/>
          </a:prstGeom>
          <a:solidFill>
            <a:srgbClr val="002f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167760"/>
            <a:ext cx="7772400" cy="413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08EFB-9EC9-45CD-9CC3-4CE0978DEC60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25b"/>
                </a:solidFill>
                <a:latin typeface="Verdana"/>
              </a:rPr>
              <a:t>Click to edit the outline text format</a:t>
            </a:r>
            <a:endParaRPr b="1" lang="en-US" sz="2500" spc="-1" strike="noStrike">
              <a:solidFill>
                <a:srgbClr val="00325b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61680" y="167760"/>
            <a:ext cx="7829640" cy="413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Gefitinib or Carboplatin/</a:t>
            </a:r>
            <a:br>
              <a:rPr sz="3100"/>
            </a:b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Paclitaxel (C/P) in Pulmonary Adenocarcinoma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10920" y="4313160"/>
            <a:ext cx="7769160" cy="254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25b"/>
                </a:solidFill>
                <a:latin typeface="Verdana"/>
              </a:rPr>
              <a:t>Mok TS et al</a:t>
            </a:r>
            <a:endParaRPr b="1" lang="en-US" sz="2500" spc="-1" strike="noStrike">
              <a:solidFill>
                <a:srgbClr val="00325b"/>
              </a:solidFill>
              <a:latin typeface="Verdan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325b"/>
                </a:solidFill>
                <a:latin typeface="Verdana"/>
              </a:rPr>
              <a:t>N Engl J Med</a:t>
            </a:r>
            <a:r>
              <a:rPr b="0" lang="en-US" sz="2500" spc="-1" strike="noStrike">
                <a:solidFill>
                  <a:srgbClr val="00325b"/>
                </a:solidFill>
                <a:latin typeface="Verdana"/>
              </a:rPr>
              <a:t> 2009;361(10):947-57.</a:t>
            </a:r>
            <a:endParaRPr b="1" lang="en-US" sz="2500" spc="-1" strike="noStrike">
              <a:solidFill>
                <a:srgbClr val="00325b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71360" y="626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-353880" y="6207120"/>
            <a:ext cx="90964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ources: Mok TS et al. 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N Engl J Med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2009;361(10):947-57; Kim ES et al. 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Lancet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2008;372(9652):1809-18; Kosaka T et al. 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Cancer Res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2004;64(24):8919-23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Introduction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74480" y="1608120"/>
            <a:ext cx="8304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GFR tyrosine kinase inhibitors demonstrate improved efficacy in advanced non-small-cell lung cancer (NSCLC) in populations enriched for the presence of EGFR mut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m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-smok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tients with lung adenocarcinom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tients of Asian orig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urrent study objectiv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ess the efficacy and safety of first-line gefitinib versus C/P in EGFR mutation-enriched population with advanced NSCL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ess the role of EGFR mutation as a predictor of treatment efficac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923000" y="2122560"/>
            <a:ext cx="17280" cy="272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1360" y="626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-134640" y="6207120"/>
            <a:ext cx="6467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ource: Mok TS et al. 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N Engl J Med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2009;361(10):947-57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IPASS: A Phase III Trial in Patients with Advanced NSCLC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455760" y="1598760"/>
            <a:ext cx="67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ccrual: 1,329 (Close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16400" y="2755800"/>
            <a:ext cx="47880" cy="231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4962600" y="4140000"/>
            <a:ext cx="228600" cy="12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6400" y="5537160"/>
            <a:ext cx="84110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*Nonsmoker, &lt; 100 cigarettes in lifetime;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former light smoker, stopped </a:t>
            </a:r>
            <a:r>
              <a:rPr b="0" i="1" lang="en-US" sz="1500" spc="-1" strike="noStrike" u="sng">
                <a:solidFill>
                  <a:srgbClr val="000000"/>
                </a:solidFill>
                <a:uFillTx/>
                <a:latin typeface="Verdana"/>
              </a:rPr>
              <a:t>&gt;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 15 years ago and smoked </a:t>
            </a:r>
            <a:r>
              <a:rPr b="0" i="1" lang="en-US" sz="1500" spc="-1" strike="noStrike" u="sng">
                <a:solidFill>
                  <a:srgbClr val="000000"/>
                </a:solidFill>
                <a:uFillTx/>
                <a:latin typeface="Verdana"/>
              </a:rPr>
              <a:t>&lt;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 10 pack-year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00120" y="2214720"/>
          <a:ext cx="3618000" cy="2622240"/>
        </p:xfrm>
        <a:graphic>
          <a:graphicData uri="http://schemas.openxmlformats.org/drawingml/2006/table">
            <a:tbl>
              <a:tblPr/>
              <a:tblGrid>
                <a:gridCol w="3618000"/>
              </a:tblGrid>
              <a:tr h="458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Eligibility (n=1,217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</a:tr>
              <a:tr h="216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6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vanced (Stage IIIb/IV) NSCLC, adenocarcinom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06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ast Asian origin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06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smoker/former light smoker*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06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prior treatm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441680" y="2892600"/>
            <a:ext cx="1005120" cy="100296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216320" y="3440160"/>
            <a:ext cx="225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923000" y="2114640"/>
            <a:ext cx="4539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Oval 25"/>
          <p:cNvSpPr/>
          <p:nvPr/>
        </p:nvSpPr>
        <p:spPr>
          <a:xfrm>
            <a:off x="4778280" y="2333520"/>
            <a:ext cx="311400" cy="3114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Oval 25"/>
          <p:cNvSpPr/>
          <p:nvPr/>
        </p:nvSpPr>
        <p:spPr>
          <a:xfrm>
            <a:off x="4784760" y="4154400"/>
            <a:ext cx="311040" cy="3114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411880" y="1916280"/>
            <a:ext cx="2955960" cy="807840"/>
          </a:xfrm>
          <a:prstGeom prst="rect">
            <a:avLst/>
          </a:prstGeom>
          <a:solidFill>
            <a:srgbClr val="d6ea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Gefitinib (250 mg/day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(n=609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69040" y="4152960"/>
            <a:ext cx="3038400" cy="1455840"/>
          </a:xfrm>
          <a:prstGeom prst="rect">
            <a:avLst/>
          </a:prstGeom>
          <a:solidFill>
            <a:srgbClr val="d6ea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Carboplatin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(AUC 5 or 6) +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Paclitaxel (200 mg/m</a:t>
            </a:r>
            <a:r>
              <a:rPr b="1" lang="en-US" sz="17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q3wk x 6 maximum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(n=608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937040" y="4835520"/>
            <a:ext cx="408240" cy="9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71360" y="626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2200" y="-360"/>
            <a:ext cx="7769160" cy="135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0ecd9"/>
                </a:solidFill>
                <a:latin typeface="Verdana"/>
              </a:rPr>
              <a:t>Efficacy of Gefitinib vs C/P in East Asian Patients With NSCLC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/>
          <p:nvPr/>
        </p:nvSpPr>
        <p:spPr>
          <a:xfrm>
            <a:off x="-134640" y="6207120"/>
            <a:ext cx="6467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ource: Mok TS et al. 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N Engl J Med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2009;361(10):947-57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3960" y="1515960"/>
          <a:ext cx="8264520" cy="4583160"/>
        </p:xfrm>
        <a:graphic>
          <a:graphicData uri="http://schemas.openxmlformats.org/drawingml/2006/table">
            <a:tbl>
              <a:tblPr/>
              <a:tblGrid>
                <a:gridCol w="3729240"/>
                <a:gridCol w="1341360"/>
                <a:gridCol w="1366920"/>
                <a:gridCol w="1827000"/>
              </a:tblGrid>
              <a:tr h="47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2f5d"/>
                          </a:solidFill>
                          <a:latin typeface="Verdana"/>
                        </a:rPr>
                        <a:t>Objective Response Rate (ORR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Gefitinib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C/P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P</a:t>
                      </a: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-valu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</a:tr>
              <a:tr h="744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nt-to-treat population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n=609; 608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3.0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.2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lt;0.00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GFR mutation-positiv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n=132; 129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71.2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7.3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lt;0.00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</a:tr>
              <a:tr h="744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GFR mutation-negativ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n=91; 85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1.1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.5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00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2f5d"/>
                          </a:solidFill>
                          <a:latin typeface="Verdana"/>
                        </a:rPr>
                        <a:t>Progression-Free Surviva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Hazard Ratio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P</a:t>
                      </a: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-valu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</a:tr>
              <a:tr h="470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nt-to-treat population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74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lt;0.00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GFR mutation-positiv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0.48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lt;0.00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</a:tr>
              <a:tr h="469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GFR mutation-negativ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85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lt;0.00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"/>
          <p:cNvSpPr/>
          <p:nvPr/>
        </p:nvSpPr>
        <p:spPr>
          <a:xfrm>
            <a:off x="700200" y="4729320"/>
            <a:ext cx="183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8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Summary and Conclusions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fitinib is superior to C/P a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line therapy in a selected EGFR mutation-rich population with pulmonary adenocarcinoma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longed PFS and increased OR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roved side effects and quality of life (data not show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GFR mutation status is a predictive biomarker in a selected EGFR mutation-rich population for responsiveness of pulmonary adenocarcinomas to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line gefitinib treatm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FS and ORR were significantly improved in patients who were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sitive for EGFR mut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"/>
          <p:cNvSpPr/>
          <p:nvPr/>
        </p:nvSpPr>
        <p:spPr>
          <a:xfrm>
            <a:off x="-134640" y="6207120"/>
            <a:ext cx="6467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ource: Mok TS et al. 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N Engl J Med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2009;361(10):947-57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01:19:04Z</dcterms:created>
  <dc:creator>Fernando G Rendina </dc:creator>
  <dc:description/>
  <cp:keywords/>
  <dc:language>en-US</dc:language>
  <cp:lastModifiedBy>Jay Qun</cp:lastModifiedBy>
  <cp:lastPrinted>2009-12-03T17:21:34Z</cp:lastPrinted>
  <dcterms:modified xsi:type="dcterms:W3CDTF">2009-12-03T19:24:20Z</dcterms:modified>
  <cp:revision>185</cp:revision>
  <dc:subject/>
  <dc:title>Main Title Slide — Always use  Title Case on Slide Titles</dc:title>
</cp:coreProperties>
</file>