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DFE-465A-46E2-9F1F-9B682CA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607-8567-4DDF-973C-C9E2D55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053-6E49-4763-8BC9-738F5F3B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02B-1F9A-48DE-9D5A-A6FA0EF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4ED-5EBE-4884-AD2B-D839186A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92D-45EE-4840-A6BB-49401B3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131-A62F-44D0-BC05-6CBD75B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4B5-A9CC-42F3-8A44-1882DCF6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8FB5-F48C-4A25-AA17-E29C8648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E62A-CA51-459E-8E1A-08738E4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18CB-F7C5-4F5D-9E75-508C134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BAB-7C11-4BBA-8BA0-E38C106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A188-6197-446E-B3FC-76F3BAA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F2B7-D617-420B-8592-B0AF8F8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BE4-790E-473D-8DED-29B2EE40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2E1-05CA-4E90-B908-62AC29F6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6A7-1D33-45E8-B7C6-06C0B18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DDC-DEBE-4B9A-9A83-B33E447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492-D3F2-4FE8-8583-D28D041F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4C4-997F-4B46-B0CF-E023908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8B4-6355-47B9-8F1C-4C5C674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BDA-93B9-496B-805D-09CB40B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9D5-C6DA-400B-8C1F-5E6A6D6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712-95A8-457B-BE0F-75B5112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E261-0B94-4F04-BD25-57E603EE214F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A34-E088-4A8C-AD41-1ED0951EBD5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iomarker Analyses from a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Randomized, Open-Label, First-Line Study of Gefitinib vs Carboplatin/Paclitaxel in Clinically Selected Patients with Advanced Non-Small Cell Lung Cancer in Asia (IPASS)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Fukuoka M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ASCO 2009;Abstract 8006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demonstrated overall superiority of first-line gefitinib (G) to carboplatin/paclitaxel (C/P) in selected East Asian population of nonsmokers/ex-light smokers with advanced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progression-free survival (PFS), overall survival (OS) and objective response rate (ORR) by EGFR mutation status, EGFR-gene-copy number and EGFR protein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(n = 1,217 randomize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omarker consent (n = 1,038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tumor samples (n = 683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Biomarker Data in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Evaluable Patien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97040" y="1620720"/>
          <a:ext cx="7542000" cy="2695680"/>
        </p:xfrm>
        <a:graphic>
          <a:graphicData uri="http://schemas.openxmlformats.org/drawingml/2006/table">
            <a:tbl>
              <a:tblPr/>
              <a:tblGrid>
                <a:gridCol w="3779640"/>
                <a:gridCol w="1924200"/>
                <a:gridCol w="183816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Biomark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tatu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N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3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1 (60%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6 (40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9 (61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 (39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protein exp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36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6 (7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 (27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44"/>
          <p:cNvSpPr/>
          <p:nvPr/>
        </p:nvSpPr>
        <p:spPr>
          <a:xfrm>
            <a:off x="1357200" y="4462560"/>
            <a:ext cx="6656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igh EGFR-gene-copy number was defined as high polysomy  (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 copies i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0% of cells) or gene amplification (ratio of gene:chromosome per cell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2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copies of EGFR per cell in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% of cell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ositive EGFR protein expression status defined as ≥ 10% of cells staine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 EGFR protei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rogression-Free Survival by Biomarker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3680" y="1711440"/>
          <a:ext cx="8226360" cy="3954240"/>
        </p:xfrm>
        <a:graphic>
          <a:graphicData uri="http://schemas.openxmlformats.org/drawingml/2006/table">
            <a:tbl>
              <a:tblPr/>
              <a:tblGrid>
                <a:gridCol w="3206520"/>
                <a:gridCol w="1222560"/>
                <a:gridCol w="1214280"/>
                <a:gridCol w="2583000"/>
              </a:tblGrid>
              <a:tr h="77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HR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Rx 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ubgroup Interaction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2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+ (n=26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- (n=17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 (n=2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+ (n=1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- (n=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- (n=15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3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36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68"/>
          <p:cNvSpPr/>
          <p:nvPr/>
        </p:nvSpPr>
        <p:spPr>
          <a:xfrm>
            <a:off x="318960" y="5745240"/>
            <a:ext cx="851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(hazard ratio) &lt; 1.0 favors gefitinib; 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in biomarker+ vs HR in biomarker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ast Asian population for responsiveness of pulmonary adenocarcinomas to first-line gefitinib treatment (p &lt; 0.000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-gene-copy number was not as predictive of a differential PFS of gefitinib vs C/P (p &lt; 0.0437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FISH+, EGFR mutation-negative dise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 not benefit from gefitini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protein expression was the least predic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OS by EGFR mutation status is immature but trending toward improvement for EGFR mutation-positive disease treated with gefitinib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7T14:23:42Z</cp:lastPrinted>
  <dcterms:modified xsi:type="dcterms:W3CDTF">2009-12-03T20:24:03Z</dcterms:modified>
  <cp:revision>181</cp:revision>
  <dc:subject/>
  <dc:title>Main Title Slide — Always use  Title Case on Slide Titles</dc:title>
</cp:coreProperties>
</file>