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B20-E51B-4A25-B8A0-E080A98E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9DA-5B4A-4197-B5B9-ED91775B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AD68-1B6E-467C-921A-2E7D6064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EF6-BCA7-4EF7-B154-61964924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EC4B-2977-4444-BD8E-017C513D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0E63-9C82-4A63-9E42-453A05B6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563D-0BE8-46CF-8E55-C598D0BC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144C-580E-41A7-868A-9AFD7889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19D0-EA6F-419E-8190-BBDB0253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6E4C-79C8-4C1B-828E-0F93A4B9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7D2E-C64A-4326-A014-F1213848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1B5-146D-426B-84BA-745BEB76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C321-C660-4A4A-B2C3-859CC30D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F06C-E17B-480B-A9BE-8F98EBA6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9C3B-E9B1-4B44-B915-A6C988BF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1A7E-F9B7-4D12-9123-12935D1F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E841-5994-4609-AFA9-B4B69F3A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BF37-7D75-4DEE-BA45-655F00DD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0F5-CA70-4DB2-95EE-0EF95D6D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72B1-1737-4518-BC89-7FF941F3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BB7E-8BF0-4350-8791-3E444E85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A78-B532-41A3-9F76-B80B84FC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724-1E58-4F5F-ADB7-B71F8004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24F0-362B-43B2-8A1B-6B06D7B3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1B63-01EA-41A6-8BAD-8C602CE8766F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E61B-C08F-4DEF-A39A-E9B34597E50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2200" y="167760"/>
            <a:ext cx="797544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I Trial of Cisplatin plus Gemcitabine with Either Placebo or Bevacizumab as First-Line Therapy for Nonsquamous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Non-Small-Cell Lung Cancer: AVAiL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Reck M et al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J Clin Oncol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27(8):1227-34.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206280" y="6207120"/>
            <a:ext cx="6352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Reck M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8):1227-34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III ECOG-E4599 trial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6;355(24):2542) showed substantial clinical benefit of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bevacizumab (bev) plus carboplatin/paclitaxel in patients with nonsquamous non-small-cell lung cancer (NSCL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fectiveness of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bev plus cisplatin/gemcitabine (CG) regimen commonly used to treat NSCLC is not know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the efficacy and safety of the addition of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bev to the CG chemotherapy regimen in patients with advanced or recurrent nonsquamous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06280" y="6207120"/>
            <a:ext cx="6352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Reck M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8):1227-34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I Randomized Trial of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en-US" sz="31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-Line Bev plus CG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55760" y="1531800"/>
            <a:ext cx="67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crual: 1,043 (Clos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5280" y="3341520"/>
            <a:ext cx="2533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6400" y="2755800"/>
            <a:ext cx="4788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62600" y="414000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00040" y="1973160"/>
          <a:ext cx="3563640" cy="3284640"/>
        </p:xfrm>
        <a:graphic>
          <a:graphicData uri="http://schemas.openxmlformats.org/drawingml/2006/table">
            <a:tbl>
              <a:tblPr/>
              <a:tblGrid>
                <a:gridCol w="3563640"/>
              </a:tblGrid>
              <a:tr h="42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28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vanced (Stage IIIb/IV) or recurrent nonsquamous NSCL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grade ≥2 hemoptysi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CNS metastas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history of thrombotic or hemorrhagic disorde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non-healing wound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5156280" y="1908000"/>
            <a:ext cx="3397320" cy="95112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High- or Low-Dose Placeb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+ CG q3wk x 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347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014640"/>
            <a:ext cx="3460680" cy="109692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Low-Dose Bev (7.5 mg/kg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+ CG q3wk x 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345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75320" y="3656160"/>
            <a:ext cx="420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68880" y="4305240"/>
            <a:ext cx="3460680" cy="109692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High-Dose Bev (15 mg/kg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+ CG q3wk x 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351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4680" y="5445000"/>
            <a:ext cx="436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ll patients completing six treatment cycles 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ssigned to continued Bev or placeb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137120" y="2403000"/>
            <a:ext cx="931680" cy="102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18040" y="3990960"/>
            <a:ext cx="985680" cy="88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24200" y="3187800"/>
            <a:ext cx="100512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of Resul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-206280" y="6207120"/>
            <a:ext cx="6352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Reck M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8):1227-34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91960" y="1763640"/>
          <a:ext cx="8556840" cy="3643560"/>
        </p:xfrm>
        <a:graphic>
          <a:graphicData uri="http://schemas.openxmlformats.org/drawingml/2006/table">
            <a:tbl>
              <a:tblPr/>
              <a:tblGrid>
                <a:gridCol w="3648240"/>
                <a:gridCol w="1641600"/>
                <a:gridCol w="1641240"/>
                <a:gridCol w="162576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Efficacy Endpoint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lacebo+C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34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L-D Bev+C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345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-D Bev+C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35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ctive response rate (ORR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.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reference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.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.4%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0.0023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PF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1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reference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7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HR=0.7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5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HR=0.82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Severe AEs of Interes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lacebo+C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32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L-D Bev+C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330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-D Bev+CG (n=329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46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Perfor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PH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-127080" y="5541840"/>
            <a:ext cx="6924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-D low-dose; H-D high-dose; FPH fatal pulmonary hemorrhag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AiL is second randomized Phase III trial to demonstrate clinical benefit of bev plus platinum-based chemotherapy in patients with advanced NSCLC who are bev-eligi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FS and ORR were incre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fety appeared similar to that seen in other studies of bev in NSCLC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4;22(11):2184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6;355(24):254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re pulmonary hemorrhage was increased in the bev arms of the current study with seven fatal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hough the study was not powered to compare the two doses of bevacizumab, no apparent efficacy or safety differences were observ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-206280" y="6207120"/>
            <a:ext cx="6352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Reck M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8):1227-34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Jay Qun</cp:lastModifiedBy>
  <cp:lastPrinted>2009-12-03T19:28:06Z</cp:lastPrinted>
  <dcterms:modified xsi:type="dcterms:W3CDTF">2009-12-03T19:28:08Z</dcterms:modified>
  <cp:revision>179</cp:revision>
  <dc:subject/>
  <dc:title>Main Title Slide — Always use  Title Case on Slide Titles</dc:title>
</cp:coreProperties>
</file>