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E8B-66F9-4217-A0D9-89C8DDAA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ED0-687D-4635-A187-32F3E8C0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C2A-ACCA-44E2-8276-7A8D814A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C9C-3878-4FFA-A49A-7ADEA620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74E0-146A-40BF-8348-6D3CD593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CE8F-CD94-4613-87B6-76F074F1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1D8E-6709-40A1-977E-1F8CDE39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E920-125C-4030-940E-CA200867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957D-45D4-4F82-B3DB-2434348D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2CE4-4414-4846-86E3-36E68FF6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F394-DB31-4243-9765-556F8FE0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D682-9374-4302-855F-026CDD7F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345B-BF17-404A-8B92-FF177122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BCFE-99FF-4F18-88F6-84DEE7CD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5CB2-72E9-407B-9630-337C0E81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463C-69C7-4385-B80F-9A9E5FE0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A9EE-BA91-419F-A37F-ED6F36EC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A67-8F51-4B83-89FB-DBEEA7A5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7D7-D8DA-432D-A218-D9E4A983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513-82FE-4D26-9613-C37087D5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8C2-39D9-47B7-B494-E45070AC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494C-3927-4DA2-82EA-435881B0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2FD-D504-4AC3-A975-C169364D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224-F6A0-4C81-9EFA-E5D8804B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F236-F318-4886-BC43-A69E700DAFA9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2394-FFCE-4F51-94D4-4DFC344DBCA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Vandetanib plus Docetaxel vs Docetaxel as 2</a:t>
            </a:r>
            <a:r>
              <a:rPr b="1" lang="en-US" sz="31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-Line Treatment for Patients with Advanced Non-Small-Cell-Lung Cancer (NSCLC): A Randomized, Double-Blind Phase III Trial (ZODIAC)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Herbst RS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ASCO 2009;Abstract CRA8003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680" y="6207120"/>
            <a:ext cx="500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Herbst RS et al. ASCO 2009;Abstract CRA80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from Phase II trial demonstrated an increase in PFS with vandetanib/docetaxel as second-line treatment of NSCLC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25(27):427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efficacy and safety of second-line vandetanib plus docetaxel versus docetaxel alone in patients with advanced, recurrent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efficacy and safety in female subgro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13240" y="2530440"/>
            <a:ext cx="27000" cy="253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680" y="6207120"/>
            <a:ext cx="500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Herbst RS et al. ASCO 2009;Abstract CRA80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ZODIAC: A Phase III Trial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of Vandetanib/Docetaxel vs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Docetaxel Alone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245280" y="3341520"/>
            <a:ext cx="2533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39560" y="2158920"/>
          <a:ext cx="3294000" cy="3159000"/>
        </p:xfrm>
        <a:graphic>
          <a:graphicData uri="http://schemas.openxmlformats.org/drawingml/2006/table">
            <a:tbl>
              <a:tblPr/>
              <a:tblGrid>
                <a:gridCol w="3294000"/>
              </a:tblGrid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(N=1,39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80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urrent (Stage IIIb/IV) NSCLC refractory to first-line chemotherap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histologies of NSCLC permitte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r use of bevacizumab and treatment for brain metastases permitte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5045040" y="1955880"/>
            <a:ext cx="3343320" cy="11491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laceb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docetaxel 75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697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q21 days x 6 maximu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45040" y="4470480"/>
            <a:ext cx="3343320" cy="11491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Vandetanib 100 mg/da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docetaxel 75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694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q21 days x 6 maximu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36800" y="3782880"/>
            <a:ext cx="1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06720" y="3270240"/>
            <a:ext cx="100512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3240" y="254016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38800" y="505296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5"/>
          <p:cNvSpPr/>
          <p:nvPr/>
        </p:nvSpPr>
        <p:spPr>
          <a:xfrm>
            <a:off x="4272120" y="2759040"/>
            <a:ext cx="311040" cy="31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4265640" y="4422600"/>
            <a:ext cx="31104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Efficacy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472680" y="6207120"/>
            <a:ext cx="500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Herbst RS et al. ASCO 2009;Abstract CRA80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51000" y="1763640"/>
          <a:ext cx="8389800" cy="2281320"/>
        </p:xfrm>
        <a:graphic>
          <a:graphicData uri="http://schemas.openxmlformats.org/drawingml/2006/table">
            <a:tbl>
              <a:tblPr/>
              <a:tblGrid>
                <a:gridCol w="3638520"/>
                <a:gridCol w="1684440"/>
                <a:gridCol w="1430280"/>
                <a:gridCol w="1636560"/>
              </a:tblGrid>
              <a:tr h="82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Clinical Respon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Vandetanib + docetaxe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69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lacebo + docetaxe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69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R,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ctive response rate (ORR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, 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2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9, 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 to deterioration of symptoms (TDS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7, 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62880" y="4173480"/>
            <a:ext cx="1707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NR = not reporte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ndetanib is the first oral targeted therapy to show significant clinical benefit in Phase III trials when added to standard chemotherapy in patients with previously treat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PFS, ORR and T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clinical effect was not observed for PFS or OS in women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erse events were similar to those seen in other NSCLC vandetanib studies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72680" y="6207120"/>
            <a:ext cx="500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Herbst RS et al. ASCO 2009;Abstract CRA80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Albert Rosado</cp:lastModifiedBy>
  <cp:lastPrinted>2009-12-03T19:09:52Z</cp:lastPrinted>
  <dcterms:modified xsi:type="dcterms:W3CDTF">2009-12-03T19:10:04Z</dcterms:modified>
  <cp:revision>177</cp:revision>
  <dc:subject/>
  <dc:title>Main Title Slide — Always use  Title Case on Slide Titles</dc:title>
</cp:coreProperties>
</file>