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F45-AD21-4CDE-81CF-493B79EF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E82-59CB-4CCA-91E8-FFF13C2E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8B7-7C72-4CA8-9181-ED5EAC6A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D28-C23E-465E-8968-E233C734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65A1-12AC-4C0B-8217-DAC5E2EE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7AE9-3473-4900-B32D-9BF2D1D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E65A-0FA8-45E0-AE37-DCFD2699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015D-FAB5-4006-98CE-01F4B421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E612-3845-4E3D-873B-27AB707B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803E-6DCC-4AC2-92FD-65AD2DD0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104F-8819-4529-8B11-BC3A4A4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701-5C95-45CD-90D3-BC0117FF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BFAC-4B44-4F82-A118-4D0F961A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9860-0DC0-4766-A0D5-05DCE59B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BD8-A8B4-4F64-A547-BDF64439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726F-C0B9-42D6-9875-38714E4C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2292-AE26-4446-A5A7-9F422E54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519-3B6D-42E9-9766-BAF965D1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43A-201B-4279-9AE0-D90028E5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EF7-B778-43CD-94E9-B6D4F98A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D06-4BE2-4F60-A1D0-EC6917BB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369-6C1F-4D62-A967-627EF2B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15D-01F0-463A-BD76-BE6B03C2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B84-D78E-45C0-B5BB-476ADC29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18A9-1BE1-4524-8EEA-A564412A645B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8CA7-09E5-4E50-B72E-DE1798596F1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67760"/>
            <a:ext cx="791676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 Study of Pemetrexed and Carboplatin plus Bevacizumab with Maintenance Pemetrexed and Bevacizumab as First-Line Therapy for Nonsquamous Non-Small-Cell Lung Cancer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Patel JD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7(20):3284-9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560" y="6207120"/>
            <a:ext cx="489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metrexed-containing chemotherapy regimens for NSCLC are noninferior to standard chemotherapy treatments and have greater tolerabilit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4;22(9):1589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26(21):354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trials ECOG-E4599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(24):2542) and AVAi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18S:388) demonstrated a differential clinical benefit with bevacizumab added to chemotherapy for advanced nonsquamous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first-line pem/bev/carbo (P/B/C) treatment followed by P/B maintenance in patients with advanced nonsquamous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560" y="6207120"/>
            <a:ext cx="489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 Study of Pemetrexed in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First-Line and Maintenance Therapies for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245280" y="334152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27040" y="1650960"/>
          <a:ext cx="7786800" cy="129708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e IIIb/IV or recurrent non-squamous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chemotherapy, gross hemoptysis, CNS metastas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54240" y="3295800"/>
            <a:ext cx="6354720" cy="9032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nitial treatment (n=50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 (500 mg/m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 + B (15 mg/kg) + C (AUC=6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3920" y="4545000"/>
            <a:ext cx="7251840" cy="8874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Maintenance therapy (CR, PR, or SD, n=30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 (500 mg/m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 + B (15 mg/k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3wk until disease progression or unacceptable toxic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95960" y="2948040"/>
            <a:ext cx="0" cy="34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95960" y="4184640"/>
            <a:ext cx="0" cy="34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 (ITT Population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65560" y="6207120"/>
            <a:ext cx="489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749600"/>
          <a:ext cx="7277040" cy="3117600"/>
        </p:xfrm>
        <a:graphic>
          <a:graphicData uri="http://schemas.openxmlformats.org/drawingml/2006/table">
            <a:tbl>
              <a:tblPr/>
              <a:tblGrid>
                <a:gridCol w="4386240"/>
                <a:gridCol w="1444680"/>
                <a:gridCol w="1446120"/>
              </a:tblGrid>
              <a:tr h="38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Endpoi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 at 13-month follow-u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ive 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Select Adverse Eve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Grade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Grade 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erticulitis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rombocyt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ous thrombo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92200" y="4962600"/>
            <a:ext cx="77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1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ne case of Grade IV diverticulitis with bowel perfor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-line carboplatin/pemetrexed and bevacizumab followed by maintenance pemetrexed/bevacizumab was effective, safe and toler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n PFS and ORR compared favorably to other first-line NSCLC trea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brile neutropenia or pulmonary hemorrh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 3 or 4 diverticulitis was an unexpected toxic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intBreak study (NCT00762034) will compare first-line P/B/C followed by P/B maintenance to standard treatment for advanced nonsquamous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6199200"/>
            <a:ext cx="725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s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; Patel JD et al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Clin Lung Cance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10(4):252-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21:04:37Z</cp:lastPrinted>
  <dcterms:modified xsi:type="dcterms:W3CDTF">2009-12-03T21:04:44Z</dcterms:modified>
  <cp:revision>182</cp:revision>
  <dc:subject/>
  <dc:title>Main Title Slide — Always use  Title Case on Slide Titles</dc:title>
</cp:coreProperties>
</file>