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15F-D7A3-4059-9D37-D4A25DDA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31C-C76E-495B-B699-AFAA41E0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EDE-8146-4CD0-9BFC-C7796461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9EC-051C-4BDE-812E-922C8687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F639-2399-4B47-AB66-B88A766A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9C25-2146-48B8-800C-8433A5A0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B5B8-0CB7-4415-A663-A9520560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07F5-4312-49AF-9010-414D9AAA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9633-1B94-4C8F-8006-B1ED64DF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2508-CAFA-4267-BAFF-B4316E4B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6ED7-6F6D-485D-BB99-1C6231D0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7BC-4085-4A9A-98A6-09ADE3EC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BD8B-3615-4F05-9242-84710DCA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29D9-B6AD-4C0D-B744-DBC2FBBA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C4AB-8A70-4ED5-A5BA-B6CE718E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7F08-C4D0-4357-95AF-A52811AB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1752-57B7-47ED-9C7A-8E7DDA12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FEB-7A62-4329-8D70-61076C16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E9D-AC88-4F45-8A64-B356E5AD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98B-60B9-48AA-BEC8-EE46FA67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C5E-C47B-4416-9E9A-10D07C5E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94C-9E57-4E7D-813F-9D12E345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BE8-9F23-4CF0-BE12-792A4E6F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75B-F7ED-4AF5-A519-DE5A0E07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BCC6-2541-4D53-B780-FFBB900D412B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EAF2-4452-40A0-BE9C-C028C9BAA6A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afety and Effectiveness of Bevacizumab (BV) Based Treatment in Subpopulations of Patients with Non-Small Cell Lung Cancer (NSCLC) from the ARIES Study: A BV Treatment Observational Cohort Study (OCS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Fischbach N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Proc World Congress on Lung Cancer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2009;Abstract C2.7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57000" y="6207120"/>
            <a:ext cx="759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Fischbach N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C2.7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COG-E4599 trial demonstrated that bevacizumab (BV) added to chemotherapy improves overall survival (OS) and progression-free survival (PFS) in patients with metastatic or locally-advanced NSCLC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:254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efficacy and safety of BV added to chemotherapy in subpopulations of patients with NSCLC that were excluded or underrepresented in prior trial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known brain metast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history of hemopt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derly (≥70 yea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RIES: Prospective Observational Cohort Study of Patients with NSCLC Treated with BV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rual: 1,758/2,000 targeted (as of February 9, 200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4 sites accruing patients; median follow-up: 8.4 mont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gibility (Primary Analysis Popul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ly advanced/metastatic NSCLC (nonsquamous ce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V treatment with any first-line chemotherapy regi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of BV-containing therapy &lt;3 months prior to enrollment was allow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ptive safety analyses conducted for overall cohort and subpop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23600" y="6207120"/>
            <a:ext cx="759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Fischbach N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C2.7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23600" y="6207120"/>
            <a:ext cx="759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Fischbach N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C2.7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1960" y="1763640"/>
          <a:ext cx="8556840" cy="3902040"/>
        </p:xfrm>
        <a:graphic>
          <a:graphicData uri="http://schemas.openxmlformats.org/drawingml/2006/table">
            <a:tbl>
              <a:tblPr/>
              <a:tblGrid>
                <a:gridCol w="4959360"/>
                <a:gridCol w="3597480"/>
              </a:tblGrid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67 mos (95% CI:6.28, 6.9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Select Adverse Eve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Grade 3 or Above, n(%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lmonary Hemorrhage 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all cohort (n=1,75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tory of hemoptysis (n=124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(0.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(3.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NS Hemorrhag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all cohort (n=1,75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in mets at baseline (n=12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(0.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trointestinal Perfor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all cohort (n=1,75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(0.8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im report of BV plus chemotherapy in “real-world” population of patients with NSCLC demonstrat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first-line chemotherapy regimens are used in combination with BV, with an apparent decreased usage of platinum-based regimens with increasing patient age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liminary effectiveness and toxicity profiles are consistent with results of prior tri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reports of CNS bleeding in patients with brain metastases or of pulmonary hemorrhage in patients with cavitation in measurable tumors at basel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comes in specific patient subpopulations will be analyzed once the data is ma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23600" y="6207120"/>
            <a:ext cx="759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Fischbach N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C2.7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20T13:05:16Z</cp:lastPrinted>
  <dcterms:modified xsi:type="dcterms:W3CDTF">2009-12-03T19:46:00Z</dcterms:modified>
  <cp:revision>182</cp:revision>
  <dc:subject/>
  <dc:title>Main Title Slide — Always use  Title Case on Slide Titles</dc:title>
</cp:coreProperties>
</file>