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258-734C-40F5-9E17-CC4DF629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761-CECA-4E47-910C-050793EB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3C4-73E3-436C-AE59-62792C5A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1D7-D952-4F10-9D57-BF5247E2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519A-F7B9-450F-88CA-51BF2C68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FEC-5C1D-4BCD-B5B7-859D4BB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EC41-6E76-4F09-AD0E-5C9D4E98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D70A-4498-4928-9B2A-2365DDE8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A1E7-BD6C-4B8E-9216-EAD3112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6B85-8FDD-4D59-AA3D-3192C39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CDEF-F415-4261-B48B-E31E516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66F-B414-42EA-ABAA-1BBA103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E674-C5AC-4A6B-9E2E-AA011EC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588E-4AA1-4FAD-BDD2-71CD077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6134-7921-480E-BAB9-5CDD3CA1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2779-57DD-4FCD-92D6-9E1CB5C1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68BB-B0B3-4D1C-8209-DC6595F5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4FC-F7E5-41E6-8F3A-85FFBFBA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22B-2BB6-4C68-985A-2B60B4F6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A68-A004-48E1-8FAB-D9F4DA5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8AC-7A5F-49B9-A03F-568F6CA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6DA-F039-4452-8C5E-8DC6E0FA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DFB-6A53-4146-AFC6-7EE4DE6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E4F-496C-45C8-930B-F4EC89A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DF2F-6B40-4AED-9A55-4F9C646E267E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EDA-F7C1-4D6A-8A18-86E3D61A8E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TLAS: A Randomized, Phase III Trial Comparing Bevacizumab with or without Erlotinib After Completion of Chemotherapy plus Bevacizumab for 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Treatment of Locally-Advanced, Recurrent, or Metastatic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Miller VA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LBA8002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rials have demonstrated significant improvement in the survival of patients with advanced NSCLC treated with bevacizumab (bev) plus chem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:2542) or with erlotinib mon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353:12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 data suggests that progression-free survival (PFS) may be prolonged when bev is combined with erlotinib after initial chemotherapy with bev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:474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maintenance erlotinib with bev (E + B)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herapy with chemotherapy/ bev prolongs PFS in patients with advanc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41800" y="4705200"/>
            <a:ext cx="187812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28400" y="4672080"/>
            <a:ext cx="2016360" cy="48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b, Placebo-Controlled Trial of Maintenance Bev plus Erlotinib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168960" y="333216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8240" y="3903840"/>
            <a:ext cx="1481040" cy="37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0440" y="2746440"/>
            <a:ext cx="4752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86280" y="41302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9440" y="1589040"/>
            <a:ext cx="678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68960" y="333216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0440" y="2746440"/>
            <a:ext cx="4752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86280" y="41302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0640" y="1754280"/>
          <a:ext cx="5570280" cy="780840"/>
        </p:xfrm>
        <a:graphic>
          <a:graphicData uri="http://schemas.openxmlformats.org/drawingml/2006/table">
            <a:tbl>
              <a:tblPr/>
              <a:tblGrid>
                <a:gridCol w="5570280"/>
              </a:tblGrid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wet IIIb/IV or recurrent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chemotherapy (n=1,16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47800" y="2820960"/>
            <a:ext cx="5638680" cy="471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 cycles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line chemotherapy + Bev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5720" y="3546360"/>
            <a:ext cx="5638680" cy="7765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on-progressive disease in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7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76640" y="417996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5257800"/>
            <a:ext cx="344160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 (15 mg/kg)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 (150 mg/d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7480" y="5257800"/>
            <a:ext cx="344196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 (15 mg/kg)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 (Pla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6680" y="25509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3071880" y="475128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5702400" y="474336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6680" y="329724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01760" y="1774800"/>
          <a:ext cx="8343720" cy="3530520"/>
        </p:xfrm>
        <a:graphic>
          <a:graphicData uri="http://schemas.openxmlformats.org/drawingml/2006/table">
            <a:tbl>
              <a:tblPr/>
              <a:tblGrid>
                <a:gridCol w="3254400"/>
                <a:gridCol w="1207800"/>
                <a:gridCol w="1216080"/>
                <a:gridCol w="266544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PFS (ITT Populatio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7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Plac (n=3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 (95% CI),</a:t>
                      </a:r>
                      <a:br>
                        <a:rPr sz="1500"/>
                      </a:b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dian follow-up 8.3 mos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22 (0.592-0.881), 0.00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rate, 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rate, 6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%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ummary AE (grade≥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E (n=36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Plac (n=36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3-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76640" y="5389560"/>
            <a:ext cx="168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= hazard rati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+ E maintenance therapy after four cycles of chemotherapy/bev significantly improved PFS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PFS observed across multiple subgroup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xicity profile consistent with known AE profiles for each agent, though occurrence of more serious AEs was increased in the B + E a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20:17:46Z</cp:lastPrinted>
  <dcterms:modified xsi:type="dcterms:W3CDTF">2009-12-03T20:18:15Z</dcterms:modified>
  <cp:revision>185</cp:revision>
  <dc:subject/>
  <dc:title>Main Title Slide — Always use  Title Case on Slide Titles</dc:title>
</cp:coreProperties>
</file>