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ABE-79DC-4D0F-8D2B-5AF6ABD7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9A0-C1F2-49B7-B6CE-9CAB3B36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5C8-3D75-4FE7-8009-8BA1B454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646-2BBA-4B6F-AEF6-036F5BA7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2F92-EE9C-4F59-A848-451E8F81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C12-D95B-4C34-95A7-6EA05E6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6A6-DFCE-442B-ABFB-FE3EADB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0EF-A61C-4F3E-9398-E287234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9A1C-0D73-4452-B40A-655BC53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320-E5DB-4E07-AFAB-0B715658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4DA-2499-457B-BFC8-696DCEB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514-3E0C-4CD3-AC5D-6DFDBA9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D9F-8B3F-4825-9C5C-7CAA00C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1821-1D93-4392-825B-C444459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A92-EBF8-48AD-9FBC-B5CA473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8AD-690D-492B-B7C7-0F10C5DC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114F-5E8A-4283-8CCF-B067439B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489-70FD-4933-AF8C-EAD9B5AD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FE5-EE00-411B-B946-6FFF374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82D-597B-468B-BD9A-3DF819C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827-4280-41FE-B10F-A5F4B9C6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D56-537E-49DF-A6E8-447498F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111-D52B-49B9-A099-41ACAE6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D7C-2EBE-4722-A1A1-CC9759C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E29-D0CA-44CE-BF96-5846FF1DE8C6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AED-E8DA-4C65-9FF5-F1E5C718997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TURN: A Double-Blind, Randomized, Phase III Study of Maintenance Erlotinib versus Placebo Following Non-Progression with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Platinum-Based Chemotherapy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appuzzo F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8001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acy and tolerability profile of erlotinib for NSCLC has been demonstrated in a large, phase III, placebo-controlled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ALENT study demonstrated a trend toward improved time to progression (TTP) or death in patients with NSCLC who continued to receive erlotinib after six cycle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erlotinib with concurrent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154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erlotinib given right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chemo prolongs progression-free survival (PFS) of pati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dvanced NSCLC. Assess PFS in EGFR-positive subset of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94120" y="4683240"/>
            <a:ext cx="2013120" cy="48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16080" y="4662360"/>
            <a:ext cx="209880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Placebo-Controlled Trial of Maintenance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5760" y="1598760"/>
            <a:ext cx="678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5320" y="1800360"/>
          <a:ext cx="5570640" cy="750600"/>
        </p:xfrm>
        <a:graphic>
          <a:graphicData uri="http://schemas.openxmlformats.org/drawingml/2006/table">
            <a:tbl>
              <a:tblPr/>
              <a:tblGrid>
                <a:gridCol w="557064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-naïve advanced NSCL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,9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68320" y="2890800"/>
            <a:ext cx="563904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platinum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5440" y="3710160"/>
            <a:ext cx="5638680" cy="7761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88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3960" y="426708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2360" y="526716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rlotinib 15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4800" y="526716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6680" y="25509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959200" y="478008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5589720" y="47721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6680" y="33591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1960" y="1763640"/>
          <a:ext cx="8556840" cy="4076280"/>
        </p:xfrm>
        <a:graphic>
          <a:graphicData uri="http://schemas.openxmlformats.org/drawingml/2006/table">
            <a:tbl>
              <a:tblPr/>
              <a:tblGrid>
                <a:gridCol w="4851720"/>
                <a:gridCol w="2341440"/>
                <a:gridCol w="1363680"/>
              </a:tblGrid>
              <a:tr h="73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rlotinib vs Place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T population (n=437; 44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1 (0.62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IHC-positive (n=307; 31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58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 (n=22; 27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0 (0.04-0.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wil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n=199; 18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 (0.63-0.9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nocarcinoma (n=204; 19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0 (0.48-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mous cell (n=166; 19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6 (0.60-0.9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maintenance therapy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treatment effect was independent of several clinical/biological characteristics, including tumor histology, gender and smoking statu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st benefit in PFS seen in patients with EGFR mutation-positive disease (hazard ratio=0.10, p&lt;0.000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fect on overall survival remains to be determined.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51:22Z</cp:lastPrinted>
  <dcterms:modified xsi:type="dcterms:W3CDTF">2009-12-03T19:51:34Z</dcterms:modified>
  <cp:revision>191</cp:revision>
  <dc:subject/>
  <dc:title>Main Title Slide — Always use  Title Case on Slide Titles</dc:title>
</cp:coreProperties>
</file>