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D8F-A7F8-4474-94CE-73729CF3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6C6-7C15-4681-9FC8-6BFD9A08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165-139C-4957-A24B-860AAFE5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05B-89A5-4D21-B987-3495A1CF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C84E-E62C-4F0D-AF49-E7406BC9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57E3-91B4-4572-BD4A-B3687EF6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48D2-055F-44EE-8726-0EEEC160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2A02-1F91-437F-9F5F-B4BFAF65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4B6A-EDFC-4E2E-A53A-A217E0A9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6477-C41C-43AF-B454-C6911F71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3A30-4DD1-45A0-893B-CE29FA6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C3F-2226-4F2D-BE66-C9F81685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FAB4-E200-4342-A1DA-16374B69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2867-3196-40C1-AFDA-D1CF787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48F4-68C3-410F-9F5A-3EBF2024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4917-77CC-4B81-8D46-B459E51C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E23F-285E-436B-A0DA-7940D8BD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D13-F817-41BC-8DE0-5E5ECF6B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163-5A11-499D-BE96-294AC991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A8D-DCF4-4FF4-BB42-7EAE85B2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C5D-8144-4ECE-9DB0-8BFC3288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720-EF5F-4BCD-BAA7-11011CBA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7E9-780B-4307-A5D3-70BB4AB1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DF7-82C6-49DC-8B40-807B2B72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1E42-89B2-45DD-9F82-F5E82D32237B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0A77-AFC7-4A03-92ED-46011C2813E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etuximab plus Chemotherapy in Patients with Advanced Non-Small-Cell Lung Cancer (FLEX): An Open-Label Randomised Phase III Trial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Pirker R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Lancet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373(9674):1525-31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33160" y="6207120"/>
            <a:ext cx="494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irker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3(9674):1525-3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ed drugs added to chemotherapy may improve the survival of patients with non-small-cell lung cancer (NSCLC)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117(10):274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 trial in patients with advanced, EGFR-positive NSCLC suggested that the addition of cetuximab to cisplatin/vinorelbine (CV) improved survival and increased the response rate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nn Onc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19(2):36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cetuximab added to CV chemotherapy in the first-line in patients with advanced EGFR-positive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63"/>
          <p:cNvSpPr/>
          <p:nvPr/>
        </p:nvSpPr>
        <p:spPr>
          <a:xfrm flipV="1">
            <a:off x="4559400" y="2422440"/>
            <a:ext cx="672840" cy="100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64"/>
          <p:cNvSpPr/>
          <p:nvPr/>
        </p:nvSpPr>
        <p:spPr>
          <a:xfrm>
            <a:off x="4557600" y="3817800"/>
            <a:ext cx="677880" cy="82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533160" y="6207120"/>
            <a:ext cx="494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irker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3(9674):1525-3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 Randomized Trial of First-Line Cetuximab plus CV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5238720" y="2755800"/>
            <a:ext cx="4752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0120" y="1576440"/>
          <a:ext cx="3759120" cy="3659040"/>
        </p:xfrm>
        <a:graphic>
          <a:graphicData uri="http://schemas.openxmlformats.org/drawingml/2006/table">
            <a:tbl>
              <a:tblPr/>
              <a:tblGrid>
                <a:gridCol w="3759120"/>
              </a:tblGrid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=1,12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 (stage wet IIIb/IV) NSCL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-expression positive by IHC (≥1 positive tumor cell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histologic subtypes allow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ior treatment with chemo or EGFR-targeted drugs or antibodi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NS metastas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Oval 19"/>
          <p:cNvSpPr/>
          <p:nvPr/>
        </p:nvSpPr>
        <p:spPr>
          <a:xfrm>
            <a:off x="4046400" y="312732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5286240" y="1603440"/>
            <a:ext cx="2984760" cy="11858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 (80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) +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V (25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)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568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5273640" y="3933720"/>
            <a:ext cx="3598920" cy="127800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etuximab (400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1, then 250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q1wk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CV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557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5466240" y="2803680"/>
            <a:ext cx="3056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*Protocol amended, dose reduce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from 30 mg/m</a:t>
            </a: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due to grade 3/4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eutropen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596880" y="5445000"/>
            <a:ext cx="72342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etuximab treatment continued after chemotherapy until diseas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progression or unacceptable toxicity occurr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fficacy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33160" y="6207120"/>
            <a:ext cx="494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irker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3(9674):1525-3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91960" y="1763640"/>
          <a:ext cx="8556840" cy="3211560"/>
        </p:xfrm>
        <a:graphic>
          <a:graphicData uri="http://schemas.openxmlformats.org/drawingml/2006/table">
            <a:tbl>
              <a:tblPr/>
              <a:tblGrid>
                <a:gridCol w="2535480"/>
                <a:gridCol w="1528560"/>
                <a:gridCol w="1246320"/>
                <a:gridCol w="2270160"/>
                <a:gridCol w="976320"/>
              </a:tblGrid>
              <a:tr h="81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Efficacy Paramet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Cetux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+ CV (n=55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CV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56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95% CI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ll pati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onsquamou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quamou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3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0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2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1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3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9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7 (0.76-1.00)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4 (0.77-1.5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0 (0.64-1.0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4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4 (0.83-1.0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Rectangle 265"/>
          <p:cNvSpPr/>
          <p:nvPr/>
        </p:nvSpPr>
        <p:spPr>
          <a:xfrm>
            <a:off x="1288080" y="5267160"/>
            <a:ext cx="6456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R = hazard ratio; OS = overall survival; PFS = progression-free survival;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ORR = overall response ra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ddition of cetuximab improved the efficacy of first-line platinum-based chemotherapy in the treatment of EGFR-positive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was prolonged across all histological sub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mor response rates were incre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FS, however, was unchan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fety profile consistent with known patterns of side effects for individual treatment agents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 cetuximab-related adverse event was acne-like rash (10%, grade 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rate of febrile neutropenia observed (22%, grade 3/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33160" y="6207120"/>
            <a:ext cx="494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irker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3(9674):1525-3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20T12:55:15Z</cp:lastPrinted>
  <dcterms:modified xsi:type="dcterms:W3CDTF">2009-12-03T20:08:01Z</dcterms:modified>
  <cp:revision>185</cp:revision>
  <dc:subject/>
  <dc:title>Main Title Slide — Always use  Title Case on Slide Titles</dc:title>
</cp:coreProperties>
</file>