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8A80-1AA9-4663-BF1A-EF9314154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5C9A-7F9B-447C-B094-745996FE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2116-7150-45E5-BA0C-C313FC56D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002E-A4EA-4074-9370-CE3B3D11B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31FA-B00C-42E8-90D7-478260A04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755F-E5FB-489F-B807-8CA147CD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83DCC-B098-46B3-810E-FC88AC82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20184-582E-4D71-9EC0-AB5EBB77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5CFB-1A78-4943-91DE-995A785D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5065-8B3F-41E6-BB74-AF75AA99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321C-7D31-4D7F-BE43-ED33721A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A656-2F14-4A86-A0A9-8D2CF1FB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7D28-4ABF-488D-B77F-45C5C3AA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E7F5-CE55-4282-8443-9653A592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89AE-6446-44BF-BA80-33ADA848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9804-35F0-4EA9-9A2E-C573F426F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105E-B458-4649-B896-6026C6CA3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9066-F16A-4720-8FDE-5AC67AA8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B12E-BA2A-4C5E-9C22-3A28D712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AC22-93D5-455E-A0FB-D90A3111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A469-EE48-4260-9923-539D4621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954B-EC61-420F-A96E-4D4E4442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17CF-68AB-448A-AC8F-E972AD03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778C-DCC2-4D40-9027-8986B2AA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44468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AE84-7D82-4386-81C9-5400CE3B5EBC}" type="slidenum"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436896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7DE2-E103-4D04-BFAD-54AA3979805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Maintenance Pemetrexed plus Best Supportive Care versus Placebo plus Best Supportive Care for Non-Small-Cell Lung Cancer: A Randomised, Double-Blind, Phase 3 Study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0920" y="4357800"/>
            <a:ext cx="7769160" cy="249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Ciuleanu T et 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25b"/>
                </a:solidFill>
                <a:latin typeface="Verdana"/>
              </a:rPr>
              <a:t>Lancet</a:t>
            </a:r>
            <a:r>
              <a:rPr b="0" lang="en-US" sz="2500" spc="-1" strike="noStrike">
                <a:solidFill>
                  <a:srgbClr val="00325b"/>
                </a:solidFill>
                <a:latin typeface="Verdana"/>
              </a:rPr>
              <a:t> 2009;374(9699):1432-40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541440" y="6207120"/>
            <a:ext cx="5179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Ciuleanu T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Lancet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374(9699):1432-40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4480" y="1608120"/>
            <a:ext cx="8304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eatment guidelines for patients with advanced non-small-cell lung cancer (NSCLC) recommend waiting until disease progression to administer approved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line treatment agents such as docetaxel and pemetrexe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cent Phase III studie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Lung Cance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2006;52:155;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JNC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2005;97:499) of maintenance therapies after 1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-line chemotherapy in advanced NSCLC have not demonstrated an overall survival (OS) benef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urrent study objectiv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valuate pemetrexed (Pem) as maintenance therapy in patients with advanced NSCLC that has not progressed on four cycles of 1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-line platinum-based chemothera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41440" y="6207120"/>
            <a:ext cx="5179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Ciuleanu T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Lancet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374(9699):1432-40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Phase III Randomized, Double-Blind, Placebo-Controlled Trial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Line 17"/>
          <p:cNvSpPr/>
          <p:nvPr/>
        </p:nvSpPr>
        <p:spPr>
          <a:xfrm>
            <a:off x="5216400" y="2755800"/>
            <a:ext cx="47880" cy="231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18"/>
          <p:cNvSpPr/>
          <p:nvPr/>
        </p:nvSpPr>
        <p:spPr>
          <a:xfrm flipV="1">
            <a:off x="4962600" y="4140000"/>
            <a:ext cx="228600" cy="12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20"/>
          <p:cNvSpPr/>
          <p:nvPr/>
        </p:nvSpPr>
        <p:spPr>
          <a:xfrm>
            <a:off x="523800" y="5489640"/>
            <a:ext cx="7162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B12, folate and dexamethasone prophylaxis administered in both arm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00120" y="2043000"/>
          <a:ext cx="3022560" cy="2949840"/>
        </p:xfrm>
        <a:graphic>
          <a:graphicData uri="http://schemas.openxmlformats.org/drawingml/2006/table">
            <a:tbl>
              <a:tblPr/>
              <a:tblGrid>
                <a:gridCol w="3022560"/>
              </a:tblGrid>
              <a:tr h="38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Eligibility (n=663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25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ge IIIB/IV NSCL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ur prior cycles of platinum + taxane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 gemcitab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lete or partial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ponse (CR or PR) or stable disease (S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Oval 19"/>
          <p:cNvSpPr/>
          <p:nvPr/>
        </p:nvSpPr>
        <p:spPr>
          <a:xfrm>
            <a:off x="3243240" y="3162240"/>
            <a:ext cx="1004760" cy="10033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28"/>
          <p:cNvSpPr/>
          <p:nvPr/>
        </p:nvSpPr>
        <p:spPr>
          <a:xfrm>
            <a:off x="4640400" y="2033640"/>
            <a:ext cx="3176280" cy="1312920"/>
          </a:xfrm>
          <a:prstGeom prst="rect">
            <a:avLst/>
          </a:prstGeom>
          <a:solidFill>
            <a:srgbClr val="d6eaf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Pem 500 mg/m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d1 q3wks + best supportive care (BSC)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(N = 441)*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" name="AutoShape 54"/>
          <p:cNvCxnSpPr/>
          <p:nvPr/>
        </p:nvCxnSpPr>
        <p:spPr>
          <a:xfrm flipH="1" flipV="1" rot="5400000">
            <a:off x="3949200" y="2529720"/>
            <a:ext cx="465840" cy="77724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Oval 25"/>
          <p:cNvSpPr/>
          <p:nvPr/>
        </p:nvSpPr>
        <p:spPr>
          <a:xfrm>
            <a:off x="3956040" y="2516040"/>
            <a:ext cx="311040" cy="311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1" name="AutoShape 57"/>
          <p:cNvCxnSpPr/>
          <p:nvPr/>
        </p:nvCxnSpPr>
        <p:spPr>
          <a:xfrm flipH="1" rot="16200000">
            <a:off x="3999600" y="3949200"/>
            <a:ext cx="363960" cy="77724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Oval 25"/>
          <p:cNvSpPr/>
          <p:nvPr/>
        </p:nvSpPr>
        <p:spPr>
          <a:xfrm>
            <a:off x="3956040" y="4354560"/>
            <a:ext cx="311040" cy="311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7"/>
          <p:cNvSpPr/>
          <p:nvPr/>
        </p:nvSpPr>
        <p:spPr>
          <a:xfrm>
            <a:off x="4649760" y="3995640"/>
            <a:ext cx="3213000" cy="1038240"/>
          </a:xfrm>
          <a:prstGeom prst="rect">
            <a:avLst/>
          </a:prstGeom>
          <a:solidFill>
            <a:srgbClr val="d6eaf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Placebo (Plac)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d1 q3wks + BSC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(N = 222)*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200" y="-360"/>
            <a:ext cx="7769160" cy="13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mmary of Result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541440" y="6207120"/>
            <a:ext cx="5179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Ciuleanu T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Lancet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374(9699):1432-40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45960" y="1763640"/>
          <a:ext cx="8391600" cy="3921120"/>
        </p:xfrm>
        <a:graphic>
          <a:graphicData uri="http://schemas.openxmlformats.org/drawingml/2006/table">
            <a:tbl>
              <a:tblPr/>
              <a:tblGrid>
                <a:gridCol w="3679920"/>
                <a:gridCol w="1381320"/>
                <a:gridCol w="1346040"/>
                <a:gridCol w="777960"/>
                <a:gridCol w="1206360"/>
              </a:tblGrid>
              <a:tr h="473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2f5d"/>
                          </a:solidFill>
                          <a:latin typeface="Verdana"/>
                        </a:rPr>
                        <a:t>Efficacy Paramete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Pem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Pla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H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P</a:t>
                      </a: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-valu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107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gression-free surviva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squamous (n=481)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Squamous (n=182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3 mos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5 mos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8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6 mos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6 mos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6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0.0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0.0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3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all surviva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Nonsquamous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Squamou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4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.5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.9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6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3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8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7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7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0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1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0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7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Select Grade 3/4 AE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425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tigu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1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—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utropeni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—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0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mmary and Conclusion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39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PFS and OS benefit was demonstrated with pemetrexed maintenance therapy in advanced NSCL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nsquamous histology was predictive of improved PFS and OS benefit with pemetrexed maintenanc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verall rate of drug-related grade 3 or 4 AEs, including neutropenia and fatigue, was higher in the pemetrexed ar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reatment discontinuation due to drug-related toxic effects was higher in pemetrexed arm (data not shown, 5% vs 1%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emetrexed maintenance therapy may be a new treatment option for patients with advanced nonsquamous NSCL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541440" y="6207120"/>
            <a:ext cx="5179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Ciuleanu T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Lancet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374(9699):1432-40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1:19:04Z</dcterms:created>
  <dc:creator>Fernando G Rendina </dc:creator>
  <dc:description/>
  <cp:keywords/>
  <dc:language>en-US</dc:language>
  <cp:lastModifiedBy>Office 2004 Test Drive User</cp:lastModifiedBy>
  <cp:lastPrinted>2009-10-13T12:23:39Z</cp:lastPrinted>
  <dcterms:modified xsi:type="dcterms:W3CDTF">2009-12-03T20:20:57Z</dcterms:modified>
  <cp:revision>195</cp:revision>
  <dc:subject/>
  <dc:title>Main Title Slide — Always use  Title Case on Slide Titles</dc:title>
</cp:coreProperties>
</file>